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chimes.wav" ContentType="audio/x-wav"/>
  <Override PartName="/ppt/media/suction.wav" ContentType="audio/x-wav"/>
  <Override PartName="/ppt/media/image7.wmf" ContentType="image/x-wmf"/>
  <Override PartName="/ppt/media/cashreg.wav" ContentType="audio/x-wav"/>
  <Override PartName="/ppt/media/image5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ECE-6FB9-497D-9EF5-5454F88D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DBE-9679-4F3B-A5CB-1223A2FD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AC7-01B0-477C-8825-6286ABAE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B0F-B8DC-4B1C-9EE7-3CF5AD7F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0C6-50E3-421D-A9AB-37FFA135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647-3BD3-4389-868F-590A5F0C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BE1-08B1-4BA5-8353-17CCCE9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C32-A523-4196-AD7A-635B48B3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12D-F7BC-4DF6-81E2-8C0D96F8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29F-EAF2-4128-BA13-A32491D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EBD-B356-48BF-B4CB-55D9FF8F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A8C-9338-4079-98F9-E299AD4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1D4-D476-4FEF-B183-26F4E64910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标题 1"/>
          <p:cNvSpPr/>
          <p:nvPr/>
        </p:nvSpPr>
        <p:spPr>
          <a:xfrm>
            <a:off x="0" y="3645000"/>
            <a:ext cx="7772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1125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有理数（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课时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2.3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相反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08000" y="2952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义务教育教科书  数学  七年级  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11280" y="404640"/>
            <a:ext cx="756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练习：</a:t>
            </a:r>
            <a:br>
              <a:rPr sz="5100"/>
            </a:b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的相反数是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     </a:t>
            </a: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39640" y="210024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(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相反数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796000" y="1125360"/>
            <a:ext cx="13683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Times New Roman"/>
              </a:rPr>
              <a:t>5-</a:t>
            </a:r>
            <a:r>
              <a:rPr b="1" i="1" lang="en-US" sz="5100" spc="-1" strike="noStrike">
                <a:solidFill>
                  <a:srgbClr val="008000"/>
                </a:solidFill>
                <a:latin typeface="Times New Roman"/>
              </a:rPr>
              <a:t>x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6049800" y="2060640"/>
            <a:ext cx="14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11280" y="314172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相反数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003640" y="3068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-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思考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数轴上表示相反数的两个点和原点有什么关系？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50920" y="184464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在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数轴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示相反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除外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两个点位于原点的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且与原点的距离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189800" y="4149720"/>
            <a:ext cx="5974560" cy="1801440"/>
            <a:chOff x="1189800" y="4149720"/>
            <a:chExt cx="5974560" cy="1801440"/>
          </a:xfrm>
        </p:grpSpPr>
        <p:sp>
          <p:nvSpPr>
            <p:cNvPr id="192" name="Line 5"/>
            <p:cNvSpPr/>
            <p:nvPr/>
          </p:nvSpPr>
          <p:spPr>
            <a:xfrm>
              <a:off x="1258560" y="5143320"/>
              <a:ext cx="590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399564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3746880" y="51260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57164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4285080" y="50943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5148000" y="49356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4899600" y="50943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>
              <a:off x="5722200" y="4910040"/>
              <a:ext cx="32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5508360" y="5097600"/>
              <a:ext cx="3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341928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"/>
            <p:cNvSpPr/>
            <p:nvPr/>
          </p:nvSpPr>
          <p:spPr>
            <a:xfrm>
              <a:off x="306144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>
              <a:off x="284292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247896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226692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183744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1690560" y="49100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1189800" y="5094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1837440" y="416700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3"/>
            <p:cNvSpPr/>
            <p:nvPr/>
          </p:nvSpPr>
          <p:spPr>
            <a:xfrm>
              <a:off x="5461560" y="414972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4"/>
            <p:cNvSpPr/>
            <p:nvPr/>
          </p:nvSpPr>
          <p:spPr>
            <a:xfrm flipV="1">
              <a:off x="2195280" y="5049720"/>
              <a:ext cx="144360" cy="14472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5"/>
            <p:cNvSpPr/>
            <p:nvPr/>
          </p:nvSpPr>
          <p:spPr>
            <a:xfrm flipV="1">
              <a:off x="5646600" y="5054400"/>
              <a:ext cx="144360" cy="144720"/>
            </a:xfrm>
            <a:prstGeom prst="ellipse">
              <a:avLst/>
            </a:prstGeom>
            <a:solidFill>
              <a:srgbClr val="fd0f0f"/>
            </a:solidFill>
            <a:ln w="9360">
              <a:solidFill>
                <a:srgbClr val="fd0f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6"/>
            <p:cNvSpPr/>
            <p:nvPr/>
          </p:nvSpPr>
          <p:spPr>
            <a:xfrm flipV="1">
              <a:off x="3058920" y="50544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7"/>
            <p:cNvSpPr/>
            <p:nvPr/>
          </p:nvSpPr>
          <p:spPr>
            <a:xfrm flipV="1">
              <a:off x="4752720" y="5054400"/>
              <a:ext cx="144360" cy="14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2559240" y="4191120"/>
              <a:ext cx="122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-1.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9"/>
            <p:cNvSpPr/>
            <p:nvPr/>
          </p:nvSpPr>
          <p:spPr>
            <a:xfrm>
              <a:off x="4333680" y="4191120"/>
              <a:ext cx="102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1.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>
              <a:off x="6251040" y="4910040"/>
              <a:ext cx="32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31"/>
            <p:cNvSpPr/>
            <p:nvPr/>
          </p:nvSpPr>
          <p:spPr>
            <a:xfrm>
              <a:off x="6011640" y="5097600"/>
              <a:ext cx="3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32"/>
          <p:cNvSpPr/>
          <p:nvPr/>
        </p:nvSpPr>
        <p:spPr>
          <a:xfrm>
            <a:off x="7083000" y="2460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两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4820760" y="32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相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22200" y="189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练习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数轴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分别表示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-1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相反数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1546200" y="283860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4034520" y="2604960"/>
            <a:ext cx="519120" cy="1041120"/>
            <a:chOff x="4034520" y="2604960"/>
            <a:chExt cx="519120" cy="1041120"/>
          </a:xfrm>
        </p:grpSpPr>
        <p:sp>
          <p:nvSpPr>
            <p:cNvPr id="224" name="Line 5"/>
            <p:cNvSpPr/>
            <p:nvPr/>
          </p:nvSpPr>
          <p:spPr>
            <a:xfrm>
              <a:off x="428292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"/>
            <p:cNvSpPr/>
            <p:nvPr/>
          </p:nvSpPr>
          <p:spPr>
            <a:xfrm>
              <a:off x="4034520" y="282096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"/>
          <p:cNvGrpSpPr/>
          <p:nvPr/>
        </p:nvGrpSpPr>
        <p:grpSpPr>
          <a:xfrm>
            <a:off x="4572720" y="2604960"/>
            <a:ext cx="519120" cy="1009440"/>
            <a:chOff x="4572720" y="2604960"/>
            <a:chExt cx="519120" cy="1009440"/>
          </a:xfrm>
        </p:grpSpPr>
        <p:sp>
          <p:nvSpPr>
            <p:cNvPr id="227" name="Line 8"/>
            <p:cNvSpPr/>
            <p:nvPr/>
          </p:nvSpPr>
          <p:spPr>
            <a:xfrm>
              <a:off x="485928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4572720" y="27892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0"/>
          <p:cNvGrpSpPr/>
          <p:nvPr/>
        </p:nvGrpSpPr>
        <p:grpSpPr>
          <a:xfrm>
            <a:off x="5186880" y="2624040"/>
            <a:ext cx="519120" cy="990360"/>
            <a:chOff x="5186880" y="2624040"/>
            <a:chExt cx="519120" cy="990360"/>
          </a:xfrm>
        </p:grpSpPr>
        <p:sp>
          <p:nvSpPr>
            <p:cNvPr id="230" name="Line 11"/>
            <p:cNvSpPr/>
            <p:nvPr/>
          </p:nvSpPr>
          <p:spPr>
            <a:xfrm>
              <a:off x="5435640" y="26240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2"/>
            <p:cNvSpPr/>
            <p:nvPr/>
          </p:nvSpPr>
          <p:spPr>
            <a:xfrm>
              <a:off x="5186880" y="27892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3"/>
          <p:cNvGrpSpPr/>
          <p:nvPr/>
        </p:nvGrpSpPr>
        <p:grpSpPr>
          <a:xfrm>
            <a:off x="5796000" y="2604960"/>
            <a:ext cx="431280" cy="1012680"/>
            <a:chOff x="5796000" y="2604960"/>
            <a:chExt cx="431280" cy="1012680"/>
          </a:xfrm>
        </p:grpSpPr>
        <p:sp>
          <p:nvSpPr>
            <p:cNvPr id="233" name="Line 14"/>
            <p:cNvSpPr/>
            <p:nvPr/>
          </p:nvSpPr>
          <p:spPr>
            <a:xfrm flipH="1">
              <a:off x="6053760" y="2604960"/>
              <a:ext cx="360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5"/>
            <p:cNvSpPr/>
            <p:nvPr/>
          </p:nvSpPr>
          <p:spPr>
            <a:xfrm>
              <a:off x="5796000" y="2792520"/>
              <a:ext cx="4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4574160" y="18446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 flipV="1">
            <a:off x="4788000" y="2748960"/>
            <a:ext cx="144360" cy="14436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 flipV="1">
            <a:off x="3059280" y="27489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2845800" y="188604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20"/>
          <p:cNvGrpSpPr/>
          <p:nvPr/>
        </p:nvGrpSpPr>
        <p:grpSpPr>
          <a:xfrm>
            <a:off x="2125080" y="2604960"/>
            <a:ext cx="1945800" cy="1009440"/>
            <a:chOff x="2125080" y="2604960"/>
            <a:chExt cx="1945800" cy="1009440"/>
          </a:xfrm>
        </p:grpSpPr>
        <p:sp>
          <p:nvSpPr>
            <p:cNvPr id="240" name="Text Box 21"/>
            <p:cNvSpPr/>
            <p:nvPr/>
          </p:nvSpPr>
          <p:spPr>
            <a:xfrm>
              <a:off x="3349080" y="27892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>
              <a:off x="313056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3"/>
            <p:cNvSpPr/>
            <p:nvPr/>
          </p:nvSpPr>
          <p:spPr>
            <a:xfrm>
              <a:off x="2766240" y="27892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2554200" y="260496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5"/>
            <p:cNvSpPr/>
            <p:nvPr/>
          </p:nvSpPr>
          <p:spPr>
            <a:xfrm>
              <a:off x="2125080" y="278928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6"/>
            <p:cNvSpPr/>
            <p:nvPr/>
          </p:nvSpPr>
          <p:spPr>
            <a:xfrm>
              <a:off x="3733920" y="26114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95280" y="18900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已知在数轴上有表示互为相反数的两个点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它们间的距离是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若用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来表示这两个数，求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44040" y="3068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解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332000" y="31100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A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、</a:t>
            </a:r>
            <a:r>
              <a:rPr b="1" lang="en-US" sz="4800" spc="-1" strike="noStrike">
                <a:solidFill>
                  <a:srgbClr val="008000"/>
                </a:solidFill>
                <a:latin typeface="宋体"/>
              </a:rPr>
              <a:t>B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两点到原点的距离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260360" y="39006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6÷2=3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348000" y="39006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∵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&gt;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5003640" y="390060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∴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=3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948360" y="38685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=-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5280" y="4653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引申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1835280" y="4653000"/>
            <a:ext cx="38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去掉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284720" y="46213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则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6227640" y="46213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-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4284720" y="537372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-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6372360" y="537372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=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95280" y="159840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简化符号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=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)=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73)=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=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4)=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如何进行符号化简呢？你能自己总结出简化符号的规律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标题 1"/>
          <p:cNvSpPr/>
          <p:nvPr/>
        </p:nvSpPr>
        <p:spPr>
          <a:xfrm>
            <a:off x="395280" y="4724280"/>
            <a:ext cx="7921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师生共同总结：括号外的符号与括号内的符号同号，则化简符号后的数是正数；</a:t>
            </a:r>
            <a:r>
              <a:rPr b="1" lang="zh-CN" sz="2800" spc="-1" strike="noStrike">
                <a:solidFill>
                  <a:srgbClr val="1f497d"/>
                </a:solidFill>
                <a:latin typeface="Calibri"/>
              </a:rPr>
              <a:t>括号内、外符号异号，则化简符号后的数是负数</a:t>
            </a:r>
            <a:r>
              <a:rPr b="1" lang="en-US" sz="2800" spc="-1" strike="noStrike">
                <a:solidFill>
                  <a:srgbClr val="1f497d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4859280" y="3357720"/>
          <a:ext cx="40176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357720"/>
                    <a:ext cx="401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rcRect l="0" t="0" r="0" b="6947"/>
          <a:stretch/>
        </p:blipFill>
        <p:spPr>
          <a:xfrm>
            <a:off x="0" y="4508640"/>
            <a:ext cx="9144000" cy="1412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8360" y="549360"/>
            <a:ext cx="813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化简下列各数。（先读后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10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  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0.1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(3)+(+3)       (4)-(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你从刚才化简过程中，结果与符号之间有什么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581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两个符号的化简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，负正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997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解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(1)-10   (2)-0.15  (3) +3  (4)+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66100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简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号得正，异号得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627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数的相反数的相反数就是这个数的本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rcRect l="0" t="0" r="0" b="6947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0920" y="314172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方法：当负号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时，结果就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当负号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偶数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个时，结果就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33336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[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10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[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0.1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[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3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060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如果是多重符号化简，又应该怎么去化简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494172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{-[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7.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]}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6160" y="49417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-7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66560" y="189000"/>
            <a:ext cx="849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※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多重符号的化简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468360" y="1052640"/>
            <a:ext cx="8496360" cy="2914200"/>
            <a:chOff x="468360" y="1052640"/>
            <a:chExt cx="8496360" cy="2914200"/>
          </a:xfrm>
        </p:grpSpPr>
        <p:sp>
          <p:nvSpPr>
            <p:cNvPr id="280" name="Rectangle 4"/>
            <p:cNvSpPr/>
            <p:nvPr/>
          </p:nvSpPr>
          <p:spPr>
            <a:xfrm>
              <a:off x="1692360" y="1052640"/>
              <a:ext cx="727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看数前面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</a:rPr>
                <a:t>　　　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的个数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>
              <a:off x="468360" y="2060640"/>
              <a:ext cx="76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若有</a:t>
              </a:r>
              <a:r>
                <a:rPr b="1" lang="zh-CN" sz="4800" spc="-1" strike="noStrike">
                  <a:solidFill>
                    <a:srgbClr val="008000"/>
                  </a:solidFill>
                  <a:latin typeface="Arial"/>
                </a:rPr>
                <a:t>偶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数个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则结果为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6"/>
            <p:cNvSpPr/>
            <p:nvPr/>
          </p:nvSpPr>
          <p:spPr>
            <a:xfrm>
              <a:off x="468360" y="3141720"/>
              <a:ext cx="76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若有</a:t>
              </a:r>
              <a:r>
                <a:rPr b="1" lang="zh-CN" sz="4800" spc="-1" strike="noStrike">
                  <a:solidFill>
                    <a:srgbClr val="0000ff"/>
                  </a:solidFill>
                  <a:latin typeface="Arial"/>
                </a:rPr>
                <a:t>奇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数个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则结果为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</a:rPr>
                <a:t>　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7"/>
          <p:cNvSpPr/>
          <p:nvPr/>
        </p:nvSpPr>
        <p:spPr>
          <a:xfrm>
            <a:off x="6299280" y="1989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300720" y="299736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4427640" y="9810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负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971640" y="414972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数数负号，偶正奇负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8930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回答下列问题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br>
              <a:rPr sz="5100"/>
            </a:b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(1)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什么数的相反数大于本身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?</a:t>
            </a:r>
            <a:br>
              <a:rPr sz="5100"/>
            </a:b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(2)</a:t>
            </a:r>
            <a:r>
              <a:rPr b="1" lang="zh-CN" sz="5100" spc="-1" strike="noStrike">
                <a:solidFill>
                  <a:srgbClr val="ff3300"/>
                </a:solidFill>
                <a:latin typeface="幼圆"/>
                <a:ea typeface="幼圆"/>
              </a:rPr>
              <a:t>什么数的相反数等于本身</a:t>
            </a: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5100"/>
            </a:b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(3)</a:t>
            </a:r>
            <a:r>
              <a:rPr b="1" lang="zh-CN" sz="5100" spc="-1" strike="noStrike">
                <a:solidFill>
                  <a:srgbClr val="008000"/>
                </a:solidFill>
                <a:latin typeface="幼圆"/>
                <a:ea typeface="幼圆"/>
              </a:rPr>
              <a:t>什么数的相反数小于本身</a:t>
            </a: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?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468360" y="479736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(1)</a:t>
            </a:r>
            <a:r>
              <a:rPr b="1" lang="zh-CN" sz="5100" spc="-1" strike="noStrike">
                <a:solidFill>
                  <a:srgbClr val="000000"/>
                </a:solidFill>
                <a:latin typeface="幼圆"/>
                <a:ea typeface="幼圆"/>
              </a:rPr>
              <a:t>负数</a:t>
            </a:r>
            <a:r>
              <a:rPr b="1" lang="en-US" sz="5100" spc="-1" strike="noStrike">
                <a:solidFill>
                  <a:srgbClr val="000000"/>
                </a:solidFill>
                <a:latin typeface="幼圆"/>
                <a:ea typeface="幼圆"/>
              </a:rPr>
              <a:t>;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95640" y="479736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(2)</a:t>
            </a:r>
            <a:r>
              <a:rPr b="1" lang="zh-CN" sz="5100" spc="-1" strike="noStrike">
                <a:solidFill>
                  <a:srgbClr val="ff3300"/>
                </a:solidFill>
                <a:latin typeface="幼圆"/>
                <a:ea typeface="幼圆"/>
              </a:rPr>
              <a:t>０</a:t>
            </a:r>
            <a:r>
              <a:rPr b="1" lang="en-US" sz="5100" spc="-1" strike="noStrike">
                <a:solidFill>
                  <a:srgbClr val="ff3300"/>
                </a:solidFill>
                <a:latin typeface="幼圆"/>
                <a:ea typeface="幼圆"/>
              </a:rPr>
              <a:t>;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5327640" y="4797360"/>
            <a:ext cx="352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(3)</a:t>
            </a:r>
            <a:r>
              <a:rPr b="1" lang="zh-CN" sz="5100" spc="-1" strike="noStrike">
                <a:solidFill>
                  <a:srgbClr val="008000"/>
                </a:solidFill>
                <a:latin typeface="幼圆"/>
                <a:ea typeface="幼圆"/>
              </a:rPr>
              <a:t>正数</a:t>
            </a:r>
            <a:r>
              <a:rPr b="1" lang="en-US" sz="5100" spc="-1" strike="noStrike">
                <a:solidFill>
                  <a:srgbClr val="008000"/>
                </a:solidFill>
                <a:latin typeface="幼圆"/>
                <a:ea typeface="幼圆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333360"/>
            <a:ext cx="8856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下列几对数中互为相反数的对是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    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+8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2924280"/>
            <a:ext cx="88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练习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a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-b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，</a:t>
            </a:r>
            <a:r>
              <a:rPr b="1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a+b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的相反数是 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0920" y="6397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内容占位符 2"/>
          <p:cNvSpPr/>
          <p:nvPr/>
        </p:nvSpPr>
        <p:spPr>
          <a:xfrm>
            <a:off x="539640" y="1844640"/>
            <a:ext cx="9001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本节课学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反数的意义和概念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习目标：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理解相反数的意义和概念，会求一个数的相反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学习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能根据相反数的概念进行符号的化简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468360" y="404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520920" y="2060640"/>
            <a:ext cx="7218720" cy="1689840"/>
            <a:chOff x="520920" y="2060640"/>
            <a:chExt cx="7218720" cy="1689840"/>
          </a:xfrm>
        </p:grpSpPr>
        <p:sp>
          <p:nvSpPr>
            <p:cNvPr id="295" name="Rectangle 7"/>
            <p:cNvSpPr/>
            <p:nvPr/>
          </p:nvSpPr>
          <p:spPr>
            <a:xfrm>
              <a:off x="520920" y="2060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8"/>
            <p:cNvSpPr/>
            <p:nvPr/>
          </p:nvSpPr>
          <p:spPr>
            <a:xfrm>
              <a:off x="1616760" y="2925360"/>
              <a:ext cx="6122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014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相反数是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 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Rectangle 9"/>
          <p:cNvSpPr/>
          <p:nvPr/>
        </p:nvSpPr>
        <p:spPr>
          <a:xfrm>
            <a:off x="5724360" y="2852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520920" y="3718080"/>
            <a:ext cx="7207200" cy="1688040"/>
            <a:chOff x="520920" y="3718080"/>
            <a:chExt cx="7207200" cy="1688040"/>
          </a:xfrm>
        </p:grpSpPr>
        <p:sp>
          <p:nvSpPr>
            <p:cNvPr id="299" name="Rectangle 11"/>
            <p:cNvSpPr/>
            <p:nvPr/>
          </p:nvSpPr>
          <p:spPr>
            <a:xfrm>
              <a:off x="520920" y="3718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"/>
            <p:cNvSpPr/>
            <p:nvPr/>
          </p:nvSpPr>
          <p:spPr>
            <a:xfrm>
              <a:off x="1596600" y="4581000"/>
              <a:ext cx="6131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化简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(-2)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结果是</a:t>
              </a:r>
              <a:r>
                <a:rPr b="1" lang="zh-CN" sz="4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   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13"/>
          <p:cNvSpPr/>
          <p:nvPr/>
        </p:nvSpPr>
        <p:spPr>
          <a:xfrm>
            <a:off x="6373800" y="447624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内容占位符 2"/>
          <p:cNvSpPr/>
          <p:nvPr/>
        </p:nvSpPr>
        <p:spPr>
          <a:xfrm>
            <a:off x="501480" y="333360"/>
            <a:ext cx="864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写出下列各数的相反数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－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9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     ，       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17"/>
          <p:cNvGraphicFramePr/>
          <p:nvPr/>
        </p:nvGraphicFramePr>
        <p:xfrm>
          <a:off x="4356000" y="1341360"/>
          <a:ext cx="87480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341360"/>
                    <a:ext cx="874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8"/>
          <p:cNvGraphicFramePr/>
          <p:nvPr/>
        </p:nvGraphicFramePr>
        <p:xfrm>
          <a:off x="3564000" y="1341360"/>
          <a:ext cx="37620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1341360"/>
                    <a:ext cx="3762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19"/>
          <p:cNvSpPr/>
          <p:nvPr/>
        </p:nvSpPr>
        <p:spPr>
          <a:xfrm>
            <a:off x="1476360" y="1268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611280" y="1341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2340000" y="134136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3276720" y="1484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5292720" y="126828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4284720" y="1413000"/>
            <a:ext cx="3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324000" y="189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图是一个正方体纸盒的平面展开图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若在其中的三个正方形Ａ、Ｂ、Ｃ内分别填入适当的数，使得它们折成正方体后相对的面上的两个数互为相反数，求正方形Ａ、Ｂ、Ｃ内的数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5508720" y="3645000"/>
            <a:ext cx="2906640" cy="1730520"/>
            <a:chOff x="5508720" y="3645000"/>
            <a:chExt cx="2906640" cy="1730520"/>
          </a:xfrm>
        </p:grpSpPr>
        <p:sp>
          <p:nvSpPr>
            <p:cNvPr id="316" name="Line 4"/>
            <p:cNvSpPr/>
            <p:nvPr/>
          </p:nvSpPr>
          <p:spPr>
            <a:xfrm>
              <a:off x="5534280" y="4797360"/>
              <a:ext cx="25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6110280" y="3716280"/>
              <a:ext cx="0" cy="108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6110280" y="37162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5534280" y="4219560"/>
              <a:ext cx="25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5508720" y="422100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>
              <a:off x="6758280" y="3716280"/>
              <a:ext cx="0" cy="15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6759720" y="5300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7407360" y="4219560"/>
              <a:ext cx="0" cy="108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2"/>
            <p:cNvSpPr/>
            <p:nvPr/>
          </p:nvSpPr>
          <p:spPr>
            <a:xfrm>
              <a:off x="8055000" y="4219560"/>
              <a:ext cx="0" cy="57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3"/>
            <p:cNvSpPr/>
            <p:nvPr/>
          </p:nvSpPr>
          <p:spPr>
            <a:xfrm>
              <a:off x="6181920" y="422100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5535720" y="4221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5"/>
            <p:cNvSpPr/>
            <p:nvPr/>
          </p:nvSpPr>
          <p:spPr>
            <a:xfrm>
              <a:off x="6758280" y="4217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6"/>
            <p:cNvSpPr/>
            <p:nvPr/>
          </p:nvSpPr>
          <p:spPr>
            <a:xfrm>
              <a:off x="7301160" y="4217760"/>
              <a:ext cx="111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+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7"/>
            <p:cNvSpPr/>
            <p:nvPr/>
          </p:nvSpPr>
          <p:spPr>
            <a:xfrm>
              <a:off x="6829560" y="4794120"/>
              <a:ext cx="64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8"/>
            <p:cNvSpPr/>
            <p:nvPr/>
          </p:nvSpPr>
          <p:spPr>
            <a:xfrm>
              <a:off x="6183360" y="36450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9"/>
          <p:cNvSpPr/>
          <p:nvPr/>
        </p:nvSpPr>
        <p:spPr>
          <a:xfrm>
            <a:off x="2355840" y="4221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0"/>
          <p:cNvGrpSpPr/>
          <p:nvPr/>
        </p:nvGrpSpPr>
        <p:grpSpPr>
          <a:xfrm>
            <a:off x="324000" y="4221000"/>
            <a:ext cx="4824360" cy="1938240"/>
            <a:chOff x="324000" y="4221000"/>
            <a:chExt cx="4824360" cy="1938240"/>
          </a:xfrm>
        </p:grpSpPr>
        <p:sp>
          <p:nvSpPr>
            <p:cNvPr id="333" name="Text Box 21"/>
            <p:cNvSpPr/>
            <p:nvPr/>
          </p:nvSpPr>
          <p:spPr>
            <a:xfrm>
              <a:off x="324000" y="4221000"/>
              <a:ext cx="46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</a:rPr>
                <a:t>分析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</a:rPr>
                <a:t>:A</a:t>
              </a:r>
              <a:r>
                <a:rPr b="1" lang="zh-CN" sz="3600" spc="-1" strike="noStrike">
                  <a:solidFill>
                    <a:srgbClr val="0000ff"/>
                  </a:solidFill>
                  <a:latin typeface="Verdana"/>
                </a:rPr>
                <a:t>与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Verdana"/>
                </a:rPr>
                <a:t>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Verdana"/>
                </a:rPr>
                <a:t>相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2"/>
            <p:cNvSpPr/>
            <p:nvPr/>
          </p:nvSpPr>
          <p:spPr>
            <a:xfrm>
              <a:off x="1403280" y="4875120"/>
              <a:ext cx="37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与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Arial"/>
                </a:rPr>
                <a:t>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相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3"/>
            <p:cNvSpPr/>
            <p:nvPr/>
          </p:nvSpPr>
          <p:spPr>
            <a:xfrm>
              <a:off x="1403280" y="5516640"/>
              <a:ext cx="37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与</a:t>
              </a:r>
              <a:r>
                <a:rPr b="1" lang="zh-CN" sz="3600" spc="-1" strike="noStrike" u="sng">
                  <a:solidFill>
                    <a:srgbClr val="0000ff"/>
                  </a:solidFill>
                  <a:uFillTx/>
                  <a:latin typeface="Arial"/>
                </a:rPr>
                <a:t>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相对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24"/>
          <p:cNvSpPr/>
          <p:nvPr/>
        </p:nvSpPr>
        <p:spPr>
          <a:xfrm>
            <a:off x="2268360" y="4797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2484360" y="55245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2"/>
          <p:cNvSpPr txBox="1"/>
          <p:nvPr/>
        </p:nvSpPr>
        <p:spPr>
          <a:xfrm>
            <a:off x="900000" y="1628640"/>
            <a:ext cx="7417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节课我们继续学习！再见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4000" y="260280"/>
            <a:ext cx="882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979640" y="255096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471636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467960" y="2533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529272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006160" y="2502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5869080" y="234324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620320" y="2502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6443280" y="2317680"/>
            <a:ext cx="32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229440" y="2505240"/>
            <a:ext cx="35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14036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78252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356400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19968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298764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255852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411280" y="23176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1910520" y="250200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558520" y="157464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182280" y="1557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4"/>
          <p:cNvSpPr/>
          <p:nvPr/>
        </p:nvSpPr>
        <p:spPr>
          <a:xfrm flipV="1">
            <a:off x="2916360" y="2457360"/>
            <a:ext cx="144360" cy="14472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5"/>
          <p:cNvSpPr/>
          <p:nvPr/>
        </p:nvSpPr>
        <p:spPr>
          <a:xfrm flipV="1">
            <a:off x="6367320" y="2462040"/>
            <a:ext cx="144720" cy="14472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6"/>
          <p:cNvSpPr/>
          <p:nvPr/>
        </p:nvSpPr>
        <p:spPr>
          <a:xfrm flipV="1">
            <a:off x="3780000" y="24620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7"/>
          <p:cNvSpPr/>
          <p:nvPr/>
        </p:nvSpPr>
        <p:spPr>
          <a:xfrm flipV="1">
            <a:off x="5473800" y="24620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280320" y="159876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5054760" y="159876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 flipH="1">
            <a:off x="6972480" y="2317680"/>
            <a:ext cx="28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6732720" y="2505240"/>
            <a:ext cx="35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3"/>
          <p:cNvGrpSpPr/>
          <p:nvPr/>
        </p:nvGrpSpPr>
        <p:grpSpPr>
          <a:xfrm>
            <a:off x="179280" y="3213000"/>
            <a:ext cx="2232000" cy="1006560"/>
            <a:chOff x="179280" y="3213000"/>
            <a:chExt cx="2232000" cy="1006560"/>
          </a:xfrm>
        </p:grpSpPr>
        <p:sp>
          <p:nvSpPr>
            <p:cNvPr id="79" name="AutoShape 34"/>
            <p:cNvSpPr/>
            <p:nvPr/>
          </p:nvSpPr>
          <p:spPr>
            <a:xfrm>
              <a:off x="179280" y="3213000"/>
              <a:ext cx="2160720" cy="1006560"/>
            </a:xfrm>
            <a:prstGeom prst="cloudCallout">
              <a:avLst>
                <a:gd name="adj1" fmla="val 26634"/>
                <a:gd name="adj2" fmla="val 81703"/>
              </a:avLst>
            </a:prstGeom>
            <a:solidFill>
              <a:srgbClr val="ff00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5"/>
            <p:cNvSpPr/>
            <p:nvPr/>
          </p:nvSpPr>
          <p:spPr>
            <a:xfrm>
              <a:off x="324000" y="3284640"/>
              <a:ext cx="2087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cc"/>
                  </a:solidFill>
                  <a:latin typeface="幼圆"/>
                  <a:ea typeface="幼圆"/>
                </a:rPr>
                <a:t>想一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6"/>
          <p:cNvSpPr/>
          <p:nvPr/>
        </p:nvSpPr>
        <p:spPr>
          <a:xfrm>
            <a:off x="4788000" y="3357720"/>
            <a:ext cx="4105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8000"/>
                </a:solidFill>
                <a:latin typeface="Calibri"/>
              </a:rPr>
              <a:t>　</a:t>
            </a:r>
            <a:r>
              <a:rPr b="1" lang="en-US" sz="4200" spc="-1" strike="noStrike">
                <a:solidFill>
                  <a:srgbClr val="008000"/>
                </a:solidFill>
                <a:latin typeface="Calibri"/>
              </a:rPr>
              <a:t>[</a:t>
            </a:r>
            <a:r>
              <a:rPr b="1" lang="zh-CN" sz="4200" spc="-1" strike="noStrike">
                <a:solidFill>
                  <a:srgbClr val="008000"/>
                </a:solidFill>
                <a:latin typeface="Calibri"/>
              </a:rPr>
              <a:t>教材</a:t>
            </a:r>
            <a:r>
              <a:rPr b="1" lang="en-US" sz="4200" spc="-1" strike="noStrike">
                <a:solidFill>
                  <a:srgbClr val="008000"/>
                </a:solidFill>
                <a:latin typeface="Calibri"/>
              </a:rPr>
              <a:t>10-</a:t>
            </a:r>
            <a:r>
              <a:rPr b="1" lang="zh-CN" sz="4200" spc="-1" strike="noStrike">
                <a:solidFill>
                  <a:srgbClr val="008000"/>
                </a:solidFill>
                <a:latin typeface="Calibri"/>
              </a:rPr>
              <a:t>思考</a:t>
            </a:r>
            <a:r>
              <a:rPr b="1" lang="en-US" sz="4200" spc="-1" strike="noStrike">
                <a:solidFill>
                  <a:srgbClr val="008000"/>
                </a:solidFill>
                <a:latin typeface="Calibri"/>
              </a:rPr>
              <a:t>]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395280" y="260280"/>
            <a:ext cx="79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引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数轴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画出表示以下两对数的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-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, -1.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395280" y="4869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观察：这两组点在数轴上有什么特殊的位置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0"/>
          <p:cNvSpPr/>
          <p:nvPr/>
        </p:nvSpPr>
        <p:spPr>
          <a:xfrm>
            <a:off x="539640" y="32846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结论：表示每组中两个数的点都位于原点的</a:t>
            </a:r>
            <a:r>
              <a:rPr b="1" lang="zh-CN" sz="3600" spc="-1" strike="noStrike">
                <a:solidFill>
                  <a:srgbClr val="1f497d"/>
                </a:solidFill>
                <a:latin typeface="楷体"/>
                <a:ea typeface="楷体"/>
              </a:rPr>
              <a:t>两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且与原点的</a:t>
            </a:r>
            <a:r>
              <a:rPr b="1" lang="zh-CN" sz="3600" spc="-1" strike="noStrike">
                <a:solidFill>
                  <a:srgbClr val="1f497d"/>
                </a:solidFill>
                <a:latin typeface="楷体"/>
                <a:ea typeface="楷体"/>
              </a:rPr>
              <a:t>距离相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标题 1"/>
          <p:cNvSpPr/>
          <p:nvPr/>
        </p:nvSpPr>
        <p:spPr>
          <a:xfrm>
            <a:off x="468360" y="5300640"/>
            <a:ext cx="8229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思考：你还能举出数轴上其它点的例子吗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68360" y="1989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：这两组点在数轴上有什么特殊的位置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050920" y="1212840"/>
            <a:ext cx="590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478800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539240" y="11955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36400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077440" y="1163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5940360" y="10047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691960" y="1163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6515280" y="979560"/>
            <a:ext cx="28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6300720" y="1166760"/>
            <a:ext cx="3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421164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85380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363528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327132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305928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262980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2482920" y="979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982160" y="1163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2629800" y="236520"/>
            <a:ext cx="7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6253920" y="21924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9"/>
          <p:cNvSpPr/>
          <p:nvPr/>
        </p:nvSpPr>
        <p:spPr>
          <a:xfrm flipV="1">
            <a:off x="2987640" y="1118520"/>
            <a:ext cx="144360" cy="14436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0"/>
          <p:cNvSpPr/>
          <p:nvPr/>
        </p:nvSpPr>
        <p:spPr>
          <a:xfrm flipV="1">
            <a:off x="6438960" y="1123200"/>
            <a:ext cx="144360" cy="144360"/>
          </a:xfrm>
          <a:prstGeom prst="ellipse">
            <a:avLst/>
          </a:prstGeom>
          <a:solidFill>
            <a:srgbClr val="fd0f0f"/>
          </a:solidFill>
          <a:ln w="9360">
            <a:solidFill>
              <a:srgbClr val="fd0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1"/>
          <p:cNvSpPr/>
          <p:nvPr/>
        </p:nvSpPr>
        <p:spPr>
          <a:xfrm flipV="1">
            <a:off x="3851280" y="1123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2"/>
          <p:cNvSpPr/>
          <p:nvPr/>
        </p:nvSpPr>
        <p:spPr>
          <a:xfrm flipV="1">
            <a:off x="5545080" y="11232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3351600" y="2602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5126040" y="26028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H="1">
            <a:off x="7043400" y="979560"/>
            <a:ext cx="32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6804000" y="1166760"/>
            <a:ext cx="3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7"/>
          <p:cNvGrpSpPr/>
          <p:nvPr/>
        </p:nvGrpSpPr>
        <p:grpSpPr>
          <a:xfrm>
            <a:off x="0" y="692280"/>
            <a:ext cx="2232000" cy="1006200"/>
            <a:chOff x="0" y="692280"/>
            <a:chExt cx="2232000" cy="1006200"/>
          </a:xfrm>
        </p:grpSpPr>
        <p:sp>
          <p:nvSpPr>
            <p:cNvPr id="115" name="AutoShape 38"/>
            <p:cNvSpPr/>
            <p:nvPr/>
          </p:nvSpPr>
          <p:spPr>
            <a:xfrm>
              <a:off x="0" y="692280"/>
              <a:ext cx="2160720" cy="1006200"/>
            </a:xfrm>
            <a:prstGeom prst="cloudCallout">
              <a:avLst>
                <a:gd name="adj1" fmla="val 26634"/>
                <a:gd name="adj2" fmla="val 81703"/>
              </a:avLst>
            </a:prstGeom>
            <a:solidFill>
              <a:srgbClr val="ff00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9"/>
            <p:cNvSpPr/>
            <p:nvPr/>
          </p:nvSpPr>
          <p:spPr>
            <a:xfrm>
              <a:off x="144720" y="763560"/>
              <a:ext cx="208728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ffcc"/>
                  </a:solidFill>
                  <a:latin typeface="幼圆"/>
                  <a:ea typeface="幼圆"/>
                </a:rPr>
                <a:t>想一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042920" y="6271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观察这两个数，有什么相同和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955800" y="2416320"/>
                <a:ext cx="21272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5602320" y="2457360"/>
                <a:ext cx="21286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1619280" y="2629080"/>
            <a:ext cx="1512720" cy="60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400800" y="2644920"/>
            <a:ext cx="1195560" cy="587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38280" y="3371760"/>
            <a:ext cx="0" cy="857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38280" y="4229280"/>
            <a:ext cx="457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7010280" y="3257640"/>
            <a:ext cx="0" cy="1028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914400" y="2682720"/>
            <a:ext cx="704880" cy="52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5562720" y="2711520"/>
            <a:ext cx="664920" cy="52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1771560"/>
            <a:ext cx="0" cy="8575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1295280" y="1771560"/>
            <a:ext cx="46483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5943600" y="1771560"/>
            <a:ext cx="0" cy="914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352680" y="3870360"/>
            <a:ext cx="2210040" cy="6426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黑体"/>
              </a:rPr>
              <a:t>数字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2577960" y="1420920"/>
            <a:ext cx="2065320" cy="642600"/>
          </a:xfrm>
          <a:prstGeom prst="rect">
            <a:avLst/>
          </a:prstGeom>
          <a:solidFill>
            <a:srgbClr val="93cdd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  <a:ea typeface="黑体"/>
              </a:rPr>
              <a:t>符号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457200" y="907920"/>
            <a:ext cx="8147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8000"/>
                </a:solidFill>
                <a:latin typeface="Calibri"/>
              </a:rPr>
              <a:t>　　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　　　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不同的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　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个数叫做</a:t>
            </a:r>
            <a:r>
              <a:rPr b="1" lang="zh-CN" sz="5100" spc="-1" strike="noStrike">
                <a:solidFill>
                  <a:srgbClr val="008000"/>
                </a:solidFill>
                <a:latin typeface="Calibri"/>
              </a:rPr>
              <a:t>互为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相反数</a:t>
            </a: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692360" y="836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只有符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262520" y="189000"/>
            <a:ext cx="339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相反数的意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948360" y="836640"/>
            <a:ext cx="122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7200" y="2349360"/>
            <a:ext cx="8686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　　我们称其中一个数是另一个数的相反数</a:t>
            </a: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4920" y="3860640"/>
            <a:ext cx="910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如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:3</a:t>
            </a: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的相反数是</a:t>
            </a:r>
            <a:r>
              <a:rPr b="1" lang="zh-CN" sz="4600" spc="-1" strike="noStrike" u="sng">
                <a:solidFill>
                  <a:srgbClr val="000000"/>
                </a:solidFill>
                <a:uFillTx/>
                <a:latin typeface="Calibri"/>
              </a:rPr>
              <a:t>　 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, -3</a:t>
            </a:r>
            <a:r>
              <a:rPr b="1" lang="zh-CN" sz="4600" spc="-1" strike="noStrike">
                <a:solidFill>
                  <a:srgbClr val="000000"/>
                </a:solidFill>
                <a:latin typeface="Calibri"/>
              </a:rPr>
              <a:t>的相反数是</a:t>
            </a:r>
            <a:r>
              <a:rPr b="1" lang="zh-CN" sz="46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286520" y="386064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8650440" y="3860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68360" y="177336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-(-4)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250920" y="333360"/>
            <a:ext cx="8382960" cy="1440000"/>
            <a:chOff x="250920" y="333360"/>
            <a:chExt cx="8382960" cy="1440000"/>
          </a:xfrm>
        </p:grpSpPr>
        <p:sp>
          <p:nvSpPr>
            <p:cNvPr id="142" name="Rectangle 6"/>
            <p:cNvSpPr/>
            <p:nvPr/>
          </p:nvSpPr>
          <p:spPr>
            <a:xfrm>
              <a:off x="342720" y="333360"/>
              <a:ext cx="82911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我们通常把在一个数前面添上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250920" y="1011240"/>
              <a:ext cx="8227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Garamond"/>
                  <a:ea typeface="黑体"/>
                </a:rPr>
                <a:t>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号</a:t>
              </a:r>
              <a:r>
                <a:rPr b="1" lang="en-US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,</a:t>
              </a:r>
              <a:r>
                <a:rPr b="1" lang="zh-CN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表示这个数的相反数</a:t>
              </a:r>
              <a:r>
                <a:rPr b="1" lang="en-US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.</a:t>
              </a:r>
              <a:r>
                <a:rPr b="1" lang="zh-CN" sz="4200" spc="-1" strike="noStrike">
                  <a:solidFill>
                    <a:srgbClr val="000000"/>
                  </a:solidFill>
                  <a:latin typeface="Garamond"/>
                  <a:ea typeface="黑体"/>
                </a:rPr>
                <a:t>例如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8"/>
          <p:cNvSpPr/>
          <p:nvPr/>
        </p:nvSpPr>
        <p:spPr>
          <a:xfrm>
            <a:off x="324000" y="981000"/>
            <a:ext cx="158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-</a:t>
            </a:r>
            <a:r>
              <a:rPr b="1" lang="en-US" sz="4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87280" y="2565360"/>
            <a:ext cx="87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同样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在一个数前面添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号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表示这个数本身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例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2268360" y="1773360"/>
            <a:ext cx="72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771640" y="1773360"/>
            <a:ext cx="44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-(+5.5)=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19640" y="184464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-5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6804000" y="170028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-0 =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Garamond"/>
                <a:ea typeface="黑体"/>
              </a:rPr>
              <a:t>       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8101080" y="1628640"/>
            <a:ext cx="72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867280" y="2565360"/>
            <a:ext cx="1455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+</a:t>
            </a:r>
            <a:r>
              <a:rPr b="1" lang="en-US" sz="42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en-US" sz="4200" spc="-1" strike="noStrike">
                <a:solidFill>
                  <a:srgbClr val="ff3300"/>
                </a:solidFill>
                <a:latin typeface="Garamond"/>
                <a:ea typeface="黑体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468360" y="4003560"/>
            <a:ext cx="3166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+(-4)=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2340000" y="4076640"/>
            <a:ext cx="72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771640" y="4003560"/>
            <a:ext cx="44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+(+12)=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5146560" y="3930480"/>
            <a:ext cx="1225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7953480" y="3930480"/>
            <a:ext cx="72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  <a:ea typeface="黑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588000" y="3933720"/>
            <a:ext cx="44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+0 =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Garamond"/>
                <a:ea typeface="黑体"/>
              </a:rPr>
              <a:t>       </a:t>
            </a:r>
            <a:r>
              <a:rPr b="1" lang="en-US" sz="4200" spc="-1" strike="noStrike">
                <a:solidFill>
                  <a:srgbClr val="000000"/>
                </a:solidFill>
                <a:latin typeface="Garamond"/>
                <a:ea typeface="黑体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69228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般地，设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一个正数，数轴上与原点的距离是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点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，它们分别在原点的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表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我们说这两点关于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7400" y="4543560"/>
            <a:ext cx="1067040" cy="1322280"/>
          </a:xfrm>
          <a:prstGeom prst="rightArrow">
            <a:avLst>
              <a:gd name="adj1" fmla="val 54444"/>
              <a:gd name="adj2" fmla="val 3481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41400" y="482112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注意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到原点的距离相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2480" y="134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07840" y="1989000"/>
            <a:ext cx="166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左侧和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565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-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9440" y="3357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原点对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0"/>
            <a:ext cx="8686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求一个数的相反数，只需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Calibri"/>
              </a:rPr>
              <a:t>　　　　　　　　　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即可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51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4000" y="1484280"/>
            <a:ext cx="623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即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008000"/>
                </a:solidFill>
                <a:latin typeface="Calibri"/>
              </a:rPr>
              <a:t>的相反数是</a:t>
            </a:r>
            <a:r>
              <a:rPr b="1" lang="zh-CN" sz="5100" spc="-1" strike="noStrike" u="sng">
                <a:solidFill>
                  <a:srgbClr val="008000"/>
                </a:solidFill>
                <a:uFillTx/>
                <a:latin typeface="Calibri"/>
              </a:rPr>
              <a:t>     </a:t>
            </a:r>
            <a:r>
              <a:rPr b="1" lang="en-US" sz="5100" spc="-1" strike="noStrike">
                <a:solidFill>
                  <a:srgbClr val="008000"/>
                </a:solidFill>
                <a:latin typeface="Calibri"/>
              </a:rPr>
              <a:t>,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95280" y="692280"/>
            <a:ext cx="67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Calibri"/>
              </a:rPr>
              <a:t>在其前面加上“</a:t>
            </a:r>
            <a:r>
              <a:rPr b="1" lang="en-US" sz="5100" spc="-1" strike="noStrike">
                <a:solidFill>
                  <a:srgbClr val="ff0000"/>
                </a:solidFill>
                <a:latin typeface="Calibri"/>
              </a:rPr>
              <a:t>—”</a:t>
            </a:r>
            <a:r>
              <a:rPr b="1" lang="zh-CN" sz="5100" spc="-1" strike="noStrike">
                <a:solidFill>
                  <a:srgbClr val="ff0000"/>
                </a:solidFill>
                <a:latin typeface="Calibri"/>
              </a:rPr>
              <a:t>号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539640" y="3789360"/>
            <a:ext cx="69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100" spc="-1" strike="noStrike">
                <a:solidFill>
                  <a:srgbClr val="000000"/>
                </a:solidFill>
                <a:latin typeface="Calibri"/>
              </a:rPr>
              <a:t>可以是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932360" y="141300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08360" y="3716280"/>
            <a:ext cx="46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0000ff"/>
                </a:solidFill>
                <a:latin typeface="Calibri"/>
              </a:rPr>
              <a:t>正数、负数或</a:t>
            </a:r>
            <a:r>
              <a:rPr b="1" lang="en-US" sz="5100" spc="-1" strike="noStrike">
                <a:solidFill>
                  <a:srgbClr val="0000ff"/>
                </a:solidFill>
                <a:latin typeface="Calibri"/>
              </a:rPr>
              <a:t>0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84360" y="5157720"/>
            <a:ext cx="623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3300"/>
                </a:solidFill>
                <a:latin typeface="Calibri"/>
              </a:rPr>
              <a:t>0</a:t>
            </a:r>
            <a:r>
              <a:rPr b="1" lang="zh-CN" sz="5100" spc="-1" strike="noStrike">
                <a:solidFill>
                  <a:srgbClr val="ff3300"/>
                </a:solidFill>
                <a:latin typeface="Calibri"/>
              </a:rPr>
              <a:t>的相反数是</a:t>
            </a:r>
            <a:r>
              <a:rPr b="1" lang="zh-CN" sz="5100" spc="-1" strike="noStrike" u="sng">
                <a:solidFill>
                  <a:srgbClr val="ff3300"/>
                </a:solidFill>
                <a:uFillTx/>
                <a:latin typeface="Calibri"/>
              </a:rPr>
              <a:t>     </a:t>
            </a:r>
            <a:r>
              <a:rPr b="1" lang="en-US" sz="51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5219640" y="5157720"/>
            <a:ext cx="93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8000"/>
                </a:solidFill>
                <a:latin typeface="Calibri"/>
              </a:rPr>
              <a:t>0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4508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51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5100" spc="-1" strike="noStrike">
                <a:solidFill>
                  <a:srgbClr val="0000ff"/>
                </a:solidFill>
                <a:latin typeface="Times New Roman"/>
              </a:rPr>
              <a:t>还</a:t>
            </a:r>
            <a:r>
              <a:rPr b="1" lang="zh-CN" sz="5100" spc="-1" strike="noStrike">
                <a:solidFill>
                  <a:srgbClr val="0000ff"/>
                </a:solidFill>
                <a:latin typeface="Calibri"/>
              </a:rPr>
              <a:t>可以是任意一个代数式。</a:t>
            </a:r>
            <a:r>
              <a:rPr b="1" lang="zh-CN" sz="5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2852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05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相反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3068640"/>
            <a:ext cx="82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果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互为相反数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6640" y="212076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8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则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+b=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79280" y="2492280"/>
            <a:ext cx="896472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已知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互为相反数，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互为相反数，且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=﹣6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则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、一个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相反数是非负数，那么这个数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大小关系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61440" y="3141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4508640"/>
            <a:ext cx="8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9-10T04:35:11Z</dcterms:modified>
  <cp:revision>78</cp:revision>
  <dc:subject/>
  <dc:title>幻灯片 1</dc:title>
</cp:coreProperties>
</file>