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468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1.4.1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有理数的乘法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(1)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5000"/>
            <a:ext cx="6372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黑体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9×6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幼圆"/>
              </a:rPr>
              <a:t>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9)×6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02724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9×6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9)×6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           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=  +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(9×6)           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(9×6)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          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=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54 ;                     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 54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45054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 × 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59500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907400" y="4797360"/>
            <a:ext cx="12366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705720" y="2948040"/>
            <a:ext cx="2438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求解步骤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3543480"/>
            <a:ext cx="5324400" cy="2117160"/>
            <a:chOff x="1116000" y="3543480"/>
            <a:chExt cx="5324400" cy="2117160"/>
          </a:xfrm>
        </p:grpSpPr>
        <p:sp>
          <p:nvSpPr>
            <p:cNvPr id="171" name=""/>
            <p:cNvSpPr/>
            <p:nvPr/>
          </p:nvSpPr>
          <p:spPr>
            <a:xfrm>
              <a:off x="4307040" y="3543480"/>
              <a:ext cx="2057400" cy="533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3543480"/>
              <a:ext cx="2057400" cy="533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8920" y="5049720"/>
              <a:ext cx="2057400" cy="610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3000" y="5049720"/>
              <a:ext cx="2057400" cy="610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566040" y="354816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 Alternative"/>
                <a:ea typeface="Arial Alternative"/>
              </a:rPr>
              <a:t>确定积的符号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39895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 Alternative"/>
                <a:ea typeface="Arial Alternative"/>
              </a:rPr>
              <a:t>绝对值相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6720" y="838080"/>
            <a:ext cx="0" cy="60199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440" y="21337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 ×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084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 ×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        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4720" y="5950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c0c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1413000"/>
            <a:ext cx="8064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运算方法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有理数相乘，先确定积的＿＿＿＿＿＿，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确定积的＿＿＿＿＿＿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2133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符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9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对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78136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宋体"/>
                <a:ea typeface="宋体"/>
              </a:rPr>
              <a:t>Zx.xk </a:t>
            </a:r>
            <a:endParaRPr b="0" lang="en-US" sz="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8100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１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5 x 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３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４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x 6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３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７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x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４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.5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５）（－３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 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６）（－     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628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85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1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3429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3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144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465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3080" y="3789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780000" y="3789360"/>
          <a:ext cx="390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89360"/>
                    <a:ext cx="390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908000" y="4437000"/>
          <a:ext cx="3636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437000"/>
                    <a:ext cx="363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219640" y="3789360"/>
          <a:ext cx="36216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3789360"/>
                    <a:ext cx="3621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907920"/>
            <a:ext cx="835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c0c"/>
                </a:solidFill>
                <a:latin typeface="Arial"/>
              </a:rPr>
              <a:t>-2006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1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8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5040" y="4395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245360" y="1341360"/>
          <a:ext cx="18986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5360" y="1341360"/>
                    <a:ext cx="1898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24000" y="2060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2006 x1=-2006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51840" y="2060640"/>
            <a:ext cx="44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8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=8x1=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19280" y="2565360"/>
          <a:ext cx="410364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565360"/>
                    <a:ext cx="4103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44480" y="28386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500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仍得这个数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得这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的相反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3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个带分数相乘，一般要化成假分数以便约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01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因式相乘时，第一个因式前面可以不加括号，但后面的因式必须添加括号。如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若写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错误的，因为两个运算符号是不能连在一起写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836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   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；　　　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-    ) × ( -2 )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。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3335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 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3141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78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上面两题有何特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508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总结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有理数中仍然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乘积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两个数互为倒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" y="5229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数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(a≠0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倒数是什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1080" y="5300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倒数是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40000" y="2924280"/>
          <a:ext cx="3618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3618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979640" y="2133720"/>
          <a:ext cx="39204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133720"/>
                    <a:ext cx="3920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651640" y="1484280"/>
          <a:ext cx="36324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484280"/>
                    <a:ext cx="3632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547640" y="1341360"/>
          <a:ext cx="3906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1341360"/>
                    <a:ext cx="3906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885080" y="5013360"/>
          <a:ext cx="40788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85080" y="5013360"/>
                    <a:ext cx="407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1197000"/>
            <a:ext cx="86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出下列各数的倒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１，－１，    ，－      ，５，－５，      ，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213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思考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c0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大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____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_____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大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应满足什么条件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应满足什么条件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340000" y="1700280"/>
          <a:ext cx="3571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851280" y="1700280"/>
          <a:ext cx="3571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70028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419040" cy="107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8317080" y="1628640"/>
            <a:ext cx="419040" cy="107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790160" y="4022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4160" y="3519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32080" y="447660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74840" y="492588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5280" y="1052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用正负数表示气温的变化量，上升为正，下降为负。登山队攀登一座山峰，每登高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千米，气温的变化量为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6℃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，攀登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千米后，气温有什么变化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299736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6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3=-1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答：气温下降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8℃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0920" y="9079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商店降价销售某种商品，每件降５元，售出６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件后，与按原价销售同样数量的商品相比，销售额有什么变化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2637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提价为正，降价为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342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５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×6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15040" y="4221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答：销售额减少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元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归纳总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0760" y="434988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两个带分数相乘，一般要化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分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便约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00" y="3284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仍得这个数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得这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的相反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197000"/>
            <a:ext cx="43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有理数乘法法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700280"/>
            <a:ext cx="669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数相乘，同号得正，异号得负，并把绝对值相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360" y="2637000"/>
            <a:ext cx="274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任何数同０相乘，都得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3480" y="4941720"/>
            <a:ext cx="28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乘积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两个数互为倒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551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两因式相乘时，第一个因式前面可以不加括号，但后面的因式必须添加括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、计算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8360" y="20289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6=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8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9337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  X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8400" y="2046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080" y="2028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836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: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森林里住着一只蜗牛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每天都要离开家去寻找食物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cm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右爬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那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后蜗牛在什么位置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42920" y="3500280"/>
            <a:ext cx="7561440" cy="890640"/>
            <a:chOff x="1042920" y="3500280"/>
            <a:chExt cx="7561440" cy="890640"/>
          </a:xfrm>
        </p:grpSpPr>
        <p:grpSp>
          <p:nvGrpSpPr>
            <p:cNvPr id="48" name=""/>
            <p:cNvGrpSpPr/>
            <p:nvPr/>
          </p:nvGrpSpPr>
          <p:grpSpPr>
            <a:xfrm>
              <a:off x="1042920" y="3500280"/>
              <a:ext cx="7561440" cy="312840"/>
              <a:chOff x="1042920" y="3500280"/>
              <a:chExt cx="7561440" cy="312840"/>
            </a:xfrm>
          </p:grpSpPr>
          <p:sp>
            <p:nvSpPr>
              <p:cNvPr id="49" name=""/>
              <p:cNvSpPr/>
              <p:nvPr/>
            </p:nvSpPr>
            <p:spPr>
              <a:xfrm>
                <a:off x="1042920" y="381312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77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1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327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103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79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5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 txBox="1"/>
            <p:nvPr/>
          </p:nvSpPr>
          <p:spPr>
            <a:xfrm>
              <a:off x="141444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276048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924360" y="3933720"/>
              <a:ext cx="226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520848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43248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765792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8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484360" y="299736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708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97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后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右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220500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32320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234936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43640" y="3717360"/>
            <a:ext cx="2174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3320" y="558972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３） ＝＋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8720" y="2349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1066 L 0.40157 0.01066 E">
                                      <p:cBhvr>
                                        <p:cTn id="4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76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２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左爬行，那么３分钟后蜗牛在什么位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2920" y="3500280"/>
            <a:ext cx="7561440" cy="888840"/>
            <a:chOff x="1042920" y="3500280"/>
            <a:chExt cx="7561440" cy="888840"/>
          </a:xfrm>
        </p:grpSpPr>
        <p:grpSp>
          <p:nvGrpSpPr>
            <p:cNvPr id="74" name=""/>
            <p:cNvGrpSpPr/>
            <p:nvPr/>
          </p:nvGrpSpPr>
          <p:grpSpPr>
            <a:xfrm>
              <a:off x="1042920" y="3500280"/>
              <a:ext cx="7561440" cy="312840"/>
              <a:chOff x="1042920" y="3500280"/>
              <a:chExt cx="7561440" cy="312840"/>
            </a:xfrm>
          </p:grpSpPr>
          <p:sp>
            <p:nvSpPr>
              <p:cNvPr id="75" name=""/>
              <p:cNvSpPr/>
              <p:nvPr/>
            </p:nvSpPr>
            <p:spPr>
              <a:xfrm>
                <a:off x="1042920" y="381312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7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1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27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03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79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5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 txBox="1"/>
            <p:nvPr/>
          </p:nvSpPr>
          <p:spPr>
            <a:xfrm>
              <a:off x="141444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66364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81636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11164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633564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55964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116000" y="479736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0000">
            <a:off x="321840" y="45813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后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左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1052640" cy="105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0" y="1700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2320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3718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1720" y="530064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３） ＝－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8720" y="1844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57706E-006 L -0.41181 -0.00302 E">
                                      <p:cBhvr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90792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76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３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右爬行，那么３分钟前蜗牛在什么位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0000" y="3068640"/>
            <a:ext cx="7561440" cy="888840"/>
            <a:chOff x="900000" y="3068640"/>
            <a:chExt cx="7561440" cy="888840"/>
          </a:xfrm>
        </p:grpSpPr>
        <p:grpSp>
          <p:nvGrpSpPr>
            <p:cNvPr id="99" name=""/>
            <p:cNvGrpSpPr/>
            <p:nvPr/>
          </p:nvGrpSpPr>
          <p:grpSpPr>
            <a:xfrm>
              <a:off x="900000" y="3068640"/>
              <a:ext cx="7561440" cy="312840"/>
              <a:chOff x="900000" y="3068640"/>
              <a:chExt cx="7561440" cy="312840"/>
            </a:xfrm>
          </p:grpSpPr>
          <p:sp>
            <p:nvSpPr>
              <p:cNvPr id="100" name=""/>
              <p:cNvSpPr/>
              <p:nvPr/>
            </p:nvSpPr>
            <p:spPr>
              <a:xfrm>
                <a:off x="900000" y="338148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08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84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60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36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12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 txBox="1"/>
            <p:nvPr/>
          </p:nvSpPr>
          <p:spPr>
            <a:xfrm>
              <a:off x="1271520" y="350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20720" y="350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673440" y="350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968720" y="350028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192720" y="350028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416720" y="350028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050920" y="479736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508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前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左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1006560" cy="1079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24360" y="170028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50160" y="2798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4920" y="3286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7720" y="543096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３） ＝－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8720" y="1700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99421E-006 L -0.40555 0.00023 E">
                                      <p:cBhvr>
                                        <p:cTn id="1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19280" y="90792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765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４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左爬行，那么３分钟前蜗牛在什么位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26920" y="3213000"/>
            <a:ext cx="7561440" cy="890640"/>
            <a:chOff x="826920" y="3213000"/>
            <a:chExt cx="7561440" cy="890640"/>
          </a:xfrm>
        </p:grpSpPr>
        <p:grpSp>
          <p:nvGrpSpPr>
            <p:cNvPr id="124" name=""/>
            <p:cNvGrpSpPr/>
            <p:nvPr/>
          </p:nvGrpSpPr>
          <p:grpSpPr>
            <a:xfrm>
              <a:off x="826920" y="3213000"/>
              <a:ext cx="7561440" cy="312840"/>
              <a:chOff x="826920" y="3213000"/>
              <a:chExt cx="7561440" cy="312840"/>
            </a:xfrm>
          </p:grpSpPr>
          <p:sp>
            <p:nvSpPr>
              <p:cNvPr id="125" name=""/>
              <p:cNvSpPr/>
              <p:nvPr/>
            </p:nvSpPr>
            <p:spPr>
              <a:xfrm>
                <a:off x="826920" y="352584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59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35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11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87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63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9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 txBox="1"/>
            <p:nvPr/>
          </p:nvSpPr>
          <p:spPr>
            <a:xfrm>
              <a:off x="1198440" y="3644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54448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708360" y="3646440"/>
              <a:ext cx="226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99248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21648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744192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8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50920" y="4724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前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右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2422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4365720"/>
            <a:ext cx="48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5800" y="2925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9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1720" y="566100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３） ＝＋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8720" y="1844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26419E-006 L 0.39775 -0.00533 E">
                                      <p:cBhvr>
                                        <p:cTn id="16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47640" y="1515960"/>
            <a:ext cx="63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996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观察这四个式子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＋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＋３）＝＋６　（－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３）＝＋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＋３）＝－６　（＋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３）＝－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根据你对有理数乘法的思考，总结填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正数乘正数积为＿＿数：负数乘负数积为＿＿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负数乘正数积为＿＿数：正数乘负数积为＿＿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乘积的绝对值等于各乘数绝对值的＿＿＿＿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964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40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407664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805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？思考：当一个因数为０时，积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58160" y="299736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号得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4581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号得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有理数乘法法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669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数相乘，同号得正，异号得负，并把绝对值相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06080" y="3789360"/>
            <a:ext cx="37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任何数同０相乘，都得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765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先阅读，再填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…………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同号两数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  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…………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得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3= 15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………………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把绝对值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所以  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= 1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07664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填空：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7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4……____________________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7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4 =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(   )………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7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4 = 28………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所以 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7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4 = 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005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异号两数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4508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得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941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把绝对值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5373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２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0T01:35:37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4-11-11T08:12:02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