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14.wmf" ContentType="image/x-wmf"/>
  <Override PartName="/ppt/media/image3.gif" ContentType="image/gi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未标题-2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0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0.xml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.5.1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有理数的乘方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79280" y="2637000"/>
            <a:ext cx="87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有乘方运算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先计算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乘方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再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乘除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后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加减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同级运算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从左到右计算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如有括号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先做括号内的运算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按小括号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中括号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大括号依次进行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50920" y="83664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带乘方的混合运算次序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815600" y="1484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级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053400" y="148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级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324680" y="148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级运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arrow3"/>
          <p:cNvPicPr/>
          <p:nvPr/>
        </p:nvPicPr>
        <p:blipFill>
          <a:blip r:embed="rId1"/>
          <a:stretch/>
        </p:blipFill>
        <p:spPr>
          <a:xfrm rot="16200000">
            <a:off x="4586400" y="2241360"/>
            <a:ext cx="742680" cy="9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arrow3"/>
          <p:cNvPicPr/>
          <p:nvPr/>
        </p:nvPicPr>
        <p:blipFill>
          <a:blip r:embed="rId2"/>
          <a:stretch/>
        </p:blipFill>
        <p:spPr>
          <a:xfrm rot="16200000">
            <a:off x="7754760" y="2386080"/>
            <a:ext cx="743040" cy="9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arrow3"/>
          <p:cNvPicPr/>
          <p:nvPr/>
        </p:nvPicPr>
        <p:blipFill>
          <a:blip r:embed="rId3"/>
          <a:stretch/>
        </p:blipFill>
        <p:spPr>
          <a:xfrm rot="16200000">
            <a:off x="6242040" y="2314440"/>
            <a:ext cx="743040" cy="9216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6370560" y="3357720"/>
            <a:ext cx="649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7812000" y="3357720"/>
            <a:ext cx="649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4786200" y="3357720"/>
            <a:ext cx="649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8000" y="765000"/>
            <a:ext cx="934920" cy="82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1)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3)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900000" y="2492280"/>
                <a:ext cx="24480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00000" y="3789360"/>
                <a:ext cx="29973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26920" y="5373720"/>
                <a:ext cx="4680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00000" y="1413000"/>
                <a:ext cx="338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 Box 7"/>
          <p:cNvSpPr/>
          <p:nvPr/>
        </p:nvSpPr>
        <p:spPr>
          <a:xfrm>
            <a:off x="698400" y="206064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原式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352240" y="206064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1 ×2+(-8) ÷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627440" y="206064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=2+(-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942520" y="21178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=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26760" y="327024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原式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180880" y="32702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-125)-3 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994200" y="3068640"/>
                <a:ext cx="446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72000" y="3068640"/>
                <a:ext cx="1512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Text Box 15"/>
          <p:cNvSpPr/>
          <p:nvPr/>
        </p:nvSpPr>
        <p:spPr>
          <a:xfrm>
            <a:off x="628560" y="4724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原式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68360" y="4581360"/>
                <a:ext cx="223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4565520" y="4508640"/>
          <a:ext cx="79848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5520" y="4508640"/>
                    <a:ext cx="79848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18"/>
          <p:cNvSpPr/>
          <p:nvPr/>
        </p:nvSpPr>
        <p:spPr>
          <a:xfrm>
            <a:off x="626760" y="60055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原式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2108880" y="600552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10000+[16-12 ×2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5203440" y="607860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=10000-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6989040" y="607860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=999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68360" y="90792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下面三行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 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第①行数按什么规律排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356560" y="3913200"/>
            <a:ext cx="4591440" cy="1320840"/>
            <a:chOff x="2356560" y="3913200"/>
            <a:chExt cx="4591440" cy="1320840"/>
          </a:xfrm>
        </p:grpSpPr>
        <p:grpSp>
          <p:nvGrpSpPr>
            <p:cNvPr id="171" name=""/>
            <p:cNvGrpSpPr/>
            <p:nvPr/>
          </p:nvGrpSpPr>
          <p:grpSpPr>
            <a:xfrm>
              <a:off x="2356560" y="3913200"/>
              <a:ext cx="4264200" cy="1320840"/>
              <a:chOff x="2356560" y="3913200"/>
              <a:chExt cx="4264200" cy="1320840"/>
            </a:xfrm>
          </p:grpSpPr>
          <p:sp>
            <p:nvSpPr>
              <p:cNvPr id="172" name="Rectangle 4"/>
              <p:cNvSpPr/>
              <p:nvPr/>
            </p:nvSpPr>
            <p:spPr>
              <a:xfrm>
                <a:off x="2356560" y="3913200"/>
                <a:ext cx="151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宋体"/>
                  </a:rPr>
                  <a:t>解：（</a:t>
                </a:r>
                <a:r>
                  <a:rPr b="0" lang="en-US" sz="2800" spc="-1" strike="noStrike">
                    <a:solidFill>
                      <a:srgbClr val="0000ff"/>
                    </a:solidFill>
                    <a:latin typeface="宋体"/>
                  </a:rPr>
                  <a:t>1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宋体"/>
                  </a:rPr>
                  <a:t>）第①行数是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3" name=""/>
                  <p:cNvSpPr txBox="1"/>
                  <p:nvPr/>
                </p:nvSpPr>
                <p:spPr>
                  <a:xfrm>
                    <a:off x="2398320" y="4619520"/>
                    <a:ext cx="4222440" cy="61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，（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，（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，（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4" name="Text Box 7"/>
            <p:cNvSpPr/>
            <p:nvPr/>
          </p:nvSpPr>
          <p:spPr>
            <a:xfrm>
              <a:off x="6011640" y="4653000"/>
              <a:ext cx="936360" cy="520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95280" y="836640"/>
            <a:ext cx="7897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下面三行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  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第② ③行数与第①行数分别有什么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151080" y="4992840"/>
            <a:ext cx="22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第③行数是第①行相应的除以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，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360" y="5734080"/>
          <a:ext cx="745308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734080"/>
                    <a:ext cx="7453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1128600" y="3624120"/>
            <a:ext cx="6827760" cy="1320840"/>
            <a:chOff x="1128600" y="3624120"/>
            <a:chExt cx="6827760" cy="1320840"/>
          </a:xfrm>
        </p:grpSpPr>
        <p:grpSp>
          <p:nvGrpSpPr>
            <p:cNvPr id="180" name=""/>
            <p:cNvGrpSpPr/>
            <p:nvPr/>
          </p:nvGrpSpPr>
          <p:grpSpPr>
            <a:xfrm>
              <a:off x="1128600" y="3624120"/>
              <a:ext cx="6640560" cy="1320840"/>
              <a:chOff x="1128600" y="3624120"/>
              <a:chExt cx="6640560" cy="1320840"/>
            </a:xfrm>
          </p:grpSpPr>
          <p:sp>
            <p:nvSpPr>
              <p:cNvPr id="181" name="Rectangle 4"/>
              <p:cNvSpPr/>
              <p:nvPr/>
            </p:nvSpPr>
            <p:spPr>
              <a:xfrm>
                <a:off x="3232440" y="3624120"/>
                <a:ext cx="263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ff"/>
                    </a:solidFill>
                    <a:latin typeface="宋体"/>
                  </a:rPr>
                  <a:t>解：（</a:t>
                </a:r>
                <a:r>
                  <a:rPr b="0" lang="en-US" sz="2800" spc="-1" strike="noStrike">
                    <a:solidFill>
                      <a:srgbClr val="0000ff"/>
                    </a:solidFill>
                    <a:latin typeface="宋体"/>
                  </a:rPr>
                  <a:t>2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宋体"/>
                  </a:rPr>
                  <a:t>）第②行数是第①行相应的数加</a:t>
                </a:r>
                <a:r>
                  <a:rPr b="0" lang="en-US" sz="2800" spc="-1" strike="noStrike">
                    <a:solidFill>
                      <a:srgbClr val="0000ff"/>
                    </a:solidFill>
                    <a:latin typeface="宋体"/>
                  </a:rPr>
                  <a:t>2</a:t>
                </a:r>
                <a:r>
                  <a:rPr b="0" lang="zh-CN" sz="2800" spc="-1" strike="noStrike">
                    <a:solidFill>
                      <a:srgbClr val="0000ff"/>
                    </a:solidFill>
                    <a:latin typeface="宋体"/>
                  </a:rPr>
                  <a:t>，即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2" name=""/>
              <p:cNvGraphicFramePr/>
              <p:nvPr/>
            </p:nvGraphicFramePr>
            <p:xfrm>
              <a:off x="1128600" y="4330440"/>
              <a:ext cx="6640560" cy="614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28600" y="4330440"/>
                        <a:ext cx="6640560" cy="61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4" name="Text Box 9"/>
            <p:cNvSpPr/>
            <p:nvPr/>
          </p:nvSpPr>
          <p:spPr>
            <a:xfrm>
              <a:off x="7235640" y="4437000"/>
              <a:ext cx="7207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36600" y="84456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下面三行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…；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…；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… 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取每行数的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数，计算这三个数的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760400" y="3695760"/>
            <a:ext cx="43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解：（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）每行数中的第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个数的和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85800" y="4249800"/>
                <a:ext cx="5307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96360" y="1341360"/>
                <a:ext cx="11397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236000" y="1916280"/>
                <a:ext cx="18158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0" name=""/>
          <p:cNvGraphicFramePr/>
          <p:nvPr/>
        </p:nvGraphicFramePr>
        <p:xfrm>
          <a:off x="7020000" y="2427120"/>
          <a:ext cx="20653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2427120"/>
                    <a:ext cx="20653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19280" y="4941720"/>
                <a:ext cx="53071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19280" y="5661000"/>
                <a:ext cx="525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908000" y="981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观察下列各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60720" y="1484280"/>
          <a:ext cx="216072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484280"/>
                    <a:ext cx="216072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97080" y="2060640"/>
                <a:ext cx="3168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069920" y="2708280"/>
                <a:ext cx="4295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Text Box 6"/>
          <p:cNvSpPr/>
          <p:nvPr/>
        </p:nvSpPr>
        <p:spPr>
          <a:xfrm>
            <a:off x="0" y="3789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猜想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187280" y="3645000"/>
                <a:ext cx="5543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7040" y="4456080"/>
                <a:ext cx="76928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2" name="Text Box 9"/>
          <p:cNvSpPr/>
          <p:nvPr/>
        </p:nvSpPr>
        <p:spPr>
          <a:xfrm>
            <a:off x="523080" y="863640"/>
            <a:ext cx="14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659640" y="3645000"/>
                <a:ext cx="2079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若n</m:t>
                    </m:r>
                    <m:r>
                      <m:rPr>
                        <m:lit/>
                        <m:nor/>
                      </m:rPr>
                      <m:t xml:space="preserve">是正整数，那么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84720" y="5157720"/>
                <a:ext cx="26686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18120" y="907560"/>
            <a:ext cx="14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855800" y="1695600"/>
            <a:ext cx="5955840" cy="1741320"/>
            <a:chOff x="1855800" y="1695600"/>
            <a:chExt cx="5955840" cy="174132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2018160" y="1695600"/>
                  <a:ext cx="57934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855800" y="2632320"/>
                  <a:ext cx="3496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若（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9" name="Text Box 6"/>
          <p:cNvSpPr/>
          <p:nvPr/>
        </p:nvSpPr>
        <p:spPr>
          <a:xfrm>
            <a:off x="3164760" y="84312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+3=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583240" y="836640"/>
            <a:ext cx="18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 -2=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 rot="16200000">
            <a:off x="5725080" y="1484640"/>
            <a:ext cx="574920" cy="287280"/>
          </a:xfrm>
          <a:prstGeom prst="leftRightArrow">
            <a:avLst>
              <a:gd name="adj1" fmla="val 50000"/>
              <a:gd name="adj2" fmla="val 400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 rot="16200000">
            <a:off x="3493440" y="1556640"/>
            <a:ext cx="574560" cy="287280"/>
          </a:xfrm>
          <a:prstGeom prst="leftRightArrow">
            <a:avLst>
              <a:gd name="adj1" fmla="val 50000"/>
              <a:gd name="adj2" fmla="val 4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097640" y="39736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=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2178720" y="397368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=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092240" y="4567320"/>
                <a:ext cx="3048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则a</m:t>
                        </m:r>
                      </m:e>
                      <m:sup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 Box 13"/>
          <p:cNvSpPr/>
          <p:nvPr/>
        </p:nvSpPr>
        <p:spPr>
          <a:xfrm>
            <a:off x="4213080" y="2708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-2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4097880" y="4724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-2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男童1"/>
          <p:cNvPicPr/>
          <p:nvPr/>
        </p:nvPicPr>
        <p:blipFill>
          <a:blip r:embed="rId1"/>
          <a:stretch/>
        </p:blipFill>
        <p:spPr>
          <a:xfrm>
            <a:off x="7812000" y="4437000"/>
            <a:ext cx="1055880" cy="19494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179280" y="8366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张厚度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毫米的纸，将它对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后，厚度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×0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毫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24000" y="4076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对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次后，厚度为多少毫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24000" y="5516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对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次后，厚度为多少毫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1"/>
          <p:cNvPicPr/>
          <p:nvPr/>
        </p:nvPicPr>
        <p:blipFill>
          <a:blip r:embed="rId2"/>
          <a:stretch/>
        </p:blipFill>
        <p:spPr>
          <a:xfrm>
            <a:off x="468360" y="1916280"/>
            <a:ext cx="2217600" cy="15872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1116000" y="3500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2"/>
          <p:cNvPicPr/>
          <p:nvPr/>
        </p:nvPicPr>
        <p:blipFill>
          <a:blip r:embed="rId3"/>
          <a:stretch/>
        </p:blipFill>
        <p:spPr>
          <a:xfrm>
            <a:off x="3276720" y="1844640"/>
            <a:ext cx="2286000" cy="17035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780000" y="3500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0" descr="20"/>
          <p:cNvPicPr/>
          <p:nvPr/>
        </p:nvPicPr>
        <p:blipFill>
          <a:blip r:embed="rId4"/>
          <a:stretch/>
        </p:blipFill>
        <p:spPr>
          <a:xfrm>
            <a:off x="6156360" y="1484280"/>
            <a:ext cx="2303280" cy="21477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1"/>
          <p:cNvSpPr/>
          <p:nvPr/>
        </p:nvSpPr>
        <p:spPr>
          <a:xfrm>
            <a:off x="7164360" y="400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1698120" y="479736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×2×0.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349800" y="4797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0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31840" y="3344760"/>
            <a:ext cx="508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宋体"/>
                <a:ea typeface="宋体"/>
              </a:rPr>
              <a:t>Zx.xk 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39640" y="13381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把一张厚度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毫米的纸连续对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，会有多厚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58080" y="2275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：列式得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132000" y="2205000"/>
                <a:ext cx="3517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层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5329080" cy="569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916360" y="3933720"/>
            <a:ext cx="5330880" cy="711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4016160" cy="7477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8"/>
          <p:cNvSpPr/>
          <p:nvPr/>
        </p:nvSpPr>
        <p:spPr>
          <a:xfrm>
            <a:off x="3203280" y="1557360"/>
            <a:ext cx="41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多少层楼高？（假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层楼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wheel spokes="8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57200" y="76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反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755640" y="15573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乘方”精神：虽然是简简单单的重复，但结果却是惊人的。做人也要这样，脚踏实地，一步一个脚印，成功也会令你惊喜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"/>
          <p:cNvSpPr/>
          <p:nvPr/>
        </p:nvSpPr>
        <p:spPr>
          <a:xfrm>
            <a:off x="380880" y="866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乘方的意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 Box 3"/>
          <p:cNvSpPr/>
          <p:nvPr/>
        </p:nvSpPr>
        <p:spPr>
          <a:xfrm>
            <a:off x="380880" y="1523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种求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个相同因数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积的运算叫做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乘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乘方的结果叫做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叫做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底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zh-CN" sz="3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叫做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指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读作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幂（或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方）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838080" y="5297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方又叫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平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次方又叫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立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809880" y="3429000"/>
            <a:ext cx="990720" cy="990720"/>
            <a:chOff x="3809880" y="3429000"/>
            <a:chExt cx="990720" cy="990720"/>
          </a:xfrm>
        </p:grpSpPr>
        <p:sp>
          <p:nvSpPr>
            <p:cNvPr id="42" name="Rectangle 6"/>
            <p:cNvSpPr/>
            <p:nvPr/>
          </p:nvSpPr>
          <p:spPr>
            <a:xfrm>
              <a:off x="3809880" y="3429000"/>
              <a:ext cx="990720" cy="990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3886200" y="3429000"/>
                  <a:ext cx="79992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4" name=""/>
          <p:cNvGrpSpPr/>
          <p:nvPr/>
        </p:nvGrpSpPr>
        <p:grpSpPr>
          <a:xfrm>
            <a:off x="1828800" y="3809880"/>
            <a:ext cx="2133720" cy="520560"/>
            <a:chOff x="1828800" y="3809880"/>
            <a:chExt cx="2133720" cy="520560"/>
          </a:xfrm>
        </p:grpSpPr>
        <p:sp>
          <p:nvSpPr>
            <p:cNvPr id="45" name="Line 9"/>
            <p:cNvSpPr/>
            <p:nvPr/>
          </p:nvSpPr>
          <p:spPr>
            <a:xfrm>
              <a:off x="2590920" y="396216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1828800" y="3809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底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647960" y="3505320"/>
            <a:ext cx="2361960" cy="520560"/>
            <a:chOff x="4647960" y="3505320"/>
            <a:chExt cx="2361960" cy="520560"/>
          </a:xfrm>
        </p:grpSpPr>
        <p:sp>
          <p:nvSpPr>
            <p:cNvPr id="48" name="Line 12"/>
            <p:cNvSpPr/>
            <p:nvPr/>
          </p:nvSpPr>
          <p:spPr>
            <a:xfrm flipH="1" flipV="1">
              <a:off x="4647960" y="3733920"/>
              <a:ext cx="13712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6019560" y="35053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指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800600" y="4038480"/>
            <a:ext cx="1905120" cy="520560"/>
            <a:chOff x="4800600" y="4038480"/>
            <a:chExt cx="1905120" cy="520560"/>
          </a:xfrm>
        </p:grpSpPr>
        <p:sp>
          <p:nvSpPr>
            <p:cNvPr id="51" name="Line 15"/>
            <p:cNvSpPr/>
            <p:nvPr/>
          </p:nvSpPr>
          <p:spPr>
            <a:xfrm flipH="1">
              <a:off x="4800600" y="426708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6"/>
            <p:cNvSpPr/>
            <p:nvPr/>
          </p:nvSpPr>
          <p:spPr>
            <a:xfrm>
              <a:off x="6095880" y="40384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535040" y="3770280"/>
            <a:ext cx="6132240" cy="1099800"/>
            <a:chOff x="1535040" y="3770280"/>
            <a:chExt cx="6132240" cy="1099800"/>
          </a:xfrm>
        </p:grpSpPr>
        <p:sp>
          <p:nvSpPr>
            <p:cNvPr id="55" name="Text Box 19"/>
            <p:cNvSpPr/>
            <p:nvPr/>
          </p:nvSpPr>
          <p:spPr>
            <a:xfrm>
              <a:off x="1535040" y="3770280"/>
              <a:ext cx="613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= 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i="1" lang="zh-CN" sz="3200" spc="-1" strike="noStrike" baseline="30000">
                  <a:solidFill>
                    <a:srgbClr val="000000"/>
                  </a:solidFill>
                  <a:latin typeface="宋体"/>
                </a:rPr>
                <a:t>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0"/>
            <p:cNvSpPr/>
            <p:nvPr/>
          </p:nvSpPr>
          <p:spPr>
            <a:xfrm flipV="1" rot="16200000">
              <a:off x="3157560" y="2769480"/>
              <a:ext cx="152280" cy="3066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920 h 3066480"/>
                <a:gd name="textAreaBottom" fmla="*/ 2986560 h 30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1"/>
            <p:cNvSpPr/>
            <p:nvPr/>
          </p:nvSpPr>
          <p:spPr>
            <a:xfrm>
              <a:off x="2694960" y="4227480"/>
              <a:ext cx="129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92"/>
          <p:cNvSpPr/>
          <p:nvPr/>
        </p:nvSpPr>
        <p:spPr>
          <a:xfrm>
            <a:off x="4876920" y="4648320"/>
            <a:ext cx="391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解：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4×(-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4543560" y="1523880"/>
            <a:ext cx="714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533520" y="1600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列运算结果为正数的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5      B.(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5     C.(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×5   D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3×5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8"/>
          <p:cNvSpPr/>
          <p:nvPr/>
        </p:nvSpPr>
        <p:spPr>
          <a:xfrm>
            <a:off x="4724280" y="2514600"/>
            <a:ext cx="5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33520" y="2590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列各式运算结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×3     B.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+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+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6"/>
          <p:cNvSpPr/>
          <p:nvPr/>
        </p:nvSpPr>
        <p:spPr>
          <a:xfrm>
            <a:off x="533520" y="35370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计算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)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×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4"/>
          <p:cNvSpPr/>
          <p:nvPr/>
        </p:nvSpPr>
        <p:spPr>
          <a:xfrm>
            <a:off x="533520" y="4603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解：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(-1)×(-10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5">
            <a:hlinkClick r:id="rId1" action="ppaction://hlinksldjump"/>
          </p:cNvPr>
          <p:cNvSpPr/>
          <p:nvPr/>
        </p:nvSpPr>
        <p:spPr>
          <a:xfrm>
            <a:off x="4681440" y="651996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6">
            <a:hlinkClick r:id="rId2" action="ppaction://hlinksldjump"/>
          </p:cNvPr>
          <p:cNvSpPr/>
          <p:nvPr/>
        </p:nvSpPr>
        <p:spPr>
          <a:xfrm>
            <a:off x="5853240" y="6553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7">
            <a:hlinkClick r:id="rId3" action="ppaction://hlinksldjump"/>
          </p:cNvPr>
          <p:cNvSpPr/>
          <p:nvPr/>
        </p:nvSpPr>
        <p:spPr>
          <a:xfrm>
            <a:off x="256212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98">
            <a:hlinkClick r:id="rId4" action="ppaction://hlinksldjump"/>
          </p:cNvPr>
          <p:cNvSpPr/>
          <p:nvPr/>
        </p:nvSpPr>
        <p:spPr>
          <a:xfrm>
            <a:off x="37339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01" descr="对应练习副本"/>
          <p:cNvPicPr/>
          <p:nvPr/>
        </p:nvPicPr>
        <p:blipFill>
          <a:blip r:embed="rId5"/>
          <a:stretch/>
        </p:blipFill>
        <p:spPr>
          <a:xfrm>
            <a:off x="422280" y="762120"/>
            <a:ext cx="2473200" cy="838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02"/>
          <p:cNvSpPr/>
          <p:nvPr/>
        </p:nvSpPr>
        <p:spPr>
          <a:xfrm>
            <a:off x="1681920" y="51721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1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3"/>
          <p:cNvSpPr/>
          <p:nvPr/>
        </p:nvSpPr>
        <p:spPr>
          <a:xfrm>
            <a:off x="6028920" y="50958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>
            <a:hlinkClick r:id="rId1" action="ppaction://hlinksldjump"/>
          </p:cNvPr>
          <p:cNvSpPr/>
          <p:nvPr/>
        </p:nvSpPr>
        <p:spPr>
          <a:xfrm>
            <a:off x="4681440" y="651996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>
            <a:hlinkClick r:id="rId2" action="ppaction://hlinksldjump"/>
          </p:cNvPr>
          <p:cNvSpPr/>
          <p:nvPr/>
        </p:nvSpPr>
        <p:spPr>
          <a:xfrm>
            <a:off x="5853240" y="6553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>
            <a:hlinkClick r:id="rId3" action="ppaction://hlinksldjump"/>
          </p:cNvPr>
          <p:cNvSpPr/>
          <p:nvPr/>
        </p:nvSpPr>
        <p:spPr>
          <a:xfrm>
            <a:off x="256212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>
            <a:hlinkClick r:id="rId4" action="ppaction://hlinksldjump"/>
          </p:cNvPr>
          <p:cNvSpPr/>
          <p:nvPr/>
        </p:nvSpPr>
        <p:spPr>
          <a:xfrm>
            <a:off x="37339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877320" y="1447920"/>
            <a:ext cx="5066280" cy="2822040"/>
            <a:chOff x="877320" y="1447920"/>
            <a:chExt cx="5066280" cy="2822040"/>
          </a:xfrm>
        </p:grpSpPr>
        <p:sp>
          <p:nvSpPr>
            <p:cNvPr id="259" name="Rectangle 9"/>
            <p:cNvSpPr/>
            <p:nvPr/>
          </p:nvSpPr>
          <p:spPr>
            <a:xfrm>
              <a:off x="1371600" y="1981440"/>
              <a:ext cx="4572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(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)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×5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4)(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)+2×(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)÷(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(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877320" y="1447920"/>
              <a:ext cx="83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计算：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13"/>
          <p:cNvSpPr/>
          <p:nvPr/>
        </p:nvSpPr>
        <p:spPr>
          <a:xfrm>
            <a:off x="1549440" y="2514600"/>
            <a:ext cx="29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：原式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25-4×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916360" y="4876920"/>
            <a:ext cx="1122120" cy="70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1619280" y="4365720"/>
            <a:ext cx="3321000" cy="38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2979720" y="5538960"/>
            <a:ext cx="801720" cy="70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65" name="Picture 21" descr="对应练习副本"/>
          <p:cNvPicPr/>
          <p:nvPr/>
        </p:nvPicPr>
        <p:blipFill>
          <a:blip r:embed="rId8"/>
          <a:stretch/>
        </p:blipFill>
        <p:spPr>
          <a:xfrm>
            <a:off x="422280" y="685800"/>
            <a:ext cx="2473200" cy="838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2"/>
          <p:cNvSpPr/>
          <p:nvPr/>
        </p:nvSpPr>
        <p:spPr>
          <a:xfrm>
            <a:off x="2595600" y="3032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-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19640" y="1268280"/>
            <a:ext cx="2232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  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84360" y="2133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复习乘方的有关概念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11280" y="3068640"/>
            <a:ext cx="57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乘方运算的规律等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612720" y="39211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乘方与加、减、乘、除的混合运算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运算顺序是：先乘方，再乘除，最后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减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833280" y="2479680"/>
            <a:ext cx="22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再       见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31840" y="3344760"/>
            <a:ext cx="508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宋体"/>
                <a:ea typeface="宋体"/>
              </a:rPr>
              <a:t>Zx.xk 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7621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914400"/>
            <a:ext cx="8839080" cy="4342680"/>
            <a:chOff x="0" y="914400"/>
            <a:chExt cx="8839080" cy="4342680"/>
          </a:xfrm>
        </p:grpSpPr>
        <p:sp>
          <p:nvSpPr>
            <p:cNvPr id="60" name="Text Box 4"/>
            <p:cNvSpPr/>
            <p:nvPr/>
          </p:nvSpPr>
          <p:spPr>
            <a:xfrm>
              <a:off x="228600" y="1032480"/>
              <a:ext cx="8609040" cy="37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</a:rPr>
                <a:t>规律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）正数的任何次幂都是正数；负数的奇次幂是负数，负数的偶次幂是正数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的任何次幂都是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的奇次幂是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的偶次幂是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） 互为相反数的两个数，它们的偶次幂相等，奇次幂互为相反数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0" y="914400"/>
              <a:ext cx="8839080" cy="43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640" y="907920"/>
            <a:ext cx="144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复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908000" y="1989000"/>
                <a:ext cx="7876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Rectangle 4"/>
          <p:cNvSpPr/>
          <p:nvPr/>
        </p:nvSpPr>
        <p:spPr>
          <a:xfrm>
            <a:off x="960120" y="126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填空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007720" y="4436640"/>
            <a:ext cx="50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式子   表示的意义是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488960" y="2060640"/>
            <a:ext cx="634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在   中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叫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叫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乘方的结果叫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268360" y="4294080"/>
                <a:ext cx="936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Rectangle 8"/>
          <p:cNvSpPr/>
          <p:nvPr/>
        </p:nvSpPr>
        <p:spPr>
          <a:xfrm>
            <a:off x="4756680" y="198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底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7204320" y="198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指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880880" y="3141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5938920" y="4365000"/>
            <a:ext cx="18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个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相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85080" y="907560"/>
            <a:ext cx="649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789560" y="980280"/>
            <a:ext cx="43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    和    有什么不同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24000" y="981000"/>
                <a:ext cx="719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525840" y="1057320"/>
                <a:ext cx="614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Rectangle 6"/>
          <p:cNvSpPr/>
          <p:nvPr/>
        </p:nvSpPr>
        <p:spPr>
          <a:xfrm>
            <a:off x="2048040" y="39340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宋体"/>
              </a:rPr>
              <a:t>说明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主要从以下几个方面考虑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 ①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底数   ②指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 ③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法   ④意义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 ⑤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结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905120" y="1813680"/>
            <a:ext cx="29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      和     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095560" y="1773360"/>
                <a:ext cx="1036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773520" y="1820880"/>
                <a:ext cx="869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90600" y="2529000"/>
                <a:ext cx="33894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）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与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呢？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11"/>
          <p:cNvSpPr/>
          <p:nvPr/>
        </p:nvSpPr>
        <p:spPr>
          <a:xfrm>
            <a:off x="1289160" y="292428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414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4719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247680"/>
            <a:ext cx="9144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底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指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在        中底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指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-5)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中底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指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幂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在          中底数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指数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幂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在          中底数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指数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幂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00200" y="1371600"/>
                <a:ext cx="676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Text Box 6"/>
          <p:cNvSpPr/>
          <p:nvPr/>
        </p:nvSpPr>
        <p:spPr>
          <a:xfrm>
            <a:off x="3059280" y="838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580000" y="838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588000" y="1554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924360" y="2316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-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6443640" y="22766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40360" y="1447920"/>
            <a:ext cx="685440" cy="764280"/>
            <a:chOff x="4140360" y="1447920"/>
            <a:chExt cx="685440" cy="764280"/>
          </a:xfrm>
        </p:grpSpPr>
        <p:sp>
          <p:nvSpPr>
            <p:cNvPr id="92" name="Line 12"/>
            <p:cNvSpPr/>
            <p:nvPr/>
          </p:nvSpPr>
          <p:spPr>
            <a:xfrm>
              <a:off x="4140360" y="1828440"/>
              <a:ext cx="457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3"/>
            <p:cNvSpPr/>
            <p:nvPr/>
          </p:nvSpPr>
          <p:spPr>
            <a:xfrm>
              <a:off x="414036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4140360" y="175248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619280" y="2924280"/>
                <a:ext cx="9144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Text Box 16"/>
          <p:cNvSpPr/>
          <p:nvPr/>
        </p:nvSpPr>
        <p:spPr>
          <a:xfrm>
            <a:off x="8244000" y="23954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530600" y="3065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689880" y="30654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8229600" y="3048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-62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92360" y="3357720"/>
                <a:ext cx="7761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21"/>
          <p:cNvSpPr/>
          <p:nvPr/>
        </p:nvSpPr>
        <p:spPr>
          <a:xfrm>
            <a:off x="4191120" y="3809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6095880" y="37339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848720" y="3429000"/>
                <a:ext cx="65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Rectangle 24"/>
          <p:cNvSpPr/>
          <p:nvPr/>
        </p:nvSpPr>
        <p:spPr>
          <a:xfrm>
            <a:off x="0" y="43434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意义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平方等于它本身的数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立方等于它本身的数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038480" y="4343400"/>
            <a:ext cx="10670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6248520" y="5181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0,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6072120" y="594504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0, 1 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58800" y="156996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计算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    (-1.5)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297480" y="1341360"/>
                <a:ext cx="15242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4"/>
          <p:cNvSpPr/>
          <p:nvPr/>
        </p:nvSpPr>
        <p:spPr>
          <a:xfrm>
            <a:off x="4362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4000" y="7650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考考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496880" y="256536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(-3)</a:t>
            </a:r>
            <a:r>
              <a:rPr b="0" lang="zh-CN" sz="36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= - (3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3)= - 2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496880" y="36464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(-1.5)</a:t>
            </a:r>
            <a:r>
              <a:rPr b="0" lang="zh-CN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= 1.5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5 =2.2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062080" y="57340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先定符号，再算绝对值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73200" y="4365720"/>
                <a:ext cx="38098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79280" y="83664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3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×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 ×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8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0880" y="5257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04920" y="46483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于乘除和乘方的混合运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应先算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乘方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后算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乘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果遇到括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就先进行括号里的运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1720" y="217332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82360" y="2173320"/>
            <a:ext cx="16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 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²=-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284000" y="210168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 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×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³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176520" y="206064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×8=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77600" y="306864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 ×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458000" y="361332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458360" y="404496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2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049280" y="2997360"/>
            <a:ext cx="27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759200" y="35020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8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4713840" y="404496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55640" y="1628640"/>
          <a:ext cx="6408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6408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3"/>
          <p:cNvSpPr/>
          <p:nvPr/>
        </p:nvSpPr>
        <p:spPr>
          <a:xfrm>
            <a:off x="108000" y="2637000"/>
            <a:ext cx="86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原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-8 +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6 + 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 9 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844280" y="3378240"/>
            <a:ext cx="36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-8 +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× 18 + 4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878120" y="4060800"/>
            <a:ext cx="235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-8 – 54 + 4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57080" y="482616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-57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18240" y="94932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427640" y="4581360"/>
            <a:ext cx="40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算算有几种运算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并说明运算次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7:43:12Z</dcterms:created>
  <dc:creator>Administrator</dc:creator>
  <dc:description/>
  <cp:keywords/>
  <dc:language>en-US</dc:language>
  <cp:lastModifiedBy>User</cp:lastModifiedBy>
  <cp:lastPrinted>1899-12-30T00:00:00Z</cp:lastPrinted>
  <dcterms:modified xsi:type="dcterms:W3CDTF">2014-11-11T08:10:00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