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chimes.wav" ContentType="audio/x-wav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DAE-153D-4B55-B16D-2A5B151D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8CB8-4C7F-407D-98B9-DD48BC41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50D-26DD-494E-9B40-72460D4B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99F-44E4-4C7C-9143-5EBF1F25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B64D-0453-4DE9-8A15-B38C600F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3876-C7B3-4F86-931D-C772D5D6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2E4E-212A-4C7E-A9B5-CCAB0107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D7C-12BD-4E04-9ED5-504D2560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ED3A-4D2E-4DE4-897B-C90A4534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292F-B639-46B5-B1B9-51E56BDD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701-1F4C-42B6-94E1-142B2750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08DF-721D-4F91-973D-DE9AA660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72DE-F4F1-4E12-9C87-0D88E385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589B-5965-4158-ACB0-8B1CC30C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EE7F-F218-4D01-A184-ECEE8146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78C6-A861-4C31-995D-4CB905A9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8185-845D-4F11-82CA-E58FDF38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3B3D-736E-4444-8662-93B29C7D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3FCE-7E0A-4B28-9AA9-8C350B1F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4078-744E-40A4-ACDD-102325AE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41D3-7539-45B6-86B0-E4DBDBDC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D15A-0C75-43A8-A4B8-43EB0FB9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45CF-EA82-4670-8BC4-75F67CC7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C271-865E-438A-8628-AE0C893B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2200" y="84240"/>
            <a:ext cx="438120" cy="474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04880" y="84240"/>
            <a:ext cx="328680" cy="4744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46040" y="506520"/>
            <a:ext cx="422280" cy="474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16120" y="50652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31680" y="43344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Rectangle 7"/>
          <p:cNvSpPr/>
          <p:nvPr/>
        </p:nvSpPr>
        <p:spPr>
          <a:xfrm flipV="1">
            <a:off x="50760" y="651960"/>
            <a:ext cx="1295280" cy="36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0200" y="4680"/>
            <a:ext cx="31680" cy="10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230720" y="27082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Arial Black"/>
              </a:endParaRPr>
            </a:p>
          </p:txBody>
        </p:sp>
        <p:sp>
          <p:nvSpPr>
            <p:cNvPr id="4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Arial Black"/>
              </a:endParaRPr>
            </a:p>
          </p:txBody>
        </p:sp>
        <p:sp>
          <p:nvSpPr>
            <p:cNvPr id="4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Arial Black"/>
              </a:endParaRPr>
            </a:p>
          </p:txBody>
        </p:sp>
        <p:sp>
          <p:nvSpPr>
            <p:cNvPr id="4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Arial Black"/>
              </a:endParaRPr>
            </a:p>
          </p:txBody>
        </p:sp>
        <p:sp>
          <p:nvSpPr>
            <p:cNvPr id="4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Arial Black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29D5-C522-4356-8D34-465D053E2DA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92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Arial Black"/>
              </a:endParaRPr>
            </a:p>
          </p:txBody>
        </p:sp>
        <p:sp>
          <p:nvSpPr>
            <p:cNvPr id="93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Arial Black"/>
              </a:endParaRPr>
            </a:p>
          </p:txBody>
        </p:sp>
        <p:sp>
          <p:nvSpPr>
            <p:cNvPr id="94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Arial Black"/>
              </a:endParaRPr>
            </a:p>
          </p:txBody>
        </p:sp>
        <p:sp>
          <p:nvSpPr>
            <p:cNvPr id="95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Arial Black"/>
              </a:endParaRPr>
            </a:p>
          </p:txBody>
        </p:sp>
        <p:sp>
          <p:nvSpPr>
            <p:cNvPr id="96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Arial Black"/>
              </a:endParaRPr>
            </a:p>
          </p:txBody>
        </p:sp>
        <p:sp>
          <p:nvSpPr>
            <p:cNvPr id="97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Arial Black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BC80-64B1-4A4E-9F6E-9C15E56A827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6"/>
          <p:cNvSpPr txBox="1"/>
          <p:nvPr/>
        </p:nvSpPr>
        <p:spPr>
          <a:xfrm>
            <a:off x="1116000" y="2924280"/>
            <a:ext cx="633744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一章   有理数总复习</a:t>
            </a:r>
            <a:endParaRPr b="1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686480" y="3044880"/>
            <a:ext cx="544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网</a:t>
            </a:r>
            <a:endParaRPr b="1" lang="en-US" sz="8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1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0"/>
              <p:cNvSpPr txBox="1"/>
              <p:nvPr/>
            </p:nvSpPr>
            <p:spPr>
              <a:xfrm>
                <a:off x="826920" y="3213000"/>
                <a:ext cx="7626600" cy="17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计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Text Box 12"/>
          <p:cNvSpPr/>
          <p:nvPr/>
        </p:nvSpPr>
        <p:spPr>
          <a:xfrm>
            <a:off x="0" y="1197000"/>
            <a:ext cx="9144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（二）、计算：</a:t>
            </a: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、已知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|x|=3,|y|=2,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且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x&lt;y,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则求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x+y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的值。</a:t>
            </a: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92520" y="4005360"/>
            <a:ext cx="761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、</a:t>
            </a: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31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</a:rPr>
              <a:t>当堂训练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必做题： 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P 51   1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选做题： 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P51   7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8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767ff"/>
                </a:solidFill>
                <a:latin typeface="Arial"/>
              </a:rPr>
              <a:t>有理数小结与复习（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6159600"/>
            <a:ext cx="822960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88ec41680f952ab7431694a7"/>
          <p:cNvPicPr/>
          <p:nvPr/>
        </p:nvPicPr>
        <p:blipFill>
          <a:blip r:embed="rId1"/>
          <a:stretch/>
        </p:blipFill>
        <p:spPr>
          <a:xfrm>
            <a:off x="-181080" y="0"/>
            <a:ext cx="10157040" cy="7616880"/>
          </a:xfrm>
          <a:prstGeom prst="rect">
            <a:avLst/>
          </a:prstGeom>
          <a:ln w="0">
            <a:noFill/>
          </a:ln>
        </p:spPr>
      </p:pic>
      <p:sp>
        <p:nvSpPr>
          <p:cNvPr id="145" name="WordArt 7"/>
          <p:cNvSpPr txBox="1"/>
          <p:nvPr/>
        </p:nvSpPr>
        <p:spPr>
          <a:xfrm>
            <a:off x="971640" y="2421000"/>
            <a:ext cx="83516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有理数复习与小结（一）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178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复习目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复习有理数、相反数、绝对值、倒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数等有关概念，构建知识结构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利用数轴把概念串在一起，提高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形结合的能力及用知识网络归纳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知识的能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对有理数进行分类，提高学生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讨论处理数学问题的能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2952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Arial"/>
              </a:rPr>
              <a:t>自学指导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带着以下问题复习课本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—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习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前的内容（时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左右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正负数、有理数的意义，有理数的分类方法有    几种？画数轴要注意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相反数的意义，怎样表示一个数的相反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什么叫绝对值？如何表示一个数的绝对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互为相反数的两个数绝对值有什么关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会有这种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个数的绝对值与它本身有什么关系？为什么会有这种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你有几种方法比较两个负数的大小？哪种方法更方便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0" y="134136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宋体"/>
              </a:rPr>
              <a:t>负数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有理数    </a:t>
            </a:r>
            <a:endParaRPr b="1" lang="en-US" sz="4000" spc="-1" strike="noStrike">
              <a:solidFill>
                <a:srgbClr val="ffff00"/>
              </a:solidFill>
              <a:latin typeface="Arial Black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数轴</a:t>
            </a:r>
            <a:endParaRPr b="1" lang="en-US" sz="4000" spc="-1" strike="noStrike">
              <a:solidFill>
                <a:srgbClr val="ffff00"/>
              </a:solidFill>
              <a:latin typeface="Arial Black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互为相反数</a:t>
            </a:r>
            <a:endParaRPr b="1" lang="en-US" sz="4000" spc="-1" strike="noStrike">
              <a:solidFill>
                <a:srgbClr val="ffff00"/>
              </a:solidFill>
              <a:latin typeface="Arial Black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互为倒数</a:t>
            </a:r>
            <a:endParaRPr b="1" lang="en-US" sz="4000" spc="-1" strike="noStrike">
              <a:solidFill>
                <a:srgbClr val="ffff00"/>
              </a:solidFill>
              <a:latin typeface="Arial Black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有理数的绝对值</a:t>
            </a:r>
            <a:endParaRPr b="1" lang="en-US" sz="4000" spc="-1" strike="noStrike">
              <a:solidFill>
                <a:srgbClr val="ffff00"/>
              </a:solidFill>
              <a:latin typeface="Arial Black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7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有理数大小的比较</a:t>
            </a:r>
            <a:endParaRPr b="1" lang="en-US" sz="4000" spc="-1" strike="noStrike">
              <a:solidFill>
                <a:srgbClr val="ffff00"/>
              </a:solidFill>
              <a:latin typeface="Arial Black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79280" y="47628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有理数的基本概念复习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知识点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468360" y="6669000"/>
            <a:ext cx="807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endParaRPr b="1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2232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3399"/>
                </a:solidFill>
                <a:latin typeface="Arial"/>
              </a:rPr>
              <a:t>自我检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ff3399"/>
                </a:solidFill>
                <a:latin typeface="Arial"/>
              </a:rPr>
              <a:t>一、判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带“－”号的数都是负数。               （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定是负数。                     （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不存在既不是正数，也不是负数的数。   （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０℃表示没有温度。                   （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增加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实际的意思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甲比乙大－３表示的意思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绝对值表示它离开原点的距离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单位，记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-8|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|-5|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绝对值等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数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绝对值小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整数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绝对值等于它本身的数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绝对值不大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负整数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绝对值分别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且在数轴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点在表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点左侧，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值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5224320" y="1125360"/>
            <a:ext cx="1251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±1</a:t>
            </a:r>
            <a:endParaRPr b="1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051240" y="220500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零和正数</a:t>
            </a:r>
            <a:endParaRPr b="1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062760" y="3432240"/>
            <a:ext cx="140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1,-2,-3</a:t>
            </a:r>
            <a:endParaRPr b="1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7956720" y="5373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5</a:t>
            </a:r>
            <a:endParaRPr b="1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50920" y="0"/>
            <a:ext cx="2665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 Black"/>
              </a:rPr>
              <a:t>提高检测：</a:t>
            </a: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027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3399"/>
                </a:solidFill>
                <a:latin typeface="Arial"/>
              </a:rPr>
              <a:t>自我检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把下列各数填在相应的大括号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78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3.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59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整数集｛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｝；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有理数集｛              ｝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负有理数集｛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｝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负整数集｛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｝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数集｛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｝；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分数集｛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负分数集｛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67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99"/>
                </a:solidFill>
                <a:latin typeface="Arial"/>
              </a:rPr>
              <a:t>提高检测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一）、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绝对值小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整数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绝对值等于它本身的数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绝对值不大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负整数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绝对值分别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且在数轴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点在表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点左侧，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值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若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1)   +|y+4|=0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+5y=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a-3|+ |3a-4b|=0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a+8b=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7 |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　　）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- 7 |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　　）， 绝对值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数是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3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+|4-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=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496600" y="3860640"/>
            <a:ext cx="311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 Black"/>
              </a:rPr>
              <a:t>2</a:t>
            </a:r>
            <a:endParaRPr b="1" lang="en-US" sz="18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04:37:21Z</dcterms:created>
  <dc:creator>User</dc:creator>
  <dc:description/>
  <dc:language>en-US</dc:language>
  <cp:lastModifiedBy>Administrator</cp:lastModifiedBy>
  <dcterms:modified xsi:type="dcterms:W3CDTF">2014-11-06T14:08:41Z</dcterms:modified>
  <cp:revision>123</cp:revision>
  <dc:subject/>
  <dc:title>PowerPoint 演示文稿</dc:title>
</cp:coreProperties>
</file>