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736-31EC-48AF-87DB-ABCBCD2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9ED-5057-46AE-880A-2A7DCA9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DE0-35AE-43F6-9020-A8D9835D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3E6-AAD7-48BD-A296-A0AF280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ECB-1DAF-4B53-B769-C3934007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416A-3B55-4035-BD6C-FCECEF73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8D73-BAB8-4AE0-9E81-DF48FCF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C86-CE4D-4D07-8078-7652DA4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B584-7FAE-4F6F-8A15-ADA93CFC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3362-BF25-48CE-B4DB-CF5A50A8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58BA-676A-4F75-81D0-34C1BF5A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C71-A34A-468B-914E-D590184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DB6-C359-4A22-971D-D87DCDA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913E-BAB1-49CC-A56D-53B32B4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B21-C4A3-4776-B8F7-602FF1B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A8E-1CFE-4939-9D4E-32C0F9B5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B72-1816-4EC5-911A-4B6DC9F0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837F-6AAE-4BE6-8573-22B243A2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1B7E-3F88-45BA-A02D-EFC38E67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406C-CBF6-496A-8BF5-570AF9FA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AF1C-8869-449E-A8FB-7CE7867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B8B8-AA4C-4FCC-93D2-228648B3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70F-314F-45B1-8CDD-C953305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8EC1-A755-4328-9803-428D9708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54C0-6BEF-4425-8688-C0140DB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5AB4-2D8A-4509-BC99-10CD883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7CBC-417C-403E-A294-821C2A0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3426-E11E-4D29-A4A9-08ED47E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CE7C-3914-427F-BAD3-9901675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28DC-7F0A-445A-B9CD-711E6CB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C95-5DCC-48D0-9FAC-4D69DA4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0ED-7826-45B1-BBE5-52928FA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215-B8EB-4B87-A8B4-AF5D65F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E18-AD42-4E18-9D0B-4F57196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CF-42FF-4EF6-B1F9-104A991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10F-5C9C-490B-A115-B728E06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F957-9FFC-47DC-920D-C5E2B74B6F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7C4-164C-4AA5-8593-F0DAF0489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560" y="63000"/>
              <a:ext cx="3623040" cy="6129720"/>
              <a:chOff x="5407560" y="63000"/>
              <a:chExt cx="3623040" cy="6129720"/>
            </a:xfrm>
          </p:grpSpPr>
          <p:sp>
            <p:nvSpPr>
              <p:cNvPr id="84" name="未知"/>
              <p:cNvSpPr/>
              <p:nvPr/>
            </p:nvSpPr>
            <p:spPr>
              <a:xfrm flipV="1" rot="11970000">
                <a:off x="658116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 flipV="1" rot="11970000">
                <a:off x="7421400" y="195948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flipV="1" rot="11970000">
                <a:off x="6825960" y="259200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V="1" rot="11970000">
                <a:off x="7251480" y="6739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 flipV="1" rot="11970000">
                <a:off x="7154640" y="264492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 flipV="1" rot="11970000">
                <a:off x="7140240" y="124272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 flipV="1" rot="11970000">
                <a:off x="5937840" y="2931120"/>
                <a:ext cx="523800" cy="326736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7360"/>
                  <a:gd name="textAreaBottom" fmla="*/ 3268080 h 32673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37840" y="1035360"/>
              <a:ext cx="1015920" cy="1260360"/>
              <a:chOff x="4137840" y="1035360"/>
              <a:chExt cx="1015920" cy="1260360"/>
            </a:xfrm>
          </p:grpSpPr>
          <p:sp>
            <p:nvSpPr>
              <p:cNvPr id="98" name="未知"/>
              <p:cNvSpPr/>
              <p:nvPr/>
            </p:nvSpPr>
            <p:spPr>
              <a:xfrm rot="3220200">
                <a:off x="4552200" y="1073520"/>
                <a:ext cx="286920" cy="37872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rot="3220200">
                <a:off x="4636440" y="1605600"/>
                <a:ext cx="489600" cy="31608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316080"/>
                  <a:gd name="textAreaBottom" fmla="*/ 316440 h 3160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 rot="3220200">
                <a:off x="4098240" y="1962720"/>
                <a:ext cx="510120" cy="16020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2640" y="299520"/>
              <a:ext cx="891360" cy="829440"/>
              <a:chOff x="5642640" y="299520"/>
              <a:chExt cx="891360" cy="829440"/>
            </a:xfrm>
          </p:grpSpPr>
          <p:sp>
            <p:nvSpPr>
              <p:cNvPr id="102" name="未知"/>
              <p:cNvSpPr/>
              <p:nvPr/>
            </p:nvSpPr>
            <p:spPr>
              <a:xfrm rot="14908200">
                <a:off x="5754240" y="7981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 rot="14908200">
                <a:off x="5704200" y="477000"/>
                <a:ext cx="305280" cy="30204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14908200">
                <a:off x="6244560" y="3992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0120"/>
              <a:ext cx="1061640" cy="833400"/>
              <a:chOff x="954000" y="5280120"/>
              <a:chExt cx="1061640" cy="833400"/>
            </a:xfrm>
          </p:grpSpPr>
          <p:sp>
            <p:nvSpPr>
              <p:cNvPr id="106" name="未知"/>
              <p:cNvSpPr/>
              <p:nvPr/>
            </p:nvSpPr>
            <p:spPr>
              <a:xfrm rot="8524800">
                <a:off x="1697040" y="5546520"/>
                <a:ext cx="252000" cy="30312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8524800">
                <a:off x="1179720" y="5757120"/>
                <a:ext cx="430200" cy="2505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8524800">
                <a:off x="945720" y="5403960"/>
                <a:ext cx="448200" cy="127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7480" y="432360"/>
              <a:ext cx="1689480" cy="1145880"/>
              <a:chOff x="357480" y="432360"/>
              <a:chExt cx="1689480" cy="1145880"/>
            </a:xfrm>
          </p:grpSpPr>
          <p:sp>
            <p:nvSpPr>
              <p:cNvPr id="110" name="未知"/>
              <p:cNvSpPr/>
              <p:nvPr/>
            </p:nvSpPr>
            <p:spPr>
              <a:xfrm flipH="1" rot="4107000">
                <a:off x="1555560" y="104940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flipH="1" rot="4107000">
                <a:off x="1002960" y="575280"/>
                <a:ext cx="609120" cy="4431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flipH="1" rot="4107000">
                <a:off x="260280" y="1090440"/>
                <a:ext cx="635040" cy="22428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114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未知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5AC6-4A88-471D-AF50-64DF6929A8EE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>
            <a:off x="1062000" y="638280"/>
            <a:ext cx="586584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一元一次方程复习（一）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-600120" y="458640"/>
            <a:ext cx="9306000" cy="5789520"/>
            <a:chOff x="-600120" y="458640"/>
            <a:chExt cx="9306000" cy="5789520"/>
          </a:xfrm>
        </p:grpSpPr>
        <p:grpSp>
          <p:nvGrpSpPr>
            <p:cNvPr id="269" name=""/>
            <p:cNvGrpSpPr/>
            <p:nvPr/>
          </p:nvGrpSpPr>
          <p:grpSpPr>
            <a:xfrm>
              <a:off x="-600120" y="458640"/>
              <a:ext cx="9306000" cy="5789520"/>
              <a:chOff x="-600120" y="458640"/>
              <a:chExt cx="9306000" cy="5789520"/>
            </a:xfrm>
          </p:grpSpPr>
          <p:sp>
            <p:nvSpPr>
              <p:cNvPr id="270" name="Text Box 3"/>
              <p:cNvSpPr/>
              <p:nvPr/>
            </p:nvSpPr>
            <p:spPr>
              <a:xfrm>
                <a:off x="218520" y="1250640"/>
                <a:ext cx="8487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3600" spc="-1" strike="noStrike">
                    <a:solidFill>
                      <a:srgbClr val="a50021"/>
                    </a:solidFill>
                    <a:latin typeface="Arial"/>
                  </a:rPr>
                  <a:t>大家判断一下，下列方程的变形是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a50021"/>
                    </a:solidFill>
                    <a:latin typeface="Arial"/>
                  </a:rPr>
                  <a:t>正确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60480" y="2438280"/>
                <a:ext cx="6264720" cy="3809880"/>
                <a:chOff x="60480" y="2438280"/>
                <a:chExt cx="6264720" cy="3809880"/>
              </a:xfrm>
            </p:grpSpPr>
            <p:graphicFrame>
              <p:nvGraphicFramePr>
                <p:cNvPr id="272" name=""/>
                <p:cNvGraphicFramePr/>
                <p:nvPr/>
              </p:nvGraphicFramePr>
              <p:xfrm>
                <a:off x="1145520" y="4078080"/>
                <a:ext cx="4265640" cy="1408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45520" y="4078080"/>
                          <a:ext cx="4265640" cy="1408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274" name=""/>
                    <p:cNvSpPr txBox="1"/>
                    <p:nvPr/>
                  </p:nvSpPr>
                  <p:spPr>
                    <a:xfrm>
                      <a:off x="1386360" y="5499000"/>
                      <a:ext cx="4848480" cy="749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5" name=""/>
                    <p:cNvSpPr txBox="1"/>
                    <p:nvPr/>
                  </p:nvSpPr>
                  <p:spPr>
                    <a:xfrm>
                      <a:off x="1145520" y="3124080"/>
                      <a:ext cx="4799160" cy="1405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2</m:t>
                          </m:r>
                          <m:r>
                            <m:t xml:space="preserve">（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）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6" name=""/>
                    <p:cNvSpPr txBox="1"/>
                    <p:nvPr/>
                  </p:nvSpPr>
                  <p:spPr>
                    <a:xfrm>
                      <a:off x="1145520" y="2438280"/>
                      <a:ext cx="5179680" cy="77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77" name="Text Box 9"/>
                <p:cNvSpPr/>
                <p:nvPr/>
              </p:nvSpPr>
              <p:spPr>
                <a:xfrm>
                  <a:off x="61200" y="259056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1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10"/>
                <p:cNvSpPr/>
                <p:nvPr/>
              </p:nvSpPr>
              <p:spPr>
                <a:xfrm>
                  <a:off x="60480" y="358128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2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11"/>
                <p:cNvSpPr/>
                <p:nvPr/>
              </p:nvSpPr>
              <p:spPr>
                <a:xfrm>
                  <a:off x="60480" y="457200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3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12"/>
                <p:cNvSpPr/>
                <p:nvPr/>
              </p:nvSpPr>
              <p:spPr>
                <a:xfrm>
                  <a:off x="60480" y="556236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4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Rectangle 17"/>
              <p:cNvSpPr/>
              <p:nvPr/>
            </p:nvSpPr>
            <p:spPr>
              <a:xfrm>
                <a:off x="-600120" y="458640"/>
                <a:ext cx="4094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知识点练习三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TextBox 17"/>
            <p:cNvSpPr/>
            <p:nvPr/>
          </p:nvSpPr>
          <p:spPr>
            <a:xfrm>
              <a:off x="6484320" y="236196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Box 18"/>
            <p:cNvSpPr/>
            <p:nvPr/>
          </p:nvSpPr>
          <p:spPr>
            <a:xfrm>
              <a:off x="6439680" y="338436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Box 19"/>
            <p:cNvSpPr/>
            <p:nvPr/>
          </p:nvSpPr>
          <p:spPr>
            <a:xfrm>
              <a:off x="6439680" y="445140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Box 20"/>
            <p:cNvSpPr/>
            <p:nvPr/>
          </p:nvSpPr>
          <p:spPr>
            <a:xfrm>
              <a:off x="6439680" y="542952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020360" y="2451240"/>
            <a:ext cx="642600" cy="3773160"/>
            <a:chOff x="7020360" y="2451240"/>
            <a:chExt cx="642600" cy="3773160"/>
          </a:xfrm>
        </p:grpSpPr>
        <p:sp>
          <p:nvSpPr>
            <p:cNvPr id="287" name="Text Box 13"/>
            <p:cNvSpPr/>
            <p:nvPr/>
          </p:nvSpPr>
          <p:spPr>
            <a:xfrm>
              <a:off x="7172280" y="245124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7127640" y="34290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7039080" y="44514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7020360" y="5460120"/>
              <a:ext cx="64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00"/>
                  </a:solidFill>
                  <a:latin typeface="Arial"/>
                </a:rPr>
                <a:t>√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06280" y="1044720"/>
            <a:ext cx="8937720" cy="4889520"/>
            <a:chOff x="206280" y="1044720"/>
            <a:chExt cx="8937720" cy="4889520"/>
          </a:xfrm>
        </p:grpSpPr>
        <p:grpSp>
          <p:nvGrpSpPr>
            <p:cNvPr id="292" name=""/>
            <p:cNvGrpSpPr/>
            <p:nvPr/>
          </p:nvGrpSpPr>
          <p:grpSpPr>
            <a:xfrm>
              <a:off x="206280" y="1044720"/>
              <a:ext cx="8937720" cy="4172400"/>
              <a:chOff x="206280" y="1044720"/>
              <a:chExt cx="8937720" cy="4172400"/>
            </a:xfrm>
          </p:grpSpPr>
          <p:sp>
            <p:nvSpPr>
              <p:cNvPr id="293" name="Rectangle 9"/>
              <p:cNvSpPr/>
              <p:nvPr/>
            </p:nvSpPr>
            <p:spPr>
              <a:xfrm>
                <a:off x="296640" y="2843280"/>
                <a:ext cx="8847360" cy="23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、已知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x =  y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，下列变形中不一定正确的是（    ）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.x-5=y-5             B.-3x=-3y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.mx=my             D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10"/>
              <p:cNvSpPr/>
              <p:nvPr/>
            </p:nvSpPr>
            <p:spPr>
              <a:xfrm>
                <a:off x="206280" y="1044720"/>
                <a:ext cx="8460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、若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+2b = x + 10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，则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2a + 2b = x + 10+</a:t>
                </a: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5832360" y="4915080"/>
                  <a:ext cx="205740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Rectangle 4"/>
          <p:cNvSpPr/>
          <p:nvPr/>
        </p:nvSpPr>
        <p:spPr>
          <a:xfrm>
            <a:off x="0" y="0"/>
            <a:ext cx="45720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458800" y="1628640"/>
            <a:ext cx="565560" cy="2337480"/>
            <a:chOff x="2458800" y="1628640"/>
            <a:chExt cx="565560" cy="2337480"/>
          </a:xfrm>
        </p:grpSpPr>
        <p:sp>
          <p:nvSpPr>
            <p:cNvPr id="298" name="Text Box 11"/>
            <p:cNvSpPr/>
            <p:nvPr/>
          </p:nvSpPr>
          <p:spPr>
            <a:xfrm>
              <a:off x="2458800" y="16286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2546280" y="338472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0" y="1268280"/>
          <a:ext cx="8891640" cy="4770360"/>
        </p:xfrm>
        <a:graphic>
          <a:graphicData uri="http://schemas.openxmlformats.org/drawingml/2006/table">
            <a:tbl>
              <a:tblPr/>
              <a:tblGrid>
                <a:gridCol w="2801880"/>
                <a:gridCol w="60897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30"/>
          <p:cNvSpPr/>
          <p:nvPr/>
        </p:nvSpPr>
        <p:spPr>
          <a:xfrm>
            <a:off x="826920" y="1459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形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385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2"/>
          <p:cNvSpPr/>
          <p:nvPr/>
        </p:nvSpPr>
        <p:spPr>
          <a:xfrm>
            <a:off x="826920" y="2179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去分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3"/>
          <p:cNvSpPr/>
          <p:nvPr/>
        </p:nvSpPr>
        <p:spPr>
          <a:xfrm>
            <a:off x="826920" y="2852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去括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4"/>
          <p:cNvSpPr/>
          <p:nvPr/>
        </p:nvSpPr>
        <p:spPr>
          <a:xfrm>
            <a:off x="826920" y="3645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移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5"/>
          <p:cNvSpPr/>
          <p:nvPr/>
        </p:nvSpPr>
        <p:spPr>
          <a:xfrm>
            <a:off x="826920" y="4143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合并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ax=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0" y="5003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系数化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3203640" y="21337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防止漏乘（尤其整数项），注意添括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3203640" y="28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意变号，防止漏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3203640" y="3573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移项要变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0"/>
          <p:cNvSpPr/>
          <p:nvPr/>
        </p:nvSpPr>
        <p:spPr>
          <a:xfrm>
            <a:off x="3203640" y="43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要仔细，不要出差错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1"/>
          <p:cNvSpPr/>
          <p:nvPr/>
        </p:nvSpPr>
        <p:spPr>
          <a:xfrm>
            <a:off x="3203640" y="50594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要仔细，分子分母不要颠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0" y="27936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四：解一元一次方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9"/>
          <p:cNvSpPr/>
          <p:nvPr/>
        </p:nvSpPr>
        <p:spPr>
          <a:xfrm>
            <a:off x="0" y="28432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2"/>
          <p:cNvSpPr/>
          <p:nvPr/>
        </p:nvSpPr>
        <p:spPr>
          <a:xfrm>
            <a:off x="-285840" y="36828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知识点练习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458640"/>
            <a:ext cx="8867520" cy="5911920"/>
            <a:chOff x="0" y="458640"/>
            <a:chExt cx="8867520" cy="5911920"/>
          </a:xfrm>
        </p:grpSpPr>
        <p:sp>
          <p:nvSpPr>
            <p:cNvPr id="317" name="Rectangle 2"/>
            <p:cNvSpPr/>
            <p:nvPr/>
          </p:nvSpPr>
          <p:spPr>
            <a:xfrm>
              <a:off x="296640" y="458640"/>
              <a:ext cx="457200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解方程：  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1106280" y="1763640"/>
                  <a:ext cx="39798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9" name=""/>
            <p:cNvGrpSpPr/>
            <p:nvPr/>
          </p:nvGrpSpPr>
          <p:grpSpPr>
            <a:xfrm>
              <a:off x="296640" y="2619360"/>
              <a:ext cx="8570880" cy="931320"/>
              <a:chOff x="296640" y="2619360"/>
              <a:chExt cx="8570880" cy="931320"/>
            </a:xfrm>
          </p:grpSpPr>
          <mc:AlternateContent>
            <mc:Choice xmlns:a14="http://schemas.microsoft.com/office/drawing/2010/main" Requires="a14">
              <p:sp>
                <p:nvSpPr>
                  <p:cNvPr id="320" name=""/>
                  <p:cNvSpPr txBox="1"/>
                  <p:nvPr/>
                </p:nvSpPr>
                <p:spPr>
                  <a:xfrm>
                    <a:off x="944280" y="2709360"/>
                    <a:ext cx="7923240" cy="84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解：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e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1" name="Text Box 14"/>
              <p:cNvSpPr/>
              <p:nvPr/>
            </p:nvSpPr>
            <p:spPr>
              <a:xfrm>
                <a:off x="296640" y="2619360"/>
                <a:ext cx="115092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106280" y="3519360"/>
                  <a:ext cx="5310360" cy="15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Text Box 18"/>
            <p:cNvSpPr/>
            <p:nvPr/>
          </p:nvSpPr>
          <p:spPr>
            <a:xfrm>
              <a:off x="0" y="1942920"/>
              <a:ext cx="13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0"/>
            <p:cNvSpPr/>
            <p:nvPr/>
          </p:nvSpPr>
          <p:spPr>
            <a:xfrm>
              <a:off x="0" y="3789360"/>
              <a:ext cx="13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393480" y="4984920"/>
                  <a:ext cx="595656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9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104840" y="1162080"/>
                <a:ext cx="6797880" cy="44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0" y="450720"/>
                <a:ext cx="9144000" cy="56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6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0" y="0"/>
                <a:ext cx="8928000" cy="659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3600" y="272880"/>
                <a:ext cx="8740800" cy="631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知识点复习五：列方程解应用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47760" y="2521080"/>
            <a:ext cx="65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252360" y="1854360"/>
            <a:ext cx="843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审题，找出等量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62000" y="3189240"/>
            <a:ext cx="898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111320" y="1044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438120" y="1206360"/>
            <a:ext cx="8489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地间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相距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60k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车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出发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每小时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72km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车出发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分钟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乙车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出发开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每小时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48k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甲车出发后行驶多少小时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车相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0" y="1843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知识点练习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393840" y="449568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改为问：乙车出发后行驶多少小时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车相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660240" y="4984920"/>
            <a:ext cx="77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如果问：甲车出发后行驶多少小时后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两车相距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32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km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971960" y="361800"/>
            <a:ext cx="3890520" cy="1231560"/>
            <a:chOff x="4971960" y="361800"/>
            <a:chExt cx="3890520" cy="1231560"/>
          </a:xfrm>
        </p:grpSpPr>
        <p:grpSp>
          <p:nvGrpSpPr>
            <p:cNvPr id="168" name=""/>
            <p:cNvGrpSpPr/>
            <p:nvPr/>
          </p:nvGrpSpPr>
          <p:grpSpPr>
            <a:xfrm>
              <a:off x="4971960" y="361800"/>
              <a:ext cx="2017440" cy="1231560"/>
              <a:chOff x="4971960" y="361800"/>
              <a:chExt cx="2017440" cy="1231560"/>
            </a:xfrm>
          </p:grpSpPr>
          <p:sp>
            <p:nvSpPr>
              <p:cNvPr id="169" name="AutoShape 4"/>
              <p:cNvSpPr/>
              <p:nvPr/>
            </p:nvSpPr>
            <p:spPr>
              <a:xfrm>
                <a:off x="4971960" y="361800"/>
                <a:ext cx="1971360" cy="1231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5"/>
              <p:cNvSpPr/>
              <p:nvPr/>
            </p:nvSpPr>
            <p:spPr>
              <a:xfrm>
                <a:off x="4995360" y="459360"/>
                <a:ext cx="19940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6"/>
            <p:cNvSpPr/>
            <p:nvPr/>
          </p:nvSpPr>
          <p:spPr>
            <a:xfrm>
              <a:off x="5035680" y="657000"/>
              <a:ext cx="20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Arial"/>
                  <a:ea typeface="隶书"/>
                </a:rPr>
                <a:t>回顾与思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Picture 7" descr="qz_1rejo[1]"/>
            <p:cNvPicPr/>
            <p:nvPr/>
          </p:nvPicPr>
          <p:blipFill>
            <a:blip r:embed="rId2"/>
            <a:stretch/>
          </p:blipFill>
          <p:spPr>
            <a:xfrm>
              <a:off x="6989760" y="396720"/>
              <a:ext cx="187272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WordArt 8"/>
          <p:cNvSpPr txBox="1"/>
          <p:nvPr/>
        </p:nvSpPr>
        <p:spPr>
          <a:xfrm>
            <a:off x="1187280" y="260280"/>
            <a:ext cx="2260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知识结构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3160" y="1787400"/>
            <a:ext cx="8352360" cy="4621320"/>
            <a:chOff x="353160" y="1787400"/>
            <a:chExt cx="8352360" cy="4621320"/>
          </a:xfrm>
        </p:grpSpPr>
        <p:grpSp>
          <p:nvGrpSpPr>
            <p:cNvPr id="175" name=""/>
            <p:cNvGrpSpPr/>
            <p:nvPr/>
          </p:nvGrpSpPr>
          <p:grpSpPr>
            <a:xfrm>
              <a:off x="353160" y="1787400"/>
              <a:ext cx="8352360" cy="4621320"/>
              <a:chOff x="353160" y="1787400"/>
              <a:chExt cx="8352360" cy="4621320"/>
            </a:xfrm>
          </p:grpSpPr>
          <p:sp>
            <p:nvSpPr>
              <p:cNvPr id="176" name="Text Box 9"/>
              <p:cNvSpPr/>
              <p:nvPr/>
            </p:nvSpPr>
            <p:spPr>
              <a:xfrm>
                <a:off x="353160" y="2454120"/>
                <a:ext cx="606960" cy="215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方      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905280" y="2587320"/>
                <a:ext cx="1736640" cy="2602800"/>
                <a:chOff x="3905280" y="2587320"/>
                <a:chExt cx="1736640" cy="26028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3905280" y="2587320"/>
                  <a:ext cx="1727280" cy="1224000"/>
                  <a:chOff x="3905280" y="2587320"/>
                  <a:chExt cx="1727280" cy="1224000"/>
                </a:xfrm>
              </p:grpSpPr>
              <p:sp>
                <p:nvSpPr>
                  <p:cNvPr id="179" name="Text Box 33"/>
                  <p:cNvSpPr/>
                  <p:nvPr/>
                </p:nvSpPr>
                <p:spPr>
                  <a:xfrm>
                    <a:off x="4697280" y="2587320"/>
                    <a:ext cx="935280" cy="5205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概念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34"/>
                  <p:cNvSpPr/>
                  <p:nvPr/>
                </p:nvSpPr>
                <p:spPr>
                  <a:xfrm>
                    <a:off x="4265640" y="287460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Line 35"/>
                  <p:cNvSpPr/>
                  <p:nvPr/>
                </p:nvSpPr>
                <p:spPr>
                  <a:xfrm>
                    <a:off x="3905280" y="3811320"/>
                    <a:ext cx="3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Line 36"/>
                  <p:cNvSpPr/>
                  <p:nvPr/>
                </p:nvSpPr>
                <p:spPr>
                  <a:xfrm>
                    <a:off x="4265640" y="2874600"/>
                    <a:ext cx="0" cy="93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275000" y="3811320"/>
                  <a:ext cx="1366920" cy="1378800"/>
                  <a:chOff x="4275000" y="3811320"/>
                  <a:chExt cx="1366920" cy="1378800"/>
                </a:xfrm>
              </p:grpSpPr>
              <p:sp>
                <p:nvSpPr>
                  <p:cNvPr id="184" name="Text Box 38"/>
                  <p:cNvSpPr/>
                  <p:nvPr/>
                </p:nvSpPr>
                <p:spPr>
                  <a:xfrm>
                    <a:off x="4706640" y="4242960"/>
                    <a:ext cx="935280" cy="9471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解法步骤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Line 39"/>
                  <p:cNvSpPr/>
                  <p:nvPr/>
                </p:nvSpPr>
                <p:spPr>
                  <a:xfrm>
                    <a:off x="4275000" y="453060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Line 40"/>
                  <p:cNvSpPr/>
                  <p:nvPr/>
                </p:nvSpPr>
                <p:spPr>
                  <a:xfrm>
                    <a:off x="4275000" y="3811320"/>
                    <a:ext cx="0" cy="719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7" name="Line 44"/>
              <p:cNvSpPr/>
              <p:nvPr/>
            </p:nvSpPr>
            <p:spPr>
              <a:xfrm>
                <a:off x="5638680" y="467676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5994360" y="2943000"/>
                <a:ext cx="2711160" cy="3465720"/>
                <a:chOff x="5994360" y="2943000"/>
                <a:chExt cx="2711160" cy="3465720"/>
              </a:xfrm>
            </p:grpSpPr>
            <p:sp>
              <p:nvSpPr>
                <p:cNvPr id="189" name="Text Box 10"/>
                <p:cNvSpPr/>
                <p:nvPr/>
              </p:nvSpPr>
              <p:spPr>
                <a:xfrm>
                  <a:off x="6572160" y="3698640"/>
                  <a:ext cx="208944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去括号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5"/>
                <p:cNvSpPr/>
                <p:nvPr/>
              </p:nvSpPr>
              <p:spPr>
                <a:xfrm>
                  <a:off x="5994360" y="3254040"/>
                  <a:ext cx="48240" cy="288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6010200" y="2943000"/>
                  <a:ext cx="2695320" cy="3465720"/>
                  <a:chOff x="6010200" y="2943000"/>
                  <a:chExt cx="2695320" cy="3465720"/>
                </a:xfrm>
              </p:grpSpPr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041520" y="4376520"/>
                    <a:ext cx="2664000" cy="520560"/>
                    <a:chOff x="6041520" y="4376520"/>
                    <a:chExt cx="2664000" cy="520560"/>
                  </a:xfrm>
                </p:grpSpPr>
                <p:sp>
                  <p:nvSpPr>
                    <p:cNvPr id="193" name="Text Box 16"/>
                    <p:cNvSpPr/>
                    <p:nvPr/>
                  </p:nvSpPr>
                  <p:spPr>
                    <a:xfrm>
                      <a:off x="6616080" y="437652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移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Line 17"/>
                    <p:cNvSpPr/>
                    <p:nvPr/>
                  </p:nvSpPr>
                  <p:spPr>
                    <a:xfrm>
                      <a:off x="6041520" y="466380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041520" y="5132520"/>
                    <a:ext cx="2664000" cy="520560"/>
                    <a:chOff x="6041520" y="5132520"/>
                    <a:chExt cx="2664000" cy="520560"/>
                  </a:xfrm>
                </p:grpSpPr>
                <p:sp>
                  <p:nvSpPr>
                    <p:cNvPr id="196" name="Text Box 19"/>
                    <p:cNvSpPr/>
                    <p:nvPr/>
                  </p:nvSpPr>
                  <p:spPr>
                    <a:xfrm>
                      <a:off x="6616080" y="513252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20"/>
                    <p:cNvSpPr/>
                    <p:nvPr/>
                  </p:nvSpPr>
                  <p:spPr>
                    <a:xfrm>
                      <a:off x="6041520" y="542160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Line 21"/>
                  <p:cNvSpPr/>
                  <p:nvPr/>
                </p:nvSpPr>
                <p:spPr>
                  <a:xfrm>
                    <a:off x="6041520" y="391464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Text Box 42"/>
                  <p:cNvSpPr/>
                  <p:nvPr/>
                </p:nvSpPr>
                <p:spPr>
                  <a:xfrm>
                    <a:off x="6589440" y="2943000"/>
                    <a:ext cx="2089440" cy="5205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去分母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43"/>
                  <p:cNvSpPr/>
                  <p:nvPr/>
                </p:nvSpPr>
                <p:spPr>
                  <a:xfrm>
                    <a:off x="6014520" y="323028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010200" y="5888160"/>
                    <a:ext cx="2664000" cy="520560"/>
                    <a:chOff x="6010200" y="5888160"/>
                    <a:chExt cx="2664000" cy="520560"/>
                  </a:xfrm>
                </p:grpSpPr>
                <p:sp>
                  <p:nvSpPr>
                    <p:cNvPr id="202" name="Text Box 47"/>
                    <p:cNvSpPr/>
                    <p:nvPr/>
                  </p:nvSpPr>
                  <p:spPr>
                    <a:xfrm>
                      <a:off x="6584760" y="588816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数化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Line 48"/>
                    <p:cNvSpPr/>
                    <p:nvPr/>
                  </p:nvSpPr>
                  <p:spPr>
                    <a:xfrm>
                      <a:off x="6010200" y="617544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49"/>
                    <p:cNvSpPr/>
                    <p:nvPr/>
                  </p:nvSpPr>
                  <p:spPr>
                    <a:xfrm>
                      <a:off x="6010200" y="5959440"/>
                      <a:ext cx="0" cy="216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1530360" y="1787400"/>
                <a:ext cx="2463840" cy="3276720"/>
                <a:chOff x="1530360" y="1787400"/>
                <a:chExt cx="2463840" cy="3276720"/>
              </a:xfrm>
            </p:grpSpPr>
            <p:sp>
              <p:nvSpPr>
                <p:cNvPr id="206" name="Text Box 13"/>
                <p:cNvSpPr/>
                <p:nvPr/>
              </p:nvSpPr>
              <p:spPr>
                <a:xfrm>
                  <a:off x="1574640" y="263196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等式的性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1530360" y="178740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方程的概念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9"/>
                <p:cNvSpPr/>
                <p:nvPr/>
              </p:nvSpPr>
              <p:spPr>
                <a:xfrm>
                  <a:off x="1574640" y="356544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一元一次方程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9"/>
                <p:cNvSpPr/>
                <p:nvPr/>
              </p:nvSpPr>
              <p:spPr>
                <a:xfrm>
                  <a:off x="1618920" y="454356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一元一次方程与实际问题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Line 30"/>
              <p:cNvSpPr/>
              <p:nvPr/>
            </p:nvSpPr>
            <p:spPr>
              <a:xfrm>
                <a:off x="1233360" y="49881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0"/>
              <p:cNvSpPr/>
              <p:nvPr/>
            </p:nvSpPr>
            <p:spPr>
              <a:xfrm>
                <a:off x="882360" y="34765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Line 14"/>
            <p:cNvSpPr/>
            <p:nvPr/>
          </p:nvSpPr>
          <p:spPr>
            <a:xfrm>
              <a:off x="1188720" y="20095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0"/>
            <p:cNvSpPr/>
            <p:nvPr/>
          </p:nvSpPr>
          <p:spPr>
            <a:xfrm>
              <a:off x="1188720" y="2898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>
              <a:off x="1233360" y="38322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直接连接符 60"/>
          <p:cNvSpPr/>
          <p:nvPr/>
        </p:nvSpPr>
        <p:spPr>
          <a:xfrm>
            <a:off x="1188360" y="2009880"/>
            <a:ext cx="44280" cy="29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93840" y="673200"/>
            <a:ext cx="8450280" cy="4581360"/>
            <a:chOff x="393840" y="673200"/>
            <a:chExt cx="8450280" cy="4581360"/>
          </a:xfrm>
        </p:grpSpPr>
        <p:sp>
          <p:nvSpPr>
            <p:cNvPr id="340" name="TextBox 2"/>
            <p:cNvSpPr/>
            <p:nvPr/>
          </p:nvSpPr>
          <p:spPr>
            <a:xfrm>
              <a:off x="393840" y="673200"/>
              <a:ext cx="831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设甲车出发后行驶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后两车相遇，由题意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571320" y="1828800"/>
              <a:ext cx="827280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5"/>
            <p:cNvSpPr/>
            <p:nvPr/>
          </p:nvSpPr>
          <p:spPr>
            <a:xfrm>
              <a:off x="1149120" y="3028680"/>
              <a:ext cx="71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之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Box 6"/>
            <p:cNvSpPr/>
            <p:nvPr/>
          </p:nvSpPr>
          <p:spPr>
            <a:xfrm>
              <a:off x="971640" y="3739680"/>
              <a:ext cx="71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=3.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Box 7"/>
            <p:cNvSpPr/>
            <p:nvPr/>
          </p:nvSpPr>
          <p:spPr>
            <a:xfrm>
              <a:off x="882720" y="4673160"/>
              <a:ext cx="75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甲车出发后行驶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.1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后两车相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8360" y="98100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  应用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元旦某公园的成人的门票每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儿童门票半价（即每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），全天共售出门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，收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问这天售出儿童门票多少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429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设售出儿童门票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4292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根据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题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Rectangle 3" descr=""/>
          <p:cNvPicPr/>
          <p:nvPr/>
        </p:nvPicPr>
        <p:blipFill>
          <a:blip r:embed="rId1"/>
          <a:stretch/>
        </p:blipFill>
        <p:spPr>
          <a:xfrm>
            <a:off x="3670200" y="4149720"/>
            <a:ext cx="5473800" cy="819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332000" y="5157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方程，得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 = 2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57340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共售出儿童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155736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某部队开展支农活动，甲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乙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现另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去支援，使甲队是乙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，问应调往甲队、乙队各多少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调往甲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则调往乙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378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根据题意，得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4464000" cy="6904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58920" y="42829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解方程得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 =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522936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调往甲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调往乙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24000" y="476280"/>
            <a:ext cx="46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综合训练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"/>
          <p:cNvSpPr/>
          <p:nvPr/>
        </p:nvSpPr>
        <p:spPr>
          <a:xfrm>
            <a:off x="0" y="1028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题：某商场共出售甲、乙两种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共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件商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进价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08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，其中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甲每件进价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80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出售后获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；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乙每件进价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40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出售后获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。问该商场出售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件商品共获利是多少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393840" y="673200"/>
            <a:ext cx="8350200" cy="5515560"/>
            <a:chOff x="393840" y="673200"/>
            <a:chExt cx="8350200" cy="5515560"/>
          </a:xfrm>
        </p:grpSpPr>
        <p:sp>
          <p:nvSpPr>
            <p:cNvPr id="360" name="TextBox 2"/>
            <p:cNvSpPr/>
            <p:nvPr/>
          </p:nvSpPr>
          <p:spPr>
            <a:xfrm>
              <a:off x="393840" y="673200"/>
              <a:ext cx="83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设出售甲种商品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，则乙种商品（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-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件，由题意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793800" y="1917720"/>
              <a:ext cx="795024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5"/>
            <p:cNvSpPr/>
            <p:nvPr/>
          </p:nvSpPr>
          <p:spPr>
            <a:xfrm>
              <a:off x="1238400" y="258444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之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Box 6"/>
            <p:cNvSpPr/>
            <p:nvPr/>
          </p:nvSpPr>
          <p:spPr>
            <a:xfrm>
              <a:off x="1593720" y="325116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=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Box 7"/>
            <p:cNvSpPr/>
            <p:nvPr/>
          </p:nvSpPr>
          <p:spPr>
            <a:xfrm>
              <a:off x="527040" y="5607360"/>
              <a:ext cx="751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商场出售这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商品共获利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300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元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Box 8"/>
            <p:cNvSpPr/>
            <p:nvPr/>
          </p:nvSpPr>
          <p:spPr>
            <a:xfrm>
              <a:off x="882720" y="405108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∴ 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-X=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Box 9"/>
            <p:cNvSpPr/>
            <p:nvPr/>
          </p:nvSpPr>
          <p:spPr>
            <a:xfrm>
              <a:off x="393840" y="4762800"/>
              <a:ext cx="826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∴ 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共获利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=20 × 200+30 × 300=13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304920" y="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课堂小结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41360" y="1743120"/>
            <a:ext cx="473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元一次方程及其有关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472480" y="27432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式的两个性质及其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566640" y="361008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一元一次方程及其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2529000"/>
            <a:ext cx="57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什么叫方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991880" y="3608280"/>
            <a:ext cx="44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Times New Roman"/>
                <a:ea typeface="华文仿宋"/>
              </a:rPr>
              <a:t>含有未知数的等式叫做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方程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4284720"/>
            <a:ext cx="98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一个式子是不是方程，要看两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一是等式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二是含有未知数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二者缺一不可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233280"/>
            <a:ext cx="8534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知识点复习一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方程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一元一次方程的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方程的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-195120" y="0"/>
            <a:ext cx="5146560" cy="2364480"/>
            <a:chOff x="-195120" y="0"/>
            <a:chExt cx="5146560" cy="2364480"/>
          </a:xfrm>
        </p:grpSpPr>
        <p:sp>
          <p:nvSpPr>
            <p:cNvPr id="221" name="Text Box 2"/>
            <p:cNvSpPr/>
            <p:nvPr/>
          </p:nvSpPr>
          <p:spPr>
            <a:xfrm>
              <a:off x="3038040" y="1600200"/>
              <a:ext cx="191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.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什么是一元一次方程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Picture 4" descr="PE02604_"/>
            <p:cNvPicPr/>
            <p:nvPr/>
          </p:nvPicPr>
          <p:blipFill>
            <a:blip r:embed="rId1"/>
            <a:stretch/>
          </p:blipFill>
          <p:spPr>
            <a:xfrm>
              <a:off x="-195120" y="188640"/>
              <a:ext cx="1951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5"/>
            <p:cNvSpPr/>
            <p:nvPr/>
          </p:nvSpPr>
          <p:spPr>
            <a:xfrm>
              <a:off x="956880" y="0"/>
              <a:ext cx="23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想一想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2754360"/>
            <a:ext cx="9144000" cy="2449440"/>
            <a:chOff x="0" y="2754360"/>
            <a:chExt cx="9144000" cy="2449440"/>
          </a:xfrm>
        </p:grpSpPr>
        <p:sp>
          <p:nvSpPr>
            <p:cNvPr id="225" name="Text Box 9"/>
            <p:cNvSpPr/>
            <p:nvPr/>
          </p:nvSpPr>
          <p:spPr>
            <a:xfrm>
              <a:off x="0" y="2770200"/>
              <a:ext cx="9144000" cy="2311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只有一个未知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一元一次方程</a:t>
              </a:r>
              <a:r>
                <a:rPr b="1" lang="zh-CN" sz="3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未知数的次数为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分母不含有字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203640" y="2754360"/>
                  <a:ext cx="398160" cy="24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Text Box 10"/>
          <p:cNvSpPr/>
          <p:nvPr/>
        </p:nvSpPr>
        <p:spPr>
          <a:xfrm>
            <a:off x="1513440" y="5138640"/>
            <a:ext cx="998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方程的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05880" y="58453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方程中等号左右两边相等的未知数的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52360" y="11862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各式中，是方程的是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      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 &gt; 0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 = 3    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2360" y="2979720"/>
            <a:ext cx="74674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列方程中哪些是一元一次方程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x+5=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   =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x+y=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5y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=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   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 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932360" y="3743280"/>
                <a:ext cx="735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192720" y="3699000"/>
                <a:ext cx="32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3" name="Rectangle 3"/>
          <p:cNvGraphicFramePr/>
          <p:nvPr/>
        </p:nvGraphicFramePr>
        <p:xfrm>
          <a:off x="5148360" y="4726080"/>
          <a:ext cx="7887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Rectangle 3" descr="21世纪教育网 -- 中国最大型、最专业的中小学教育资源门户网站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4726080"/>
                    <a:ext cx="7887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2"/>
          <p:cNvSpPr/>
          <p:nvPr/>
        </p:nvSpPr>
        <p:spPr>
          <a:xfrm>
            <a:off x="206280" y="458640"/>
            <a:ext cx="2745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638680" y="1162080"/>
            <a:ext cx="3245040" cy="2437200"/>
            <a:chOff x="5638680" y="1162080"/>
            <a:chExt cx="3245040" cy="2437200"/>
          </a:xfrm>
        </p:grpSpPr>
        <p:sp>
          <p:nvSpPr>
            <p:cNvPr id="237" name="TextBox 11"/>
            <p:cNvSpPr/>
            <p:nvPr/>
          </p:nvSpPr>
          <p:spPr>
            <a:xfrm>
              <a:off x="5638680" y="1162080"/>
              <a:ext cx="62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12"/>
            <p:cNvSpPr/>
            <p:nvPr/>
          </p:nvSpPr>
          <p:spPr>
            <a:xfrm>
              <a:off x="5994000" y="2895840"/>
              <a:ext cx="28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）、（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7000" y="2844720"/>
            <a:ext cx="9144000" cy="1446120"/>
            <a:chOff x="27000" y="2844720"/>
            <a:chExt cx="9144000" cy="1446120"/>
          </a:xfrm>
        </p:grpSpPr>
        <p:sp>
          <p:nvSpPr>
            <p:cNvPr id="240" name="Text Box 16"/>
            <p:cNvSpPr/>
            <p:nvPr/>
          </p:nvSpPr>
          <p:spPr>
            <a:xfrm>
              <a:off x="27000" y="297792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 若                            是一元一次方程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1798560" y="2844720"/>
                  <a:ext cx="32860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得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776160" y="3778200"/>
                  <a:ext cx="9903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得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Line 19"/>
            <p:cNvSpPr/>
            <p:nvPr/>
          </p:nvSpPr>
          <p:spPr>
            <a:xfrm>
              <a:off x="1931760" y="4222800"/>
              <a:ext cx="17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8680" y="1028880"/>
            <a:ext cx="8026200" cy="1312920"/>
            <a:chOff x="328680" y="1028880"/>
            <a:chExt cx="8026200" cy="1312920"/>
          </a:xfrm>
        </p:grpSpPr>
        <p:sp>
          <p:nvSpPr>
            <p:cNvPr id="245" name="Rectangle 33"/>
            <p:cNvSpPr/>
            <p:nvPr/>
          </p:nvSpPr>
          <p:spPr>
            <a:xfrm>
              <a:off x="328680" y="1028880"/>
              <a:ext cx="8026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写一个解为              的一元一次方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  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403800" y="1073160"/>
                  <a:ext cx="158364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t xml:space="preserve">得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1827360" y="1538280"/>
            <a:ext cx="3555720" cy="2703960"/>
            <a:chOff x="1827360" y="1538280"/>
            <a:chExt cx="3555720" cy="2703960"/>
          </a:xfrm>
        </p:grpSpPr>
        <p:sp>
          <p:nvSpPr>
            <p:cNvPr id="248" name="TextBox 15"/>
            <p:cNvSpPr/>
            <p:nvPr/>
          </p:nvSpPr>
          <p:spPr>
            <a:xfrm>
              <a:off x="2849400" y="1538280"/>
              <a:ext cx="253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+2=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Box 16"/>
            <p:cNvSpPr/>
            <p:nvPr/>
          </p:nvSpPr>
          <p:spPr>
            <a:xfrm>
              <a:off x="1827360" y="3538800"/>
              <a:ext cx="75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932120" y="2349360"/>
            <a:ext cx="447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方程的解的过程叫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解方程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-15840" y="638280"/>
            <a:ext cx="853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解方程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260280" y="272880"/>
            <a:ext cx="8209080" cy="2804040"/>
            <a:chOff x="260280" y="272880"/>
            <a:chExt cx="8209080" cy="2804040"/>
          </a:xfrm>
        </p:grpSpPr>
        <p:grpSp>
          <p:nvGrpSpPr>
            <p:cNvPr id="253" name=""/>
            <p:cNvGrpSpPr/>
            <p:nvPr/>
          </p:nvGrpSpPr>
          <p:grpSpPr>
            <a:xfrm>
              <a:off x="348840" y="1117440"/>
              <a:ext cx="8120520" cy="1959480"/>
              <a:chOff x="348840" y="1117440"/>
              <a:chExt cx="8120520" cy="1959480"/>
            </a:xfrm>
          </p:grpSpPr>
          <p:sp>
            <p:nvSpPr>
              <p:cNvPr id="254" name="Rectangle 6"/>
              <p:cNvSpPr/>
              <p:nvPr/>
            </p:nvSpPr>
            <p:spPr>
              <a:xfrm>
                <a:off x="348840" y="2495520"/>
                <a:ext cx="807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、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－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是方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解，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值是</a:t>
                </a:r>
                <a:r>
                  <a:rPr b="1" lang="zh-CN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"/>
              <p:cNvSpPr/>
              <p:nvPr/>
            </p:nvSpPr>
            <p:spPr>
              <a:xfrm>
                <a:off x="393120" y="1117440"/>
                <a:ext cx="807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、方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解是</a:t>
                </a:r>
                <a:r>
                  <a:rPr b="1" lang="zh-CN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   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Rectangle 12"/>
            <p:cNvSpPr/>
            <p:nvPr/>
          </p:nvSpPr>
          <p:spPr>
            <a:xfrm>
              <a:off x="260280" y="272880"/>
              <a:ext cx="4114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练习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72720" y="1028880"/>
            <a:ext cx="5255640" cy="2537280"/>
            <a:chOff x="972720" y="1028880"/>
            <a:chExt cx="5255640" cy="2537280"/>
          </a:xfrm>
        </p:grpSpPr>
        <p:sp>
          <p:nvSpPr>
            <p:cNvPr id="258" name="Text Box 5"/>
            <p:cNvSpPr/>
            <p:nvPr/>
          </p:nvSpPr>
          <p:spPr>
            <a:xfrm>
              <a:off x="972720" y="298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5"/>
            <p:cNvSpPr/>
            <p:nvPr/>
          </p:nvSpPr>
          <p:spPr>
            <a:xfrm>
              <a:off x="4977720" y="1028880"/>
              <a:ext cx="125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= -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99120" y="11793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有哪些？并以字母的形式表示出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11280" y="1989000"/>
            <a:ext cx="74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=b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5157720" y="2259000"/>
            <a:ext cx="4191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需注意的是“同一个数，或同一个式子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3240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三：等式的性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01640" y="3473280"/>
            <a:ext cx="46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57360" y="468936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/c=b/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Rectangle 3"/>
              <p:cNvSpPr txBox="1"/>
              <p:nvPr/>
            </p:nvSpPr>
            <p:spPr>
              <a:xfrm>
                <a:off x="3460680" y="5251320"/>
                <a:ext cx="162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得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4"/>
          <p:cNvSpPr/>
          <p:nvPr/>
        </p:nvSpPr>
        <p:spPr>
          <a:xfrm>
            <a:off x="4976640" y="4014720"/>
            <a:ext cx="43596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需注意的是“两边都乘，不要漏乘”；“同除一个非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3:32:45Z</dcterms:created>
  <dc:creator>Administrator</dc:creator>
  <dc:description/>
  <cp:keywords/>
  <dc:language>en-US</dc:language>
  <cp:lastModifiedBy>User</cp:lastModifiedBy>
  <cp:lastPrinted>1900-01-04T05:48:54Z</cp:lastPrinted>
  <dcterms:modified xsi:type="dcterms:W3CDTF">2014-11-05T07:18:18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