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ADD-4F38-4356-AC6C-F221A49B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105-3F56-4C85-8AE4-83A42E4F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993-66DB-49DD-98BF-0F6EB5C6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207-E3FD-47D2-BB68-BFFB0ECB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82A-C60B-4992-BF9F-1281A67D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70E-F6DF-4A1A-B4FF-3B9D24FD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A15-FCA7-464C-83F0-03CD4D1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F6D-DDC0-419A-9178-582351FC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5D6-F6F6-4DB8-9CB9-B2BCC9B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32B-8D36-4E0C-9B88-B910507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A04-176D-4F53-8AD8-8940B81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E57-73DF-4556-BA11-43DDBE4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8DEB-725C-4E4D-948F-7DBF3A5459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773440" y="12700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3 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867040" y="2049480"/>
            <a:ext cx="332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3.1 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762120" y="2227320"/>
            <a:ext cx="7619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判断题：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两条射线组成的图形叫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(      )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角的大小与边的长短无关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(      )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角的两边是两条射线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40560" y="4275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359760" y="3041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261120" y="363996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66860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尝试练习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74760" y="2241720"/>
            <a:ext cx="8153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角用“∠”表示，读作“角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角的表示方法有下面四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74760" y="2784600"/>
            <a:ext cx="7877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角可以用三个大写字母表示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但表示顶点的字母一定要写在中间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4760" y="3722760"/>
            <a:ext cx="777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用一个字母表示角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但必须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这个字母为顶点的角只有一个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74760" y="4633920"/>
            <a:ext cx="8646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用一个数字表示角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在靠近顶点处画上弧线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写上数字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74760" y="51166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用一个希腊字母表示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在靠近顶点处画上弧线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写上希腊字母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74760" y="160164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角的表示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rcRect l="0" t="0" r="0" b="20127"/>
          <a:stretch/>
        </p:blipFill>
        <p:spPr>
          <a:xfrm>
            <a:off x="3054240" y="860400"/>
            <a:ext cx="2743200" cy="7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8640" y="1109520"/>
            <a:ext cx="8412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把图中的角表示成下列形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①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APO         ②∠AOP       ③∠O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④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O           ⑤∠COP       ⑥∠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其中正确的有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________(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把你认为正确的序号都填上）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2482920" y="3841920"/>
            <a:ext cx="4174920" cy="2815200"/>
            <a:chOff x="2482920" y="3841920"/>
            <a:chExt cx="4174920" cy="2815200"/>
          </a:xfrm>
        </p:grpSpPr>
        <p:sp>
          <p:nvSpPr>
            <p:cNvPr id="122" name="Line 6"/>
            <p:cNvSpPr/>
            <p:nvPr/>
          </p:nvSpPr>
          <p:spPr>
            <a:xfrm>
              <a:off x="3059280" y="614700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3059280" y="4057560"/>
              <a:ext cx="216036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2482920" y="585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5722920" y="607572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570560" y="3841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3706920" y="456264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2"/>
          <p:cNvSpPr/>
          <p:nvPr/>
        </p:nvSpPr>
        <p:spPr>
          <a:xfrm>
            <a:off x="2868480" y="3033720"/>
            <a:ext cx="20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①③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2440" y="64296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尝试练习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90480" y="2481120"/>
            <a:ext cx="7326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别画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能画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6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角吗？画一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720" y="188136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跟踪训练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709560" y="1706400"/>
            <a:ext cx="743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周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直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360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平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180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直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90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60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60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″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读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度等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等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638280" y="1343160"/>
            <a:ext cx="7621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34.5°=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°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12.27°=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°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4.5°=34°+0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34°+0.5×6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34°+3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34°3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12.27°=112°+0.27×6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12°+16.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12°+1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0.2×6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12°1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7"/>
          <p:cNvGrpSpPr/>
          <p:nvPr/>
        </p:nvGrpSpPr>
        <p:grpSpPr>
          <a:xfrm>
            <a:off x="5657760" y="981000"/>
            <a:ext cx="2638440" cy="3060720"/>
            <a:chOff x="5657760" y="981000"/>
            <a:chExt cx="2638440" cy="3060720"/>
          </a:xfrm>
        </p:grpSpPr>
        <p:pic>
          <p:nvPicPr>
            <p:cNvPr id="135" name="AutoShape 7" descr=""/>
            <p:cNvPicPr/>
            <p:nvPr/>
          </p:nvPicPr>
          <p:blipFill>
            <a:blip r:embed="rId1"/>
            <a:stretch/>
          </p:blipFill>
          <p:spPr>
            <a:xfrm>
              <a:off x="5657760" y="981000"/>
              <a:ext cx="263844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991120" y="1328760"/>
              <a:ext cx="17780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8"/>
          <p:cNvSpPr/>
          <p:nvPr/>
        </p:nvSpPr>
        <p:spPr>
          <a:xfrm>
            <a:off x="6330960" y="15476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°=60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′=60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687760" y="19000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722760" y="185904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903400" y="235440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960720" y="23288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683240" y="23432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4880" y="865080"/>
            <a:ext cx="213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例题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847800" y="1905120"/>
            <a:ext cx="6705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把下列各题的结果化成度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楷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72°36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     (2)37°1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72°36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°+36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°+(36÷6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°+0.6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.6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744480" y="1776240"/>
            <a:ext cx="7391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37°1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en-US" sz="2800" spc="-1" strike="noStrike" baseline="42000">
                <a:solidFill>
                  <a:srgbClr val="ff0000"/>
                </a:solidFill>
                <a:latin typeface="楷体_GB2312"/>
                <a:ea typeface="楷体_GB2312"/>
              </a:rPr>
              <a:t>″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4</a:t>
            </a:r>
            <a:r>
              <a:rPr b="1" lang="en-US" sz="2800" spc="-1" strike="noStrike" baseline="42000">
                <a:solidFill>
                  <a:srgbClr val="ff0000"/>
                </a:solidFill>
                <a:latin typeface="楷体_GB2312"/>
                <a:ea typeface="楷体_GB2312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′+(24÷60)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′+0.4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.4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(14.4÷6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0.24°=37.2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476280" y="1297080"/>
            <a:ext cx="8835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将图中的角用不同的方法表示出来，并填写下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157840" y="35593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8160" y="318456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911840" y="3598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878040" y="3673440"/>
            <a:ext cx="636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5167440" y="2282400"/>
            <a:ext cx="915840" cy="13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2355840" y="2282760"/>
            <a:ext cx="3727440" cy="13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050880" y="21099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166880" y="33098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13"/>
          <p:cNvSpPr/>
          <p:nvPr/>
        </p:nvSpPr>
        <p:spPr>
          <a:xfrm>
            <a:off x="5153040" y="3468600"/>
            <a:ext cx="322200" cy="204840"/>
          </a:xfrm>
          <a:custGeom>
            <a:avLst/>
            <a:gdLst/>
            <a:ahLst/>
            <a:rect l="l" t="t" r="r" b="b"/>
            <a:pathLst>
              <a:path fill="none" w="21600" h="18312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</a:path>
              <a:path stroke="0" w="21600" h="18312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  <a:lnTo>
                  <a:pt x="0" y="18312"/>
                </a:lnTo>
                <a:lnTo>
                  <a:pt x="1145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4"/>
          <p:cNvSpPr/>
          <p:nvPr/>
        </p:nvSpPr>
        <p:spPr>
          <a:xfrm>
            <a:off x="4818240" y="3406680"/>
            <a:ext cx="525240" cy="411120"/>
          </a:xfrm>
          <a:custGeom>
            <a:avLst/>
            <a:gdLst/>
            <a:ahLst/>
            <a:rect l="l" t="t" r="r" b="b"/>
            <a:pathLst>
              <a:path fill="none" w="21545" h="21600">
                <a:moveTo>
                  <a:pt x="-1" y="13449"/>
                </a:moveTo>
                <a:cubicBezTo>
                  <a:pt x="3313" y="5317"/>
                  <a:pt x="11221" y="-1"/>
                  <a:pt x="20003" y="0"/>
                </a:cubicBezTo>
                <a:cubicBezTo>
                  <a:pt x="20517" y="0"/>
                  <a:pt x="21031" y="18"/>
                  <a:pt x="21544" y="55"/>
                </a:cubicBezTo>
              </a:path>
              <a:path stroke="0" w="21545" h="21600">
                <a:moveTo>
                  <a:pt x="-1" y="13449"/>
                </a:moveTo>
                <a:cubicBezTo>
                  <a:pt x="3313" y="5317"/>
                  <a:pt x="11221" y="-1"/>
                  <a:pt x="20003" y="0"/>
                </a:cubicBezTo>
                <a:cubicBezTo>
                  <a:pt x="20517" y="0"/>
                  <a:pt x="21031" y="18"/>
                  <a:pt x="21544" y="55"/>
                </a:cubicBezTo>
                <a:lnTo>
                  <a:pt x="20003" y="21600"/>
                </a:lnTo>
                <a:lnTo>
                  <a:pt x="-1" y="134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5"/>
          <p:cNvSpPr/>
          <p:nvPr/>
        </p:nvSpPr>
        <p:spPr>
          <a:xfrm>
            <a:off x="2955960" y="3414600"/>
            <a:ext cx="231840" cy="246240"/>
          </a:xfrm>
          <a:custGeom>
            <a:avLst/>
            <a:gdLst/>
            <a:ahLst/>
            <a:rect l="l" t="t" r="r" b="b"/>
            <a:pathLst>
              <a:path fill="none" w="21600" h="30569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  <a:cubicBezTo>
                  <a:pt x="21600" y="22689"/>
                  <a:pt x="20269" y="26964"/>
                  <a:pt x="17785" y="30568"/>
                </a:cubicBezTo>
              </a:path>
              <a:path stroke="0" w="21600" h="30569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  <a:cubicBezTo>
                  <a:pt x="21600" y="22689"/>
                  <a:pt x="20269" y="26964"/>
                  <a:pt x="17785" y="30568"/>
                </a:cubicBezTo>
                <a:lnTo>
                  <a:pt x="0" y="18312"/>
                </a:lnTo>
                <a:lnTo>
                  <a:pt x="1145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6"/>
          <p:cNvSpPr/>
          <p:nvPr/>
        </p:nvSpPr>
        <p:spPr>
          <a:xfrm>
            <a:off x="1817640" y="3435480"/>
            <a:ext cx="1041480" cy="739800"/>
          </a:xfrm>
          <a:custGeom>
            <a:avLst/>
            <a:gdLst/>
            <a:ahLst/>
            <a:rect l="l" t="t" r="r" b="b"/>
            <a:pathLst>
              <a:path fill="none" w="22790" h="21600">
                <a:moveTo>
                  <a:pt x="0" y="6639"/>
                </a:moveTo>
                <a:cubicBezTo>
                  <a:pt x="4073" y="2397"/>
                  <a:pt x="9699" y="-1"/>
                  <a:pt x="15580" y="0"/>
                </a:cubicBezTo>
                <a:cubicBezTo>
                  <a:pt x="18036" y="0"/>
                  <a:pt x="20474" y="418"/>
                  <a:pt x="22790" y="1238"/>
                </a:cubicBezTo>
              </a:path>
              <a:path stroke="0" w="22790" h="21600">
                <a:moveTo>
                  <a:pt x="0" y="6639"/>
                </a:moveTo>
                <a:cubicBezTo>
                  <a:pt x="4073" y="2397"/>
                  <a:pt x="9699" y="-1"/>
                  <a:pt x="15580" y="0"/>
                </a:cubicBezTo>
                <a:cubicBezTo>
                  <a:pt x="18036" y="0"/>
                  <a:pt x="20474" y="418"/>
                  <a:pt x="22790" y="1238"/>
                </a:cubicBezTo>
                <a:lnTo>
                  <a:pt x="15580" y="21600"/>
                </a:lnTo>
                <a:lnTo>
                  <a:pt x="0" y="66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7"/>
          <p:cNvSpPr/>
          <p:nvPr/>
        </p:nvSpPr>
        <p:spPr>
          <a:xfrm>
            <a:off x="5653080" y="2349360"/>
            <a:ext cx="306360" cy="239760"/>
          </a:xfrm>
          <a:custGeom>
            <a:avLst/>
            <a:gdLst/>
            <a:ahLst/>
            <a:rect l="l" t="t" r="r" b="b"/>
            <a:pathLst>
              <a:path fill="none" w="20532" h="21380">
                <a:moveTo>
                  <a:pt x="17459" y="21380"/>
                </a:moveTo>
                <a:cubicBezTo>
                  <a:pt x="9321" y="20211"/>
                  <a:pt x="2553" y="14523"/>
                  <a:pt x="0" y="6707"/>
                </a:cubicBezTo>
              </a:path>
              <a:path stroke="0" w="20532" h="21380">
                <a:moveTo>
                  <a:pt x="17459" y="21380"/>
                </a:moveTo>
                <a:cubicBezTo>
                  <a:pt x="9321" y="20211"/>
                  <a:pt x="2553" y="14523"/>
                  <a:pt x="0" y="6707"/>
                </a:cubicBezTo>
                <a:lnTo>
                  <a:pt x="20532" y="0"/>
                </a:lnTo>
                <a:lnTo>
                  <a:pt x="17459" y="213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354280" y="2644920"/>
            <a:ext cx="35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025360" y="2941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3373200" y="324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5546520" y="323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4563720" y="320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16120" y="4281480"/>
          <a:ext cx="7343640" cy="1600200"/>
        </p:xfrm>
        <a:graphic>
          <a:graphicData uri="http://schemas.openxmlformats.org/drawingml/2006/table">
            <a:tbl>
              <a:tblPr/>
              <a:tblGrid>
                <a:gridCol w="1468440"/>
                <a:gridCol w="1468440"/>
                <a:gridCol w="1469880"/>
                <a:gridCol w="1468440"/>
                <a:gridCol w="146844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AC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45"/>
          <p:cNvSpPr/>
          <p:nvPr/>
        </p:nvSpPr>
        <p:spPr>
          <a:xfrm>
            <a:off x="887400" y="5289480"/>
            <a:ext cx="11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498760" y="450540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816000" y="52484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5323680" y="52484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994440" y="45054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1133"/>
          <a:stretch/>
        </p:blipFill>
        <p:spPr>
          <a:xfrm>
            <a:off x="3079800" y="574560"/>
            <a:ext cx="277812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727200" y="1806480"/>
            <a:ext cx="7619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曲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时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时，钟表的时针旋转的角的度数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°                 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0°                 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钟表的时针旋转角是个直角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8"/>
          <p:cNvSpPr/>
          <p:nvPr/>
        </p:nvSpPr>
        <p:spPr>
          <a:xfrm>
            <a:off x="587520" y="2151000"/>
            <a:ext cx="8026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现实情境中，认识角是一种基本的几何图形，理解角的概念，学会角的表示方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认识角的度量单位度、分、秒，会进行简单的换算和角度计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提高学生的识图能力，学会用运动变化的观点看问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845" t="-2331" r="6550" b="22564"/>
          <a:stretch/>
        </p:blipFill>
        <p:spPr>
          <a:xfrm>
            <a:off x="3314880" y="1273320"/>
            <a:ext cx="2357280" cy="69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706320" y="1222200"/>
            <a:ext cx="74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数一数下面一共有几个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 flipV="1">
            <a:off x="3244680" y="3513240"/>
            <a:ext cx="2971800" cy="121896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3244680" y="2217240"/>
            <a:ext cx="533520" cy="251460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177" name="Line 7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644120" y="2217240"/>
            <a:ext cx="2133720" cy="2514600"/>
            <a:chOff x="1644120" y="2217240"/>
            <a:chExt cx="2133720" cy="2514600"/>
          </a:xfrm>
        </p:grpSpPr>
        <p:sp>
          <p:nvSpPr>
            <p:cNvPr id="180" name="Line 10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H="1" flipV="1">
              <a:off x="1644120" y="252180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1644120" y="2217240"/>
            <a:ext cx="2133720" cy="2514600"/>
            <a:chOff x="1644120" y="2217240"/>
            <a:chExt cx="2133720" cy="2514600"/>
          </a:xfrm>
        </p:grpSpPr>
        <p:sp>
          <p:nvSpPr>
            <p:cNvPr id="183" name="Line 13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H="1" flipV="1">
              <a:off x="1644120" y="252180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5"/>
          <p:cNvGrpSpPr/>
          <p:nvPr/>
        </p:nvGrpSpPr>
        <p:grpSpPr>
          <a:xfrm>
            <a:off x="1644120" y="2217240"/>
            <a:ext cx="2133720" cy="2514600"/>
            <a:chOff x="1644120" y="2217240"/>
            <a:chExt cx="2133720" cy="2514600"/>
          </a:xfrm>
        </p:grpSpPr>
        <p:sp>
          <p:nvSpPr>
            <p:cNvPr id="186" name="Line 16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 flipV="1">
              <a:off x="1644120" y="252180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8"/>
          <p:cNvGrpSpPr/>
          <p:nvPr/>
        </p:nvGrpSpPr>
        <p:grpSpPr>
          <a:xfrm>
            <a:off x="3244680" y="2217240"/>
            <a:ext cx="2971800" cy="2514600"/>
            <a:chOff x="3244680" y="2217240"/>
            <a:chExt cx="2971800" cy="2514600"/>
          </a:xfrm>
        </p:grpSpPr>
        <p:sp>
          <p:nvSpPr>
            <p:cNvPr id="189" name="Line 19"/>
            <p:cNvSpPr/>
            <p:nvPr/>
          </p:nvSpPr>
          <p:spPr>
            <a:xfrm flipV="1">
              <a:off x="3244680" y="351252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1"/>
          <p:cNvGrpSpPr/>
          <p:nvPr/>
        </p:nvGrpSpPr>
        <p:grpSpPr>
          <a:xfrm>
            <a:off x="3244680" y="2217240"/>
            <a:ext cx="2971800" cy="2514600"/>
            <a:chOff x="3244680" y="2217240"/>
            <a:chExt cx="2971800" cy="2514600"/>
          </a:xfrm>
        </p:grpSpPr>
        <p:sp>
          <p:nvSpPr>
            <p:cNvPr id="192" name="Line 22"/>
            <p:cNvSpPr/>
            <p:nvPr/>
          </p:nvSpPr>
          <p:spPr>
            <a:xfrm flipV="1">
              <a:off x="3244680" y="351252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4"/>
          <p:cNvGrpSpPr/>
          <p:nvPr/>
        </p:nvGrpSpPr>
        <p:grpSpPr>
          <a:xfrm>
            <a:off x="3244680" y="2217240"/>
            <a:ext cx="2971800" cy="2514600"/>
            <a:chOff x="3244680" y="2217240"/>
            <a:chExt cx="2971800" cy="2514600"/>
          </a:xfrm>
        </p:grpSpPr>
        <p:sp>
          <p:nvSpPr>
            <p:cNvPr id="195" name="Line 25"/>
            <p:cNvSpPr/>
            <p:nvPr/>
          </p:nvSpPr>
          <p:spPr>
            <a:xfrm flipV="1">
              <a:off x="3244680" y="351252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7"/>
          <p:cNvGrpSpPr/>
          <p:nvPr/>
        </p:nvGrpSpPr>
        <p:grpSpPr>
          <a:xfrm>
            <a:off x="3244680" y="3513240"/>
            <a:ext cx="3352680" cy="1218960"/>
            <a:chOff x="3244680" y="3513240"/>
            <a:chExt cx="3352680" cy="1218960"/>
          </a:xfrm>
        </p:grpSpPr>
        <p:sp>
          <p:nvSpPr>
            <p:cNvPr id="198" name="Line 28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 flipV="1">
              <a:off x="3244680" y="351324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0"/>
          <p:cNvGrpSpPr/>
          <p:nvPr/>
        </p:nvGrpSpPr>
        <p:grpSpPr>
          <a:xfrm>
            <a:off x="3244680" y="3513240"/>
            <a:ext cx="3352680" cy="1218960"/>
            <a:chOff x="3244680" y="3513240"/>
            <a:chExt cx="3352680" cy="1218960"/>
          </a:xfrm>
        </p:grpSpPr>
        <p:sp>
          <p:nvSpPr>
            <p:cNvPr id="201" name="Line 31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2"/>
            <p:cNvSpPr/>
            <p:nvPr/>
          </p:nvSpPr>
          <p:spPr>
            <a:xfrm flipV="1">
              <a:off x="3244680" y="351324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3"/>
          <p:cNvGrpSpPr/>
          <p:nvPr/>
        </p:nvGrpSpPr>
        <p:grpSpPr>
          <a:xfrm>
            <a:off x="3244680" y="3513240"/>
            <a:ext cx="3352680" cy="1218960"/>
            <a:chOff x="3244680" y="3513240"/>
            <a:chExt cx="3352680" cy="1218960"/>
          </a:xfrm>
        </p:grpSpPr>
        <p:sp>
          <p:nvSpPr>
            <p:cNvPr id="204" name="Line 34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5"/>
            <p:cNvSpPr/>
            <p:nvPr/>
          </p:nvSpPr>
          <p:spPr>
            <a:xfrm flipV="1">
              <a:off x="3244680" y="351324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36"/>
          <p:cNvGrpSpPr/>
          <p:nvPr/>
        </p:nvGrpSpPr>
        <p:grpSpPr>
          <a:xfrm>
            <a:off x="1644120" y="2522520"/>
            <a:ext cx="4572360" cy="2209680"/>
            <a:chOff x="1644120" y="2522520"/>
            <a:chExt cx="4572360" cy="2209680"/>
          </a:xfrm>
        </p:grpSpPr>
        <p:sp>
          <p:nvSpPr>
            <p:cNvPr id="207" name="Line 37"/>
            <p:cNvSpPr/>
            <p:nvPr/>
          </p:nvSpPr>
          <p:spPr>
            <a:xfrm flipV="1">
              <a:off x="3244680" y="351288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9"/>
          <p:cNvGrpSpPr/>
          <p:nvPr/>
        </p:nvGrpSpPr>
        <p:grpSpPr>
          <a:xfrm>
            <a:off x="1644120" y="2522520"/>
            <a:ext cx="4572360" cy="2209680"/>
            <a:chOff x="1644120" y="2522520"/>
            <a:chExt cx="4572360" cy="2209680"/>
          </a:xfrm>
        </p:grpSpPr>
        <p:sp>
          <p:nvSpPr>
            <p:cNvPr id="210" name="Line 40"/>
            <p:cNvSpPr/>
            <p:nvPr/>
          </p:nvSpPr>
          <p:spPr>
            <a:xfrm flipV="1">
              <a:off x="3244680" y="351288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2"/>
          <p:cNvGrpSpPr/>
          <p:nvPr/>
        </p:nvGrpSpPr>
        <p:grpSpPr>
          <a:xfrm>
            <a:off x="1644120" y="2522520"/>
            <a:ext cx="4572360" cy="2209680"/>
            <a:chOff x="1644120" y="2522520"/>
            <a:chExt cx="4572360" cy="2209680"/>
          </a:xfrm>
        </p:grpSpPr>
        <p:sp>
          <p:nvSpPr>
            <p:cNvPr id="213" name="Line 43"/>
            <p:cNvSpPr/>
            <p:nvPr/>
          </p:nvSpPr>
          <p:spPr>
            <a:xfrm flipV="1">
              <a:off x="3244680" y="351288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4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5"/>
          <p:cNvGrpSpPr/>
          <p:nvPr/>
        </p:nvGrpSpPr>
        <p:grpSpPr>
          <a:xfrm>
            <a:off x="3244680" y="2217240"/>
            <a:ext cx="3352680" cy="2514960"/>
            <a:chOff x="3244680" y="2217240"/>
            <a:chExt cx="3352680" cy="2514960"/>
          </a:xfrm>
        </p:grpSpPr>
        <p:sp>
          <p:nvSpPr>
            <p:cNvPr id="216" name="Line 46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7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3244680" y="2217240"/>
            <a:ext cx="3352680" cy="2514960"/>
            <a:chOff x="3244680" y="2217240"/>
            <a:chExt cx="3352680" cy="2514960"/>
          </a:xfrm>
        </p:grpSpPr>
        <p:sp>
          <p:nvSpPr>
            <p:cNvPr id="219" name="Line 49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1"/>
          <p:cNvGrpSpPr/>
          <p:nvPr/>
        </p:nvGrpSpPr>
        <p:grpSpPr>
          <a:xfrm>
            <a:off x="3244680" y="2217240"/>
            <a:ext cx="3352680" cy="2514960"/>
            <a:chOff x="3244680" y="2217240"/>
            <a:chExt cx="3352680" cy="2514960"/>
          </a:xfrm>
        </p:grpSpPr>
        <p:sp>
          <p:nvSpPr>
            <p:cNvPr id="222" name="Line 52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4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225" name="Line 55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6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57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228" name="Line 58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9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60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231" name="Line 61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2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63"/>
          <p:cNvSpPr/>
          <p:nvPr/>
        </p:nvSpPr>
        <p:spPr>
          <a:xfrm>
            <a:off x="706320" y="505476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共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316080" y="590400"/>
            <a:ext cx="8467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图所示，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顶点的角有几个，请分别把他们读出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4383000" y="46656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 flipV="1">
            <a:off x="4378320" y="3519000"/>
            <a:ext cx="3635280" cy="114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V="1">
            <a:off x="4365360" y="2770200"/>
            <a:ext cx="3305880" cy="18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H="1">
            <a:off x="4366440" y="2352600"/>
            <a:ext cx="2087280" cy="230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3836880" y="1907280"/>
            <a:ext cx="538560" cy="277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062960" y="46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966800" y="462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7883640" y="353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7502760" y="2717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388560" y="227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924360" y="1770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28680" y="1836720"/>
            <a:ext cx="3565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别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OE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698400" y="2128680"/>
            <a:ext cx="3141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、角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06320" y="2697120"/>
            <a:ext cx="7620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是由具有公共端点的两条射线组成的图形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可以看作由一条射线绕着它的端点旋转而形成的图形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7325" t="0" r="9512" b="26006"/>
          <a:stretch/>
        </p:blipFill>
        <p:spPr>
          <a:xfrm>
            <a:off x="3251160" y="1216080"/>
            <a:ext cx="2320920" cy="6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752400" y="121608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二、角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14240" y="1965240"/>
          <a:ext cx="7724880" cy="3764160"/>
        </p:xfrm>
        <a:graphic>
          <a:graphicData uri="http://schemas.openxmlformats.org/drawingml/2006/table">
            <a:tbl>
              <a:tblPr/>
              <a:tblGrid>
                <a:gridCol w="3652920"/>
                <a:gridCol w="4071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24"/>
          <p:cNvSpPr/>
          <p:nvPr/>
        </p:nvSpPr>
        <p:spPr>
          <a:xfrm>
            <a:off x="1914480" y="19764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表示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5442120" y="19875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1407960" y="25970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三个大写的字母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487760" y="2639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示顶点的字母要写在中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801720" y="3305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一个顶点的字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来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5716800" y="3424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字母只表示一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833400" y="4272120"/>
            <a:ext cx="28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一个数字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168880" y="409104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靠近顶点处画上弧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并写上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824040" y="5097600"/>
            <a:ext cx="28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希腊字母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4487760" y="4916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靠近顶点处画上弧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并写上希腊字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8"/>
          <p:cNvSpPr/>
          <p:nvPr/>
        </p:nvSpPr>
        <p:spPr>
          <a:xfrm>
            <a:off x="534960" y="2340000"/>
            <a:ext cx="7854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失败往往是黎明前的黑暗，继之而出现的就是成功的朝霞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.              ——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霍奇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06720" y="871560"/>
            <a:ext cx="30351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cs035"/>
          <p:cNvPicPr/>
          <p:nvPr/>
        </p:nvPicPr>
        <p:blipFill>
          <a:blip r:embed="rId1"/>
          <a:stretch/>
        </p:blipFill>
        <p:spPr>
          <a:xfrm>
            <a:off x="1566720" y="1679400"/>
            <a:ext cx="6019920" cy="454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6559" t="-1245" r="8040" b="20180"/>
          <a:stretch/>
        </p:blipFill>
        <p:spPr>
          <a:xfrm>
            <a:off x="3322800" y="720720"/>
            <a:ext cx="229392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"/>
          <p:cNvPicPr/>
          <p:nvPr/>
        </p:nvPicPr>
        <p:blipFill>
          <a:blip r:embed="rId1"/>
          <a:stretch/>
        </p:blipFill>
        <p:spPr>
          <a:xfrm>
            <a:off x="790560" y="789120"/>
            <a:ext cx="7380360" cy="52848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4"/>
          <p:cNvGrpSpPr/>
          <p:nvPr/>
        </p:nvGrpSpPr>
        <p:grpSpPr>
          <a:xfrm>
            <a:off x="3116160" y="2330280"/>
            <a:ext cx="2514600" cy="1295280"/>
            <a:chOff x="3116160" y="2330280"/>
            <a:chExt cx="2514600" cy="1295280"/>
          </a:xfrm>
        </p:grpSpPr>
        <p:sp>
          <p:nvSpPr>
            <p:cNvPr id="49" name="Line 5"/>
            <p:cNvSpPr/>
            <p:nvPr/>
          </p:nvSpPr>
          <p:spPr>
            <a:xfrm flipV="1">
              <a:off x="3116160" y="2330280"/>
              <a:ext cx="121932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4335480" y="2330280"/>
              <a:ext cx="129528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3344760" y="4191120"/>
            <a:ext cx="2210040" cy="1295280"/>
            <a:chOff x="3344760" y="4191120"/>
            <a:chExt cx="2210040" cy="1295280"/>
          </a:xfrm>
        </p:grpSpPr>
        <p:sp>
          <p:nvSpPr>
            <p:cNvPr id="52" name="Line 8"/>
            <p:cNvSpPr/>
            <p:nvPr/>
          </p:nvSpPr>
          <p:spPr>
            <a:xfrm flipH="1">
              <a:off x="3344760" y="4191120"/>
              <a:ext cx="106704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9"/>
            <p:cNvSpPr/>
            <p:nvPr/>
          </p:nvSpPr>
          <p:spPr>
            <a:xfrm>
              <a:off x="4411800" y="4191120"/>
              <a:ext cx="11430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G_059"/>
          <p:cNvPicPr/>
          <p:nvPr/>
        </p:nvPicPr>
        <p:blipFill>
          <a:blip r:embed="rId1"/>
          <a:stretch/>
        </p:blipFill>
        <p:spPr>
          <a:xfrm>
            <a:off x="998640" y="1224000"/>
            <a:ext cx="3348000" cy="241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BG_058"/>
          <p:cNvPicPr/>
          <p:nvPr/>
        </p:nvPicPr>
        <p:blipFill>
          <a:blip r:embed="rId2"/>
          <a:stretch/>
        </p:blipFill>
        <p:spPr>
          <a:xfrm>
            <a:off x="4346640" y="1224000"/>
            <a:ext cx="3585960" cy="2414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wp090"/>
          <p:cNvPicPr/>
          <p:nvPr/>
        </p:nvPicPr>
        <p:blipFill>
          <a:blip r:embed="rId3"/>
          <a:stretch/>
        </p:blipFill>
        <p:spPr>
          <a:xfrm>
            <a:off x="998640" y="3530520"/>
            <a:ext cx="3492360" cy="245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圆规"/>
          <p:cNvPicPr/>
          <p:nvPr/>
        </p:nvPicPr>
        <p:blipFill>
          <a:blip r:embed="rId4"/>
          <a:stretch/>
        </p:blipFill>
        <p:spPr>
          <a:xfrm>
            <a:off x="4802040" y="3546360"/>
            <a:ext cx="310860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143000" y="797040"/>
            <a:ext cx="63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们给我们怎样的图形印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5510160" y="322740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5509800" y="1627200"/>
            <a:ext cx="1600200" cy="1600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433840" y="3151080"/>
            <a:ext cx="15264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900680" y="307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719840" y="322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348240" y="1474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81040" y="3532320"/>
            <a:ext cx="7821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你能指出所画角的边和顶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角的两边是前面学过的什么图形，它们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你能描述一下怎样的几何图形叫做角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20127"/>
          <a:stretch/>
        </p:blipFill>
        <p:spPr>
          <a:xfrm>
            <a:off x="2828880" y="860400"/>
            <a:ext cx="2743200" cy="7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4"/>
          <p:cNvSpPr/>
          <p:nvPr/>
        </p:nvSpPr>
        <p:spPr>
          <a:xfrm flipV="1">
            <a:off x="1867680" y="1704240"/>
            <a:ext cx="2287800" cy="37843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5"/>
          <p:cNvGrpSpPr/>
          <p:nvPr/>
        </p:nvGrpSpPr>
        <p:grpSpPr>
          <a:xfrm>
            <a:off x="1820880" y="5445000"/>
            <a:ext cx="5277960" cy="42840"/>
            <a:chOff x="1820880" y="5445000"/>
            <a:chExt cx="5277960" cy="42840"/>
          </a:xfrm>
        </p:grpSpPr>
        <p:sp>
          <p:nvSpPr>
            <p:cNvPr id="69" name="Line 26"/>
            <p:cNvSpPr/>
            <p:nvPr/>
          </p:nvSpPr>
          <p:spPr>
            <a:xfrm>
              <a:off x="1846080" y="5465880"/>
              <a:ext cx="525276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1820880" y="5445000"/>
              <a:ext cx="86400" cy="4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28"/>
          <p:cNvSpPr/>
          <p:nvPr/>
        </p:nvSpPr>
        <p:spPr>
          <a:xfrm>
            <a:off x="554040" y="720720"/>
            <a:ext cx="79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由具有</a:t>
            </a:r>
            <a:r>
              <a:rPr b="1" lang="zh-CN" sz="2800" spc="-1" strike="noStrike">
                <a:solidFill>
                  <a:srgbClr val="f00000"/>
                </a:solidFill>
                <a:latin typeface="Arial"/>
              </a:rPr>
              <a:t>公共端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两条</a:t>
            </a:r>
            <a:r>
              <a:rPr b="1" lang="zh-CN" sz="2800" spc="-1" strike="noStrike">
                <a:solidFill>
                  <a:srgbClr val="f00000"/>
                </a:solidFill>
                <a:latin typeface="Arial"/>
              </a:rPr>
              <a:t>射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组成的图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9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0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934920" y="53341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1003320" y="4637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4479480" y="5475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2336400" y="286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3365640" y="501804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3349800" y="2819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3"/>
          <p:cNvSpPr/>
          <p:nvPr/>
        </p:nvSpPr>
        <p:spPr>
          <a:xfrm>
            <a:off x="1905120" y="4908600"/>
            <a:ext cx="647640" cy="573120"/>
          </a:xfrm>
          <a:custGeom>
            <a:avLst/>
            <a:gdLst/>
            <a:ahLst/>
            <a:rect l="l" t="t" r="r" b="b"/>
            <a:pathLst>
              <a:path fill="none" w="21600" h="19080">
                <a:moveTo>
                  <a:pt x="10124" y="-1"/>
                </a:moveTo>
                <a:cubicBezTo>
                  <a:pt x="17185" y="3746"/>
                  <a:pt x="21600" y="11086"/>
                  <a:pt x="21600" y="19080"/>
                </a:cubicBezTo>
              </a:path>
              <a:path stroke="0" w="21600" h="19080">
                <a:moveTo>
                  <a:pt x="10124" y="-1"/>
                </a:moveTo>
                <a:cubicBezTo>
                  <a:pt x="17185" y="3746"/>
                  <a:pt x="21600" y="11086"/>
                  <a:pt x="21600" y="19080"/>
                </a:cubicBezTo>
                <a:lnTo>
                  <a:pt x="0" y="19080"/>
                </a:lnTo>
                <a:lnTo>
                  <a:pt x="10124" y="-1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90400" y="20797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判断下列哪些图形是角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611280" y="3261960"/>
            <a:ext cx="1763640" cy="1079640"/>
            <a:chOff x="611280" y="3261960"/>
            <a:chExt cx="1763640" cy="1079640"/>
          </a:xfrm>
        </p:grpSpPr>
        <p:sp>
          <p:nvSpPr>
            <p:cNvPr id="89" name="Line 6"/>
            <p:cNvSpPr/>
            <p:nvPr/>
          </p:nvSpPr>
          <p:spPr>
            <a:xfrm flipV="1">
              <a:off x="611280" y="3261960"/>
              <a:ext cx="141048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611280" y="4033800"/>
              <a:ext cx="17636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2328840" y="3422160"/>
            <a:ext cx="2350800" cy="848160"/>
            <a:chOff x="2328840" y="3422160"/>
            <a:chExt cx="2350800" cy="848160"/>
          </a:xfrm>
        </p:grpSpPr>
        <p:sp>
          <p:nvSpPr>
            <p:cNvPr id="92" name="Line 9"/>
            <p:cNvSpPr/>
            <p:nvPr/>
          </p:nvSpPr>
          <p:spPr>
            <a:xfrm flipV="1">
              <a:off x="2328840" y="3422160"/>
              <a:ext cx="1780560" cy="59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755800" y="4270320"/>
              <a:ext cx="192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4851000" y="3049920"/>
            <a:ext cx="1072800" cy="1811160"/>
            <a:chOff x="4851000" y="3049920"/>
            <a:chExt cx="1072800" cy="1811160"/>
          </a:xfrm>
        </p:grpSpPr>
        <p:sp>
          <p:nvSpPr>
            <p:cNvPr id="95" name="Line 12"/>
            <p:cNvSpPr/>
            <p:nvPr/>
          </p:nvSpPr>
          <p:spPr>
            <a:xfrm>
              <a:off x="5327640" y="3049920"/>
              <a:ext cx="596160" cy="15444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 flipH="1">
              <a:off x="4851000" y="3049920"/>
              <a:ext cx="476280" cy="18111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7200360" y="3381480"/>
            <a:ext cx="820440" cy="1542600"/>
            <a:chOff x="7200360" y="3381480"/>
            <a:chExt cx="820440" cy="1542600"/>
          </a:xfrm>
        </p:grpSpPr>
        <p:sp>
          <p:nvSpPr>
            <p:cNvPr id="98" name="Line 15"/>
            <p:cNvSpPr/>
            <p:nvPr/>
          </p:nvSpPr>
          <p:spPr>
            <a:xfrm>
              <a:off x="7200360" y="3381480"/>
              <a:ext cx="6120" cy="1220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206480" y="4602240"/>
              <a:ext cx="814320" cy="3218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7"/>
          <p:cNvSpPr/>
          <p:nvPr/>
        </p:nvSpPr>
        <p:spPr>
          <a:xfrm>
            <a:off x="954000" y="5133960"/>
            <a:ext cx="13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7227720" y="506412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4924440" y="5110200"/>
            <a:ext cx="15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2892600" y="513396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400" y="144000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尝试练习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51000" y="1295280"/>
            <a:ext cx="8076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角也可以看作由一条射线绕着它的端点旋转而形成的图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2455920"/>
            <a:ext cx="5257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平角及周角的定义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3071880"/>
            <a:ext cx="7924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条射线绕它的端点旋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终边与始边成一条直线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成的角叫做平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终边继续旋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它又和始边重合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成的角叫做周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User</cp:lastModifiedBy>
  <dcterms:modified xsi:type="dcterms:W3CDTF">2014-10-14T03:04:43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