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F8DE-C38A-416B-AAF5-4E4A58786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50F6-54EC-44DD-8BDF-13A3C660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A42-A79D-47ED-A6F4-D2BAAC2B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090C-3B9A-48B5-B6A6-60BE1648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353-2488-4697-8F5E-DD1EE870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6964-5D02-46B9-888A-E6E12D10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69BA-9D5B-4FB4-8013-9520F8F9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664C-EE90-4303-B343-525D9E722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BB54-D15E-40D6-88CB-4CB7E2B5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B31D-BE32-4D62-9370-30C8E8B3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690B-FB14-44A9-89BE-B4239F4C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527B-C0BE-41DC-B4BD-C0C3664E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212ED-1BC8-40F2-8EE9-A0388E969F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4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Unit 3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is is my siste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5640" y="189000"/>
            <a:ext cx="554508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se are my br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se are her sis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se are her frie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se are bo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se are gir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se are my p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se are your ke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se are eras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ose are ID c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se are red p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620640"/>
            <a:ext cx="849816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ave: This is my mother. Mom, this is Lin H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in Hai: Nice to meet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om: Nice to meet you, Lin H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ave: And these are my grandpar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randparents: Hi, Lin H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Lin Hai: Hell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ave:  And this is my sister, Mary, and this is my brother, J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42920" y="40464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 3 This is my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-79200" y="0"/>
            <a:ext cx="9547200" cy="7161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951280" y="189000"/>
            <a:ext cx="6300720" cy="49878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87280" y="115920"/>
            <a:ext cx="2844720" cy="79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fa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br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grand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grand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grand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2000" y="5229360"/>
            <a:ext cx="6480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my/her/hi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t is my /her/h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42920" y="40464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 3 This is my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30492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20720" y="189000"/>
            <a:ext cx="662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s is Jiang Qinqin’s family ph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042920" y="836640"/>
            <a:ext cx="6696000" cy="4395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92360" y="5229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her 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mothe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fa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5734080"/>
            <a:ext cx="56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s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/ No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n’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908000" y="934920"/>
            <a:ext cx="5328000" cy="4222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411280" y="5070600"/>
            <a:ext cx="56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his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3333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s is Xie Tingfeng’s family ph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573408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s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/ No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n’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42920" y="40464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 3 This is my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187280" y="85680"/>
            <a:ext cx="7050240" cy="52880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843280" y="5300640"/>
            <a:ext cx="46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76360" y="5661000"/>
            <a:ext cx="5759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76560" y="5484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360" y="5430960"/>
            <a:ext cx="568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your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594504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s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/ No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n’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42920" y="40464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 3 This is my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-304920" y="-35712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835280" y="-316080"/>
            <a:ext cx="59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 3   This is my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619280" y="115920"/>
            <a:ext cx="5977080" cy="5133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268360" y="5229360"/>
            <a:ext cx="56883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your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32000" y="580248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s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/ No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n’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19280" y="260280"/>
            <a:ext cx="5905440" cy="4365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484360" y="472428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this her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408760" y="5297400"/>
            <a:ext cx="38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s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/ No,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isn’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42920" y="40464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 3 This is my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-32400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620720" y="-10008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NIT 3   This is my s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4797360"/>
            <a:ext cx="770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at    is      my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roth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558972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os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my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brother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332000" y="620640"/>
            <a:ext cx="64800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7632720" cy="3817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000" y="115920"/>
            <a:ext cx="835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GROUP ACTIVITY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组活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roduce Jenny’s famil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介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enny’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一家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enn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名义介绍．２．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enn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朋友的身份介绍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14130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e. g Is this/that your…? Yes, it is./ No, it is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411280" y="115920"/>
            <a:ext cx="36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单数变复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620640"/>
            <a:ext cx="705636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is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变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tha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变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/she/it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变成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词后边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:   boy—boy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irl___gi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的我的他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她的都不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物主代词不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/a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620640"/>
            <a:ext cx="875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.g  1.This is my br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95480" y="1365120"/>
            <a:ext cx="468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se are my br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58920" y="206064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Is that your si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781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re those your sist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7280" y="3573360"/>
            <a:ext cx="53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She is my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429264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y are my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87280" y="620640"/>
            <a:ext cx="61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this /tha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……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s,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i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is./ No,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it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isn’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2997360"/>
            <a:ext cx="70581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e /sh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…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Yes,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h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sh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is ./ No,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 h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she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isn’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189000"/>
            <a:ext cx="95043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Is this your dictionary? Yes, it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69228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Is that his watch? No. it is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1125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How do you spell penc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162864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Is this his sister? Yes, it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26226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These are my au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1337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Is that your uncle? No. it is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31417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 Those are her cous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364500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.Is he your father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42051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.Is she his grandmoth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47815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. He isn’t my grandfather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2149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. Is he Mr. Green’s s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580536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. Is she Mr. Hand’s daugh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11280" y="969840"/>
            <a:ext cx="289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168120"/>
            <a:ext cx="79200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he your brother? No,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she your mother? No,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s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he her father? Yes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is your grandfather? Yes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that his brother? No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 she our teacher? No,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h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s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n’t her s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o is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o’s t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se are his unc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4360" y="44280"/>
            <a:ext cx="655308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翻译下列句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 这是你的姐姐吗？是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那是他的哥哥吗？不，不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她是你的奶奶吗？不是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他是她的爸爸吗？是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4360" y="148428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this your sister? Yes ,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292428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that his brother? No ,it is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4292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 she your grandmother? No, she is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551664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he her father? Yes, he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11280" y="549360"/>
            <a:ext cx="8208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404640"/>
            <a:ext cx="770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是我的叔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是她的爸爸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她不是他的妹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她是他的表姐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126828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 is my un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5640" y="2637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 is her 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393372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e isn’t her s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544500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she his cousin? Yes, she i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68360" y="333360"/>
            <a:ext cx="784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76280"/>
            <a:ext cx="8135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Lucy is a girl. She is her father’s 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Jim is his father’s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My father’s sister is my 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Kate’s father’s brother is her 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 Tim’s father is my uncle, so Tim is my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His parents are his ______ and 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.My grandparents are my ______              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96000" y="33336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au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360" y="112536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80560" y="162252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64000" y="2421000"/>
            <a:ext cx="16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n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2924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us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08360" y="3573360"/>
            <a:ext cx="124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64360" y="3573360"/>
            <a:ext cx="14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0920" y="4292640"/>
            <a:ext cx="228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randf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48657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randm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4:00:42Z</dcterms:created>
  <dc:creator>nk_lnk</dc:creator>
  <dc:description/>
  <dc:language>en-US</dc:language>
  <cp:lastModifiedBy>FOUNDER</cp:lastModifiedBy>
  <dcterms:modified xsi:type="dcterms:W3CDTF">2004-10-25T00:34:54Z</dcterms:modified>
  <cp:revision>36</cp:revision>
  <dc:subject/>
  <dc:title>幻灯片 1</dc:title>
</cp:coreProperties>
</file>