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8CC-B451-46B6-8FC3-1BC257B3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93B-FD75-4CC1-A588-6F806DF5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7DC-8061-4506-8E3D-0FE3B669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DFA-B9D4-42B3-AEA3-57A864B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02C-6037-43EA-A8F0-A321AFC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13D-6017-436D-A7F1-53531AB7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70C-54D5-48AF-BC21-F7389903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530-8CD9-4E17-9B3E-07FE1EB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1ED-8CE5-48A1-871B-DBED831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274-5C02-491F-B1D6-AA50C373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B34-85B8-4265-B409-EB05C6A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EC-A46A-46F6-9592-C5EC0FC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B564-F3C5-4B05-A1F7-9D11FD4A6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76720" y="152280"/>
            <a:ext cx="93636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705720" y="2438280"/>
            <a:ext cx="82224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5410080" y="2514600"/>
            <a:ext cx="7779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2743200" y="2438280"/>
            <a:ext cx="863640" cy="13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1600200" y="2438280"/>
            <a:ext cx="865080" cy="13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1511280" y="4654440"/>
            <a:ext cx="792360" cy="151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8"/>
          <a:stretch/>
        </p:blipFill>
        <p:spPr>
          <a:xfrm>
            <a:off x="2592360" y="4654440"/>
            <a:ext cx="79236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9"/>
          <a:stretch/>
        </p:blipFill>
        <p:spPr>
          <a:xfrm>
            <a:off x="5327640" y="4726080"/>
            <a:ext cx="792000" cy="13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10"/>
          <a:stretch/>
        </p:blipFill>
        <p:spPr>
          <a:xfrm>
            <a:off x="6408720" y="4726080"/>
            <a:ext cx="863640" cy="1368360"/>
          </a:xfrm>
          <a:prstGeom prst="rect">
            <a:avLst/>
          </a:prstGeom>
          <a:ln w="0">
            <a:noFill/>
          </a:ln>
        </p:spPr>
      </p:pic>
      <p:sp>
        <p:nvSpPr>
          <p:cNvPr id="51" name="Line 12"/>
          <p:cNvSpPr/>
          <p:nvPr/>
        </p:nvSpPr>
        <p:spPr>
          <a:xfrm flipV="1">
            <a:off x="4464000" y="112500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176720" y="1125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519280" y="2205000"/>
            <a:ext cx="374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087640" y="2349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5716440" y="2421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2592360" y="364644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1944720" y="42940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6408720" y="350208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5832360" y="422100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3352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ather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da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2743200" y="3657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mother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1"/>
          <p:cNvSpPr/>
          <p:nvPr/>
        </p:nvSpPr>
        <p:spPr>
          <a:xfrm>
            <a:off x="1944720" y="42940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3168720" y="42940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>
            <a:off x="583236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192720" y="3502080"/>
            <a:ext cx="43668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5"/>
          <p:cNvSpPr/>
          <p:nvPr/>
        </p:nvSpPr>
        <p:spPr>
          <a:xfrm>
            <a:off x="2448000" y="3646440"/>
            <a:ext cx="29520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>
            <a:off x="3456000" y="544680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2498760" y="2205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6264360" y="2205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2058840" y="23353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3095640" y="234936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5732640" y="242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6948360" y="24066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6962760" y="42354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609480" y="1600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randfather/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ran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648320" y="1523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gran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5029200" y="37339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uncle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553080" y="37339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4572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brother</a:t>
            </a: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514600" y="6095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365760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cousins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0492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Family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0948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7238880" y="5029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daug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64008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sister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6"/>
          <p:cNvSpPr/>
          <p:nvPr/>
        </p:nvSpPr>
        <p:spPr>
          <a:xfrm>
            <a:off x="5715000" y="609588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 flipH="1">
            <a:off x="2057400" y="632448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257760" y="304920"/>
            <a:ext cx="1873800" cy="581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04920" y="1523880"/>
            <a:ext cx="822960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I’m _____. Here is a photo of my family. These are 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90920" y="685800"/>
            <a:ext cx="4419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ere’s an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截屏023"/>
          <p:cNvPicPr/>
          <p:nvPr/>
        </p:nvPicPr>
        <p:blipFill>
          <a:blip r:embed="rId1">
            <a:grayscl/>
          </a:blip>
          <a:stretch/>
        </p:blipFill>
        <p:spPr>
          <a:xfrm>
            <a:off x="5638680" y="3014640"/>
            <a:ext cx="2895840" cy="2471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514600" y="1676520"/>
            <a:ext cx="144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J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90720" y="2133720"/>
            <a:ext cx="647676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grandpar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ose are my par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ose are my aunt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uncle. This is my br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ob. That is my cous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al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38080" y="142236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按要求写出下列单词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041560"/>
            <a:ext cx="70866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grandfa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fa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grandmo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mo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friend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6. aunt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对应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657600" y="507960"/>
            <a:ext cx="22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Revisi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029200" y="2133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ran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181480" y="3505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ran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62520" y="4906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11480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962520" y="2819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962520" y="5592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838080"/>
            <a:ext cx="8534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7. picture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同义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8. son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对应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就是……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我的两张家庭照片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在第一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下张照片中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狗的名字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038480" y="930240"/>
            <a:ext cx="12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ph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76720" y="161604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augh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429000" y="236232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ere is/are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43000" y="3673440"/>
            <a:ext cx="510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wo photos of my 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724280" y="4282920"/>
            <a:ext cx="4419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n the first /next ph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895480" y="5045040"/>
            <a:ext cx="518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 name of the do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533520" y="914400"/>
            <a:ext cx="7924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a. Complete the passage with the words in the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09480" y="198108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【指导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首先，读懂短文的大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好，我的名字叫保尔。这是我的一张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照片。这是我的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是我的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约翰和鲍勃。这是我的妹妹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3657600" y="2286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MS UI Gothic"/>
              </a:rPr>
              <a:t>writ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1905120"/>
            <a:ext cx="76201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次，分析选项中单词的意思、性别、单复数 形式等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析每句话意思，将选项对号入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My name is Paul. This is a photo of my ______. These are my ______ and these are my _______, John and Bob. This is my sister 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057400" y="2773440"/>
            <a:ext cx="1676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095880" y="2773440"/>
            <a:ext cx="1676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114800" y="3462480"/>
            <a:ext cx="2286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roth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952880" y="4071960"/>
            <a:ext cx="1371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in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934920" y="1219320"/>
            <a:ext cx="5693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et’s check the answers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990720" y="971640"/>
            <a:ext cx="7086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n draw a picture of Paul’s fam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00771225136979_2"/>
          <p:cNvPicPr/>
          <p:nvPr/>
        </p:nvPicPr>
        <p:blipFill>
          <a:blip r:embed="rId1"/>
          <a:stretch/>
        </p:blipFill>
        <p:spPr>
          <a:xfrm>
            <a:off x="1905120" y="1828800"/>
            <a:ext cx="4724280" cy="325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A0290"/>
          <p:cNvPicPr/>
          <p:nvPr/>
        </p:nvPicPr>
        <p:blipFill>
          <a:blip r:embed="rId2"/>
          <a:stretch/>
        </p:blipFill>
        <p:spPr>
          <a:xfrm>
            <a:off x="3048120" y="2263680"/>
            <a:ext cx="101592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A0278"/>
          <p:cNvPicPr/>
          <p:nvPr/>
        </p:nvPicPr>
        <p:blipFill>
          <a:blip r:embed="rId3"/>
          <a:stretch/>
        </p:blipFill>
        <p:spPr>
          <a:xfrm>
            <a:off x="4038480" y="2263680"/>
            <a:ext cx="1193760" cy="1276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3188"/>
          <p:cNvPicPr/>
          <p:nvPr/>
        </p:nvPicPr>
        <p:blipFill>
          <a:blip r:embed="rId4"/>
          <a:stretch/>
        </p:blipFill>
        <p:spPr>
          <a:xfrm>
            <a:off x="3505320" y="3559320"/>
            <a:ext cx="79056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3070"/>
          <p:cNvPicPr/>
          <p:nvPr/>
        </p:nvPicPr>
        <p:blipFill>
          <a:blip r:embed="rId5"/>
          <a:stretch/>
        </p:blipFill>
        <p:spPr>
          <a:xfrm>
            <a:off x="5105520" y="3559320"/>
            <a:ext cx="95724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3185"/>
          <p:cNvPicPr/>
          <p:nvPr/>
        </p:nvPicPr>
        <p:blipFill>
          <a:blip r:embed="rId6"/>
          <a:stretch/>
        </p:blipFill>
        <p:spPr>
          <a:xfrm>
            <a:off x="4191120" y="3635280"/>
            <a:ext cx="920520" cy="93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114"/>
          <p:cNvPicPr/>
          <p:nvPr/>
        </p:nvPicPr>
        <p:blipFill>
          <a:blip r:embed="rId7"/>
          <a:stretch/>
        </p:blipFill>
        <p:spPr>
          <a:xfrm>
            <a:off x="2514600" y="3559320"/>
            <a:ext cx="85716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2486160"/>
            <a:ext cx="792468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I’m _________. Here is a photo of m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family. These are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380880"/>
            <a:ext cx="800100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3b. Bring a family photo to class and write about it. Then tell a classmate about your famil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截屏023"/>
          <p:cNvPicPr/>
          <p:nvPr/>
        </p:nvPicPr>
        <p:blipFill>
          <a:blip r:embed="rId1">
            <a:grayscl/>
          </a:blip>
          <a:stretch/>
        </p:blipFill>
        <p:spPr>
          <a:xfrm>
            <a:off x="5638680" y="3886200"/>
            <a:ext cx="2819520" cy="240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57200" y="390600"/>
            <a:ext cx="8001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【指导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文的前两句话已给出，第一空格处应填好自己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后，将照片上的家人的姓名或与自己的关系向大家作介绍。同学们可以按辈份或年龄的大小有顺序地依次进行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运用正确的句型，在介绍父母或祖父母等多个人时，可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se/Those are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；在介绍单个的人时，应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/That is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8:37:52Z</dcterms:created>
  <dc:creator>xp</dc:creator>
  <dc:description/>
  <dc:language>en-US</dc:language>
  <cp:lastModifiedBy>xp</cp:lastModifiedBy>
  <dcterms:modified xsi:type="dcterms:W3CDTF">2017-09-27T08:38:12Z</dcterms:modified>
  <cp:revision>2</cp:revision>
  <dc:subject/>
  <dc:title>幻灯片 1</dc:title>
</cp:coreProperties>
</file>