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AA65-72FF-4CAD-8B11-154A215D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F9E-A058-4DA9-963C-C369311F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468-8B28-41DA-A1B6-DAF20706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7E9-9090-4B19-9D35-AE5B4374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534-CBA5-40F1-B045-9375604B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5A8-1131-4321-B858-B23C95B7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16F-9BD5-4A66-B4A9-3D250DCE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96C-6840-4605-87F0-17936462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9C5-2211-4B62-9260-FF4D37B7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0BB-C071-4421-9EC6-89E962E8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ECA-7498-4215-BA09-F43786D1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F88-B638-4BD7-AA10-B0E93330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C575-9167-4246-B9FB-0C9D3BA5D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19320"/>
            <a:ext cx="838188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y I Invite Danny and Jenny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80880"/>
            <a:ext cx="30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五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577880"/>
            <a:ext cx="8686800" cy="5280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71600" y="2362320"/>
            <a:ext cx="167652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1981080"/>
            <a:ext cx="60984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2438280"/>
            <a:ext cx="68580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3581280"/>
            <a:ext cx="609480" cy="38124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962520"/>
            <a:ext cx="1219320" cy="38088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5029200"/>
            <a:ext cx="1523880" cy="6858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6172200"/>
            <a:ext cx="5335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029200" y="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514600" y="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315200" y="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438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09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Make a dialogue in your grou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47920"/>
            <a:ext cx="3886200" cy="1371600"/>
          </a:xfrm>
          <a:prstGeom prst="wedgeEllipseCallout">
            <a:avLst>
              <a:gd name="adj1" fmla="val 42564"/>
              <a:gd name="adj2" fmla="val 6157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This is___. May I ____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1523880"/>
            <a:ext cx="2971800" cy="914400"/>
          </a:xfrm>
          <a:prstGeom prst="wedgeEllipseCallout">
            <a:avLst>
              <a:gd name="adj1" fmla="val -43000"/>
              <a:gd name="adj2" fmla="val 8941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971800"/>
            <a:ext cx="3124080" cy="1447920"/>
          </a:xfrm>
          <a:prstGeom prst="wedgeEllipseCallout">
            <a:avLst>
              <a:gd name="adj1" fmla="val 63111"/>
              <a:gd name="adj2" fmla="val -29935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_____with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3581280"/>
            <a:ext cx="2819520" cy="990720"/>
          </a:xfrm>
          <a:prstGeom prst="wedgeEllipseCallout">
            <a:avLst>
              <a:gd name="adj1" fmla="val -65708"/>
              <a:gd name="adj2" fmla="val -6281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we 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495680"/>
            <a:ext cx="2667240" cy="1067040"/>
          </a:xfrm>
          <a:prstGeom prst="wedgeEllipseCallout">
            <a:avLst>
              <a:gd name="adj1" fmla="val 47143"/>
              <a:gd name="adj2" fmla="val -11815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____in the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4572000"/>
            <a:ext cx="3124440" cy="1143000"/>
          </a:xfrm>
          <a:prstGeom prst="wedgeEllipseCallout">
            <a:avLst>
              <a:gd name="adj1" fmla="val -51115"/>
              <a:gd name="adj2" fmla="val -101805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, see you later. By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791320"/>
            <a:ext cx="899172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 basketball   buy clothes  go to the cinema   go to Beijing     go to the z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838080" y="1828800"/>
          <a:ext cx="8229600" cy="22860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2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hat did you learn in this class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614880" y="990720"/>
            <a:ext cx="293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106668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8195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自己的好朋友或父母用英语打个电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5120" y="129528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cc"/>
                </a:solidFill>
                <a:latin typeface="Comic Sans MS"/>
              </a:rPr>
              <a:t>Sing a so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1752480"/>
            <a:ext cx="3809880" cy="261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648320" y="1752480"/>
            <a:ext cx="3809880" cy="261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5400000">
            <a:off x="4190760" y="-1219320"/>
            <a:ext cx="1066680" cy="5791320"/>
          </a:xfrm>
          <a:custGeom>
            <a:avLst/>
            <a:gdLst>
              <a:gd name="textAreaLeft" fmla="*/ 681480 w 1066680"/>
              <a:gd name="textAreaRight" fmla="*/ 1067040 w 106668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09"/>
                </a:lnTo>
                <a:cubicBezTo>
                  <a:pt x="10800" y="10109"/>
                  <a:pt x="5400" y="11009"/>
                  <a:pt x="0" y="11009"/>
                </a:cubicBezTo>
                <a:cubicBezTo>
                  <a:pt x="5400" y="11009"/>
                  <a:pt x="10800" y="11909"/>
                  <a:pt x="10800" y="1280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3049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f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123720" y="4114800"/>
            <a:ext cx="83844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51814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eco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4114800"/>
            <a:ext cx="12189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525780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i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0"/>
            <a:ext cx="327672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one-fir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two-sec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three-thi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our-four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five-fif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ix-six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ven-sev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ight-eigh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nine-ni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en-t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533520"/>
            <a:ext cx="388620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leven-elev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twelve-twelf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irteen-thirte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ourteen-fourte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fifteen-fifte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twenty-twentie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thirty-thirtie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150840" y="0"/>
            <a:ext cx="939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12952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isten and r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86400" y="2819160"/>
            <a:ext cx="805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ow does Mrs. Li talk to Mrs. Smith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happen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at last?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36960" y="761040"/>
            <a:ext cx="282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Comic Sans MS"/>
              </a:rPr>
              <a:t>Let’s 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8270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Jenny’s mother calls Danny’s mother. What do they say?Talk about it with your part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" y="6094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ow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1T14:57:58Z</dcterms:created>
  <dc:creator>萍萍</dc:creator>
  <dc:description/>
  <dc:language>en-US</dc:language>
  <cp:lastModifiedBy>lenovo</cp:lastModifiedBy>
  <dcterms:modified xsi:type="dcterms:W3CDTF">2015-06-18T02:02:2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