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62F-5E14-4931-B8D0-2340DCC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222-6C23-42A3-A937-C967E5C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A03-8632-4071-9840-F7772ABB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A71-9238-4798-B4C8-631946D7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990-0935-4E1C-9E44-A87EDCAF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F2E-166E-4F74-9F94-EEB708C5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BB4-32AF-48DA-98AB-01BEC191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348-1BBE-4535-938C-A9A8A879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FE1-5B5B-4606-8D81-06506B61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519-BABC-40AD-A76E-6373F9E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8B5-A9AE-4470-B99A-B6FB781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657-5EB6-4199-9495-C15AF28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CB91-85A3-41CB-A29D-E8AA542E36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7  On the school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’s the weather? It’s 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y       windy     cloudy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rai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snow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52424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0" b="5719"/>
          <a:stretch/>
        </p:blipFill>
        <p:spPr>
          <a:xfrm>
            <a:off x="838080" y="3505320"/>
            <a:ext cx="16002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16002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438280" y="3505320"/>
            <a:ext cx="13716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34320" y="3505320"/>
            <a:ext cx="16002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my umbrell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ain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644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2680" y="2666880"/>
            <a:ext cx="2362320" cy="60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hool bus                 bike(bicyc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81024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19358" r="0" b="26646"/>
          <a:stretch/>
        </p:blipFill>
        <p:spPr>
          <a:xfrm>
            <a:off x="4648320" y="23623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 Ming and I go to school by b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 stop         Here comes the school b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97180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1289" t="4304" r="-1609" b="9675"/>
          <a:stretch/>
        </p:blipFill>
        <p:spPr>
          <a:xfrm>
            <a:off x="3809880" y="3200400"/>
            <a:ext cx="472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ur bus dri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392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7400" y="2971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s. Sc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go to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 bus                  by bike                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  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438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to school by b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43964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440000" cy="920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1439640" cy="113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81520" y="2897280"/>
            <a:ext cx="1539720" cy="137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638680" y="3429000"/>
            <a:ext cx="1440000" cy="1103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26668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onday             Tuesday      Wednesday      Thursday        Fri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es to school by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me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rides her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l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练习短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reakfast      read books          plant flowers       help my 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3964" t="4517" r="0" b="5130"/>
          <a:stretch/>
        </p:blipFill>
        <p:spPr>
          <a:xfrm>
            <a:off x="838080" y="3200400"/>
            <a:ext cx="1981440" cy="2819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198108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20143" t="0" r="4334" b="9628"/>
          <a:stretch/>
        </p:blipFill>
        <p:spPr>
          <a:xfrm>
            <a:off x="4800600" y="3200400"/>
            <a:ext cx="1905120" cy="28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02:12:19Z</dcterms:created>
  <dc:creator/>
  <dc:description/>
  <dc:language>en-US</dc:language>
  <cp:lastModifiedBy/>
  <dcterms:modified xsi:type="dcterms:W3CDTF">2018-08-17T02:26:2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