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4.gif" ContentType="image/gif"/>
  <Override PartName="/ppt/media/image18.gif" ContentType="image/gif"/>
  <Override PartName="/ppt/media/image17.jpeg" ContentType="image/jpeg"/>
  <Override PartName="/ppt/media/image13.wmf" ContentType="image/x-wmf"/>
  <Override PartName="/ppt/media/image16.gif" ContentType="image/gif"/>
  <Override PartName="/ppt/media/image15.gif" ContentType="image/gif"/>
  <Override PartName="/ppt/media/image1.png" ContentType="image/png"/>
  <Override PartName="/ppt/media/image3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22C-BDF5-4B55-83A8-4CB2F658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E42-88B1-4E9E-B920-E61BFEA8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708-2C37-4FB5-94C9-64B6B8B1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610-2346-453F-8DA8-661CF34B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43B5-4282-4EC9-BA62-08BC3444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C003-6C04-46B1-9118-8DC3CC6F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D00E-267D-44C8-988A-204BFD68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DBF0-8829-4E1D-A5F9-A4491B8A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8CB2-8043-4F42-9954-0BB7EE8E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D3D5-86D2-435F-AEBC-BB2EBCE8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EFF6-BC09-456E-A35D-62249E06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C44-44DC-49F8-AA15-62D9B603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3D87-900B-4EDA-BEE3-435FAF72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7B00-AD6D-462B-A787-F336AAFB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C86D-61DA-4D6B-8616-E338899B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7729-94C2-454F-A4F4-74B1E564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C0D1-92AB-46A7-9706-82648357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24CF-95B2-4AFE-AC40-F6A01B41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2299-52A0-408E-B957-BBD8BC85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99E0-591C-4C23-8A7F-C9D25F93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C6B2-577B-4644-BFE5-CCC3FF66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72A8-B15F-4CB8-816F-7048E2AF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2E6-E419-4A2A-B8CD-EA80B6C7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DC57-E5C9-45DD-AB7A-E5E55B2E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234BC-09ED-425A-B7C4-14A8BD46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1611-E877-45A6-91CA-955705F0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0AC9-36D6-4AFA-BD41-FF510737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4848-336C-41BA-BAA0-724C152A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EC6DD-30CD-49FB-98AD-2EFFC5DF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FCB0C-A86A-49CD-8EBB-AD9231A9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E2A5-70BB-4E12-8621-A9B260BA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2E41D-AA79-455C-A276-F36E1487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70D83-FE70-4935-BA45-66F94FCE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BDB-7852-49E5-83B6-60AB87D4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22F71-06B9-44A0-9F55-DCE76F3F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E43C4-9DC9-464F-961D-5EAB3B75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911ED-4A48-492C-9E3D-44A8DD22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C08C-57BC-4961-AAF1-BD781C1C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4822-9EBF-4559-994C-86F2CA45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E3512-EA20-4977-9C39-66E7B742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1988-8065-4370-AB9C-687B11D7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80F6-79D2-4C75-86D0-CB450BE8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6749-7941-4FCB-B178-D4ABB7C8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3F7-5193-4F8C-BB19-C1B7CA44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FB0-703B-4BAD-AD06-6C48B854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A7B-54B5-4E1A-A4EE-532B0CBD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BA0-DE1B-4785-B30B-7663EDC4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A90-2A92-4565-8235-60DE5236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E971-CF79-4F7F-A66D-037E56459A1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0D80-644B-422B-8455-9554D9FF278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DC90-E05D-472E-9159-F92F03406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B1E5-F013-49A7-93AF-3F3845806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5"/>
          <p:cNvSpPr txBox="1"/>
          <p:nvPr/>
        </p:nvSpPr>
        <p:spPr>
          <a:xfrm>
            <a:off x="3657600" y="1295280"/>
            <a:ext cx="475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华文行楷"/>
              </a:rPr>
              <a:t>正数与负数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0" r="40" b="93"/>
          <a:stretch/>
        </p:blipFill>
        <p:spPr>
          <a:xfrm>
            <a:off x="228600" y="2743200"/>
            <a:ext cx="4191120" cy="3886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3520" y="83808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图中的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300.00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和–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800.00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分别表达什么意义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733920" cy="322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952880" y="1143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图中的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点分别表达什么意义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-298440"/>
            <a:ext cx="9144000" cy="685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23640" y="45720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温度的表示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77120" y="533520"/>
            <a:ext cx="2666880" cy="6324480"/>
            <a:chOff x="6477120" y="533520"/>
            <a:chExt cx="2666880" cy="632448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6477120" y="533520"/>
              <a:ext cx="266688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947280" y="2729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63120" y="1967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3120" y="1281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47280" y="3429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47280" y="4191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47280" y="4876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96440" y="3733920"/>
              <a:ext cx="228600" cy="1981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361880" y="3181320"/>
            <a:ext cx="13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0 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520" y="36576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2286000"/>
            <a:ext cx="228600" cy="160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809520" y="22096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26280" y="1733400"/>
            <a:ext cx="218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零上</a:t>
            </a: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2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809520" y="51055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26280" y="4724280"/>
            <a:ext cx="218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零下</a:t>
            </a: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2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2286000"/>
            <a:ext cx="2286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600200"/>
            <a:ext cx="25146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Verdana"/>
              </a:rPr>
              <a:t>+2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4572000"/>
            <a:ext cx="25146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Verdana"/>
              </a:rPr>
              <a:t>- 2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1676520"/>
            <a:ext cx="5334120" cy="2514600"/>
          </a:xfrm>
          <a:prstGeom prst="wedgeEllipseCallout">
            <a:avLst>
              <a:gd name="adj1" fmla="val -56398"/>
              <a:gd name="adj2" fmla="val 1405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752480"/>
            <a:ext cx="3705120" cy="838440"/>
          </a:xfrm>
          <a:prstGeom prst="borderCallout1">
            <a:avLst>
              <a:gd name="adj1" fmla="val 18750"/>
              <a:gd name="adj2" fmla="val -8333"/>
              <a:gd name="adj3" fmla="val -51513"/>
              <a:gd name="adj4" fmla="val 191643"/>
            </a:avLst>
          </a:prstGeom>
          <a:solidFill>
            <a:srgbClr val="ffff99"/>
          </a:solid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+5℃ </a:t>
            </a:r>
            <a:r>
              <a:rPr b="0" lang="zh-CN" sz="4400" spc="-1" strike="noStrike">
                <a:solidFill>
                  <a:srgbClr val="ff0000"/>
                </a:solidFill>
                <a:latin typeface="Verdana"/>
              </a:rPr>
              <a:t>表示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4724280"/>
            <a:ext cx="3705480" cy="838440"/>
          </a:xfrm>
          <a:prstGeom prst="borderCallout1">
            <a:avLst>
              <a:gd name="adj1" fmla="val 18750"/>
              <a:gd name="adj2" fmla="val -8333"/>
              <a:gd name="adj3" fmla="val 86365"/>
              <a:gd name="adj4" fmla="val 198157"/>
            </a:avLst>
          </a:prstGeom>
          <a:solidFill>
            <a:srgbClr val="ffff99"/>
          </a:solid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-3℃ </a:t>
            </a:r>
            <a:r>
              <a:rPr b="0" lang="zh-CN" sz="4400" spc="-1" strike="noStrike">
                <a:solidFill>
                  <a:srgbClr val="ff0000"/>
                </a:solidFill>
                <a:latin typeface="Verdana"/>
              </a:rPr>
              <a:t>表示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04920" y="1523880"/>
            <a:ext cx="88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各数中哪些是正数？哪些是负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    0.04    0    25.8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6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     96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596960" y="3392640"/>
            <a:ext cx="730440" cy="1135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45720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、正数有：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04    25.8      96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143000" y="4800600"/>
            <a:ext cx="7315200" cy="1179720"/>
            <a:chOff x="1143000" y="4800600"/>
            <a:chExt cx="7315200" cy="1179720"/>
          </a:xfrm>
        </p:grpSpPr>
        <p:sp>
          <p:nvSpPr>
            <p:cNvPr id="239" name=""/>
            <p:cNvSpPr/>
            <p:nvPr/>
          </p:nvSpPr>
          <p:spPr>
            <a:xfrm>
              <a:off x="1143000" y="539892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负数有： 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.6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7512120" y="4800600"/>
              <a:ext cx="73188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304920" y="6094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范例分析    加深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5228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华文行楷"/>
                <a:ea typeface="华文行楷"/>
              </a:rPr>
              <a:t>对于两个具有相反意义的量，把哪一种意义规定为正，带有任意性，不过习惯上把向东、上升、盈利、运进、增加、收入等规定为正，把它们的相反量规定为负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1828800"/>
            <a:ext cx="8610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:(1)200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我国花生产量比上年增长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8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记作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豆产量比上年减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6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记作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油菜籽产量比上年增长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2.7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代表什么意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情况下增长率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410840" y="209520"/>
            <a:ext cx="590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例</a:t>
            </a:r>
            <a:r>
              <a:rPr b="1" lang="en-US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3:</a:t>
            </a: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一个月内，小明体重增加了</a:t>
            </a:r>
            <a:r>
              <a:rPr b="1" lang="en-US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2kg</a:t>
            </a: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，小华的体重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少了</a:t>
            </a:r>
            <a:r>
              <a:rPr b="1" lang="en-US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1kg</a:t>
            </a: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，小强的体重无变化，写出他们这个月的体重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长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343400"/>
            <a:ext cx="556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43434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小结：引入负数以后，“增长”就有了普遍的含义：如果增长量为正数，那么就是我们以前所说的真正的增长，如果增长为负数，这就是我们以前所说的减少，但可以理解为负增长。所以，以后遇到增长时，其增长量可正也可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228600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月小明体重增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kg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28954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华体重增长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kg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35812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强体重增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0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1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下列国家的商品进出口总额 比上年的变化情况是： 美国减少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4%;  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德国增长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3%;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法国减少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4%;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英国减少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%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意大利增长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2%;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国增长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.5%,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这些国家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1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商品进出口总额的增长率。 </a:t>
            </a:r>
            <a:br>
              <a:rPr sz="2200"/>
            </a:b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666880"/>
            <a:ext cx="784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ff"/>
                </a:solidFill>
                <a:latin typeface="华文新魏"/>
                <a:ea typeface="华文新魏"/>
              </a:rPr>
              <a:t>答：六个国家</a:t>
            </a:r>
            <a:r>
              <a:rPr b="1" lang="en-US" sz="2200" spc="-1" strike="noStrike">
                <a:solidFill>
                  <a:srgbClr val="9933ff"/>
                </a:solidFill>
                <a:latin typeface="华文新魏"/>
                <a:ea typeface="华文新魏"/>
              </a:rPr>
              <a:t>2001</a:t>
            </a:r>
            <a:r>
              <a:rPr b="1" lang="zh-CN" sz="2200" spc="-1" strike="noStrike">
                <a:solidFill>
                  <a:srgbClr val="9933ff"/>
                </a:solidFill>
                <a:latin typeface="华文新魏"/>
                <a:ea typeface="华文新魏"/>
              </a:rPr>
              <a:t>年商品进出口总额的增长率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6160" y="3448080"/>
            <a:ext cx="48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美国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6.4%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    德国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3%</a:t>
            </a:r>
            <a:br>
              <a:rPr sz="2800"/>
            </a:b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法国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2.4%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    英国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3.5%</a:t>
            </a:r>
            <a:br>
              <a:rPr sz="2800"/>
            </a:b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意大利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2%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      中国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51055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引入负数后，增长率也可以为负数，减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增长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3.5%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反之，增长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2.4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为减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4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04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１．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1)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知识竞赛中，如果用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10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表示加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，那么扣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怎样表示？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2)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某人转动转盘，如果用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5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圈表示沿逆时针方向转了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圈，那么沿顺时针方向转了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圈怎样表示？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3)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某次乒乓球质量检测中，一只乒乓球超出标准质量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02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记作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0.02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那么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0.03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表示什么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59240" y="31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87280" y="404280"/>
            <a:ext cx="7777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如果零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5 ℃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那么零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作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东、西为两个相反方向，如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表示一个物体向西运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表示什么？物体原地不动记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某仓库运进面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记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7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运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应记作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87280" y="393228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零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 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 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4508640"/>
            <a:ext cx="777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表示一个物体向东运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物体原地不动记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805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运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吨应记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4880" y="47592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692360" y="1052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读下列各数，并指出哪些是正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些是负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42920" y="2319480"/>
            <a:ext cx="7107480" cy="2944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459240" y="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76360" y="549360"/>
            <a:ext cx="7416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如果前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k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5k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k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6km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下列各数分别表示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+8km  (2)-4.5km  (3)0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3600" y="47592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298440" y="-450720"/>
            <a:ext cx="9747360" cy="7308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4920" y="99072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阜阳某中已经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的历史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校园占地面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7648.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现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教学班，目前在校师生约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拥有优质的教学条件和教学资源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充满勃勃的生机与活力，正朝着更加高远的目标大步前进，使每个学子心情愉悦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加珍惜这样的学习机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我们一起努力吧，如诗的未来等待我们去开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50292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问题</a:t>
            </a:r>
            <a:r>
              <a:rPr b="1" lang="en-US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1:</a:t>
            </a:r>
            <a:r>
              <a:rPr b="1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在上面这段文字中</a:t>
            </a:r>
            <a:r>
              <a:rPr b="1" lang="en-US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出现了你所熟悉的哪几类数字</a:t>
            </a:r>
            <a:r>
              <a:rPr b="1" lang="en-US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?</a:t>
            </a:r>
            <a:r>
              <a:rPr b="1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它们是怎样产生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381880" y="-374760"/>
            <a:ext cx="987480" cy="1212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228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行楷"/>
                <a:ea typeface="华文行楷"/>
              </a:rPr>
              <a:t>创设情景  导入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105264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规定正常水位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m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于正常水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2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记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0.2m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下列说法错误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于正常水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5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1.5m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于正常水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5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0.5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  -1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比正常水位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m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  +2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水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5924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4000" y="76500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定电梯上升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”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电梯上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0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梯下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m       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梯上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梯上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m           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梯没有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21337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温度计液面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上第五个刻度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表示的温度是零上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℃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5℃;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温度计液面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下第五个刻度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表示的温度是零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℃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它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43657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向南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k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3km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6km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意义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北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km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59240" y="31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83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仓库运进面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2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6.2t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运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6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2276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球比赛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胜两局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2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357336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次机器零件检查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超出标准质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2g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1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59240" y="31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9640" y="1125360"/>
            <a:ext cx="81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横线上填写适当的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下列各题中的两个量表示的意义相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收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2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15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盈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______30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煤与运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节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3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240" y="33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09480" y="1371600"/>
            <a:ext cx="81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数：以前学过的数中，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的数叫做正数；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0.23, 8818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438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负数：在正数前面加上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的数叫做负数；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0.5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3657600"/>
            <a:ext cx="73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既不是正数，也不是负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3320" y="4724280"/>
            <a:ext cx="7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可以用正数与负数表示具有相反意义的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0800" y="5791320"/>
            <a:ext cx="39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个数前面的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叫做它的符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16520" y="-24120"/>
            <a:ext cx="2403000" cy="1343160"/>
            <a:chOff x="416520" y="-24120"/>
            <a:chExt cx="2403000" cy="1343160"/>
          </a:xfrm>
        </p:grpSpPr>
        <p:sp>
          <p:nvSpPr>
            <p:cNvPr id="290" name="未知"/>
            <p:cNvSpPr/>
            <p:nvPr/>
          </p:nvSpPr>
          <p:spPr>
            <a:xfrm>
              <a:off x="457200" y="649800"/>
              <a:ext cx="2362320" cy="47268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bbe0e3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6520" y="-24120"/>
              <a:ext cx="2299680" cy="1343160"/>
              <a:chOff x="416520" y="-24120"/>
              <a:chExt cx="2299680" cy="1343160"/>
            </a:xfrm>
          </p:grpSpPr>
          <p:sp>
            <p:nvSpPr>
              <p:cNvPr id="292" name="未知"/>
              <p:cNvSpPr/>
              <p:nvPr/>
            </p:nvSpPr>
            <p:spPr>
              <a:xfrm rot="158400">
                <a:off x="559800" y="119160"/>
                <a:ext cx="615960" cy="88632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765000" y="178200"/>
                <a:ext cx="615960" cy="82764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cc3300"/>
                  </a:gs>
                  <a:gs pos="100000">
                    <a:srgbClr val="333399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 rot="961200">
                <a:off x="559440" y="0"/>
                <a:ext cx="307800" cy="94572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cc66"/>
                  </a:gs>
                  <a:gs pos="100000">
                    <a:srgbClr val="009999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867600" y="1080"/>
                <a:ext cx="513360" cy="23616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508320" y="710280"/>
                <a:ext cx="410400" cy="531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9900"/>
                  </a:gs>
                  <a:gs pos="100000">
                    <a:srgbClr val="009999"/>
                  </a:gs>
                </a:gsLst>
                <a:lin ang="135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 rot="1629000">
                <a:off x="456840" y="1078560"/>
                <a:ext cx="156960" cy="21636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73160" y="60120"/>
                <a:ext cx="153720" cy="59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29840" y="56520"/>
                <a:ext cx="138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课堂小结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781360"/>
            <a:ext cx="2195640" cy="947160"/>
          </a:xfrm>
          <a:prstGeom prst="rect">
            <a:avLst/>
          </a:prstGeom>
          <a:noFill/>
          <a:ln w="38160">
            <a:solidFill>
              <a:srgbClr val="0a8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相反意义的两个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59280" y="1989000"/>
            <a:ext cx="5400360" cy="520560"/>
          </a:xfrm>
          <a:prstGeom prst="rect">
            <a:avLst/>
          </a:prstGeom>
          <a:noFill/>
          <a:ln w="38160">
            <a:solidFill>
              <a:srgbClr val="0a8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定其中一个为正    用正数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2000" y="2205000"/>
            <a:ext cx="43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56360" y="3141720"/>
            <a:ext cx="2160720" cy="520560"/>
          </a:xfrm>
          <a:prstGeom prst="rect">
            <a:avLst/>
          </a:prstGeom>
          <a:noFill/>
          <a:ln w="38160">
            <a:solidFill>
              <a:srgbClr val="0a8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界点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87640" y="4508640"/>
            <a:ext cx="2519280" cy="520560"/>
          </a:xfrm>
          <a:prstGeom prst="rect">
            <a:avLst/>
          </a:prstGeom>
          <a:noFill/>
          <a:ln w="38160">
            <a:solidFill>
              <a:srgbClr val="0a8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另一个为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88000" y="4508640"/>
            <a:ext cx="2016360" cy="520560"/>
          </a:xfrm>
          <a:prstGeom prst="rect">
            <a:avLst/>
          </a:prstGeom>
          <a:noFill/>
          <a:ln w="38160">
            <a:solidFill>
              <a:srgbClr val="0a8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负数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0000" y="472428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64360" y="2565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36000" y="3645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95640" y="328464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27280" y="234936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23493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27280" y="47973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正数的数一定是负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负数的数一定是正数”的说法对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7667640" y="5229360"/>
            <a:ext cx="12254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858000" y="304920"/>
            <a:ext cx="1828800" cy="14713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423880" y="334152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cc3300"/>
                </a:solidFill>
                <a:latin typeface="Verdana"/>
                <a:ea typeface="华文行楷"/>
              </a:rPr>
              <a:t>再见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10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50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53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3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3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10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4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4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68673" b="1897"/>
          <a:stretch/>
        </p:blipFill>
        <p:spPr>
          <a:xfrm>
            <a:off x="0" y="533520"/>
            <a:ext cx="2895480" cy="257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4920" y="32767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由计数、排序，产生数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31327" t="0" r="38551" b="-70"/>
          <a:stretch/>
        </p:blipFill>
        <p:spPr>
          <a:xfrm>
            <a:off x="2819520" y="457200"/>
            <a:ext cx="3276360" cy="2752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61449" t="4763" r="0" b="-70"/>
          <a:stretch/>
        </p:blipFill>
        <p:spPr>
          <a:xfrm>
            <a:off x="5867280" y="457200"/>
            <a:ext cx="3276720" cy="2765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8120" y="3505320"/>
            <a:ext cx="260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由表示“没有”“空位”，产生数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3352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由分物、测量，产生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24480" y="4267080"/>
            <a:ext cx="1295640" cy="1005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4920" y="5486400"/>
            <a:ext cx="83534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问题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: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那么在实际生活中仅有整数和分数够能满足实际的需要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809880" cy="3164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609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天气预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某天北京的温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~3°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它的确切含义是什么？这一天北京的温差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02920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天的最高温度是零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°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最低温度是零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°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温差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°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2 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 有三个队参加的足球比赛中</a:t>
            </a:r>
            <a:r>
              <a:rPr b="1" lang="en-US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红队胜黄队</a:t>
            </a:r>
            <a:r>
              <a:rPr b="1" lang="en-US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(4 :1)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，黄队胜蓝队</a:t>
            </a:r>
            <a:r>
              <a:rPr b="1" lang="en-US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(1 :0)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，蓝队胜红队</a:t>
            </a:r>
            <a:r>
              <a:rPr b="1" lang="en-US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(1 :0),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如何确定三个队的净胜球数与排名顺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1600200"/>
            <a:ext cx="3352680" cy="1219320"/>
          </a:xfrm>
          <a:prstGeom prst="cloudCallout">
            <a:avLst>
              <a:gd name="adj1" fmla="val 29120"/>
              <a:gd name="adj2" fmla="val 95703"/>
            </a:avLst>
          </a:prstGeom>
          <a:solidFill>
            <a:srgbClr val="66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净胜球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50292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华文行楷"/>
                <a:ea typeface="华文行楷"/>
              </a:rPr>
              <a:t>红队第一，蓝队第二，黄队第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2362320"/>
          <a:ext cx="7924680" cy="2057400"/>
        </p:xfrm>
        <a:graphic>
          <a:graphicData uri="http://schemas.openxmlformats.org/drawingml/2006/table">
            <a:tbl>
              <a:tblPr/>
              <a:tblGrid>
                <a:gridCol w="838080"/>
                <a:gridCol w="990720"/>
                <a:gridCol w="990720"/>
                <a:gridCol w="838080"/>
                <a:gridCol w="838080"/>
                <a:gridCol w="1067040"/>
                <a:gridCol w="1066680"/>
                <a:gridCol w="1295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红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黄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蓝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积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进球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失球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净胜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红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黄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蓝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733920" y="4572000"/>
            <a:ext cx="21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Arial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-298440"/>
            <a:ext cx="9296280" cy="730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2280" y="2743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数学采用符号来区分，只要在小学里学过的数前面加上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号，就把两个相反意义的量简明地表示出来了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914400"/>
            <a:ext cx="8763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上面的实例中出现了一种新数：－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－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们分别表示</a:t>
            </a:r>
            <a:r>
              <a:rPr b="1" lang="zh-CN" sz="3000" spc="-1" strike="noStrike">
                <a:solidFill>
                  <a:srgbClr val="cc0000"/>
                </a:solidFill>
                <a:latin typeface="华文行楷"/>
                <a:ea typeface="华文行楷"/>
              </a:rPr>
              <a:t>零下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摄氏度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净</a:t>
            </a:r>
            <a:r>
              <a:rPr b="1" lang="zh-CN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输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球，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别表示</a:t>
            </a:r>
            <a:r>
              <a:rPr b="1" lang="zh-CN" sz="3000" spc="-1" strike="noStrike">
                <a:solidFill>
                  <a:srgbClr val="cc0000"/>
                </a:solidFill>
                <a:latin typeface="华文行楷"/>
                <a:ea typeface="华文行楷"/>
              </a:rPr>
              <a:t>零上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摄氏度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净</a:t>
            </a:r>
            <a:r>
              <a:rPr b="1" lang="zh-CN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胜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球，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怎样区别相反意义的量才好呢？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4343400"/>
            <a:ext cx="960120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像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这样</a:t>
            </a:r>
            <a:r>
              <a:rPr b="1" lang="zh-CN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大于</a:t>
            </a:r>
            <a:r>
              <a:rPr b="1" lang="en-US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0</a:t>
            </a:r>
            <a:r>
              <a:rPr b="1" lang="zh-CN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的数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叫做</a:t>
            </a:r>
            <a:r>
              <a:rPr b="1" lang="zh-CN" sz="3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正数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像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样</a:t>
            </a:r>
            <a:r>
              <a:rPr b="1" lang="zh-CN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在正数前面加上负号“－” 的数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叫做</a:t>
            </a:r>
            <a:r>
              <a:rPr b="1" lang="zh-CN" sz="3000" spc="-1" strike="noStrike">
                <a:solidFill>
                  <a:srgbClr val="cc0000"/>
                </a:solidFill>
                <a:latin typeface="华文行楷"/>
                <a:ea typeface="华文行楷"/>
              </a:rPr>
              <a:t>负数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5486400"/>
            <a:ext cx="913464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需要有时在正数前面也加上“＋” 例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+3,+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,2,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28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探究新知   明晰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240" y="271440"/>
            <a:ext cx="8656560" cy="19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上面的几个例子可以看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我们常用正数和负数表示日常生活中具有相反意义量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零上为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零下就为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胜为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输就为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于为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小于就为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4200" y="2278080"/>
            <a:ext cx="870120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如果将收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计为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则支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应计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将高出海平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8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计为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8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，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海平面计为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8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减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计为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，则增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应计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向东计为正，则向西就计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50292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0" y="1523880"/>
            <a:ext cx="4114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在生活中，我们将海平面高度计为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米，根据右图的标识，你能说出我国的最高峰珠穆朗玛峰和吐鲁番盆地的海拔高度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-1593720" y="228600"/>
            <a:ext cx="822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0</a:t>
            </a:r>
            <a:r>
              <a:rPr b="1" lang="zh-CN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只表示没有吗</a:t>
            </a:r>
            <a:r>
              <a:rPr b="1" lang="en-US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962520"/>
            <a:ext cx="883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引入正负数后，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再简简单单的只表示没有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它具有丰富的意义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是正负数的基准。 </a:t>
            </a:r>
            <a:r>
              <a:rPr b="0" lang="en-US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既不正数，也不是负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240" y="5867280"/>
            <a:ext cx="9113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91440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罐中的金币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度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平面的高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准水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4:33:34Z</dcterms:created>
  <dc:creator/>
  <dc:description/>
  <cp:keywords/>
  <dc:language>en-US</dc:language>
  <cp:lastModifiedBy>微软用户</cp:lastModifiedBy>
  <dcterms:modified xsi:type="dcterms:W3CDTF">2013-09-05T01:39:05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NXTAG2">
    <vt:lpwstr>000800840e000000000001024120</vt:lpwstr>
  </property>
  <property fmtid="{D5CDD505-2E9C-101B-9397-08002B2CF9AE}" pid="4" name="Version">
    <vt:r8>1</vt:r8>
  </property>
</Properties>
</file>