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145-728A-4EE9-9B69-948E0145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07E-1317-4261-AE02-29EB560B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357-2049-4D7F-9F8D-5380CE82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8C1-AD77-4E42-94D4-CFC4D72C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FF78-7864-4994-838E-2CFB9CA8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A091-C9E6-4252-A645-56F4B166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82D2-1048-439E-903B-9396C7F6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C47D-7717-47B8-823D-78E05931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849C-0B95-461A-84AB-21E17C6A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BA5D-BD9F-4EF3-80BF-2A2CB51A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5A3C-DDEF-43DF-A5F2-E7104709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F89-20A2-425C-A055-F563F58D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5EB8-3FE5-4A9E-AEF7-C1DEB6AD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2686-A9F9-47F4-8826-EA1C7E3A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E414-59F9-4686-8500-4B92CE8A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D17C-FCCA-4605-AC84-608C1D0A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759C-552B-4DA3-9E59-1E5E5D44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6C5-E8BB-4531-9238-C21C96A2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6A2-F715-4D46-ADF9-E6BE745B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C8E-4525-443C-ADBA-3FAF0CBA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D80-4D2A-41E5-AE26-31B68202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6B0-FE88-4176-BDF9-9EFF704F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A95-701D-4A7B-805C-6A284D4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831-1C20-4873-B697-262B69DF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5B2A-6BF0-487A-8D6D-E9350B5ED45F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8D83-C013-4FB9-ABEF-73F81982ACE7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99"/>
            </a:gs>
            <a:gs pos="50000">
              <a:srgbClr val="ffffff"/>
            </a:gs>
            <a:gs pos="100000">
              <a:srgbClr val="99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32000" y="4365720"/>
            <a:ext cx="22957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.2.2</a:t>
            </a: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数轴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460440" y="2358000"/>
            <a:ext cx="546120" cy="17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第一章 有理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6120" y="112536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人教新课标 七年级上册 数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36880" y="2276640"/>
            <a:ext cx="281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Verdana"/>
              </a:rPr>
              <a:t>1.2</a:t>
            </a:r>
            <a:r>
              <a:rPr b="0" lang="zh-CN" sz="6000" spc="-1" strike="noStrike">
                <a:solidFill>
                  <a:srgbClr val="006666"/>
                </a:solidFill>
                <a:latin typeface="Verdana"/>
              </a:rPr>
              <a:t>有理数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4145040"/>
            <a:ext cx="7010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7695720" y="3992400"/>
            <a:ext cx="22860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695720" y="414504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422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22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422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221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40687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40687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406872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0687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4221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2.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2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267080" y="2544480"/>
            <a:ext cx="0" cy="15238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523880" y="2773440"/>
            <a:ext cx="0" cy="1295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010280" y="2773440"/>
            <a:ext cx="0" cy="1295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2697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2697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3154320"/>
            <a:ext cx="2743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3154320"/>
            <a:ext cx="2743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14600" y="3382560"/>
            <a:ext cx="0" cy="7621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19920" y="3382560"/>
            <a:ext cx="0" cy="7621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4600" y="3611520"/>
            <a:ext cx="17524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3611520"/>
            <a:ext cx="175284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3154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3154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0526600">
            <a:off x="866880" y="375840"/>
            <a:ext cx="32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zh-CN" sz="6600" spc="-1" strike="noStrike">
                <a:solidFill>
                  <a:srgbClr val="cc99ff"/>
                </a:solidFill>
                <a:latin typeface="Verdana"/>
              </a:rPr>
              <a:t>观  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1828800"/>
            <a:ext cx="77724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如果两个数只有符号不同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那么我们称其中一个数为另一个数的相反数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也称这两个数互为相反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比如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, 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的相反数是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-4 , -1/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的相反数是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1/4 , 4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和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-4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互为相反数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,-1/4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和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1/4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互为相反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562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Verdana"/>
              </a:rPr>
              <a:t>注意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:0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的相反数是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 flipV="1">
            <a:off x="7695720" y="3124080"/>
            <a:ext cx="22860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695720" y="327672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124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3124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124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3200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200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32004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3200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2286000"/>
            <a:ext cx="2743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2743200"/>
            <a:ext cx="17524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20526600">
            <a:off x="866880" y="375840"/>
            <a:ext cx="32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zh-CN" sz="6600" spc="-1" strike="noStrike">
                <a:solidFill>
                  <a:srgbClr val="cc99ff"/>
                </a:solidFill>
                <a:latin typeface="Verdana"/>
              </a:rPr>
              <a:t>观  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14400" y="1676160"/>
            <a:ext cx="7010280" cy="2257920"/>
            <a:chOff x="914400" y="1676160"/>
            <a:chExt cx="7010280" cy="2257920"/>
          </a:xfrm>
        </p:grpSpPr>
        <p:sp>
          <p:nvSpPr>
            <p:cNvPr id="242" name=""/>
            <p:cNvSpPr/>
            <p:nvPr/>
          </p:nvSpPr>
          <p:spPr>
            <a:xfrm>
              <a:off x="49528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244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12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954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96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914400" y="1676160"/>
              <a:ext cx="7010280" cy="2257920"/>
              <a:chOff x="914400" y="1676160"/>
              <a:chExt cx="7010280" cy="2257920"/>
            </a:xfrm>
          </p:grpSpPr>
          <p:sp>
            <p:nvSpPr>
              <p:cNvPr id="249" name=""/>
              <p:cNvSpPr/>
              <p:nvPr/>
            </p:nvSpPr>
            <p:spPr>
              <a:xfrm>
                <a:off x="914400" y="3276720"/>
                <a:ext cx="70102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38480" y="3352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0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24280" y="3352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1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19320" y="335268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-4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81080" y="33526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-2.5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62720" y="3352680"/>
                <a:ext cx="106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2.5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267080" y="1676160"/>
                <a:ext cx="0" cy="15238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523880" y="1905120"/>
                <a:ext cx="0" cy="12952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7010280" y="1905120"/>
                <a:ext cx="0" cy="12952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14600" y="1828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66"/>
                    </a:solidFill>
                    <a:latin typeface="Verdana"/>
                  </a:rPr>
                  <a:t>4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34120" y="18288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66"/>
                    </a:solidFill>
                    <a:latin typeface="Verdana"/>
                  </a:rPr>
                  <a:t>4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23880" y="2286000"/>
                <a:ext cx="274320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514600" y="2514240"/>
                <a:ext cx="0" cy="7621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6019920" y="2514240"/>
                <a:ext cx="0" cy="7621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67080" y="2743200"/>
                <a:ext cx="1752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71800" y="22860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66"/>
                    </a:solidFill>
                    <a:latin typeface="Verdana"/>
                  </a:rPr>
                  <a:t>2.5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48320" y="22860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66"/>
                    </a:solidFill>
                    <a:latin typeface="Verdana"/>
                  </a:rPr>
                  <a:t>2.5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41148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在数轴上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表示互为相反数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零除外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的两个数位于原点的两侧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并且到原点的距离相等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14400" y="3429000"/>
            <a:ext cx="7010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695720" y="327636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342900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505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3505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3505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19320" y="3505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3526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4360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2.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62720" y="3505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267080" y="1828440"/>
            <a:ext cx="0" cy="15238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523880" y="2057400"/>
            <a:ext cx="0" cy="1295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010280" y="2057400"/>
            <a:ext cx="0" cy="1295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2438280"/>
            <a:ext cx="2743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2438280"/>
            <a:ext cx="2743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514600" y="2666520"/>
            <a:ext cx="0" cy="7621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019920" y="2666520"/>
            <a:ext cx="0" cy="7621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4600" y="2895480"/>
            <a:ext cx="17524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2895480"/>
            <a:ext cx="175284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41911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例如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表示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-4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和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的点分别位于原点的左侧和右侧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到原点的距离都是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个单位长度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;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表示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-2.5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和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2.5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的点分别位于原点的左侧和右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609480"/>
            <a:ext cx="5105520" cy="10670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Verdana"/>
              </a:rPr>
              <a:t>练       习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51080" y="4851360"/>
            <a:ext cx="329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Verdana"/>
              </a:rPr>
              <a:t>（</a:t>
            </a:r>
            <a:r>
              <a:rPr b="0" lang="zh-CN" sz="32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Verdana"/>
              </a:rPr>
              <a:t>）写出三对非零相反数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349640" y="2249640"/>
            <a:ext cx="7300440" cy="2206800"/>
            <a:chOff x="1349640" y="2249640"/>
            <a:chExt cx="7300440" cy="2206800"/>
          </a:xfrm>
        </p:grpSpPr>
        <p:grpSp>
          <p:nvGrpSpPr>
            <p:cNvPr id="306" name=""/>
            <p:cNvGrpSpPr/>
            <p:nvPr/>
          </p:nvGrpSpPr>
          <p:grpSpPr>
            <a:xfrm>
              <a:off x="1349640" y="2249640"/>
              <a:ext cx="7300440" cy="2043720"/>
              <a:chOff x="1349640" y="2249640"/>
              <a:chExt cx="7300440" cy="2043720"/>
            </a:xfrm>
          </p:grpSpPr>
          <p:sp>
            <p:nvSpPr>
              <p:cNvPr id="307" name=""/>
              <p:cNvSpPr/>
              <p:nvPr/>
            </p:nvSpPr>
            <p:spPr>
              <a:xfrm>
                <a:off x="1349640" y="2249640"/>
                <a:ext cx="730044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（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1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）下面两个数是互为相反数的是（　　）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A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、－    与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0.2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　　   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B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、    与－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0.333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　　　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C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、－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2.25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与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2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　　　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D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、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π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与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3.14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1908000" y="2492280"/>
                <a:ext cx="504720" cy="1027440"/>
                <a:chOff x="1908000" y="2492280"/>
                <a:chExt cx="504720" cy="10274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974960" y="24922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1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954080" y="29383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2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908000" y="3012840"/>
                  <a:ext cx="50472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435640" y="2637000"/>
                <a:ext cx="504720" cy="1027080"/>
                <a:chOff x="5435640" y="2637000"/>
                <a:chExt cx="504720" cy="10270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502600" y="26370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1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481720" y="30826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3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435640" y="3157200"/>
                  <a:ext cx="50472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6" name=""/>
            <p:cNvGrpSpPr/>
            <p:nvPr/>
          </p:nvGrpSpPr>
          <p:grpSpPr>
            <a:xfrm>
              <a:off x="3492360" y="3429000"/>
              <a:ext cx="504720" cy="1027440"/>
              <a:chOff x="3492360" y="3429000"/>
              <a:chExt cx="504720" cy="1027440"/>
            </a:xfrm>
          </p:grpSpPr>
          <p:sp>
            <p:nvSpPr>
              <p:cNvPr id="317" name=""/>
              <p:cNvSpPr/>
              <p:nvPr/>
            </p:nvSpPr>
            <p:spPr>
              <a:xfrm>
                <a:off x="3559320" y="3429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Verdana"/>
                  </a:rPr>
                  <a:t>1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38440" y="3875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Verdana"/>
                  </a:rPr>
                  <a:t>4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2360" y="3949560"/>
                <a:ext cx="50472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7587720" y="208584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609480"/>
            <a:ext cx="5105520" cy="10670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Verdana"/>
              </a:rPr>
              <a:t>练       习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2133720"/>
            <a:ext cx="883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下面数轴上的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各点各代表什么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686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62120" y="19810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198108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33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如果数轴上的点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表示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-9/8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点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B 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表示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1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那么离原点较近的点是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33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离原点有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___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个单位长度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-6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离原点有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___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个单位长度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33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离原点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6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个单位的点是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_____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886200">
            <a:off x="5333760" y="533520"/>
            <a:ext cx="3429000" cy="1066680"/>
          </a:xfrm>
          <a:prstGeom prst="plus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想  一  想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267080" y="3200400"/>
            <a:ext cx="1143000" cy="106668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-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10080" y="3200400"/>
            <a:ext cx="1143000" cy="106668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3200400"/>
            <a:ext cx="1143000" cy="106668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6080" y="3200400"/>
            <a:ext cx="1143000" cy="106668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10080" y="2133720"/>
            <a:ext cx="1143000" cy="106668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96080" y="4267080"/>
            <a:ext cx="1143000" cy="106704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828800"/>
            <a:ext cx="396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这是一个正方形纸盒的展开图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若在其中的三个面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A,B,C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内分别填入适当的数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使它们折成正方体后相对的面上的两个数互为相反数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则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A=____,B=____,C=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886200">
            <a:off x="5333760" y="533520"/>
            <a:ext cx="3429000" cy="1066680"/>
          </a:xfrm>
          <a:prstGeom prst="plus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想  一  想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685800"/>
            <a:ext cx="3200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Verdana"/>
              </a:rPr>
              <a:t>作   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213372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(1)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预习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1.2.4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绝对值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(2)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书上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P14 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第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1—6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题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210960"/>
            <a:ext cx="7467480" cy="664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63868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3581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4495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1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1219320"/>
            <a:ext cx="7696440" cy="4800600"/>
            <a:chOff x="380880" y="1219320"/>
            <a:chExt cx="7696440" cy="4800600"/>
          </a:xfrm>
        </p:grpSpPr>
        <p:sp>
          <p:nvSpPr>
            <p:cNvPr id="103" name=""/>
            <p:cNvSpPr/>
            <p:nvPr/>
          </p:nvSpPr>
          <p:spPr>
            <a:xfrm flipV="1">
              <a:off x="5791320" y="3580920"/>
              <a:ext cx="990360" cy="838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648320" y="1752480"/>
              <a:ext cx="990360" cy="1905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72200" y="4495680"/>
              <a:ext cx="990720" cy="457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880" y="3809880"/>
              <a:ext cx="838440" cy="2210040"/>
            </a:xfrm>
            <a:prstGeom prst="ellipse">
              <a:avLst/>
            </a:prstGeom>
            <a:solidFill>
              <a:srgbClr val="f9f2d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想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一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想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4191120"/>
              <a:ext cx="2971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点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A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表示多少摄氏度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? 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点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B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呢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? 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点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C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呢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?  A,B,C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三点所表示的温度哪个高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? 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哪个低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?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62720" y="121932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A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81680" y="31240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B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40384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C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3992400"/>
            <a:ext cx="670536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343400" y="383976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992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971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Verdana"/>
              </a:rPr>
              <a:t>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467120" y="383976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467120" y="3992400"/>
            <a:ext cx="22860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133720"/>
            <a:ext cx="6858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2057400"/>
            <a:ext cx="0" cy="763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2057400"/>
            <a:ext cx="0" cy="763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1752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单位长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8401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8098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962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8098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3962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71800" y="38098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3962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90512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规定了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正方向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i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原点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和</a:t>
            </a:r>
            <a:r>
              <a:rPr b="1" i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单位长度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的直线叫做</a:t>
            </a:r>
            <a:r>
              <a:rPr b="1" i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数轴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通常称</a:t>
            </a:r>
            <a:r>
              <a:rPr b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正方向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原点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单位长度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为数轴的三要素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任意一个有理数都可以用数轴上的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点表示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838080" y="205740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54380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7619760" cy="838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880" y="380880"/>
            <a:ext cx="876312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是数轴的打“√”，不是数轴的打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×”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　 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526600">
            <a:off x="0" y="0"/>
            <a:ext cx="34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练习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1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600200"/>
            <a:ext cx="8839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对的打“√”，错的打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×”.</a:t>
            </a:r>
            <a:br>
              <a:rPr sz="3600"/>
            </a:br>
            <a:br>
              <a:rPr sz="3600"/>
            </a:b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规定正方向、单位长度的直线叫做数轴。　　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规定单位长度的直线叫做数轴。　　　　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规定正方向、原点、单位长度的直线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叫做数轴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526600">
            <a:off x="0" y="0"/>
            <a:ext cx="34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练习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2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182880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057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如图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数轴上点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A,B,C,D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分别表示什么数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419720"/>
            <a:ext cx="73152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695720" y="4267080"/>
            <a:ext cx="22860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695720" y="441972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4495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4495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3657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8954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895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3.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09480"/>
            <a:ext cx="182880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76080" y="4213080"/>
            <a:ext cx="637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200 , -150 , -50 , 100 , -100 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080" y="1905120"/>
            <a:ext cx="7848720" cy="2064600"/>
            <a:chOff x="838080" y="1905120"/>
            <a:chExt cx="7848720" cy="2064600"/>
          </a:xfrm>
        </p:grpSpPr>
        <p:sp>
          <p:nvSpPr>
            <p:cNvPr id="169" name=""/>
            <p:cNvSpPr/>
            <p:nvPr/>
          </p:nvSpPr>
          <p:spPr>
            <a:xfrm>
              <a:off x="838080" y="1905120"/>
              <a:ext cx="784872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在数轴上表示下列各数：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（</a:t>
              </a: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1</a:t>
              </a: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）</a:t>
              </a: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0.5 ,        , 0 , -4 ,      , 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        </a:t>
              </a: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-0.5 , 1 , 4 ;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3132000" y="2349360"/>
              <a:ext cx="938160" cy="1027440"/>
              <a:chOff x="3132000" y="2349360"/>
              <a:chExt cx="938160" cy="102744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565440" y="2349360"/>
                <a:ext cx="504720" cy="1027440"/>
                <a:chOff x="3565440" y="2349360"/>
                <a:chExt cx="504720" cy="1027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647520" y="23493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5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626640" y="2795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2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5440" y="2869920"/>
                  <a:ext cx="50472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3132000" y="2869920"/>
                <a:ext cx="28908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012000" y="2349360"/>
              <a:ext cx="504360" cy="1027440"/>
              <a:chOff x="6012000" y="2349360"/>
              <a:chExt cx="504360" cy="1027440"/>
            </a:xfrm>
          </p:grpSpPr>
          <p:sp>
            <p:nvSpPr>
              <p:cNvPr id="177" name=""/>
              <p:cNvSpPr/>
              <p:nvPr/>
            </p:nvSpPr>
            <p:spPr>
              <a:xfrm>
                <a:off x="6093360" y="2349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5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72480" y="2795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2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12000" y="2869920"/>
                <a:ext cx="50436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rot="20638200">
            <a:off x="685800" y="685800"/>
            <a:ext cx="2209680" cy="801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想一想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981080"/>
            <a:ext cx="7620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观察数轴，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-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与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有什么相同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与不同之处？它们在数轴上的位置有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什么关系？那么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-    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与     呢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-0.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与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0.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呢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724360" y="3429000"/>
            <a:ext cx="504720" cy="1027440"/>
            <a:chOff x="5724360" y="3429000"/>
            <a:chExt cx="504720" cy="1027440"/>
          </a:xfrm>
        </p:grpSpPr>
        <p:sp>
          <p:nvSpPr>
            <p:cNvPr id="183" name=""/>
            <p:cNvSpPr/>
            <p:nvPr/>
          </p:nvSpPr>
          <p:spPr>
            <a:xfrm>
              <a:off x="5806440" y="3429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85560" y="3875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2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24360" y="3949560"/>
              <a:ext cx="50472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572000" y="3429000"/>
            <a:ext cx="504720" cy="1027440"/>
            <a:chOff x="4572000" y="3429000"/>
            <a:chExt cx="504720" cy="1027440"/>
          </a:xfrm>
        </p:grpSpPr>
        <p:sp>
          <p:nvSpPr>
            <p:cNvPr id="187" name=""/>
            <p:cNvSpPr/>
            <p:nvPr/>
          </p:nvSpPr>
          <p:spPr>
            <a:xfrm>
              <a:off x="4654080" y="3429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33200" y="3875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2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0" y="3949560"/>
              <a:ext cx="50472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8:59:01Z</dcterms:created>
  <dc:creator/>
  <dc:description/>
  <dc:language>en-US</dc:language>
  <cp:lastModifiedBy>gyf</cp:lastModifiedBy>
  <dcterms:modified xsi:type="dcterms:W3CDTF">2013-12-12T09:54:27Z</dcterms:modified>
  <cp:revision>26</cp:revision>
  <dc:subject/>
  <dc:title>幻灯片 1</dc:title>
</cp:coreProperties>
</file>