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jpeg" ContentType="image/jpeg"/>
  <Override PartName="/ppt/media/image8.gif" ContentType="image/gif"/>
  <Override PartName="/ppt/media/image11.png" ContentType="image/png"/>
  <Override PartName="/ppt/media/image7.jpeg" ContentType="image/jpeg"/>
  <Override PartName="/ppt/media/chimes.wav" ContentType="audio/x-wav"/>
  <Override PartName="/ppt/media/image16.jpeg" ContentType="image/jpeg"/>
  <Override PartName="/ppt/media/projctor.wav" ContentType="audio/x-wav"/>
  <Override PartName="/ppt/media/image14.png" ContentType="image/png"/>
  <Override PartName="/ppt/media/image15.jpeg" ContentType="image/jpeg"/>
  <Override PartName="/ppt/media/image13.png" ContentType="image/png"/>
  <Override PartName="/ppt/media/image12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5121F-8B45-4E02-99EE-F4B100D2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0815E-C0A8-4808-A2D5-EB4613B6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A7335-C1C7-4843-B5E1-4D28A3A5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B574-A3A1-4D64-B18B-FE267D3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E9D7-0D5A-4073-9B5B-05C7E2BB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4168D-735C-4E17-99E9-8BA7DADB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003F9-8848-4082-AF62-CE7BF8C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BA5AD-C7E7-47EF-908A-F094C8C2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E8047-A713-460E-A77F-8D799A0F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CC0B4-1B2D-4209-A51C-0DA30F28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55A21-5C5D-401F-8CE2-3690D07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2B969-9214-43CA-82F1-6C358F89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4551F-7BA6-45C4-BAC0-53D8E158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9AF1F-23CD-43A5-8521-297600D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77186-63A9-4EC4-AA25-EE6F6F50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3B7BF-1350-4123-B8F8-C2F24F6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1A347-C29C-476D-A7B4-E2DE014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A4B26-9920-49E7-A15B-C7B36F8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4A763-EC30-46F1-9A95-BD9333A3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8B756-9D11-4E75-91A5-093E7FFC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8D40E-A3DD-4542-B58A-712AFBA2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86F-E33B-4D42-B626-08D647BB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98A-F9F2-427E-B8F6-71A63460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4F9-FB17-42EF-AAA5-FECB7DF9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F88-ADA0-484D-9DA1-EDD992B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BB2-6F33-4673-A36A-9B31E1D8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2DC-2490-48F9-82D4-D6169388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69D-4BAD-470E-865F-3C8A6267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277-7ABC-46DD-952C-4A7BF0D7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D96-646D-406D-AE0E-8FD6D373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209-6CDC-43B0-838F-6FF10D1B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D9A-B99A-4C56-AEA6-F9D0A36F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4AE-4436-42BF-97D7-83F19D7F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3C4E-ACDE-48AD-91F5-C6521B6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C69-0AB8-4ED4-96EC-A3CC4E80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1DF7-9BEB-4BEE-9AF1-1454035F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F2EB-5C61-4D2C-852E-A214D847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998A-4C79-4977-9E38-5105AB55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748C-802C-4834-BD25-5336065B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C9A9-B427-4D3A-B6D7-17470C8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892E-A305-4233-A706-1506ED5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1C8A-F971-44D2-9695-C9E6E84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34E-D2A3-4FFF-B33A-0B1E2E84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A812-8924-4A18-8ABB-4049BDB4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634A-008D-45CA-8D31-2A051581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651D-61B3-4141-9F99-288843F0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3179E-2C58-49AA-83BB-277D1836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DD52-6407-46D2-8C60-2B5FDFAF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7EFB-07A7-4139-86AC-4845F85C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CA5B-E3B4-487E-8690-B749F5BE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5F67-D25A-4D1C-9BC1-EA5544FE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ACC3-DD8C-445F-8B42-EC08C031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BF12-8C7F-4F7A-8F19-74495524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2C4F-CB13-410E-A8AB-829C9B3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D58A-F92D-4D26-A89A-C2F5ABA4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95E9-AF08-4A32-919B-BD6D3A9D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F029-2EA4-40F4-B138-33A81334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A838-F509-4201-A245-741DE680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E347A-86D5-4245-9280-0518A6F1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F1DB-9501-4D5D-A612-C5000F3E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4C41-D58C-45A0-AC19-7C514964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D107-EAE2-48C9-AC08-9F8EF8C2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2D72-5204-4CD3-9473-1FDA5A88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AF5BE-5917-4462-A571-74062C1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1D62-44B4-438A-80F8-5CA1AC9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E995-E2D6-49E6-9E9B-5400AB2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6C21-885C-4CA9-9933-E060FA7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10B5D-4F3A-408D-AA45-5AF84BEC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2CE1-227B-4BBF-9019-742F54BA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588B-4256-4D8B-894F-6AAE42DA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8BC72-B1AA-4415-AB32-A5814AF7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EBB9-2377-4043-9E5B-8BC8728C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69EB6-E836-4317-A6F5-8B1AC47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4A0F-54C3-497D-9508-B17D5FB3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BD59-E787-47B0-8109-05FAC0F7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40BE-6DA0-47D3-B90B-AADBECA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B102B-3540-401F-80E9-22B3F64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F826D-A2A2-4657-8D85-B278B05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2E07-00F2-4FC2-9529-7C15134D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DD21-7820-4E30-9018-70B3A26C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82F3-1715-466A-A3DA-526BBFF7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D08EF-43F9-4C9A-BA7C-468888B1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E24BB-29A5-4914-85CF-2B779802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2D85C-4A19-497E-B86F-95034DA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820FA-27D0-4176-8CDE-8E8F5BC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36F4-B631-4585-BE3C-8045054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42CF0-DEB8-43E4-B249-C32B0B9E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A5DD-5157-453E-9CBD-868B7C5A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A6D46-DD4F-48DA-9325-8A41975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65BF5-0B92-4B16-8617-4A8441B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FBF8-B4A4-48CF-B844-D0A507A2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6E53-0F20-49B3-9E7F-0F1C99B6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4765B-D6B2-4051-857A-E98FC94D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7984D-433D-4EAA-A633-F2AD3257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C8D58-7009-47AD-ABF2-2A74D43C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07932-873B-4F5E-A8C3-EBE6E646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E79E-1852-4AA2-92EE-76717A73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8E9DE-8B10-4473-BD9F-BC86A26D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52194-9E26-4920-AA6D-DB288E61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2BFC1-8F6B-49FC-BEAF-0108F054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D024-361F-47A8-ABC1-45EB3D21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06C51-E2F1-4B0A-B67D-4A9B717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5D0A-4C00-4A4A-8500-9C71BEF1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EE2FD-E513-44F7-B6FB-D86E58D6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0B61A-42D1-465B-9DCE-E760DD8B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983E2-5880-4923-B380-5923E267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9FDA6-A3D3-41D5-B673-52559FB6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BD787-D3E3-4771-8738-4E5D1F7C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7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A05C-3048-4C89-91EB-9CF63E809F8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6B23-0DBD-4731-9DDD-7795EB9EDE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F82B-DDBC-4BC8-848D-34F3D83CE98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5494-F091-47C5-B3B5-05555FE6E3A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845A-66A4-4A40-AD87-56B94405E08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2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286-4917-4DBF-8BE5-4D501860B34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60A0-4905-4FB0-8A82-D7A791B0A06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0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0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1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65A3-B256-4D74-80C3-789DABA3E33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D85-8C20-43EF-995B-B07FDFA5C93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1.xm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3.1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用字母表示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"/>
          <p:cNvGrpSpPr/>
          <p:nvPr/>
        </p:nvGrpSpPr>
        <p:grpSpPr>
          <a:xfrm>
            <a:off x="2484360" y="3141720"/>
            <a:ext cx="5532480" cy="901440"/>
            <a:chOff x="2484360" y="3141720"/>
            <a:chExt cx="5532480" cy="901440"/>
          </a:xfrm>
        </p:grpSpPr>
        <p:sp>
          <p:nvSpPr>
            <p:cNvPr id="658" name=""/>
            <p:cNvSpPr/>
            <p:nvPr/>
          </p:nvSpPr>
          <p:spPr>
            <a:xfrm rot="5400000">
              <a:off x="5171760" y="453960"/>
              <a:ext cx="157320" cy="5532480"/>
            </a:xfrm>
            <a:custGeom>
              <a:avLst/>
              <a:gdLst>
                <a:gd name="textAreaLeft" fmla="*/ 0 w 157320"/>
                <a:gd name="textAreaRight" fmla="*/ 56880 w 157320"/>
                <a:gd name="textAreaTop" fmla="*/ 144000 h 5532480"/>
                <a:gd name="textAreaBottom" fmla="*/ 5388480 h 553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271"/>
                  </a:lnTo>
                  <a:cubicBezTo>
                    <a:pt x="10800" y="9171"/>
                    <a:pt x="16200" y="10071"/>
                    <a:pt x="21600" y="10071"/>
                  </a:cubicBezTo>
                  <a:cubicBezTo>
                    <a:pt x="16200" y="10071"/>
                    <a:pt x="10800" y="10971"/>
                    <a:pt x="10800" y="1187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26640" y="3400560"/>
              <a:ext cx="124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X-1</a:t>
              </a:r>
              <a:r>
                <a:rPr b="0" lang="zh-CN" sz="36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">
            <a:hlinkClick r:id="rId1" action="ppaction://hlinksldjump"/>
          </p:cNvPr>
          <p:cNvSpPr/>
          <p:nvPr/>
        </p:nvSpPr>
        <p:spPr>
          <a:xfrm>
            <a:off x="2906280" y="4313160"/>
            <a:ext cx="25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4+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X-1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395280" y="1413000"/>
          <a:ext cx="7993080" cy="14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799308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"/>
          <p:cNvSpPr/>
          <p:nvPr/>
        </p:nvSpPr>
        <p:spPr>
          <a:xfrm>
            <a:off x="1258920" y="593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1114560" y="719280"/>
            <a:ext cx="5962680" cy="763560"/>
            <a:chOff x="1114560" y="719280"/>
            <a:chExt cx="5962680" cy="763560"/>
          </a:xfrm>
        </p:grpSpPr>
        <p:sp>
          <p:nvSpPr>
            <p:cNvPr id="665" name=""/>
            <p:cNvSpPr/>
            <p:nvPr/>
          </p:nvSpPr>
          <p:spPr>
            <a:xfrm rot="16200000">
              <a:off x="3952080" y="-1641960"/>
              <a:ext cx="287280" cy="59626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55160 h 5962680"/>
                <a:gd name="textAreaBottom" fmla="*/ 5807520 h 596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81440" y="719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187280" y="3284640"/>
            <a:ext cx="6120000" cy="723960"/>
            <a:chOff x="1187280" y="3284640"/>
            <a:chExt cx="6120000" cy="723960"/>
          </a:xfrm>
        </p:grpSpPr>
        <p:sp>
          <p:nvSpPr>
            <p:cNvPr id="668" name=""/>
            <p:cNvSpPr/>
            <p:nvPr/>
          </p:nvSpPr>
          <p:spPr>
            <a:xfrm rot="5400000">
              <a:off x="4211640" y="259920"/>
              <a:ext cx="71280" cy="612000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59480 h 6120000"/>
                <a:gd name="textAreaBottom" fmla="*/ 5960520 h 612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24000" y="3427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ff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0" name="">
            <a:hlinkClick r:id="rId1" action="ppaction://hlinksldjump"/>
          </p:cNvPr>
          <p:cNvSpPr/>
          <p:nvPr/>
        </p:nvSpPr>
        <p:spPr>
          <a:xfrm>
            <a:off x="2661480" y="4638600"/>
            <a:ext cx="32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X+X+</a:t>
            </a:r>
            <a:r>
              <a:rPr b="0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X+1</a:t>
            </a:r>
            <a:r>
              <a:rPr b="0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755640" y="1557360"/>
          <a:ext cx="66978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557360"/>
                    <a:ext cx="66978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1258920" y="593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1116000" y="3645000"/>
            <a:ext cx="6624720" cy="1084680"/>
            <a:chOff x="1116000" y="3645000"/>
            <a:chExt cx="6624720" cy="1084680"/>
          </a:xfrm>
        </p:grpSpPr>
        <p:sp>
          <p:nvSpPr>
            <p:cNvPr id="675" name=""/>
            <p:cNvSpPr/>
            <p:nvPr/>
          </p:nvSpPr>
          <p:spPr>
            <a:xfrm rot="5400000">
              <a:off x="4212360" y="548280"/>
              <a:ext cx="431640" cy="66247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172440 h 6624720"/>
                <a:gd name="textAreaBottom" fmla="*/ 6452280 h 66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29840" y="4148280"/>
              <a:ext cx="81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ff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6600ff"/>
                  </a:solidFill>
                  <a:latin typeface="Times New Roman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700360" y="836640"/>
            <a:ext cx="5254560" cy="1079640"/>
            <a:chOff x="2700360" y="836640"/>
            <a:chExt cx="5254560" cy="1079640"/>
          </a:xfrm>
        </p:grpSpPr>
        <p:sp>
          <p:nvSpPr>
            <p:cNvPr id="678" name=""/>
            <p:cNvSpPr/>
            <p:nvPr/>
          </p:nvSpPr>
          <p:spPr>
            <a:xfrm rot="16200000">
              <a:off x="5076000" y="-962280"/>
              <a:ext cx="503280" cy="525456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136800 h 5254560"/>
                <a:gd name="textAreaBottom" fmla="*/ 5117760 h 525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1440" y="836640"/>
              <a:ext cx="127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ff"/>
                  </a:solidFill>
                  <a:latin typeface="Times New Roman"/>
                </a:rPr>
                <a:t>X-1</a:t>
              </a:r>
              <a:r>
                <a:rPr b="0" lang="zh-CN" sz="3600" spc="-1" strike="noStrike">
                  <a:solidFill>
                    <a:srgbClr val="6600ff"/>
                  </a:solidFill>
                  <a:latin typeface="Times New Roman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0" name="">
            <a:hlinkClick r:id="rId1" action="ppaction://hlinksldjump"/>
          </p:cNvPr>
          <p:cNvSpPr/>
          <p:nvPr/>
        </p:nvSpPr>
        <p:spPr>
          <a:xfrm>
            <a:off x="2647080" y="5157720"/>
            <a:ext cx="24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Times New Roman"/>
              </a:rPr>
              <a:t>4X-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6600ff"/>
                </a:solidFill>
                <a:latin typeface="Times New Roman"/>
              </a:rPr>
              <a:t>X-1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52280" y="2133720"/>
          <a:ext cx="8244000" cy="16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133720"/>
                    <a:ext cx="8244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1258920" y="593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448920" cy="70498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755640" y="1125360"/>
            <a:ext cx="756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搭建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个正方形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你能用简单巧妙的方法快速准确的求得所需要根数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0"/>
            <a:ext cx="37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00ff"/>
                </a:solidFill>
                <a:latin typeface="Times New Roman"/>
                <a:ea typeface="隶书"/>
              </a:rPr>
              <a:t>算一算</a:t>
            </a: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/>
          <p:nvPr/>
        </p:nvSpPr>
        <p:spPr>
          <a:xfrm>
            <a:off x="1258920" y="593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260000" y="2854440"/>
            <a:ext cx="18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/>
          <p:nvPr/>
        </p:nvSpPr>
        <p:spPr>
          <a:xfrm>
            <a:off x="1189080" y="38624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484000" y="2782800"/>
            <a:ext cx="18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/>
          <p:nvPr/>
        </p:nvSpPr>
        <p:spPr>
          <a:xfrm>
            <a:off x="1332000" y="2711520"/>
            <a:ext cx="1079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"/>
          <p:cNvSpPr/>
          <p:nvPr/>
        </p:nvSpPr>
        <p:spPr>
          <a:xfrm>
            <a:off x="1189080" y="26384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1332000" y="39355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/>
          <p:nvPr/>
        </p:nvSpPr>
        <p:spPr>
          <a:xfrm>
            <a:off x="2413080" y="37908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/>
          <p:nvPr/>
        </p:nvSpPr>
        <p:spPr>
          <a:xfrm>
            <a:off x="1476360" y="4006800"/>
            <a:ext cx="1079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292720" y="2781360"/>
            <a:ext cx="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/>
          <p:nvPr/>
        </p:nvSpPr>
        <p:spPr>
          <a:xfrm>
            <a:off x="4140360" y="2709720"/>
            <a:ext cx="1079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/>
          <p:nvPr/>
        </p:nvSpPr>
        <p:spPr>
          <a:xfrm>
            <a:off x="3997440" y="263700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/>
          <p:nvPr/>
        </p:nvSpPr>
        <p:spPr>
          <a:xfrm>
            <a:off x="3995640" y="3933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/>
          <p:nvPr/>
        </p:nvSpPr>
        <p:spPr>
          <a:xfrm>
            <a:off x="521964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"/>
          <p:cNvSpPr/>
          <p:nvPr/>
        </p:nvSpPr>
        <p:spPr>
          <a:xfrm>
            <a:off x="4140360" y="4005360"/>
            <a:ext cx="1079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/>
          <p:nvPr/>
        </p:nvSpPr>
        <p:spPr>
          <a:xfrm>
            <a:off x="388620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2709720"/>
            <a:ext cx="1079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/>
          <p:nvPr/>
        </p:nvSpPr>
        <p:spPr>
          <a:xfrm>
            <a:off x="2629080" y="2637000"/>
            <a:ext cx="1425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/>
          <p:nvPr/>
        </p:nvSpPr>
        <p:spPr>
          <a:xfrm>
            <a:off x="2627280" y="3933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/>
          <p:nvPr/>
        </p:nvSpPr>
        <p:spPr>
          <a:xfrm>
            <a:off x="385272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/>
          <p:nvPr/>
        </p:nvSpPr>
        <p:spPr>
          <a:xfrm>
            <a:off x="2771640" y="4005360"/>
            <a:ext cx="1079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6589800" y="2924280"/>
            <a:ext cx="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/>
          <p:nvPr/>
        </p:nvSpPr>
        <p:spPr>
          <a:xfrm>
            <a:off x="6518160" y="3932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813800" y="2852640"/>
            <a:ext cx="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/>
          <p:nvPr/>
        </p:nvSpPr>
        <p:spPr>
          <a:xfrm>
            <a:off x="6661080" y="2781360"/>
            <a:ext cx="1079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/>
          <p:nvPr/>
        </p:nvSpPr>
        <p:spPr>
          <a:xfrm>
            <a:off x="6589800" y="2708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/>
          <p:nvPr/>
        </p:nvSpPr>
        <p:spPr>
          <a:xfrm>
            <a:off x="66610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/>
          <p:nvPr/>
        </p:nvSpPr>
        <p:spPr>
          <a:xfrm>
            <a:off x="7742160" y="3860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/>
          <p:nvPr/>
        </p:nvSpPr>
        <p:spPr>
          <a:xfrm>
            <a:off x="6805440" y="4076640"/>
            <a:ext cx="1079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/>
          <p:nvPr/>
        </p:nvSpPr>
        <p:spPr>
          <a:xfrm>
            <a:off x="5221440" y="28544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333440" y="4436640"/>
            <a:ext cx="6337080" cy="996840"/>
            <a:chOff x="1333440" y="4436640"/>
            <a:chExt cx="6337080" cy="996840"/>
          </a:xfrm>
        </p:grpSpPr>
        <p:sp>
          <p:nvSpPr>
            <p:cNvPr id="718" name=""/>
            <p:cNvSpPr/>
            <p:nvPr/>
          </p:nvSpPr>
          <p:spPr>
            <a:xfrm rot="16200000">
              <a:off x="4321800" y="1448280"/>
              <a:ext cx="360360" cy="63370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65240 h 6337080"/>
                <a:gd name="textAreaBottom" fmla="*/ 6171840 h 633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99"/>
                  </a:lnTo>
                  <a:cubicBezTo>
                    <a:pt x="10800" y="9799"/>
                    <a:pt x="5400" y="10699"/>
                    <a:pt x="0" y="10699"/>
                  </a:cubicBezTo>
                  <a:cubicBezTo>
                    <a:pt x="5400" y="10699"/>
                    <a:pt x="10800" y="11599"/>
                    <a:pt x="10800" y="124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44640" y="4790880"/>
              <a:ext cx="147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ff"/>
                  </a:solidFill>
                  <a:latin typeface="Times New Roman"/>
                </a:rPr>
                <a:t>2008</a:t>
              </a:r>
              <a:r>
                <a:rPr b="0" lang="zh-CN" sz="3600" spc="-1" strike="noStrike">
                  <a:solidFill>
                    <a:srgbClr val="6600ff"/>
                  </a:solidFill>
                  <a:latin typeface="Times New Roman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448920" cy="6840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3505320" y="1371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用字母表示数的优越性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"/>
          <p:cNvSpPr/>
          <p:nvPr/>
        </p:nvSpPr>
        <p:spPr>
          <a:xfrm>
            <a:off x="611280" y="83664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00ff"/>
                </a:solidFill>
                <a:latin typeface="Times New Roman"/>
                <a:ea typeface="隶书"/>
              </a:rPr>
              <a:t>讨论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/>
          <p:nvPr/>
        </p:nvSpPr>
        <p:spPr>
          <a:xfrm>
            <a:off x="1258920" y="593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/>
          <p:nvPr/>
        </p:nvSpPr>
        <p:spPr>
          <a:xfrm>
            <a:off x="762120" y="2666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能更加简明的表示数量、数量之间的关系，更具有普遍意义（一般性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/>
          <p:nvPr/>
        </p:nvSpPr>
        <p:spPr>
          <a:xfrm>
            <a:off x="990720" y="4419720"/>
            <a:ext cx="65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节课你有哪些收获或困惑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 rot="21318000">
            <a:off x="5076360" y="3933720"/>
            <a:ext cx="3114720" cy="17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726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68360" y="260280"/>
            <a:ext cx="7012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数青蛙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张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__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眼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__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条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扑通一声跳下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青蛙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张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眼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条腿，扑通、扑通跳下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青蛙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张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眼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条腿，扑通、扑通、扑通跳下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5105520"/>
            <a:ext cx="7162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青蛙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张嘴，  只眼睛，   条腿，扑通、扑通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跳下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50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510552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2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5029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/>
          <p:nvPr/>
        </p:nvSpPr>
        <p:spPr>
          <a:xfrm>
            <a:off x="2053080" y="90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/>
          <p:nvPr/>
        </p:nvSpPr>
        <p:spPr>
          <a:xfrm>
            <a:off x="3419640" y="90792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2050920" y="3043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5076720" y="9079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168720" y="1989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788000" y="1989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3640" y="306864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391520" y="3657600"/>
            <a:ext cx="1523880" cy="11844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979640" y="19638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/>
          <p:nvPr/>
        </p:nvSpPr>
        <p:spPr>
          <a:xfrm>
            <a:off x="4643280" y="306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467480" y="5778360"/>
            <a:ext cx="1524240" cy="1079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7391520" y="1905120"/>
            <a:ext cx="1523880" cy="1077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1680" y="237960"/>
            <a:ext cx="7434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ffff"/>
                </a:solidFill>
                <a:latin typeface="Arial"/>
                <a:ea typeface="隶书"/>
              </a:rPr>
              <a:t>来自生活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000" y="2198160"/>
            <a:ext cx="82803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44200" y="2708280"/>
            <a:ext cx="18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+28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/>
          <p:nvPr/>
        </p:nvSpPr>
        <p:spPr>
          <a:xfrm>
            <a:off x="4956480" y="3860640"/>
            <a:ext cx="23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p+6q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2209680"/>
            <a:ext cx="815328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父亲的年龄比儿子大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儿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岁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亲的年龄为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设奶粉每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橘子每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则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斤奶粉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斤橘子共需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228600" y="380880"/>
            <a:ext cx="2666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起探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1" name=""/>
          <p:cNvSpPr/>
          <p:nvPr/>
        </p:nvSpPr>
        <p:spPr>
          <a:xfrm>
            <a:off x="755640" y="198900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如果圆的半径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么这个圆的周长为          厘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积是          平方厘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型号计算机的原价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在下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调后的价格是              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整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么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邻的两个整数的和可以表示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/>
          <p:nvPr/>
        </p:nvSpPr>
        <p:spPr>
          <a:xfrm>
            <a:off x="213372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6858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cc33"/>
                </a:solidFill>
                <a:latin typeface="宋体"/>
              </a:rPr>
              <a:t>π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/>
          <p:nvPr/>
        </p:nvSpPr>
        <p:spPr>
          <a:xfrm>
            <a:off x="5076720" y="4365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(m-2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56386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(m-1)+(m+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200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宋体"/>
              </a:rPr>
              <a:t>πa</a:t>
            </a:r>
            <a:r>
              <a:rPr b="0" lang="en-US" sz="3600" spc="-1" strike="noStrike" baseline="30000">
                <a:solidFill>
                  <a:srgbClr val="33cc33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长方形的长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米，宽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米，则长方形的面积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平方米，周长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小明每小时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千米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时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千米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钟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千米，ｔ小时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千米；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的倒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相反数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5003640" y="44280"/>
            <a:ext cx="2808360" cy="1295640"/>
          </a:xfrm>
          <a:prstGeom prst="cloudCallout">
            <a:avLst>
              <a:gd name="adj1" fmla="val -45532"/>
              <a:gd name="adj2" fmla="val 5894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/>
          <p:nvPr/>
        </p:nvSpPr>
        <p:spPr>
          <a:xfrm>
            <a:off x="5760360" y="26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动动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1981440" y="206676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/>
          <p:nvPr/>
        </p:nvSpPr>
        <p:spPr>
          <a:xfrm>
            <a:off x="5726880" y="2066760"/>
            <a:ext cx="18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a+6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/>
          <p:nvPr/>
        </p:nvSpPr>
        <p:spPr>
          <a:xfrm>
            <a:off x="6757920" y="26431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.5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/>
          <p:nvPr/>
        </p:nvSpPr>
        <p:spPr>
          <a:xfrm>
            <a:off x="3060720" y="314784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0.6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/>
          <p:nvPr/>
        </p:nvSpPr>
        <p:spPr>
          <a:xfrm>
            <a:off x="7453800" y="31478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/>
          <p:nvPr/>
        </p:nvSpPr>
        <p:spPr>
          <a:xfrm>
            <a:off x="4870800" y="4221000"/>
            <a:ext cx="3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/>
          <p:nvPr/>
        </p:nvSpPr>
        <p:spPr>
          <a:xfrm>
            <a:off x="4871520" y="4221000"/>
            <a:ext cx="3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/>
          <p:nvPr/>
        </p:nvSpPr>
        <p:spPr>
          <a:xfrm>
            <a:off x="4872960" y="4508640"/>
            <a:ext cx="33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/>
          <p:nvPr/>
        </p:nvSpPr>
        <p:spPr>
          <a:xfrm>
            <a:off x="1573200" y="5010120"/>
            <a:ext cx="45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ff3300"/>
                </a:solidFill>
                <a:latin typeface="Times New Roman"/>
              </a:rPr>
              <a:t>-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5640" y="152280"/>
            <a:ext cx="57913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600ff"/>
                </a:solidFill>
                <a:latin typeface="Arial"/>
              </a:rPr>
              <a:t>用火柴棒搭如图示正方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91320" y="213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/>
          <p:nvPr/>
        </p:nvSpPr>
        <p:spPr>
          <a:xfrm>
            <a:off x="5508720" y="285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+3=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/>
          <p:nvPr/>
        </p:nvSpPr>
        <p:spPr>
          <a:xfrm>
            <a:off x="5435640" y="35733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+3+3=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/>
          <p:nvPr/>
        </p:nvSpPr>
        <p:spPr>
          <a:xfrm>
            <a:off x="2057400" y="22096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搭一个正方形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火柴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/>
          <p:nvPr/>
        </p:nvSpPr>
        <p:spPr>
          <a:xfrm>
            <a:off x="2057400" y="28954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搭二个正方形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火柴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/>
          <p:nvPr/>
        </p:nvSpPr>
        <p:spPr>
          <a:xfrm>
            <a:off x="2050920" y="364500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搭三个正方形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火柴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/>
          <p:nvPr/>
        </p:nvSpPr>
        <p:spPr>
          <a:xfrm>
            <a:off x="2124000" y="4724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 按上图的方式，每增加一个正方形需增加多少根火柴棒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2195640" y="4365720"/>
            <a:ext cx="731880" cy="74268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258920" y="593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231840" y="979560"/>
            <a:ext cx="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/>
          <p:nvPr/>
        </p:nvSpPr>
        <p:spPr>
          <a:xfrm>
            <a:off x="152280" y="19051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1455840" y="907920"/>
            <a:ext cx="144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838080"/>
            <a:ext cx="1079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/>
          <p:nvPr/>
        </p:nvSpPr>
        <p:spPr>
          <a:xfrm>
            <a:off x="152280" y="7621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/>
          <p:nvPr/>
        </p:nvSpPr>
        <p:spPr>
          <a:xfrm>
            <a:off x="303120" y="2060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/>
          <p:nvPr/>
        </p:nvSpPr>
        <p:spPr>
          <a:xfrm>
            <a:off x="1384200" y="191628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447840" y="2131920"/>
            <a:ext cx="1079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264200" y="906480"/>
            <a:ext cx="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/>
          <p:nvPr/>
        </p:nvSpPr>
        <p:spPr>
          <a:xfrm>
            <a:off x="3111480" y="835200"/>
            <a:ext cx="1079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/>
          <p:nvPr/>
        </p:nvSpPr>
        <p:spPr>
          <a:xfrm>
            <a:off x="2968560" y="7621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/>
          <p:nvPr/>
        </p:nvSpPr>
        <p:spPr>
          <a:xfrm>
            <a:off x="2967120" y="20588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/>
          <p:nvPr/>
        </p:nvSpPr>
        <p:spPr>
          <a:xfrm>
            <a:off x="4191120" y="19144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/>
          <p:nvPr/>
        </p:nvSpPr>
        <p:spPr>
          <a:xfrm>
            <a:off x="3111480" y="2130480"/>
            <a:ext cx="1079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895120" y="906480"/>
            <a:ext cx="180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/>
          <p:nvPr/>
        </p:nvSpPr>
        <p:spPr>
          <a:xfrm>
            <a:off x="1743120" y="835200"/>
            <a:ext cx="1079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/>
          <p:nvPr/>
        </p:nvSpPr>
        <p:spPr>
          <a:xfrm>
            <a:off x="1600200" y="7621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/>
          <p:nvPr/>
        </p:nvSpPr>
        <p:spPr>
          <a:xfrm>
            <a:off x="1598760" y="205884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/>
          <p:nvPr/>
        </p:nvSpPr>
        <p:spPr>
          <a:xfrm>
            <a:off x="2824200" y="19144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/>
          <p:nvPr/>
        </p:nvSpPr>
        <p:spPr>
          <a:xfrm>
            <a:off x="1743120" y="2130480"/>
            <a:ext cx="1079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95" name=""/>
          <p:cNvSpPr/>
          <p:nvPr/>
        </p:nvSpPr>
        <p:spPr>
          <a:xfrm>
            <a:off x="5292720" y="981000"/>
            <a:ext cx="2735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回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ccff99"/>
                </a:solidFill>
                <a:latin typeface="Times New Roman"/>
              </a:rPr>
              <a:t>按上图的方式，每增加一个正方形需增加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___</a:t>
            </a:r>
            <a:r>
              <a:rPr b="0" lang="zh-CN" sz="3200" spc="-1" strike="noStrike">
                <a:solidFill>
                  <a:srgbClr val="ccff99"/>
                </a:solidFill>
                <a:latin typeface="Times New Roman"/>
              </a:rPr>
              <a:t>根火柴棒，搭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ccff99"/>
                </a:solidFill>
                <a:latin typeface="Times New Roman"/>
              </a:rPr>
              <a:t>个这样的正方形需要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____</a:t>
            </a:r>
            <a:r>
              <a:rPr b="0" lang="zh-CN" sz="3200" spc="-1" strike="noStrike">
                <a:solidFill>
                  <a:srgbClr val="ccff99"/>
                </a:solidFill>
                <a:latin typeface="Times New Roman"/>
              </a:rPr>
              <a:t>根火柴棒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476280" y="41720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637236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724280" y="59436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6300720" y="3284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55640" y="549360"/>
            <a:ext cx="144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/>
          <p:nvPr/>
        </p:nvSpPr>
        <p:spPr>
          <a:xfrm>
            <a:off x="684360" y="155736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79640" y="477720"/>
            <a:ext cx="1440" cy="100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/>
          <p:nvPr/>
        </p:nvSpPr>
        <p:spPr>
          <a:xfrm>
            <a:off x="826920" y="406440"/>
            <a:ext cx="107964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/>
          <p:nvPr/>
        </p:nvSpPr>
        <p:spPr>
          <a:xfrm>
            <a:off x="684360" y="33336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/>
          <p:nvPr/>
        </p:nvSpPr>
        <p:spPr>
          <a:xfrm>
            <a:off x="826920" y="16304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/>
          <p:nvPr/>
        </p:nvSpPr>
        <p:spPr>
          <a:xfrm>
            <a:off x="1908000" y="148608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1701720"/>
            <a:ext cx="107928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347640" y="2060640"/>
            <a:ext cx="180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/>
          <p:nvPr/>
        </p:nvSpPr>
        <p:spPr>
          <a:xfrm>
            <a:off x="2195640" y="1989000"/>
            <a:ext cx="107928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/>
          <p:nvPr/>
        </p:nvSpPr>
        <p:spPr>
          <a:xfrm>
            <a:off x="2052720" y="191628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/>
          <p:nvPr/>
        </p:nvSpPr>
        <p:spPr>
          <a:xfrm>
            <a:off x="2057400" y="32004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/>
          <p:nvPr/>
        </p:nvSpPr>
        <p:spPr>
          <a:xfrm>
            <a:off x="327492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3276720"/>
            <a:ext cx="107964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55640" y="2131920"/>
            <a:ext cx="144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684360" y="31399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979640" y="2060640"/>
            <a:ext cx="144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/>
          <p:nvPr/>
        </p:nvSpPr>
        <p:spPr>
          <a:xfrm>
            <a:off x="826920" y="1989000"/>
            <a:ext cx="107964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/>
          <p:nvPr/>
        </p:nvSpPr>
        <p:spPr>
          <a:xfrm>
            <a:off x="684360" y="1916280"/>
            <a:ext cx="1425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3213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/>
          <p:nvPr/>
        </p:nvSpPr>
        <p:spPr>
          <a:xfrm>
            <a:off x="1908000" y="3068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/>
          <p:nvPr/>
        </p:nvSpPr>
        <p:spPr>
          <a:xfrm>
            <a:off x="971640" y="3284640"/>
            <a:ext cx="107928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/>
          <p:nvPr/>
        </p:nvSpPr>
        <p:spPr>
          <a:xfrm>
            <a:off x="2195640" y="3862440"/>
            <a:ext cx="107928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205272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/>
          <p:nvPr/>
        </p:nvSpPr>
        <p:spPr>
          <a:xfrm>
            <a:off x="2195640" y="50864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/>
          <p:nvPr/>
        </p:nvSpPr>
        <p:spPr>
          <a:xfrm>
            <a:off x="2340000" y="5157720"/>
            <a:ext cx="107964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55640" y="4005360"/>
            <a:ext cx="144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/>
          <p:nvPr/>
        </p:nvSpPr>
        <p:spPr>
          <a:xfrm>
            <a:off x="684360" y="501336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979640" y="3933720"/>
            <a:ext cx="144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/>
          <p:nvPr/>
        </p:nvSpPr>
        <p:spPr>
          <a:xfrm>
            <a:off x="826920" y="3862440"/>
            <a:ext cx="107964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378936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/>
          <p:nvPr/>
        </p:nvSpPr>
        <p:spPr>
          <a:xfrm>
            <a:off x="826920" y="50864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/>
          <p:nvPr/>
        </p:nvSpPr>
        <p:spPr>
          <a:xfrm>
            <a:off x="1908000" y="4941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/>
          <p:nvPr/>
        </p:nvSpPr>
        <p:spPr>
          <a:xfrm>
            <a:off x="971640" y="5157720"/>
            <a:ext cx="107928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419640" y="4005360"/>
            <a:ext cx="144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/>
          <p:nvPr/>
        </p:nvSpPr>
        <p:spPr>
          <a:xfrm>
            <a:off x="3348000" y="5013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642920" y="3933720"/>
            <a:ext cx="180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/>
          <p:nvPr/>
        </p:nvSpPr>
        <p:spPr>
          <a:xfrm>
            <a:off x="3490920" y="3862440"/>
            <a:ext cx="107964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/>
          <p:nvPr/>
        </p:nvSpPr>
        <p:spPr>
          <a:xfrm>
            <a:off x="334800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/>
          <p:nvPr/>
        </p:nvSpPr>
        <p:spPr>
          <a:xfrm>
            <a:off x="3490920" y="50864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0" y="4941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/>
          <p:nvPr/>
        </p:nvSpPr>
        <p:spPr>
          <a:xfrm>
            <a:off x="3635280" y="5157720"/>
            <a:ext cx="107964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/>
          <p:nvPr/>
        </p:nvSpPr>
        <p:spPr>
          <a:xfrm>
            <a:off x="1258920" y="593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677520" cy="722124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826920" y="62064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思考讨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1916280"/>
            <a:ext cx="928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搭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正方形需要多少根火柴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"/>
          <p:cNvSpPr/>
          <p:nvPr/>
        </p:nvSpPr>
        <p:spPr>
          <a:xfrm>
            <a:off x="7956720" y="198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3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>
            <a:hlinkClick r:id="rId2" action="ppaction://hlinksldjump"/>
          </p:cNvPr>
          <p:cNvSpPr/>
          <p:nvPr/>
        </p:nvSpPr>
        <p:spPr>
          <a:xfrm>
            <a:off x="539640" y="2708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所搭正方形的个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么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这样的正方形需要多少根火柴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/>
          <p:nvPr/>
        </p:nvSpPr>
        <p:spPr>
          <a:xfrm>
            <a:off x="539640" y="3933720"/>
            <a:ext cx="74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的计算方法有几种？是否还有其它计算方法？小组讨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/>
          <p:nvPr/>
        </p:nvSpPr>
        <p:spPr>
          <a:xfrm>
            <a:off x="1258920" y="593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1403280" y="3284280"/>
            <a:ext cx="6337080" cy="996840"/>
            <a:chOff x="1403280" y="3284280"/>
            <a:chExt cx="6337080" cy="996840"/>
          </a:xfrm>
        </p:grpSpPr>
        <p:sp>
          <p:nvSpPr>
            <p:cNvPr id="652" name=""/>
            <p:cNvSpPr/>
            <p:nvPr/>
          </p:nvSpPr>
          <p:spPr>
            <a:xfrm rot="16200000">
              <a:off x="4391640" y="295920"/>
              <a:ext cx="360360" cy="63370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65240 h 6337080"/>
                <a:gd name="textAreaBottom" fmla="*/ 6171840 h 633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99"/>
                  </a:lnTo>
                  <a:cubicBezTo>
                    <a:pt x="10800" y="9799"/>
                    <a:pt x="5400" y="10699"/>
                    <a:pt x="0" y="10699"/>
                  </a:cubicBezTo>
                  <a:cubicBezTo>
                    <a:pt x="5400" y="10699"/>
                    <a:pt x="10800" y="11599"/>
                    <a:pt x="10800" y="124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06080" y="3638520"/>
              <a:ext cx="89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ff"/>
                  </a:solidFill>
                  <a:latin typeface="Times New Roman"/>
                </a:rPr>
                <a:t>X</a:t>
              </a:r>
              <a:r>
                <a:rPr b="0" lang="zh-CN" sz="3600" spc="-1" strike="noStrike">
                  <a:solidFill>
                    <a:srgbClr val="6600ff"/>
                  </a:solidFill>
                  <a:latin typeface="Times New Roman"/>
                </a:rPr>
                <a:t>个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">
            <a:hlinkClick r:id="rId1" action="ppaction://hlinksldjump"/>
          </p:cNvPr>
          <p:cNvSpPr/>
          <p:nvPr/>
        </p:nvSpPr>
        <p:spPr>
          <a:xfrm>
            <a:off x="3431880" y="4869000"/>
            <a:ext cx="175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1 + 3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557360"/>
          <a:ext cx="7920000" cy="14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79200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</cp:lastModifiedBy>
  <dcterms:modified xsi:type="dcterms:W3CDTF">2012-10-16T23:50:25Z</dcterms:modified>
  <cp:revision>10</cp:revision>
  <dc:subject/>
  <dc:title>幻灯片 1</dc:title>
</cp:coreProperties>
</file>