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1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27.jpeg" ContentType="image/jpeg"/>
  <Override PartName="/ppt/media/image29.wmf" ContentType="image/x-wmf"/>
  <Override PartName="/ppt/media/image31.wmf" ContentType="image/x-wmf"/>
  <Override PartName="/ppt/media/image30.wmf" ContentType="image/x-wmf"/>
  <Override PartName="/ppt/media/image12.png" ContentType="image/png"/>
  <Override PartName="/ppt/media/image7.wmf" ContentType="image/x-wmf"/>
  <Override PartName="/ppt/media/image34.jpeg" ContentType="image/jpeg"/>
  <Override PartName="/ppt/media/image37.png" ContentType="image/png"/>
  <Override PartName="/ppt/media/image38.png" ContentType="image/png"/>
  <Override PartName="/ppt/media/image9.wmf" ContentType="image/x-wmf"/>
  <Override PartName="/ppt/media/image26.wmf" ContentType="image/x-wmf"/>
  <Override PartName="/ppt/media/image39.png" ContentType="image/png"/>
  <Override PartName="/ppt/media/image33.wmf" ContentType="image/x-wmf"/>
  <Override PartName="/ppt/media/image40.jpeg" ContentType="image/jpeg"/>
  <Override PartName="/ppt/media/image32.wmf" ContentType="image/x-wmf"/>
  <Override PartName="/ppt/media/chimes.wav" ContentType="audio/x-wav"/>
  <Override PartName="/ppt/media/image36.png" ContentType="image/png"/>
  <Override PartName="/ppt/media/image6.png" ContentType="image/png"/>
  <Override PartName="/ppt/media/image14.wmf" ContentType="image/x-wmf"/>
  <Override PartName="/ppt/media/breeze.wav" ContentType="audio/x-wav"/>
  <Override PartName="/ppt/media/camera.wav" ContentType="audio/x-wav"/>
  <Override PartName="/ppt/media/laser.wav" ContentType="audio/x-wav"/>
  <Override PartName="/ppt/media/image8.wmf" ContentType="image/x-wmf"/>
  <Override PartName="/ppt/media/image4.jpeg" ContentType="image/jpeg"/>
  <Override PartName="/ppt/media/image10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35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1E3B-7058-4212-9786-7C7A2B0034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D93C-0EAB-4391-923E-380E6E551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2AB-B1CE-4824-86EB-5C2316E2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6F6-8EB4-4B25-A019-BDF61FDE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F80-1092-4AC8-9B67-B9BB98C6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EAA-F384-4C79-9487-874E39B6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B8D4-C9DE-45B9-89A2-80E56471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C8AC-867E-479C-947A-16F70079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A792-7B95-4D96-AD8A-D201AC93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EA67-C191-41EF-B55F-0D33D1EB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582A-6A67-4CE0-9676-48EC9544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FAF6-6416-41D2-BD25-8ACC9CDE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5D73-503E-47BA-B465-8F9BEE13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068-4A89-42DD-8131-0581D0DF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D5C8-0AF3-494F-AD26-521BEFB6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DB99-2BC5-4BBD-B2C5-07518E1A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D5BD-A96D-47E8-B495-F00AB929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6466-A333-4F55-9442-3302C256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88A1-3E6C-4F3B-ACEF-BD25C0BF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25CB-35AA-41DB-B1FF-7FFA8836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90BD-A510-4CB1-AF25-AC4F49CC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65B19-6A9A-4D53-94EE-61459D12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31FF-BF3B-414A-A8D4-A22EDD26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3684-5216-4648-9EA4-4C0612CA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959-3098-4177-BE22-34BB3490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11DE-7B34-4476-A5C0-B07151DF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CDBF-C4EB-4B9B-A085-A3AFC7B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EA9B-5E80-4BF1-BF31-494479E8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9773-A2C7-4006-9585-2530C3E8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8A722-49DE-4D74-95E1-1F7D2A82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818B-3CD0-4763-96F1-CD2DEFC6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0683-71C4-43A9-9E72-FA344CF0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D497-B3D1-40B9-A47C-F561A586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C75B4-090A-4E8C-9039-6E6F9FDA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D159-EA43-4DC1-9C0E-A6DC0D66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CAC-AF62-4252-B82A-EDF8163C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FEE7E-9A3F-486B-8B31-0981A26A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A9A5-3E5E-4E5A-89A5-AF1C79C6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3A93-7C1F-4306-9258-3BDFEF3F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EBB06-9967-424C-B854-8857ABE2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3A50-56A9-45FB-A382-1D723ABD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F857-ACF8-4F41-A2FE-FB9D6358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D6ADF-F957-483D-B25C-7BF0CCC3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B1A2A-1FAF-461E-A286-FFC635EC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41C83-43DA-449B-9460-6022AC5C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C38C5-764D-4325-BA03-9124FAB5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0AF-6801-4F39-AEE5-EE868565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65704-96BA-4A2B-B2A3-742CC64B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4086-4375-47BE-9A1D-E06D1A5A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15AFF-D33E-4C37-9D3C-5F0C13D3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3675F-2002-47AC-884F-6A3FB2D8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C0C2-9730-4E52-98BB-ACF79271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A3AC4-FC09-4FC6-8353-8A48FCBF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E8092-AD01-44C2-BD5B-FB2BE410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710C5-34E0-4C89-9656-EEF56CA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FBC34-ED02-451A-B694-B07040D4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722AF-3E48-4714-A8AE-C73D84C3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FAC-6470-439A-99E0-C2507559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803FB-B417-4DF6-8899-5BD9E8FB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0A52A-00A7-458F-94D7-19E40A02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732EC-ACA2-489E-AADE-DA426E4C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75DC1-3864-46A1-8F60-7AABFD00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28FEB-9736-4AF8-B967-9AA1BC84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65888-012B-4EEE-A8DB-1AB9D3B0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F7BDA-E843-4BE3-96AF-0EA0F087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9537-0FEA-48EF-9FE5-6121050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AB050-4F29-4E9C-8E30-BA821DDD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1912E-BBFD-400E-94CD-2E07D730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83D-FB36-4BBF-B158-47D80B97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EAC95-2147-4D6F-AF27-ED2A2C50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CADB5-011B-4422-B1DB-CA996DE5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DE0D2-95C0-4DAD-93BE-4A617437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28B63-37D1-4DFE-B8CD-7108DCD2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4D92B-3A0A-4139-941B-A47F9012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466A8-6728-4458-9561-E386A6A9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BA588-DB87-4CF2-9FC0-D2E31131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ECCF-A15E-4982-9664-F126A476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A268-29E9-4608-8442-C0D3E724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7893F-3A1C-4D09-A82D-8811C43B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4A9-2A35-487C-B419-7CB05F0F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1884E-7543-445D-8AE1-E66426B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BE39-4126-4774-87F0-9CFB3FD3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3E957-874E-40AE-B4EC-7BC9B0E9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28A93-DD41-4B54-BB74-FB889F84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9AB94-4E21-430A-9B74-E30A7013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FBA-24EB-430D-8901-ADD89A92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2E18-F9A3-46A1-AA5E-0EBEC55EF5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0607-8A89-4B48-A899-5CE44DA0FA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E87F-7EC0-4844-8A15-C4A6C1DF18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A440-E660-4803-8C31-6B68A49AC8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BD4-3FED-4552-ACA6-A55A3121A6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F448-1627-4F6A-822E-8D40349079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FF8D-C957-4C1E-9337-C44417222B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5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audio" Target="../media/breez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5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5400" spc="-1" strike="noStrike">
                <a:solidFill>
                  <a:srgbClr val="0033cc"/>
                </a:solidFill>
                <a:latin typeface="黑体"/>
              </a:rPr>
              <a:t>3.2.2</a:t>
            </a:r>
            <a:r>
              <a:rPr b="1" lang="zh-CN" sz="5400" spc="-1" strike="noStrike">
                <a:solidFill>
                  <a:srgbClr val="0033cc"/>
                </a:solidFill>
                <a:latin typeface="黑体"/>
              </a:rPr>
              <a:t>解一元一次方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114800" y="2971440"/>
            <a:ext cx="3124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移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05520" y="6477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河南信阳浉河中学   汪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2282760" y="1981080"/>
            <a:ext cx="68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未知数：设这个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学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457200" y="42670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找相等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批书的总数是一个定值，表示它的两个等式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457200" y="5257800"/>
            <a:ext cx="795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x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0 = 4x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10"/>
          <p:cNvSpPr txBox="1"/>
          <p:nvPr/>
        </p:nvSpPr>
        <p:spPr>
          <a:xfrm>
            <a:off x="0" y="20574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析问题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609480" y="3808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些图书分给某班学生阅读，如果每人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，则剩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；如果每人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，则还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班有多少学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1752480" y="25146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人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共分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加上剩余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这批书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1752480" y="33526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人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需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减去缺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批书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3331440" y="289548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4724280" y="3352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255120" y="373392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4"/>
          <p:cNvSpPr/>
          <p:nvPr/>
        </p:nvSpPr>
        <p:spPr>
          <a:xfrm>
            <a:off x="2057400" y="1143000"/>
            <a:ext cx="2743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x+20=4x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2057400" y="2438280"/>
            <a:ext cx="2819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x-4x=-25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743200" y="3733920"/>
            <a:ext cx="14479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x=-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2819520" y="5029200"/>
            <a:ext cx="1295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>
            <a:off x="34290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"/>
          <p:cNvSpPr/>
          <p:nvPr/>
        </p:nvSpPr>
        <p:spPr>
          <a:xfrm>
            <a:off x="34290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342900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58128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3581280" y="30481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合并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358128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系数化为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457200" y="4572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的框图表示了解这个方程的具体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"/>
          <p:cNvSpPr/>
          <p:nvPr/>
        </p:nvSpPr>
        <p:spPr>
          <a:xfrm>
            <a:off x="380880" y="103536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个班的同学去划船，他们算了一下，如果增加一条船，正好每条船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如果减少一条船 ，正每条船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问：这个班共多少同学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5"/>
          <p:cNvSpPr txBox="1"/>
          <p:nvPr/>
        </p:nvSpPr>
        <p:spPr>
          <a:xfrm>
            <a:off x="152280" y="0"/>
            <a:ext cx="2514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综合应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838080" y="2133720"/>
            <a:ext cx="7772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解法一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设船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(x+1)=9(x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X+6=9X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X-9X=-9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3X=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得出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× (5+1)=3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这个班共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人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80880" y="12636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个班的同学去划船，他们算了一下，如果增加一条船，正好每条船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如果减少一条船 ，正每条船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问：这个班共多少同学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7"/>
          <p:cNvGrpSpPr/>
          <p:nvPr/>
        </p:nvGrpSpPr>
        <p:grpSpPr>
          <a:xfrm>
            <a:off x="990720" y="2971800"/>
            <a:ext cx="7772400" cy="2466720"/>
            <a:chOff x="990720" y="2971800"/>
            <a:chExt cx="7772400" cy="2466720"/>
          </a:xfrm>
        </p:grpSpPr>
        <p:sp>
          <p:nvSpPr>
            <p:cNvPr id="455" name="Text Box 4"/>
            <p:cNvSpPr/>
            <p:nvPr/>
          </p:nvSpPr>
          <p:spPr>
            <a:xfrm>
              <a:off x="990720" y="2971800"/>
              <a:ext cx="777240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解法二：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设这个班共有同学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人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得出 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x=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答：这个班共有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36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人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6" name="Object 6"/>
            <p:cNvGraphicFramePr/>
            <p:nvPr/>
          </p:nvGraphicFramePr>
          <p:xfrm>
            <a:off x="1066680" y="3429000"/>
            <a:ext cx="1905120" cy="96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66680" y="3429000"/>
                      <a:ext cx="1905120" cy="96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85800" y="914400"/>
            <a:ext cx="791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10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淮安中考）小明根据方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x+2=6x-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编写了一道应用题．请你把空缺的部分补充完整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某手工小组计划教师节前做一批手工品赠给老师，如果每人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，那么就比计划少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；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请问手工小组有几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设手工小组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每人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，那么就比计划多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每人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，那么就比计划多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62120" y="121932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7=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移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简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380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慧眼找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49240" y="1981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14600" y="20574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确答案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5440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057400" y="380988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正确答案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y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5105520"/>
            <a:ext cx="7010640" cy="1015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化简多项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换两项位置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时不改变项的符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解方程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移项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时必须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改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的符号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14600" y="18288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9000" y="32767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85800" y="457200"/>
            <a:ext cx="1143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练习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611280" y="5638680"/>
          <a:ext cx="2590560" cy="58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5638680"/>
                    <a:ext cx="25905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304920" y="380880"/>
            <a:ext cx="419076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方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5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1295280"/>
            <a:ext cx="2914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25520" y="198108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+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259092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630440" y="312408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3809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系数化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30800" y="43434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495288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练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4267080" y="5715000"/>
          <a:ext cx="2743200" cy="56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7080" y="5715000"/>
                    <a:ext cx="2743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4114800" y="129528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43400" y="1371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边都加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63800" y="1981080"/>
            <a:ext cx="14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+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2514600"/>
            <a:ext cx="31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并同类项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96960" y="30481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系数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21360" y="396252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移项实际上是利用等式的性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但是解题步骤更为简捷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447920" y="1447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479760" y="1484280"/>
                <a:ext cx="28735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1" name=""/>
          <p:cNvGrpSpPr/>
          <p:nvPr/>
        </p:nvGrpSpPr>
        <p:grpSpPr>
          <a:xfrm>
            <a:off x="1447920" y="3200400"/>
            <a:ext cx="5410080" cy="1466640"/>
            <a:chOff x="1447920" y="3200400"/>
            <a:chExt cx="5410080" cy="1466640"/>
          </a:xfrm>
        </p:grpSpPr>
        <p:sp>
          <p:nvSpPr>
            <p:cNvPr id="492" name=""/>
            <p:cNvSpPr/>
            <p:nvPr/>
          </p:nvSpPr>
          <p:spPr>
            <a:xfrm>
              <a:off x="1457280" y="3200400"/>
              <a:ext cx="2514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与思考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47920" y="4146480"/>
              <a:ext cx="541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移项时需要移哪些项？为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未知"/>
          <p:cNvSpPr/>
          <p:nvPr/>
        </p:nvSpPr>
        <p:spPr>
          <a:xfrm rot="21394800">
            <a:off x="4191120" y="2088720"/>
            <a:ext cx="1981080" cy="53352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480" y="48"/>
                </a:moveTo>
                <a:cubicBezTo>
                  <a:pt x="472" y="84"/>
                  <a:pt x="464" y="120"/>
                  <a:pt x="432" y="144"/>
                </a:cubicBezTo>
                <a:cubicBezTo>
                  <a:pt x="400" y="168"/>
                  <a:pt x="344" y="192"/>
                  <a:pt x="288" y="192"/>
                </a:cubicBezTo>
                <a:cubicBezTo>
                  <a:pt x="232" y="192"/>
                  <a:pt x="144" y="176"/>
                  <a:pt x="96" y="144"/>
                </a:cubicBezTo>
                <a:cubicBezTo>
                  <a:pt x="48" y="112"/>
                  <a:pt x="24" y="5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未知"/>
          <p:cNvSpPr/>
          <p:nvPr/>
        </p:nvSpPr>
        <p:spPr>
          <a:xfrm>
            <a:off x="4343400" y="838080"/>
            <a:ext cx="1981080" cy="457200"/>
          </a:xfrm>
          <a:custGeom>
            <a:avLst/>
            <a:gdLst/>
            <a:ahLst/>
            <a:rect l="l" t="t" r="r" b="b"/>
            <a:pathLst>
              <a:path w="816" h="152">
                <a:moveTo>
                  <a:pt x="0" y="152"/>
                </a:moveTo>
                <a:cubicBezTo>
                  <a:pt x="24" y="116"/>
                  <a:pt x="48" y="80"/>
                  <a:pt x="96" y="56"/>
                </a:cubicBezTo>
                <a:cubicBezTo>
                  <a:pt x="144" y="32"/>
                  <a:pt x="232" y="16"/>
                  <a:pt x="288" y="8"/>
                </a:cubicBezTo>
                <a:cubicBezTo>
                  <a:pt x="344" y="0"/>
                  <a:pt x="376" y="0"/>
                  <a:pt x="432" y="8"/>
                </a:cubicBezTo>
                <a:cubicBezTo>
                  <a:pt x="488" y="16"/>
                  <a:pt x="560" y="32"/>
                  <a:pt x="624" y="56"/>
                </a:cubicBezTo>
                <a:cubicBezTo>
                  <a:pt x="688" y="80"/>
                  <a:pt x="752" y="116"/>
                  <a:pt x="816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1327320"/>
            <a:ext cx="9907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62520" y="1371600"/>
            <a:ext cx="6094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914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286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合并同类项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981080" y="1676520"/>
                <a:ext cx="3129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01" name=""/>
          <p:cNvGraphicFramePr/>
          <p:nvPr/>
        </p:nvGraphicFramePr>
        <p:xfrm>
          <a:off x="3048120" y="2743200"/>
          <a:ext cx="16239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743200"/>
                    <a:ext cx="1623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3124080" y="3809880"/>
          <a:ext cx="1325520" cy="6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3809880"/>
                    <a:ext cx="13255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57200" y="533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81480" y="2590920"/>
            <a:ext cx="3657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解一元一次方程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一般把含未知数的项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到方程的左边，常数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移到方程的右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819520" y="533520"/>
          <a:ext cx="2970000" cy="51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533520"/>
                    <a:ext cx="29700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1600200" y="3276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系数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80880" y="5334120"/>
          <a:ext cx="327672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5334120"/>
                    <a:ext cx="32767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4572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练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4419720" y="5334120"/>
          <a:ext cx="3200400" cy="528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9720" y="5334120"/>
                    <a:ext cx="32004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380880" y="5943600"/>
          <a:ext cx="3353040" cy="577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0880" y="5943600"/>
                    <a:ext cx="33530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4495680" y="6019920"/>
          <a:ext cx="327996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95680" y="6019920"/>
                    <a:ext cx="32799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676520" y="76320"/>
          <a:ext cx="4039920" cy="99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76320"/>
                    <a:ext cx="40399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509040" y="22860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例题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2209680" y="1371600"/>
          <a:ext cx="264816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1371600"/>
                    <a:ext cx="26481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971800" y="2743200"/>
          <a:ext cx="1192320" cy="490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2743200"/>
                    <a:ext cx="11923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3276720" y="3809880"/>
                <a:ext cx="1030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移项，得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合并，得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系数化为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，得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914400" y="914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033640" y="914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移项，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23880" y="2209680"/>
            <a:ext cx="28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合并同类项，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20240" y="327672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系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28600" y="5257800"/>
          <a:ext cx="4038480" cy="1066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5257800"/>
                    <a:ext cx="4038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5105520" y="5334120"/>
          <a:ext cx="3514680" cy="990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05520" y="5334120"/>
                    <a:ext cx="35146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76320" y="46483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练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下列一元一次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6320" y="1143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运用等式的性质解下列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6320" y="76320"/>
            <a:ext cx="5106600" cy="990360"/>
            <a:chOff x="76320" y="76320"/>
            <a:chExt cx="5106600" cy="990360"/>
          </a:xfrm>
        </p:grpSpPr>
        <p:sp>
          <p:nvSpPr>
            <p:cNvPr id="298" name="AutoShape 5">
              <a:hlinkClick r:id="rId2" action="ppaction://hlinksldjump"/>
            </p:cNvPr>
            <p:cNvSpPr/>
            <p:nvPr/>
          </p:nvSpPr>
          <p:spPr>
            <a:xfrm>
              <a:off x="640440" y="261360"/>
              <a:ext cx="4542480" cy="592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>
              <a:off x="76320" y="76320"/>
              <a:ext cx="952920" cy="990360"/>
            </a:xfrm>
            <a:prstGeom prst="diamond">
              <a:avLst/>
            </a:prstGeom>
            <a:solidFill>
              <a:srgbClr val="99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"/>
            <p:cNvSpPr/>
            <p:nvPr/>
          </p:nvSpPr>
          <p:spPr>
            <a:xfrm>
              <a:off x="892800" y="217800"/>
              <a:ext cx="3242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习回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89520" y="288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85800" y="2057400"/>
            <a:ext cx="3505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(1)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 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 + 2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3505320"/>
            <a:ext cx="3505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 + 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2 =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4648320"/>
            <a:ext cx="1955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 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2895480"/>
            <a:ext cx="4191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边都减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2209680"/>
            <a:ext cx="327672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等式的性质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4114800"/>
            <a:ext cx="3784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并同类项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2428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3673800"/>
            <a:ext cx="3810240" cy="16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即：等式两边都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加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或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减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同一个数或同一个整式，所得结果仍是等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09480" y="12952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一般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方程中的某些项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改变符号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方程的一边移到另一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种变形叫做移项。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0" y="4724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移项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改变符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106668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一元一次方程需要移项时我们把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含未知数的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移到方程的一边（通常移到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左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常数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移到方程的另一边（通常移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右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609480"/>
            <a:ext cx="43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这节课我们学习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143000" y="14479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移项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541" name=""/>
          <p:cNvSpPr/>
          <p:nvPr/>
        </p:nvSpPr>
        <p:spPr>
          <a:xfrm>
            <a:off x="2955960" y="46594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14920" y="47354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04920" y="990720"/>
                <a:ext cx="3581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移项，得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合并，得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系数化为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，得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4343400" y="3733920"/>
                <a:ext cx="3657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移项，得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合并，得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系数化为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，得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915840" y="4343400"/>
            <a:ext cx="1648080" cy="24382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2743200" cy="9396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419720" y="990720"/>
            <a:ext cx="3124080" cy="5666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76320" y="2286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练一练：解下列一元一次方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5105520" y="4724280"/>
            <a:ext cx="1447560" cy="20383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990720" y="1447920"/>
            <a:ext cx="1904760" cy="2203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5105520" y="1523880"/>
            <a:ext cx="19810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2860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今天你又学会了解方程的哪些方法？有哪些步聚？每一步的依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2514600" y="5867280"/>
            <a:ext cx="7010280" cy="12193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七嘴八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1371600" y="152388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移项（等式的性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合并（分配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系数化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等式的性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5410080" y="457200"/>
            <a:ext cx="2590920" cy="1143000"/>
          </a:xfrm>
          <a:prstGeom prst="wedgeRoundRectCallout">
            <a:avLst>
              <a:gd name="adj1" fmla="val -64152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变号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30481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列方程解应用题的步骤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6576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设未知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1520" y="41148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析题意找出等量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4572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根据等量关系列方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7621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2286000" y="4952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37339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5029200" y="49528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564" name="WordArt 3"/>
          <p:cNvSpPr txBox="1"/>
          <p:nvPr/>
        </p:nvSpPr>
        <p:spPr>
          <a:xfrm>
            <a:off x="1219320" y="1600200"/>
            <a:ext cx="4724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8305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7"/>
          <a:stretch/>
        </p:blipFill>
        <p:spPr>
          <a:xfrm>
            <a:off x="0" y="4618080"/>
            <a:ext cx="2895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5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5" dur="2000" fill="hold"/>
                                        <p:tgtEl>
                                          <p:spTgt spid="5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0" dur="27794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295280" y="2514600"/>
                <a:ext cx="1905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762120" y="1066680"/>
            <a:ext cx="3047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  =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4038480"/>
            <a:ext cx="2743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 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1905120"/>
            <a:ext cx="4191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边都除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1295280"/>
            <a:ext cx="32763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等式的性质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5680" y="12193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2732400"/>
            <a:ext cx="3886200" cy="175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即：等式两边都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乘或除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一个不等于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数，所得结果仍是等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4191120" y="990720"/>
            <a:ext cx="3886200" cy="1405080"/>
            <a:chOff x="4191120" y="990720"/>
            <a:chExt cx="3886200" cy="1405080"/>
          </a:xfrm>
        </p:grpSpPr>
        <p:grpSp>
          <p:nvGrpSpPr>
            <p:cNvPr id="318" name=""/>
            <p:cNvGrpSpPr/>
            <p:nvPr/>
          </p:nvGrpSpPr>
          <p:grpSpPr>
            <a:xfrm>
              <a:off x="4191120" y="990720"/>
              <a:ext cx="3403440" cy="459720"/>
              <a:chOff x="4191120" y="990720"/>
              <a:chExt cx="340344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4191120" y="99072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4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–15  =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47080" y="99072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72200" y="124164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191120" y="1924920"/>
              <a:ext cx="3886200" cy="470880"/>
              <a:chOff x="4191120" y="1924920"/>
              <a:chExt cx="3886200" cy="470880"/>
            </a:xfrm>
          </p:grpSpPr>
          <p:sp>
            <p:nvSpPr>
              <p:cNvPr id="323" name=""/>
              <p:cNvSpPr/>
              <p:nvPr/>
            </p:nvSpPr>
            <p:spPr>
              <a:xfrm>
                <a:off x="4191120" y="193608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4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       = 9 +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77120" y="21898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086600" y="19249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4648320" y="1066680"/>
            <a:ext cx="1675800" cy="1295280"/>
            <a:chOff x="4648320" y="1066680"/>
            <a:chExt cx="1675800" cy="1295280"/>
          </a:xfrm>
        </p:grpSpPr>
        <p:grpSp>
          <p:nvGrpSpPr>
            <p:cNvPr id="327" name=""/>
            <p:cNvGrpSpPr/>
            <p:nvPr/>
          </p:nvGrpSpPr>
          <p:grpSpPr>
            <a:xfrm>
              <a:off x="4922640" y="1431720"/>
              <a:ext cx="1226880" cy="465120"/>
              <a:chOff x="4922640" y="1431720"/>
              <a:chExt cx="1226880" cy="465120"/>
            </a:xfrm>
          </p:grpSpPr>
          <p:sp>
            <p:nvSpPr>
              <p:cNvPr id="328" name=""/>
              <p:cNvSpPr/>
              <p:nvPr/>
            </p:nvSpPr>
            <p:spPr>
              <a:xfrm>
                <a:off x="4930200" y="1431720"/>
                <a:ext cx="0" cy="200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22640" y="1633320"/>
                <a:ext cx="12189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49520" y="1631880"/>
                <a:ext cx="0" cy="264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4648320" y="1066680"/>
              <a:ext cx="6091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14640" y="1904760"/>
              <a:ext cx="6094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447920" y="2616120"/>
            <a:ext cx="6172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个变形相当于把 ①中的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5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一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2743200"/>
            <a:ext cx="1828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方程  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05320" y="2743200"/>
            <a:ext cx="2057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到方程 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3886200"/>
            <a:ext cx="5867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项移动后，发生了什么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变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5257800"/>
            <a:ext cx="2743200" cy="69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改变了符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438200" y="3098880"/>
            <a:ext cx="61722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从方程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左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移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了方程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右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-66600" y="0"/>
            <a:ext cx="4486320" cy="839880"/>
            <a:chOff x="-66600" y="0"/>
            <a:chExt cx="4486320" cy="839880"/>
          </a:xfrm>
        </p:grpSpPr>
        <p:sp>
          <p:nvSpPr>
            <p:cNvPr id="340" name="AutoShape 5">
              <a:hlinkClick r:id="rId2" action="ppaction://hlinksldjump"/>
            </p:cNvPr>
            <p:cNvSpPr/>
            <p:nvPr/>
          </p:nvSpPr>
          <p:spPr>
            <a:xfrm>
              <a:off x="429120" y="156960"/>
              <a:ext cx="3990600" cy="502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6"/>
            <p:cNvSpPr/>
            <p:nvPr/>
          </p:nvSpPr>
          <p:spPr>
            <a:xfrm>
              <a:off x="-66600" y="0"/>
              <a:ext cx="837000" cy="839880"/>
            </a:xfrm>
            <a:prstGeom prst="diamond">
              <a:avLst/>
            </a:prstGeom>
            <a:solidFill>
              <a:srgbClr val="99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650520" y="119880"/>
              <a:ext cx="284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讲授新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184680" y="179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648320" y="1066680"/>
            <a:ext cx="60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143000" y="1143000"/>
            <a:ext cx="2971800" cy="1119960"/>
            <a:chOff x="1143000" y="1143000"/>
            <a:chExt cx="2971800" cy="1119960"/>
          </a:xfrm>
        </p:grpSpPr>
        <p:sp>
          <p:nvSpPr>
            <p:cNvPr id="346" name=""/>
            <p:cNvSpPr/>
            <p:nvPr/>
          </p:nvSpPr>
          <p:spPr>
            <a:xfrm>
              <a:off x="1143000" y="114300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4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15 =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13200" y="1742400"/>
              <a:ext cx="241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4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        = 9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Motion origin="layout" path="M 0.001679 -0.006578 L 0.00321 0.004041 L 0.00321 0.014661 L 0.00321 0.025279 L 0.00321 0.035986 L 0.00321 0.046605 L 0.00321 0.057223 L 0.010683 0.057223 L 0.018157 0.057223 L 0.02563 0.057223 L 0.034635 0.057223 L 0.042108 0.057223 L 0.049582 0.057223 L 0.058587 0.057223 L 0.06753 0.057223 L 0.075064 0.057223 L 0.082538 0.057223 L 0.090012 0.057223 L 0.097485 0.057223 L 0.104958 0.057223 L 0.112432 0.057223 L 0.115433 0.057223 L 0.116964 0.067843 L 0.116964 0.078462 L 0.116964 0.089081 L 0.116964 0.099787 L 0.116964 0.110406 L 0.116964 0.121026 E">
                                      <p:cBhvr>
                                        <p:cTn id="9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4267080" y="1066680"/>
            <a:ext cx="3886200" cy="1374120"/>
            <a:chOff x="4267080" y="1066680"/>
            <a:chExt cx="3886200" cy="1374120"/>
          </a:xfrm>
        </p:grpSpPr>
        <p:grpSp>
          <p:nvGrpSpPr>
            <p:cNvPr id="349" name=""/>
            <p:cNvGrpSpPr/>
            <p:nvPr/>
          </p:nvGrpSpPr>
          <p:grpSpPr>
            <a:xfrm>
              <a:off x="4343400" y="1066680"/>
              <a:ext cx="3283560" cy="459720"/>
              <a:chOff x="4343400" y="1066680"/>
              <a:chExt cx="3283560" cy="459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3400" y="106668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=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5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– 2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80920" y="1066680"/>
                <a:ext cx="44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18320" y="13208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267080" y="1969920"/>
              <a:ext cx="3886200" cy="470880"/>
              <a:chOff x="4267080" y="1969920"/>
              <a:chExt cx="3886200" cy="470880"/>
            </a:xfrm>
          </p:grpSpPr>
          <p:sp>
            <p:nvSpPr>
              <p:cNvPr id="354" name=""/>
              <p:cNvSpPr/>
              <p:nvPr/>
            </p:nvSpPr>
            <p:spPr>
              <a:xfrm>
                <a:off x="4267080" y="198108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–5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=     – 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6781680" y="1969920"/>
                <a:ext cx="1371600" cy="459720"/>
                <a:chOff x="6781680" y="1969920"/>
                <a:chExt cx="1371600" cy="45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781680" y="22359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162560" y="1969920"/>
                  <a:ext cx="990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Gulim"/>
                    </a:rPr>
                    <a:t>④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8" name=""/>
          <p:cNvGrpSpPr/>
          <p:nvPr/>
        </p:nvGrpSpPr>
        <p:grpSpPr>
          <a:xfrm>
            <a:off x="4876920" y="990720"/>
            <a:ext cx="1523520" cy="1447560"/>
            <a:chOff x="4876920" y="990720"/>
            <a:chExt cx="1523520" cy="1447560"/>
          </a:xfrm>
        </p:grpSpPr>
        <p:sp>
          <p:nvSpPr>
            <p:cNvPr id="359" name=""/>
            <p:cNvSpPr/>
            <p:nvPr/>
          </p:nvSpPr>
          <p:spPr>
            <a:xfrm>
              <a:off x="5715000" y="990720"/>
              <a:ext cx="68544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76920" y="1981080"/>
              <a:ext cx="64764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200560" y="1523880"/>
              <a:ext cx="727920" cy="380880"/>
              <a:chOff x="5200560" y="1523880"/>
              <a:chExt cx="727920" cy="380880"/>
            </a:xfrm>
          </p:grpSpPr>
          <p:sp>
            <p:nvSpPr>
              <p:cNvPr id="362" name=""/>
              <p:cNvSpPr/>
              <p:nvPr/>
            </p:nvSpPr>
            <p:spPr>
              <a:xfrm>
                <a:off x="5928480" y="1523880"/>
                <a:ext cx="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5200560" y="1676160"/>
                <a:ext cx="727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00560" y="1676160"/>
                <a:ext cx="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1752480" y="2819520"/>
            <a:ext cx="6172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个变形相当于把 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的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一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73400" y="2959200"/>
            <a:ext cx="1828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方程 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20960" y="2959200"/>
            <a:ext cx="2057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到方程 ④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39880" y="4254480"/>
            <a:ext cx="5943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项移动后发生了什么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变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4952880"/>
            <a:ext cx="2819520" cy="69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改变了符号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39880" y="3279600"/>
            <a:ext cx="61722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从方程的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右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移到了方程的左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91320" y="1066680"/>
            <a:ext cx="5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838080" y="1092240"/>
            <a:ext cx="3276720" cy="1312200"/>
            <a:chOff x="838080" y="1092240"/>
            <a:chExt cx="3276720" cy="1312200"/>
          </a:xfrm>
        </p:grpSpPr>
        <p:sp>
          <p:nvSpPr>
            <p:cNvPr id="373" name=""/>
            <p:cNvSpPr/>
            <p:nvPr/>
          </p:nvSpPr>
          <p:spPr>
            <a:xfrm>
              <a:off x="838080" y="1092240"/>
              <a:ext cx="327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Gulim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      = 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14400" y="1457280"/>
              <a:ext cx="266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=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914400" y="990720"/>
            <a:ext cx="304812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Motion origin="layout" path="M -0.004648 -0.006662 L -0.004648 0.005452 L -0.004648 0.017567 L -0.004648 0.02968 L -0.004648 0.041894 L -0.004648 0.054008 L -0.004648 0.061256 L -0.012493 0.058873 L -0.020337 0.056391 L -0.028183 0.056391 L -0.036029 0.056391 L -0.043873 0.056391 L -0.051783 0.056391 L -0.05963 0.056391 L -0.067474 0.056391 L -0.075319 0.056391 L -0.083166 0.056391 L -0.09101 0.056391 L -0.095768 0.056391 L -0.094162 0.068506 L -0.094162 0.080717 L -0.094162 0.092832 L -0.094162 0.104946 L -0.094162 0.11706 L -0.095768 0.129175 L -0.095768 0.141288 L -0.092618 0.136521 E">
                                      <p:cBhvr>
                                        <p:cTn id="128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371600" y="7621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把方程中的某些项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改变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后，从方程的一边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移到另一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形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移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20000">
            <a:off x="76320" y="75960"/>
            <a:ext cx="1752480" cy="1371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724280" y="2743200"/>
            <a:ext cx="2895480" cy="1374120"/>
            <a:chOff x="4724280" y="2743200"/>
            <a:chExt cx="2895480" cy="1374120"/>
          </a:xfrm>
        </p:grpSpPr>
        <p:grpSp>
          <p:nvGrpSpPr>
            <p:cNvPr id="379" name=""/>
            <p:cNvGrpSpPr/>
            <p:nvPr/>
          </p:nvGrpSpPr>
          <p:grpSpPr>
            <a:xfrm>
              <a:off x="5333760" y="2743200"/>
              <a:ext cx="1219320" cy="1371600"/>
              <a:chOff x="5333760" y="2743200"/>
              <a:chExt cx="1219320" cy="1371600"/>
            </a:xfrm>
          </p:grpSpPr>
          <p:sp>
            <p:nvSpPr>
              <p:cNvPr id="380" name=""/>
              <p:cNvSpPr/>
              <p:nvPr/>
            </p:nvSpPr>
            <p:spPr>
              <a:xfrm>
                <a:off x="6171840" y="2743200"/>
                <a:ext cx="38124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3760" y="3657600"/>
                <a:ext cx="60948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5638320" y="3200400"/>
                <a:ext cx="686160" cy="380880"/>
                <a:chOff x="5638320" y="3200400"/>
                <a:chExt cx="686160" cy="3808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324480" y="3200400"/>
                  <a:ext cx="0" cy="1522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>
                  <a:off x="5638320" y="3352680"/>
                  <a:ext cx="6858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638680" y="3352680"/>
                  <a:ext cx="0" cy="2286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6" name=""/>
            <p:cNvGrpSpPr/>
            <p:nvPr/>
          </p:nvGrpSpPr>
          <p:grpSpPr>
            <a:xfrm>
              <a:off x="4724280" y="2743200"/>
              <a:ext cx="2895480" cy="1374120"/>
              <a:chOff x="4724280" y="2743200"/>
              <a:chExt cx="2895480" cy="1374120"/>
            </a:xfrm>
          </p:grpSpPr>
          <p:sp>
            <p:nvSpPr>
              <p:cNvPr id="387" name=""/>
              <p:cNvSpPr/>
              <p:nvPr/>
            </p:nvSpPr>
            <p:spPr>
              <a:xfrm>
                <a:off x="4800600" y="2743200"/>
                <a:ext cx="281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= 5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– 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24280" y="365760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2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–5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=     – 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1219320" y="2666880"/>
            <a:ext cx="2895480" cy="1404360"/>
            <a:chOff x="1219320" y="2666880"/>
            <a:chExt cx="2895480" cy="1404360"/>
          </a:xfrm>
        </p:grpSpPr>
        <p:sp>
          <p:nvSpPr>
            <p:cNvPr id="390" name=""/>
            <p:cNvSpPr/>
            <p:nvPr/>
          </p:nvSpPr>
          <p:spPr>
            <a:xfrm>
              <a:off x="1219320" y="26668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–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=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19320" y="36115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= 9 +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676520" y="2743200"/>
              <a:ext cx="1676520" cy="1295280"/>
              <a:chOff x="1676520" y="2743200"/>
              <a:chExt cx="1676520" cy="129528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1951200" y="3108240"/>
                <a:ext cx="1227240" cy="465120"/>
                <a:chOff x="1951200" y="3108240"/>
                <a:chExt cx="1227240" cy="465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959120" y="3108240"/>
                  <a:ext cx="0" cy="2001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951200" y="3309840"/>
                  <a:ext cx="1219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178440" y="3308400"/>
                  <a:ext cx="0" cy="2649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1676520" y="2743200"/>
                <a:ext cx="609480" cy="380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743200" y="3581280"/>
                <a:ext cx="60984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1066680" y="2819520"/>
            <a:ext cx="152640" cy="1218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48320" y="28954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19720"/>
            <a:ext cx="22860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移项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5105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所有含有未知数的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移到方程的一边，把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所有常数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移到方程的一边。一般地，把含有未知数的项移到方程的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左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常数项移到方程的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右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1905120"/>
            <a:ext cx="2970360" cy="1066680"/>
          </a:xfrm>
          <a:prstGeom prst="cloudCallout">
            <a:avLst>
              <a:gd name="adj1" fmla="val -44361"/>
              <a:gd name="adj2" fmla="val 97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注：移项要变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154080" y="304920"/>
          <a:ext cx="48751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304920"/>
                    <a:ext cx="48751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343400" y="990720"/>
                <a:ext cx="16765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343400" y="1600200"/>
                <a:ext cx="2666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066680" y="990720"/>
            <a:ext cx="60984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990720"/>
            <a:ext cx="60984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42280" y="1523880"/>
            <a:ext cx="609480" cy="609840"/>
          </a:xfrm>
          <a:prstGeom prst="ellipse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00080" y="1523880"/>
            <a:ext cx="609480" cy="609840"/>
          </a:xfrm>
          <a:prstGeom prst="ellipse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00600" y="1523880"/>
            <a:ext cx="838080" cy="685800"/>
          </a:xfrm>
          <a:prstGeom prst="diamond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81080" y="1447920"/>
            <a:ext cx="609840" cy="761760"/>
          </a:xfrm>
          <a:prstGeom prst="diamond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86000" y="838080"/>
            <a:ext cx="2057400" cy="459720"/>
            <a:chOff x="2286000" y="838080"/>
            <a:chExt cx="2057400" cy="459720"/>
          </a:xfrm>
        </p:grpSpPr>
        <p:sp>
          <p:nvSpPr>
            <p:cNvPr id="415" name=""/>
            <p:cNvSpPr/>
            <p:nvPr/>
          </p:nvSpPr>
          <p:spPr>
            <a:xfrm>
              <a:off x="2286000" y="1218960"/>
              <a:ext cx="2057400" cy="36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95480" y="838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移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200400" y="1371600"/>
            <a:ext cx="1219320" cy="459720"/>
            <a:chOff x="3200400" y="1371600"/>
            <a:chExt cx="1219320" cy="459720"/>
          </a:xfrm>
        </p:grpSpPr>
        <p:sp>
          <p:nvSpPr>
            <p:cNvPr id="418" name=""/>
            <p:cNvSpPr/>
            <p:nvPr/>
          </p:nvSpPr>
          <p:spPr>
            <a:xfrm>
              <a:off x="3200400" y="1828440"/>
              <a:ext cx="1219320" cy="36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52680" y="1371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移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28600" y="2590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练习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把下列方程进行移项变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04920" y="3124080"/>
          <a:ext cx="6254640" cy="318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625464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57200" y="685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练习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判断下列移项是否正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57200" y="1447920"/>
          <a:ext cx="721368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7213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585720" y="19782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10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宿迁中考）已知５是关于ｘ的方程　　　　　　　　的解，则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值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根的定义知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×5-2a=7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945480" y="2238480"/>
          <a:ext cx="116496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5480" y="2238480"/>
                    <a:ext cx="11649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DWM</cp:lastModifiedBy>
  <dcterms:modified xsi:type="dcterms:W3CDTF">2014-10-29T12:22:45Z</dcterms:modified>
  <cp:revision>2</cp:revision>
  <dc:subject/>
  <dc:title>  3.2.2解一元一次方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