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driveby.wav" ContentType="audio/x-wav"/>
  <Override PartName="/ppt/media/image1.gif" ContentType="image/gif"/>
  <Override PartName="/ppt/media/image4.wmf" ContentType="image/x-wmf"/>
  <Override PartName="/ppt/media/breeze.wav" ContentType="audio/x-wav"/>
  <Override PartName="/ppt/media/image2.png" ContentType="image/png"/>
  <Override PartName="/ppt/media/chimes.wav" ContentType="audio/x-wav"/>
  <Override PartName="/ppt/media/image6.jpeg" ContentType="image/jpeg"/>
  <Override PartName="/ppt/media/image7.wmf" ContentType="image/x-wmf"/>
  <Override PartName="/ppt/media/image3.wmf" ContentType="image/x-wmf"/>
  <Override PartName="/ppt/media/image5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driveby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reez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6"/>
          <p:cNvSpPr/>
          <p:nvPr/>
        </p:nvSpPr>
        <p:spPr>
          <a:xfrm>
            <a:off x="684360" y="1628640"/>
            <a:ext cx="7993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df2378"/>
                </a:solidFill>
                <a:latin typeface="Hyacinth"/>
                <a:ea typeface="华文行楷"/>
              </a:rPr>
              <a:t>8.6</a:t>
            </a:r>
            <a:r>
              <a:rPr b="1" lang="zh-CN" sz="8800" spc="-1" strike="noStrike">
                <a:solidFill>
                  <a:srgbClr val="df2378"/>
                </a:solidFill>
                <a:latin typeface="Hyacinth"/>
                <a:ea typeface="华文行楷"/>
              </a:rPr>
              <a:t>科学记数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1680" y="-360"/>
            <a:ext cx="2362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探究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8434"/>
          <p:cNvSpPr/>
          <p:nvPr/>
        </p:nvSpPr>
        <p:spPr>
          <a:xfrm>
            <a:off x="512640" y="152244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0.00001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对象 18435" descr=""/>
          <p:cNvPicPr/>
          <p:nvPr/>
        </p:nvPicPr>
        <p:blipFill>
          <a:blip r:embed="rId1"/>
          <a:stretch/>
        </p:blipFill>
        <p:spPr>
          <a:xfrm>
            <a:off x="3208320" y="1066680"/>
            <a:ext cx="2228760" cy="1685880"/>
          </a:xfrm>
          <a:prstGeom prst="rect">
            <a:avLst/>
          </a:prstGeom>
          <a:ln w="0">
            <a:noFill/>
          </a:ln>
        </p:spPr>
      </p:pic>
      <p:pic>
        <p:nvPicPr>
          <p:cNvPr id="71" name="对象 18436" descr=""/>
          <p:cNvPicPr/>
          <p:nvPr/>
        </p:nvPicPr>
        <p:blipFill>
          <a:blip r:embed="rId2"/>
          <a:stretch/>
        </p:blipFill>
        <p:spPr>
          <a:xfrm>
            <a:off x="2793960" y="2743200"/>
            <a:ext cx="1666800" cy="1666800"/>
          </a:xfrm>
          <a:prstGeom prst="rect">
            <a:avLst/>
          </a:prstGeom>
          <a:ln w="0">
            <a:noFill/>
          </a:ln>
        </p:spPr>
      </p:pic>
      <p:pic>
        <p:nvPicPr>
          <p:cNvPr id="72" name="对象 18437" descr=""/>
          <p:cNvPicPr/>
          <p:nvPr/>
        </p:nvPicPr>
        <p:blipFill>
          <a:blip r:embed="rId3"/>
          <a:stretch/>
        </p:blipFill>
        <p:spPr>
          <a:xfrm>
            <a:off x="4343400" y="2960640"/>
            <a:ext cx="213372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18438"/>
          <p:cNvSpPr/>
          <p:nvPr/>
        </p:nvSpPr>
        <p:spPr>
          <a:xfrm>
            <a:off x="914400" y="48006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0.00001=1×10</a:t>
            </a:r>
            <a:r>
              <a:rPr b="1" lang="zh-CN" sz="60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60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7171"/>
          <p:cNvSpPr/>
          <p:nvPr/>
        </p:nvSpPr>
        <p:spPr>
          <a:xfrm>
            <a:off x="6934320" y="0"/>
            <a:ext cx="2209680" cy="825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试一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172"/>
          <p:cNvSpPr/>
          <p:nvPr/>
        </p:nvSpPr>
        <p:spPr>
          <a:xfrm>
            <a:off x="762120" y="18288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0.000002</a:t>
            </a: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该怎么表示呢</a:t>
            </a:r>
            <a:r>
              <a:rPr b="0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173"/>
          <p:cNvSpPr/>
          <p:nvPr/>
        </p:nvSpPr>
        <p:spPr>
          <a:xfrm>
            <a:off x="762120" y="3200400"/>
            <a:ext cx="7543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般地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个正数用科学记数法可以写成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a×10</a:t>
            </a:r>
            <a:r>
              <a:rPr b="1" lang="en-US" sz="48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的形式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其中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≤a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,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是整数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6387"/>
          <p:cNvSpPr/>
          <p:nvPr/>
        </p:nvSpPr>
        <p:spPr>
          <a:xfrm>
            <a:off x="609480" y="1872720"/>
            <a:ext cx="8534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判断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0.0005=5×10</a:t>
            </a:r>
            <a:r>
              <a:rPr b="1" lang="zh-CN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　　）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0.00205=205×10</a:t>
            </a:r>
            <a:r>
              <a:rPr b="1" lang="zh-CN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　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.05×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= 0.00305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　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0.0005×10</a:t>
            </a:r>
            <a:r>
              <a:rPr b="1" lang="zh-CN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=50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　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6388" descr="图片3"/>
          <p:cNvPicPr/>
          <p:nvPr/>
        </p:nvPicPr>
        <p:blipFill>
          <a:blip r:embed="rId1"/>
          <a:stretch/>
        </p:blipFill>
        <p:spPr>
          <a:xfrm>
            <a:off x="6629400" y="228600"/>
            <a:ext cx="21337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79" name="组合 16389"/>
          <p:cNvGrpSpPr/>
          <p:nvPr/>
        </p:nvGrpSpPr>
        <p:grpSpPr>
          <a:xfrm>
            <a:off x="653400" y="182880"/>
            <a:ext cx="3489840" cy="1260720"/>
            <a:chOff x="653400" y="182880"/>
            <a:chExt cx="3489840" cy="1260720"/>
          </a:xfrm>
        </p:grpSpPr>
        <p:sp>
          <p:nvSpPr>
            <p:cNvPr id="80" name="任意多边形 16390"/>
            <p:cNvSpPr/>
            <p:nvPr/>
          </p:nvSpPr>
          <p:spPr>
            <a:xfrm>
              <a:off x="685800" y="817200"/>
              <a:ext cx="3457440" cy="42804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bbe0e3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组合 16391"/>
            <p:cNvGrpSpPr/>
            <p:nvPr/>
          </p:nvGrpSpPr>
          <p:grpSpPr>
            <a:xfrm>
              <a:off x="653400" y="182880"/>
              <a:ext cx="3339000" cy="1260720"/>
              <a:chOff x="653400" y="182880"/>
              <a:chExt cx="3339000" cy="1260720"/>
            </a:xfrm>
          </p:grpSpPr>
          <p:sp>
            <p:nvSpPr>
              <p:cNvPr id="82" name="任意多边形 16392"/>
              <p:cNvSpPr/>
              <p:nvPr/>
            </p:nvSpPr>
            <p:spPr>
              <a:xfrm rot="158400">
                <a:off x="835920" y="336600"/>
                <a:ext cx="901800" cy="8028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99"/>
                  </a:gs>
                </a:gsLst>
                <a:lin ang="18900000"/>
              </a:grad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任意多边形 16393"/>
              <p:cNvSpPr/>
              <p:nvPr/>
            </p:nvSpPr>
            <p:spPr>
              <a:xfrm>
                <a:off x="1136520" y="389880"/>
                <a:ext cx="901800" cy="74916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cc3300"/>
                  </a:gs>
                  <a:gs pos="100000">
                    <a:srgbClr val="333399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任意多边形 16394"/>
              <p:cNvSpPr/>
              <p:nvPr/>
            </p:nvSpPr>
            <p:spPr>
              <a:xfrm rot="961200">
                <a:off x="835560" y="228240"/>
                <a:ext cx="450720" cy="85608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cc66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任意多边形 16395"/>
              <p:cNvSpPr/>
              <p:nvPr/>
            </p:nvSpPr>
            <p:spPr>
              <a:xfrm>
                <a:off x="1286640" y="229320"/>
                <a:ext cx="751680" cy="2142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任意多边形 16396"/>
              <p:cNvSpPr/>
              <p:nvPr/>
            </p:nvSpPr>
            <p:spPr>
              <a:xfrm>
                <a:off x="760680" y="871920"/>
                <a:ext cx="601200" cy="48168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9900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任意多边形 16397"/>
              <p:cNvSpPr/>
              <p:nvPr/>
            </p:nvSpPr>
            <p:spPr>
              <a:xfrm rot="1629000">
                <a:off x="685440" y="1205280"/>
                <a:ext cx="230040" cy="1962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椭圆 16398"/>
              <p:cNvSpPr/>
              <p:nvPr/>
            </p:nvSpPr>
            <p:spPr>
              <a:xfrm>
                <a:off x="1587600" y="282960"/>
                <a:ext cx="225360" cy="5328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文本框 16399"/>
              <p:cNvSpPr/>
              <p:nvPr/>
            </p:nvSpPr>
            <p:spPr>
              <a:xfrm>
                <a:off x="1964520" y="281880"/>
                <a:ext cx="202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随堂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文本框 16400"/>
          <p:cNvSpPr/>
          <p:nvPr/>
        </p:nvSpPr>
        <p:spPr>
          <a:xfrm>
            <a:off x="5410080" y="27432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6401"/>
          <p:cNvSpPr/>
          <p:nvPr/>
        </p:nvSpPr>
        <p:spPr>
          <a:xfrm>
            <a:off x="7391520" y="40384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6402"/>
          <p:cNvSpPr/>
          <p:nvPr/>
        </p:nvSpPr>
        <p:spPr>
          <a:xfrm>
            <a:off x="6858000" y="4724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403"/>
          <p:cNvSpPr/>
          <p:nvPr/>
        </p:nvSpPr>
        <p:spPr>
          <a:xfrm>
            <a:off x="6095880" y="3429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35841"/>
          <p:cNvSpPr/>
          <p:nvPr/>
        </p:nvSpPr>
        <p:spPr>
          <a:xfrm>
            <a:off x="181080" y="1052640"/>
            <a:ext cx="41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5842"/>
          <p:cNvSpPr/>
          <p:nvPr/>
        </p:nvSpPr>
        <p:spPr>
          <a:xfrm>
            <a:off x="324000" y="1557360"/>
            <a:ext cx="85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把下面各数写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幂的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000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指出下列各数是几位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5843"/>
          <p:cNvSpPr/>
          <p:nvPr/>
        </p:nvSpPr>
        <p:spPr>
          <a:xfrm>
            <a:off x="396720" y="2492280"/>
            <a:ext cx="8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5844"/>
          <p:cNvSpPr/>
          <p:nvPr/>
        </p:nvSpPr>
        <p:spPr>
          <a:xfrm>
            <a:off x="2124000" y="2492280"/>
            <a:ext cx="8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5845"/>
          <p:cNvSpPr/>
          <p:nvPr/>
        </p:nvSpPr>
        <p:spPr>
          <a:xfrm>
            <a:off x="4356000" y="2492280"/>
            <a:ext cx="8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8195"/>
          <p:cNvSpPr/>
          <p:nvPr/>
        </p:nvSpPr>
        <p:spPr>
          <a:xfrm>
            <a:off x="6934320" y="0"/>
            <a:ext cx="2209680" cy="825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试一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196"/>
          <p:cNvSpPr/>
          <p:nvPr/>
        </p:nvSpPr>
        <p:spPr>
          <a:xfrm>
            <a:off x="228600" y="1371600"/>
            <a:ext cx="8534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用科学记数法表示下列各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⑴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0.00321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⑵ 0.050 002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;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⑷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⑸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0.5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⑹ (0.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19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对象 8197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4060800" cy="103356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8200"/>
          <p:cNvSpPr/>
          <p:nvPr/>
        </p:nvSpPr>
        <p:spPr>
          <a:xfrm>
            <a:off x="3733920" y="19051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3.21×10</a:t>
            </a:r>
            <a:r>
              <a:rPr b="1" lang="en-US" sz="4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201"/>
          <p:cNvSpPr/>
          <p:nvPr/>
        </p:nvSpPr>
        <p:spPr>
          <a:xfrm>
            <a:off x="4343400" y="25909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5.0002×10</a:t>
            </a:r>
            <a:r>
              <a:rPr b="1" lang="en-US" sz="4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203"/>
          <p:cNvSpPr/>
          <p:nvPr/>
        </p:nvSpPr>
        <p:spPr>
          <a:xfrm>
            <a:off x="2057400" y="33526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1.25×10</a:t>
            </a:r>
            <a:r>
              <a:rPr b="1" lang="en-US" sz="4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204"/>
          <p:cNvSpPr/>
          <p:nvPr/>
        </p:nvSpPr>
        <p:spPr>
          <a:xfrm>
            <a:off x="2743200" y="40384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6.25×10</a:t>
            </a:r>
            <a:r>
              <a:rPr b="1" lang="en-US" sz="4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205"/>
          <p:cNvSpPr/>
          <p:nvPr/>
        </p:nvSpPr>
        <p:spPr>
          <a:xfrm>
            <a:off x="3352680" y="4648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6.4×10</a:t>
            </a:r>
            <a:r>
              <a:rPr b="1" lang="en-US" sz="4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-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3315"/>
          <p:cNvSpPr/>
          <p:nvPr/>
        </p:nvSpPr>
        <p:spPr>
          <a:xfrm>
            <a:off x="762120" y="175068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76120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0.000 405 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可以用科学记数法表示为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．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-4051×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B.   -4051×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．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-4.051×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．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-4.051×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3316" descr="图片1"/>
          <p:cNvPicPr/>
          <p:nvPr/>
        </p:nvPicPr>
        <p:blipFill>
          <a:blip r:embed="rId1"/>
          <a:stretch/>
        </p:blipFill>
        <p:spPr>
          <a:xfrm>
            <a:off x="6629400" y="3124080"/>
            <a:ext cx="1647720" cy="276228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13317"/>
          <p:cNvGrpSpPr/>
          <p:nvPr/>
        </p:nvGrpSpPr>
        <p:grpSpPr>
          <a:xfrm>
            <a:off x="5654160" y="-45720"/>
            <a:ext cx="3489840" cy="1260720"/>
            <a:chOff x="5654160" y="-45720"/>
            <a:chExt cx="3489840" cy="1260720"/>
          </a:xfrm>
        </p:grpSpPr>
        <p:sp>
          <p:nvSpPr>
            <p:cNvPr id="111" name="任意多边形 13318"/>
            <p:cNvSpPr/>
            <p:nvPr/>
          </p:nvSpPr>
          <p:spPr>
            <a:xfrm>
              <a:off x="5686560" y="588600"/>
              <a:ext cx="3457440" cy="42804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bbe0e3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组合 13319"/>
            <p:cNvGrpSpPr/>
            <p:nvPr/>
          </p:nvGrpSpPr>
          <p:grpSpPr>
            <a:xfrm>
              <a:off x="5654160" y="-45720"/>
              <a:ext cx="3339000" cy="1260720"/>
              <a:chOff x="5654160" y="-45720"/>
              <a:chExt cx="3339000" cy="1260720"/>
            </a:xfrm>
          </p:grpSpPr>
          <p:sp>
            <p:nvSpPr>
              <p:cNvPr id="113" name="任意多边形 13320"/>
              <p:cNvSpPr/>
              <p:nvPr/>
            </p:nvSpPr>
            <p:spPr>
              <a:xfrm rot="158400">
                <a:off x="5836680" y="108000"/>
                <a:ext cx="901800" cy="8028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99"/>
                  </a:gs>
                </a:gsLst>
                <a:lin ang="18900000"/>
              </a:grad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任意多边形 13321"/>
              <p:cNvSpPr/>
              <p:nvPr/>
            </p:nvSpPr>
            <p:spPr>
              <a:xfrm>
                <a:off x="6137280" y="161280"/>
                <a:ext cx="901800" cy="74916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cc3300"/>
                  </a:gs>
                  <a:gs pos="100000">
                    <a:srgbClr val="333399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13322"/>
              <p:cNvSpPr/>
              <p:nvPr/>
            </p:nvSpPr>
            <p:spPr>
              <a:xfrm rot="961200">
                <a:off x="5836320" y="0"/>
                <a:ext cx="450720" cy="85608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cc66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任意多边形 13323"/>
              <p:cNvSpPr/>
              <p:nvPr/>
            </p:nvSpPr>
            <p:spPr>
              <a:xfrm>
                <a:off x="6287400" y="720"/>
                <a:ext cx="751680" cy="2142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任意多边形 13324"/>
              <p:cNvSpPr/>
              <p:nvPr/>
            </p:nvSpPr>
            <p:spPr>
              <a:xfrm>
                <a:off x="5761440" y="643320"/>
                <a:ext cx="601200" cy="48168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9900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任意多边形 13325"/>
              <p:cNvSpPr/>
              <p:nvPr/>
            </p:nvSpPr>
            <p:spPr>
              <a:xfrm rot="1629000">
                <a:off x="5686200" y="976680"/>
                <a:ext cx="230040" cy="1962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椭圆 13326"/>
              <p:cNvSpPr/>
              <p:nvPr/>
            </p:nvSpPr>
            <p:spPr>
              <a:xfrm>
                <a:off x="6588360" y="54360"/>
                <a:ext cx="225360" cy="5328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文本框 13327"/>
              <p:cNvSpPr/>
              <p:nvPr/>
            </p:nvSpPr>
            <p:spPr>
              <a:xfrm>
                <a:off x="6965280" y="53280"/>
                <a:ext cx="202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随堂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文本框 13328"/>
          <p:cNvSpPr/>
          <p:nvPr/>
        </p:nvSpPr>
        <p:spPr>
          <a:xfrm>
            <a:off x="3848040" y="230364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5361"/>
          <p:cNvSpPr/>
          <p:nvPr/>
        </p:nvSpPr>
        <p:spPr>
          <a:xfrm>
            <a:off x="533520" y="2042280"/>
            <a:ext cx="9067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5.34×10</a:t>
            </a:r>
            <a:r>
              <a:rPr b="1" lang="en-US" sz="48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en-US" sz="4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表示的数是（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0.00534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5340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0.0534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0.0053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5362" descr="图片1"/>
          <p:cNvPicPr/>
          <p:nvPr/>
        </p:nvPicPr>
        <p:blipFill>
          <a:blip r:embed="rId1"/>
          <a:stretch/>
        </p:blipFill>
        <p:spPr>
          <a:xfrm>
            <a:off x="6629400" y="3124080"/>
            <a:ext cx="1647720" cy="2762280"/>
          </a:xfrm>
          <a:prstGeom prst="rect">
            <a:avLst/>
          </a:prstGeom>
          <a:ln w="0">
            <a:noFill/>
          </a:ln>
        </p:spPr>
      </p:pic>
      <p:grpSp>
        <p:nvGrpSpPr>
          <p:cNvPr id="124" name="组合 15363"/>
          <p:cNvGrpSpPr/>
          <p:nvPr/>
        </p:nvGrpSpPr>
        <p:grpSpPr>
          <a:xfrm>
            <a:off x="5834880" y="-45720"/>
            <a:ext cx="3490200" cy="1260720"/>
            <a:chOff x="5834880" y="-45720"/>
            <a:chExt cx="3490200" cy="1260720"/>
          </a:xfrm>
        </p:grpSpPr>
        <p:sp>
          <p:nvSpPr>
            <p:cNvPr id="125" name="任意多边形 15364"/>
            <p:cNvSpPr/>
            <p:nvPr/>
          </p:nvSpPr>
          <p:spPr>
            <a:xfrm>
              <a:off x="5867280" y="588600"/>
              <a:ext cx="3457800" cy="42804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bbe0e3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组合 15365"/>
            <p:cNvGrpSpPr/>
            <p:nvPr/>
          </p:nvGrpSpPr>
          <p:grpSpPr>
            <a:xfrm>
              <a:off x="5834880" y="-45720"/>
              <a:ext cx="3339360" cy="1260720"/>
              <a:chOff x="5834880" y="-45720"/>
              <a:chExt cx="3339360" cy="1260720"/>
            </a:xfrm>
          </p:grpSpPr>
          <p:sp>
            <p:nvSpPr>
              <p:cNvPr id="127" name="任意多边形 15366"/>
              <p:cNvSpPr/>
              <p:nvPr/>
            </p:nvSpPr>
            <p:spPr>
              <a:xfrm rot="158400">
                <a:off x="6017400" y="108000"/>
                <a:ext cx="901800" cy="8028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99"/>
                  </a:gs>
                </a:gsLst>
                <a:lin ang="18900000"/>
              </a:grad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任意多边形 15367"/>
              <p:cNvSpPr/>
              <p:nvPr/>
            </p:nvSpPr>
            <p:spPr>
              <a:xfrm>
                <a:off x="6318000" y="161280"/>
                <a:ext cx="901800" cy="74916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cc3300"/>
                  </a:gs>
                  <a:gs pos="100000">
                    <a:srgbClr val="333399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任意多边形 15368"/>
              <p:cNvSpPr/>
              <p:nvPr/>
            </p:nvSpPr>
            <p:spPr>
              <a:xfrm rot="961200">
                <a:off x="6017040" y="0"/>
                <a:ext cx="450720" cy="85608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cc66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任意多边形 15369"/>
              <p:cNvSpPr/>
              <p:nvPr/>
            </p:nvSpPr>
            <p:spPr>
              <a:xfrm>
                <a:off x="6468480" y="720"/>
                <a:ext cx="751680" cy="2142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任意多边形 15370"/>
              <p:cNvSpPr/>
              <p:nvPr/>
            </p:nvSpPr>
            <p:spPr>
              <a:xfrm>
                <a:off x="5942160" y="643320"/>
                <a:ext cx="601560" cy="48168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9900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任意多边形 15371"/>
              <p:cNvSpPr/>
              <p:nvPr/>
            </p:nvSpPr>
            <p:spPr>
              <a:xfrm rot="1629000">
                <a:off x="5866920" y="976680"/>
                <a:ext cx="230040" cy="1962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椭圆 15372"/>
              <p:cNvSpPr/>
              <p:nvPr/>
            </p:nvSpPr>
            <p:spPr>
              <a:xfrm>
                <a:off x="6769080" y="54360"/>
                <a:ext cx="225360" cy="5328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文本框 15373"/>
              <p:cNvSpPr/>
              <p:nvPr/>
            </p:nvSpPr>
            <p:spPr>
              <a:xfrm>
                <a:off x="7146360" y="53280"/>
                <a:ext cx="202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随堂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文本框 15374"/>
          <p:cNvSpPr/>
          <p:nvPr/>
        </p:nvSpPr>
        <p:spPr>
          <a:xfrm>
            <a:off x="8124840" y="193356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1"/>
          <p:cNvSpPr/>
          <p:nvPr/>
        </p:nvSpPr>
        <p:spPr>
          <a:xfrm>
            <a:off x="0" y="13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．遇到较大的数时可用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宋体"/>
              </a:rPr>
              <a:t>科学记数法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来表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4920" y="3789360"/>
            <a:ext cx="946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．用科学记数法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新宋体"/>
              </a:rPr>
              <a:t>×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n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表示大数关键要注意两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１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１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≤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a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＜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1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２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) n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为原数整数位数减去１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14200" y="274320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一般形式：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a×10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 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≤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正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3276720" y="0"/>
            <a:ext cx="62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宋体"/>
              </a:rPr>
              <a:t>这节课你学到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4"/>
          <p:cNvSpPr/>
          <p:nvPr/>
        </p:nvSpPr>
        <p:spPr>
          <a:xfrm>
            <a:off x="228600" y="1066680"/>
            <a:ext cx="906768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9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2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÷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÷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0"/>
          <p:cNvGrpSpPr/>
          <p:nvPr/>
        </p:nvGrpSpPr>
        <p:grpSpPr>
          <a:xfrm>
            <a:off x="0" y="5992920"/>
            <a:ext cx="1835280" cy="865080"/>
            <a:chOff x="0" y="5992920"/>
            <a:chExt cx="1835280" cy="865080"/>
          </a:xfrm>
        </p:grpSpPr>
        <p:sp>
          <p:nvSpPr>
            <p:cNvPr id="39" name="AutoShape 7"/>
            <p:cNvSpPr/>
            <p:nvPr/>
          </p:nvSpPr>
          <p:spPr>
            <a:xfrm>
              <a:off x="0" y="5992920"/>
              <a:ext cx="1662120" cy="865080"/>
            </a:xfrm>
            <a:custGeom>
              <a:avLst/>
              <a:gdLst>
                <a:gd name="textAreaLeft" fmla="*/ 0 w 1662120"/>
                <a:gd name="textAreaRight" fmla="*/ 1662480 w 166212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8"/>
            <p:cNvSpPr/>
            <p:nvPr/>
          </p:nvSpPr>
          <p:spPr>
            <a:xfrm>
              <a:off x="87480" y="5992920"/>
              <a:ext cx="174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ec855"/>
                  </a:solidFill>
                  <a:latin typeface="宋体"/>
                  <a:ea typeface="宋体"/>
                </a:rPr>
                <a:t>注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" name="文本框 32774"/>
          <p:cNvSpPr/>
          <p:nvPr/>
        </p:nvSpPr>
        <p:spPr>
          <a:xfrm>
            <a:off x="5867280" y="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幂的运算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31745"/>
          <p:cNvSpPr/>
          <p:nvPr/>
        </p:nvSpPr>
        <p:spPr>
          <a:xfrm>
            <a:off x="6400800" y="0"/>
            <a:ext cx="2743200" cy="825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温故知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1746"/>
          <p:cNvSpPr/>
          <p:nvPr/>
        </p:nvSpPr>
        <p:spPr>
          <a:xfrm>
            <a:off x="0" y="129312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1000000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可表示为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的幂的形式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0.00001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可表示为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的幂的形式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1747"/>
          <p:cNvSpPr/>
          <p:nvPr/>
        </p:nvSpPr>
        <p:spPr>
          <a:xfrm>
            <a:off x="762120" y="21337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1×10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1748"/>
          <p:cNvSpPr/>
          <p:nvPr/>
        </p:nvSpPr>
        <p:spPr>
          <a:xfrm>
            <a:off x="838080" y="3809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1×10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34817"/>
          <p:cNvSpPr/>
          <p:nvPr/>
        </p:nvSpPr>
        <p:spPr>
          <a:xfrm>
            <a:off x="6934320" y="0"/>
            <a:ext cx="2209680" cy="825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试一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34818"/>
          <p:cNvSpPr/>
          <p:nvPr/>
        </p:nvSpPr>
        <p:spPr>
          <a:xfrm>
            <a:off x="609480" y="10666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了记数方便和表示形式的规范，我们规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4819"/>
          <p:cNvSpPr/>
          <p:nvPr/>
        </p:nvSpPr>
        <p:spPr>
          <a:xfrm>
            <a:off x="762120" y="3200400"/>
            <a:ext cx="75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把较大数和较小数写成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a×10</a:t>
            </a:r>
            <a:r>
              <a:rPr b="1" lang="en-US" sz="48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的形式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其中（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≤a&lt;10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,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是整数）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这种计数方法叫做科学记数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p2vuf1fq[1]"/>
          <p:cNvPicPr/>
          <p:nvPr/>
        </p:nvPicPr>
        <p:blipFill>
          <a:blip r:embed="rId1"/>
          <a:stretch/>
        </p:blipFill>
        <p:spPr>
          <a:xfrm>
            <a:off x="6877080" y="3546360"/>
            <a:ext cx="2579760" cy="33116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39640" y="907920"/>
            <a:ext cx="7526520" cy="4484880"/>
          </a:xfrm>
          <a:prstGeom prst="cloudCallout">
            <a:avLst>
              <a:gd name="adj1" fmla="val 35675"/>
              <a:gd name="adj2" fmla="val 38050"/>
            </a:avLst>
          </a:pr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21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 300 000 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91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2600000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元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用科学记数法表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108000" y="836640"/>
            <a:ext cx="69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Hyacinth"/>
                <a:ea typeface="华文行楷"/>
              </a:rPr>
              <a:t>典例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8914"/>
          <p:cNvSpPr/>
          <p:nvPr/>
        </p:nvSpPr>
        <p:spPr>
          <a:xfrm>
            <a:off x="108000" y="1701720"/>
            <a:ext cx="831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：用科学记数法记出下列各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1)  696 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；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2)  1 000 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；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3)  58 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；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4)  ―7 800 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8915"/>
          <p:cNvSpPr/>
          <p:nvPr/>
        </p:nvSpPr>
        <p:spPr>
          <a:xfrm>
            <a:off x="3419640" y="2205000"/>
            <a:ext cx="24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  <a:ea typeface="宋体"/>
              </a:rPr>
              <a:t>6.96×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8916"/>
          <p:cNvSpPr/>
          <p:nvPr/>
        </p:nvSpPr>
        <p:spPr>
          <a:xfrm>
            <a:off x="3492360" y="2709720"/>
            <a:ext cx="24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宋体"/>
              </a:rPr>
              <a:t>1×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8917"/>
          <p:cNvSpPr/>
          <p:nvPr/>
        </p:nvSpPr>
        <p:spPr>
          <a:xfrm>
            <a:off x="3564000" y="3357720"/>
            <a:ext cx="24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宋体"/>
              </a:rPr>
              <a:t>5.8×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8918"/>
          <p:cNvSpPr/>
          <p:nvPr/>
        </p:nvSpPr>
        <p:spPr>
          <a:xfrm>
            <a:off x="3851280" y="3933720"/>
            <a:ext cx="24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宋体"/>
              </a:rPr>
              <a:t>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宋体"/>
              </a:rPr>
              <a:t>7.8×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5123"/>
          <p:cNvSpPr/>
          <p:nvPr/>
        </p:nvSpPr>
        <p:spPr>
          <a:xfrm>
            <a:off x="1143000" y="1874520"/>
            <a:ext cx="670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种叫四季海棠的植物，它的种子很小，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万粒四季海棠种子的质量才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0.25g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粒四季海棠种子的质量约为多少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6147"/>
          <p:cNvSpPr/>
          <p:nvPr/>
        </p:nvSpPr>
        <p:spPr>
          <a:xfrm>
            <a:off x="6400800" y="0"/>
            <a:ext cx="2743200" cy="825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自主探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148"/>
          <p:cNvSpPr/>
          <p:nvPr/>
        </p:nvSpPr>
        <p:spPr>
          <a:xfrm>
            <a:off x="228600" y="106416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  <a:ea typeface="宋体"/>
              </a:rPr>
              <a:t>0.1=10</a:t>
            </a:r>
            <a:r>
              <a:rPr b="0" lang="en-US" sz="54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(    )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  <a:ea typeface="宋体"/>
              </a:rPr>
              <a:t>0.01=10</a:t>
            </a:r>
            <a:r>
              <a:rPr b="0" lang="en-US" sz="54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(    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  <a:ea typeface="宋体"/>
              </a:rPr>
              <a:t>0.001=10</a:t>
            </a:r>
            <a:r>
              <a:rPr b="0" lang="en-US" sz="54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(   )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  <a:ea typeface="宋体"/>
              </a:rPr>
              <a:t>0.0001=10</a:t>
            </a:r>
            <a:r>
              <a:rPr b="0" lang="en-US" sz="54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(    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  <a:ea typeface="宋体"/>
              </a:rPr>
              <a:t>0.00001=10</a:t>
            </a:r>
            <a:r>
              <a:rPr b="0" lang="en-US" sz="54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(    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149"/>
          <p:cNvSpPr/>
          <p:nvPr/>
        </p:nvSpPr>
        <p:spPr>
          <a:xfrm>
            <a:off x="457200" y="57150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发现了什么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153"/>
          <p:cNvSpPr/>
          <p:nvPr/>
        </p:nvSpPr>
        <p:spPr>
          <a:xfrm>
            <a:off x="2819520" y="1158840"/>
            <a:ext cx="68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154"/>
          <p:cNvSpPr/>
          <p:nvPr/>
        </p:nvSpPr>
        <p:spPr>
          <a:xfrm>
            <a:off x="7086600" y="1143000"/>
            <a:ext cx="68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155"/>
          <p:cNvSpPr/>
          <p:nvPr/>
        </p:nvSpPr>
        <p:spPr>
          <a:xfrm>
            <a:off x="3517920" y="1968480"/>
            <a:ext cx="68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6156"/>
          <p:cNvSpPr/>
          <p:nvPr/>
        </p:nvSpPr>
        <p:spPr>
          <a:xfrm>
            <a:off x="7886880" y="1981080"/>
            <a:ext cx="68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157"/>
          <p:cNvSpPr/>
          <p:nvPr/>
        </p:nvSpPr>
        <p:spPr>
          <a:xfrm>
            <a:off x="4343400" y="2781360"/>
            <a:ext cx="68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7410"/>
          <p:cNvSpPr/>
          <p:nvPr/>
        </p:nvSpPr>
        <p:spPr>
          <a:xfrm>
            <a:off x="380880" y="1066680"/>
            <a:ext cx="594360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宋体"/>
              </a:rPr>
              <a:t>◆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0.00001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能否用科学记数法表示呢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如何思考、转化？</a:t>
            </a: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7411" descr="图片3"/>
          <p:cNvPicPr/>
          <p:nvPr/>
        </p:nvPicPr>
        <p:blipFill>
          <a:blip r:embed="rId1"/>
          <a:srcRect l="3577" t="0" r="3577" b="3577"/>
          <a:stretch/>
        </p:blipFill>
        <p:spPr>
          <a:xfrm>
            <a:off x="6629400" y="396252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7:09:47Z</dcterms:created>
  <dc:creator/>
  <dc:description/>
  <dc:language>en-US</dc:language>
  <cp:lastModifiedBy>Administrator</cp:lastModifiedBy>
  <dcterms:modified xsi:type="dcterms:W3CDTF">2018-12-28T07:10:5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