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571-3FFE-49D9-A915-8E4734F4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ED5-3B95-411A-98FC-0532B0ED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72F-003A-40BB-B910-12E607C4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1C9-21FB-4D6C-93AD-FF1B27C0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EC7-3836-4308-8F15-BF098B2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CEF-9D72-444E-8366-D96D06D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BD1-422E-417A-BF84-60B7285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A4E-8FF4-4976-AEBC-ADA9ADA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274-CF75-49DD-A65D-0ADD977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C64-CC58-46DC-9CA0-46E2AEC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E5F-F8FC-4A71-9B96-8744FDF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DE9-B293-4166-B6AB-D6D0AAF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A3B2-AAC8-4EBD-B917-9CABFA4BB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052" descr="d5059a252f4bcf08c9955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053"/>
          <p:cNvSpPr/>
          <p:nvPr/>
        </p:nvSpPr>
        <p:spPr>
          <a:xfrm>
            <a:off x="539640" y="1700280"/>
            <a:ext cx="842508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楷体"/>
              </a:rPr>
              <a:t>说和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记闻一多先生言行片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054"/>
          <p:cNvSpPr/>
          <p:nvPr/>
        </p:nvSpPr>
        <p:spPr>
          <a:xfrm>
            <a:off x="5508720" y="4653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臧克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6385"/>
          <p:cNvSpPr txBox="1"/>
          <p:nvPr/>
        </p:nvSpPr>
        <p:spPr>
          <a:xfrm>
            <a:off x="0" y="0"/>
            <a:ext cx="50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方正舒体"/>
              </a:rPr>
              <a:t>思考讨论：</a:t>
            </a:r>
            <a:endParaRPr b="1" i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89" name="图片 16387" descr="goldstar"/>
          <p:cNvPicPr/>
          <p:nvPr/>
        </p:nvPicPr>
        <p:blipFill>
          <a:blip r:embed="rId1"/>
          <a:stretch/>
        </p:blipFill>
        <p:spPr>
          <a:xfrm>
            <a:off x="395280" y="162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388" descr="goldstar"/>
          <p:cNvPicPr/>
          <p:nvPr/>
        </p:nvPicPr>
        <p:blipFill>
          <a:blip r:embed="rId2"/>
          <a:stretch/>
        </p:blipFill>
        <p:spPr>
          <a:xfrm>
            <a:off x="395280" y="3573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6390"/>
          <p:cNvSpPr/>
          <p:nvPr/>
        </p:nvSpPr>
        <p:spPr>
          <a:xfrm>
            <a:off x="46836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章从哪两方面写闻一多先生的“说”和“做”？文章可分几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391"/>
          <p:cNvSpPr/>
          <p:nvPr/>
        </p:nvSpPr>
        <p:spPr>
          <a:xfrm>
            <a:off x="755640" y="3429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方面都写了闻一多先生的哪些主要事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家说了再做，我是做了再说。” 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人家说了也不一定做，我是做了也不一定说。” </a:t>
            </a:r>
            <a:br>
              <a:rPr sz="30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课文开头引用闻一多先生这两句话起什么作用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4371840"/>
            <a:ext cx="726624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领起全段，表现闻一多“做”的特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做了再说，做了不说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0483"/>
          <p:cNvSpPr/>
          <p:nvPr/>
        </p:nvSpPr>
        <p:spPr>
          <a:xfrm>
            <a:off x="1017720" y="2286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阅读前半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后一次讲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一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在西南联大任教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参加李公朴追悼会，之后又去参加记者招待会，会后遇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后一次讲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，这里有没有特务？你站出来！是好汉的站出来！你出来讲！凭什么要杀死李先生？（厉声，热烈的鼓掌）杀死了人，又不敢承认，还要诬蔑人，说什么“桃色事件”，说什么共产党杀共产党，无耻啊！无耻啊！（热烈的鼓掌）这是某集团的无耻，恰是李先生的光荣！李先生在昆明被暗杀是李先生留给昆明的光荣！也是昆明人的光荣！（鼓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方正琥珀简体"/>
              </a:rPr>
              <a:t>表情朗读（一）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2280" y="2557080"/>
            <a:ext cx="72644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李公朴同志被害之后，警报迭起，形势紧张，明知凶多吉少，而闻先生大无畏地在群众大会上，大骂特务，慷慨淋漓，并指着这群败类说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你们站出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你们站出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表情朗读（二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“说”了。说得真痛快，动人心，鼓壮志，气冲斗牛，声震天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“说”了：“我们要准备像李先生一样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前脚跨出大门，后脚就不准备再跨进大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“做”了，在情况紧急的生死关头，他走到游行示威队伍的前头，昂首挺胸，长须飘飘。他终于以宝贵的生命，实证了他的“言”和“行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27649"/>
          <p:cNvGrpSpPr/>
          <p:nvPr/>
        </p:nvGrpSpPr>
        <p:grpSpPr>
          <a:xfrm>
            <a:off x="152280" y="287280"/>
            <a:ext cx="2057400" cy="1693800"/>
            <a:chOff x="152280" y="287280"/>
            <a:chExt cx="2057400" cy="1693800"/>
          </a:xfrm>
        </p:grpSpPr>
        <p:pic>
          <p:nvPicPr>
            <p:cNvPr id="105" name="图片 27650" descr="12]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19051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文本框 27651"/>
            <p:cNvSpPr/>
            <p:nvPr/>
          </p:nvSpPr>
          <p:spPr>
            <a:xfrm>
              <a:off x="152280" y="304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  <a:ea typeface="华文隶书"/>
                </a:rPr>
                <a:t>品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27652"/>
          <p:cNvSpPr/>
          <p:nvPr/>
        </p:nvSpPr>
        <p:spPr>
          <a:xfrm>
            <a:off x="2438280" y="4572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闻一多前期和后期的思想品格上的主要特征，前后期有什么变化，又有什么共同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7653"/>
          <p:cNvSpPr/>
          <p:nvPr/>
        </p:nvSpPr>
        <p:spPr>
          <a:xfrm>
            <a:off x="533520" y="2209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前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了探索救国救民的出路而潜心学术，不畏艰辛，废寝忘食，十数年如一日，终于在学术上取得累累硕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后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则投身于民主运动，敢于为人民讲话，面对凶残的敌人无所畏惧，视死如归，体现出民主战士的大勇，成为中国革命知识分子的楷模。但作为一名卓越的学者，一名伟大的爱国者，一名言行一致的志士仁人，他却是始终如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3760"/>
            <a:ext cx="76932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171" descr="闻一多与七子之歌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4216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172"/>
          <p:cNvSpPr/>
          <p:nvPr/>
        </p:nvSpPr>
        <p:spPr>
          <a:xfrm>
            <a:off x="395280" y="609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闻一多与七子之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535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臧克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现代诗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生于山东省诸城县。在大学读书期间开始发表诗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版第一本诗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烙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抗战时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军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泥淖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以后出版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泥土的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年诗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由于国民党的迫害，逃往香港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回到解放后的北平。建国后，任全国政协委员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099" descr="臧克家"/>
          <p:cNvPicPr/>
          <p:nvPr/>
        </p:nvPicPr>
        <p:blipFill>
          <a:blip r:embed="rId1"/>
          <a:stretch/>
        </p:blipFill>
        <p:spPr>
          <a:xfrm>
            <a:off x="5003640" y="1125360"/>
            <a:ext cx="3608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臧克家和闻一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一知己，可以无憾，在青岛得到你一个人已经够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闻一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6147" descr="闻一多纪念馆"/>
          <p:cNvPicPr/>
          <p:nvPr/>
        </p:nvPicPr>
        <p:blipFill>
          <a:blip r:embed="rId1"/>
          <a:stretch/>
        </p:blipFill>
        <p:spPr>
          <a:xfrm>
            <a:off x="250920" y="189000"/>
            <a:ext cx="4392360" cy="3295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48" descr="闻一多先生雕像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32986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6151"/>
          <p:cNvSpPr/>
          <p:nvPr/>
        </p:nvSpPr>
        <p:spPr>
          <a:xfrm>
            <a:off x="363528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纪念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52"/>
          <p:cNvSpPr/>
          <p:nvPr/>
        </p:nvSpPr>
        <p:spPr>
          <a:xfrm>
            <a:off x="378000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6155" descr="闻一多画像"/>
          <p:cNvPicPr/>
          <p:nvPr/>
        </p:nvPicPr>
        <p:blipFill>
          <a:blip r:embed="rId3"/>
          <a:stretch/>
        </p:blipFill>
        <p:spPr>
          <a:xfrm>
            <a:off x="4716360" y="549360"/>
            <a:ext cx="4067280" cy="55450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6156"/>
          <p:cNvSpPr/>
          <p:nvPr/>
        </p:nvSpPr>
        <p:spPr>
          <a:xfrm>
            <a:off x="7093080" y="5589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闻一多画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人公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075" descr="wenyiduo"/>
          <p:cNvPicPr/>
          <p:nvPr/>
        </p:nvPicPr>
        <p:blipFill>
          <a:blip r:embed="rId1"/>
          <a:stretch/>
        </p:blipFill>
        <p:spPr>
          <a:xfrm>
            <a:off x="4932360" y="981000"/>
            <a:ext cx="367992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3077"/>
          <p:cNvSpPr/>
          <p:nvPr/>
        </p:nvSpPr>
        <p:spPr>
          <a:xfrm>
            <a:off x="539640" y="1125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078"/>
          <p:cNvSpPr/>
          <p:nvPr/>
        </p:nvSpPr>
        <p:spPr>
          <a:xfrm>
            <a:off x="755640" y="105264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闻一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本名家骅，著名诗人、学者、爱国民主战士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赴美国芝加哥美术学院学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回国，任青岛大学、清华大学教授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版第一部诗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版第二部诗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死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惨案发生后，他更英勇地投身爱国民主运动，最后献出了宝贵的生命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0241"/>
          <p:cNvSpPr/>
          <p:nvPr/>
        </p:nvSpPr>
        <p:spPr>
          <a:xfrm>
            <a:off x="468360" y="476280"/>
            <a:ext cx="5029200" cy="70344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需要掌握的字的读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0242"/>
          <p:cNvSpPr/>
          <p:nvPr/>
        </p:nvSpPr>
        <p:spPr>
          <a:xfrm>
            <a:off x="228600" y="2057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衰微   赫然   迭起   锲而不舍  卓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243"/>
          <p:cNvSpPr/>
          <p:nvPr/>
        </p:nvSpPr>
        <p:spPr>
          <a:xfrm>
            <a:off x="0" y="3382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沥尽心血 潜心贯注  慷慨淋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244"/>
          <p:cNvSpPr/>
          <p:nvPr/>
        </p:nvSpPr>
        <p:spPr>
          <a:xfrm>
            <a:off x="0" y="4678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气冲斗牛  迥乎不同 目不窥园  兀兀　　　　　　　　　　　　　　穷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0245"/>
          <p:cNvSpPr/>
          <p:nvPr/>
        </p:nvSpPr>
        <p:spPr>
          <a:xfrm>
            <a:off x="228600" y="1600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huāi  hè     dié    qiè      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0246"/>
          <p:cNvSpPr/>
          <p:nvPr/>
        </p:nvSpPr>
        <p:spPr>
          <a:xfrm>
            <a:off x="0" y="289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ì        qián       kāngkăilínlí   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247"/>
          <p:cNvSpPr/>
          <p:nvPr/>
        </p:nvSpPr>
        <p:spPr>
          <a:xfrm>
            <a:off x="0" y="42670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qì        jiŏng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ī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w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4337"/>
          <p:cNvGrpSpPr/>
          <p:nvPr/>
        </p:nvGrpSpPr>
        <p:grpSpPr>
          <a:xfrm>
            <a:off x="228600" y="1523880"/>
            <a:ext cx="2438280" cy="3751560"/>
            <a:chOff x="228600" y="1523880"/>
            <a:chExt cx="2438280" cy="3751560"/>
          </a:xfrm>
        </p:grpSpPr>
        <p:sp>
          <p:nvSpPr>
            <p:cNvPr id="73" name="文本框 14338"/>
            <p:cNvSpPr/>
            <p:nvPr/>
          </p:nvSpPr>
          <p:spPr>
            <a:xfrm>
              <a:off x="228600" y="15238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目不窥园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4339"/>
            <p:cNvSpPr/>
            <p:nvPr/>
          </p:nvSpPr>
          <p:spPr>
            <a:xfrm>
              <a:off x="228600" y="327636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诗兴不作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14340"/>
            <p:cNvSpPr/>
            <p:nvPr/>
          </p:nvSpPr>
          <p:spPr>
            <a:xfrm>
              <a:off x="228600" y="457200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一反既往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14341"/>
          <p:cNvSpPr/>
          <p:nvPr/>
        </p:nvSpPr>
        <p:spPr>
          <a:xfrm>
            <a:off x="2590920" y="137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小孔或缝隙里偷偷地看。眼睛从不暗中看一看家里的园圃，即专心致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4342"/>
          <p:cNvSpPr/>
          <p:nvPr/>
        </p:nvSpPr>
        <p:spPr>
          <a:xfrm>
            <a:off x="2057400" y="3124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起的意思。诗兴不作，不是不做诗，而是写诗的兴致不起、不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4343"/>
          <p:cNvSpPr/>
          <p:nvPr/>
        </p:nvSpPr>
        <p:spPr>
          <a:xfrm>
            <a:off x="2057400" y="4724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经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既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去。与过去完全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344"/>
          <p:cNvSpPr/>
          <p:nvPr/>
        </p:nvSpPr>
        <p:spPr>
          <a:xfrm>
            <a:off x="380880" y="304920"/>
            <a:ext cx="2514600" cy="76428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词语补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3313"/>
          <p:cNvGrpSpPr/>
          <p:nvPr/>
        </p:nvGrpSpPr>
        <p:grpSpPr>
          <a:xfrm>
            <a:off x="762120" y="906480"/>
            <a:ext cx="2819160" cy="3376440"/>
            <a:chOff x="762120" y="906480"/>
            <a:chExt cx="2819160" cy="3376440"/>
          </a:xfrm>
        </p:grpSpPr>
        <p:sp>
          <p:nvSpPr>
            <p:cNvPr id="81" name="文本框 13314"/>
            <p:cNvSpPr/>
            <p:nvPr/>
          </p:nvSpPr>
          <p:spPr>
            <a:xfrm>
              <a:off x="762120" y="9064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衰微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3315"/>
            <p:cNvSpPr/>
            <p:nvPr/>
          </p:nvSpPr>
          <p:spPr>
            <a:xfrm>
              <a:off x="762120" y="182880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赫然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13316"/>
            <p:cNvSpPr/>
            <p:nvPr/>
          </p:nvSpPr>
          <p:spPr>
            <a:xfrm>
              <a:off x="762120" y="274320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潜心贯注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3317"/>
            <p:cNvSpPr/>
            <p:nvPr/>
          </p:nvSpPr>
          <p:spPr>
            <a:xfrm>
              <a:off x="762120" y="3581280"/>
              <a:ext cx="2819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3318"/>
          <p:cNvSpPr/>
          <p:nvPr/>
        </p:nvSpPr>
        <p:spPr>
          <a:xfrm>
            <a:off x="2209680" y="9144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国家、民族等）衰落，不兴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319"/>
          <p:cNvSpPr/>
          <p:nvPr/>
        </p:nvSpPr>
        <p:spPr>
          <a:xfrm>
            <a:off x="228600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形容令人惊讶的事物突然呈现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320"/>
          <p:cNvSpPr/>
          <p:nvPr/>
        </p:nvSpPr>
        <p:spPr>
          <a:xfrm>
            <a:off x="3200400" y="2819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用心专注而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3:51:55Z</dcterms:created>
  <dc:creator>Legend User</dc:creator>
  <dc:description/>
  <dc:language>en-US</dc:language>
  <cp:lastModifiedBy>Administrator</cp:lastModifiedBy>
  <dcterms:modified xsi:type="dcterms:W3CDTF">2019-01-05T01:28:38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