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76F-DDE4-4853-BFBB-06A7AEB7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2F2-D184-4515-9B64-DF03A45C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74E-2FD6-41E3-8EBB-A7BBE926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5A1-141E-4B59-866D-1250B140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B6B-B267-4F49-8458-6A1EE362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A73-CD59-411C-8E2C-6AF18357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0EE-C002-4E67-84C9-1AE0AFEF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119-1C20-4460-BD14-FB7F49FC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997-DE47-4BE4-90E8-5923C144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732-930A-4AE8-8366-82A5BEE7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047-85CE-4F0F-86D2-6E199F6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DD3-510D-431C-B424-CFBE549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F89C-EC6D-42E5-B83A-A24F129B9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jnhsx.com/Article_Print.asp?ArticleID=3472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jnhsx.com/Article_Print.asp?ArticleID=3474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副标题 2"/>
          <p:cNvSpPr/>
          <p:nvPr/>
        </p:nvSpPr>
        <p:spPr>
          <a:xfrm>
            <a:off x="923760" y="2351160"/>
            <a:ext cx="5381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七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标题 1"/>
          <p:cNvSpPr/>
          <p:nvPr/>
        </p:nvSpPr>
        <p:spPr>
          <a:xfrm>
            <a:off x="923760" y="1600200"/>
            <a:ext cx="5381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孙权劝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1611360" y="2351160"/>
            <a:ext cx="40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77800" y="809640"/>
            <a:ext cx="39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解释划线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77800" y="1332000"/>
            <a:ext cx="550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卿今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当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蒙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军中多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岂欲卿治经为博士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当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涉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往事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鲁肃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过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寻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士别三日，即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刮目相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兄何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见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晚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793960" y="13003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当涂：当道，当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480200" y="4248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见事：知晓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904280" y="3726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更：重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389760" y="32558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过：经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916240" y="277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涉猎：粗略地阅读；见：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535360" y="22845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孤：古时王侯的自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669120" y="1824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辞：推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3"/>
          <p:cNvGrpSpPr/>
          <p:nvPr/>
        </p:nvGrpSpPr>
        <p:grpSpPr>
          <a:xfrm>
            <a:off x="187200" y="141120"/>
            <a:ext cx="2062440" cy="544680"/>
            <a:chOff x="187200" y="141120"/>
            <a:chExt cx="2062440" cy="544680"/>
          </a:xfrm>
        </p:grpSpPr>
        <p:pic>
          <p:nvPicPr>
            <p:cNvPr id="96" name="图片 1" descr=""/>
            <p:cNvPicPr/>
            <p:nvPr/>
          </p:nvPicPr>
          <p:blipFill>
            <a:blip r:embed="rId1"/>
            <a:stretch/>
          </p:blipFill>
          <p:spPr>
            <a:xfrm>
              <a:off x="260280" y="149040"/>
              <a:ext cx="19893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2"/>
            <p:cNvSpPr/>
            <p:nvPr/>
          </p:nvSpPr>
          <p:spPr>
            <a:xfrm>
              <a:off x="187200" y="1411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词语解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519360" y="15552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43000" y="932040"/>
            <a:ext cx="3755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岂欲卿治经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博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43000" y="1631880"/>
            <a:ext cx="8634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孤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古）古代王侯的自称；（今）孤单，孤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博士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古）专掌经学传授的学官；（今）学位最高一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907560" y="2854440"/>
            <a:ext cx="2100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当涉猎，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往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43000" y="3444840"/>
            <a:ext cx="6119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但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古）只，只是；（今）转折连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往事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古）指历史；（今）过去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3200400" y="206280"/>
            <a:ext cx="27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851200" y="1141560"/>
            <a:ext cx="280836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卿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涂掌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涉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854440" y="2959200"/>
            <a:ext cx="324144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蒙乃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指物作诗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203560" y="16272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292840" y="3490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170320" y="1150920"/>
            <a:ext cx="1113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掌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013360" y="2970360"/>
            <a:ext cx="60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从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2779560" y="1467000"/>
            <a:ext cx="74880" cy="998280"/>
          </a:xfrm>
          <a:custGeom>
            <a:avLst/>
            <a:gdLst>
              <a:gd name="textAreaLeft" fmla="*/ 47880 w 74880"/>
              <a:gd name="textAreaRight" fmla="*/ 75240 w 74880"/>
              <a:gd name="textAreaTop" fmla="*/ 24120 h 998280"/>
              <a:gd name="textAreaBottom" fmla="*/ 9741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3"/>
                  <a:pt x="10800" y="1685"/>
                </a:cubicBezTo>
                <a:lnTo>
                  <a:pt x="10800" y="9115"/>
                </a:lnTo>
                <a:cubicBezTo>
                  <a:pt x="10800" y="9958"/>
                  <a:pt x="5400" y="10800"/>
                  <a:pt x="0" y="10800"/>
                </a:cubicBezTo>
                <a:cubicBezTo>
                  <a:pt x="5400" y="10800"/>
                  <a:pt x="10800" y="11643"/>
                  <a:pt x="10800" y="12485"/>
                </a:cubicBezTo>
                <a:lnTo>
                  <a:pt x="10800" y="19915"/>
                </a:lnTo>
                <a:cubicBezTo>
                  <a:pt x="10800" y="2075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2774880" y="3306600"/>
            <a:ext cx="79560" cy="952560"/>
          </a:xfrm>
          <a:custGeom>
            <a:avLst/>
            <a:gdLst>
              <a:gd name="textAreaLeft" fmla="*/ 50760 w 79560"/>
              <a:gd name="textAreaRight" fmla="*/ 79920 w 79560"/>
              <a:gd name="textAreaTop" fmla="*/ 25200 h 952560"/>
              <a:gd name="textAreaBottom" fmla="*/ 92736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0"/>
                  <a:pt x="10800" y="1839"/>
                </a:cubicBezTo>
                <a:lnTo>
                  <a:pt x="10800" y="8961"/>
                </a:lnTo>
                <a:cubicBezTo>
                  <a:pt x="10800" y="9881"/>
                  <a:pt x="5400" y="10800"/>
                  <a:pt x="0" y="10800"/>
                </a:cubicBezTo>
                <a:cubicBezTo>
                  <a:pt x="5400" y="10800"/>
                  <a:pt x="10800" y="11720"/>
                  <a:pt x="10800" y="12639"/>
                </a:cubicBezTo>
                <a:lnTo>
                  <a:pt x="10800" y="19761"/>
                </a:lnTo>
                <a:cubicBezTo>
                  <a:pt x="10800" y="2068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4475160" y="1919160"/>
            <a:ext cx="2065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应当；应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526360" y="3710160"/>
            <a:ext cx="60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2608200" y="577800"/>
            <a:ext cx="280836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往事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事之晚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541600" y="2473200"/>
            <a:ext cx="32418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蒙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军中多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大有所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960560" y="10112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959480" y="2998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835520" y="609480"/>
            <a:ext cx="111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335560" y="2521080"/>
            <a:ext cx="820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用，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2536920" y="903240"/>
            <a:ext cx="74520" cy="884160"/>
          </a:xfrm>
          <a:custGeom>
            <a:avLst/>
            <a:gdLst>
              <a:gd name="textAreaLeft" fmla="*/ 47520 w 74520"/>
              <a:gd name="textAreaRight" fmla="*/ 74880 w 74520"/>
              <a:gd name="textAreaTop" fmla="*/ 24120 h 884160"/>
              <a:gd name="textAreaBottom" fmla="*/ 860040 h 88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2"/>
                  <a:pt x="10800" y="1903"/>
                </a:cubicBezTo>
                <a:lnTo>
                  <a:pt x="10800" y="8897"/>
                </a:lnTo>
                <a:cubicBezTo>
                  <a:pt x="10800" y="9849"/>
                  <a:pt x="5400" y="10800"/>
                  <a:pt x="0" y="10800"/>
                </a:cubicBezTo>
                <a:cubicBezTo>
                  <a:pt x="5400" y="10800"/>
                  <a:pt x="10800" y="11752"/>
                  <a:pt x="10800" y="12703"/>
                </a:cubicBezTo>
                <a:lnTo>
                  <a:pt x="10800" y="19697"/>
                </a:lnTo>
                <a:cubicBezTo>
                  <a:pt x="10800" y="206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470320" y="2809800"/>
            <a:ext cx="102960" cy="962280"/>
          </a:xfrm>
          <a:custGeom>
            <a:avLst/>
            <a:gdLst>
              <a:gd name="textAreaLeft" fmla="*/ 65880 w 102960"/>
              <a:gd name="textAreaRight" fmla="*/ 103320 w 102960"/>
              <a:gd name="textAreaTop" fmla="*/ 33120 h 962280"/>
              <a:gd name="textAreaBottom" fmla="*/ 929160 h 9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3"/>
                  <a:pt x="10800" y="2386"/>
                </a:cubicBezTo>
                <a:lnTo>
                  <a:pt x="10800" y="8414"/>
                </a:lnTo>
                <a:cubicBezTo>
                  <a:pt x="10800" y="9607"/>
                  <a:pt x="5400" y="10800"/>
                  <a:pt x="0" y="10800"/>
                </a:cubicBezTo>
                <a:cubicBezTo>
                  <a:pt x="5400" y="10800"/>
                  <a:pt x="10800" y="11993"/>
                  <a:pt x="10800" y="13186"/>
                </a:cubicBezTo>
                <a:lnTo>
                  <a:pt x="10800" y="19214"/>
                </a:lnTo>
                <a:cubicBezTo>
                  <a:pt x="10800" y="2040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886280" y="1344600"/>
            <a:ext cx="978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认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808240" y="3244680"/>
            <a:ext cx="2100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与“为”连用，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64960" y="26676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翻译句子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314800" y="1063800"/>
            <a:ext cx="37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蒙辞以军中多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060560" y="1731960"/>
            <a:ext cx="74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吕蒙以军营中事务繁多为理由加以推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63680" y="3009960"/>
            <a:ext cx="7899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宋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我难道是想要你钻研经史典籍而成为学问渊博的学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63560" y="242100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孤岂欲卿治经为博士邪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241200" y="865080"/>
            <a:ext cx="8529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如今的才干谋略，已不再是过去的东吴吕蒙可相比的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17440" y="2703600"/>
            <a:ext cx="8388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对于有志气的人，分别了数日后，就应当擦亮眼睛重新看待他的才能，长兄怎么看到事物的变化这么晚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426680" y="3715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卿今者才略，非复吴下阿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01600" y="2109960"/>
            <a:ext cx="87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士别三日，即更刮目相待，大兄何见事之晚乎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36"/>
          <p:cNvSpPr/>
          <p:nvPr/>
        </p:nvSpPr>
        <p:spPr>
          <a:xfrm>
            <a:off x="307800" y="1946160"/>
            <a:ext cx="8477280" cy="405000"/>
          </a:xfrm>
          <a:prstGeom prst="rect">
            <a:avLst/>
          </a:prstGeom>
          <a:solidFill>
            <a:srgbClr val="ff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5"/>
          <p:cNvSpPr/>
          <p:nvPr/>
        </p:nvSpPr>
        <p:spPr>
          <a:xfrm>
            <a:off x="317520" y="3119400"/>
            <a:ext cx="6445080" cy="405000"/>
          </a:xfrm>
          <a:prstGeom prst="rect">
            <a:avLst/>
          </a:prstGeom>
          <a:solidFill>
            <a:srgbClr val="ff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50720" y="635040"/>
            <a:ext cx="827568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孙权劝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 初，权谓吕蒙曰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当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事，不可不学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蒙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军中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权曰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岂欲卿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治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博士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7"/>
          <p:cNvSpPr/>
          <p:nvPr/>
        </p:nvSpPr>
        <p:spPr>
          <a:xfrm>
            <a:off x="2463840" y="1407960"/>
            <a:ext cx="2066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古代君对臣或朋友、夫妇之间的爱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38"/>
          <p:cNvSpPr/>
          <p:nvPr/>
        </p:nvSpPr>
        <p:spPr>
          <a:xfrm>
            <a:off x="4530600" y="1600200"/>
            <a:ext cx="1501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当道，当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9"/>
          <p:cNvSpPr/>
          <p:nvPr/>
        </p:nvSpPr>
        <p:spPr>
          <a:xfrm>
            <a:off x="7913520" y="1600200"/>
            <a:ext cx="87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推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0"/>
          <p:cNvSpPr/>
          <p:nvPr/>
        </p:nvSpPr>
        <p:spPr>
          <a:xfrm>
            <a:off x="1552680" y="3524400"/>
            <a:ext cx="911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事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2"/>
          <p:cNvSpPr/>
          <p:nvPr/>
        </p:nvSpPr>
        <p:spPr>
          <a:xfrm>
            <a:off x="3170160" y="3557520"/>
            <a:ext cx="1192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古时王侯的自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3"/>
          <p:cNvSpPr/>
          <p:nvPr/>
        </p:nvSpPr>
        <p:spPr>
          <a:xfrm>
            <a:off x="4287960" y="3522600"/>
            <a:ext cx="20415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研究儒家经典。经，指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易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》《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书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》《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诗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》《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礼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》《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春秋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等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4"/>
          <p:cNvSpPr/>
          <p:nvPr/>
        </p:nvSpPr>
        <p:spPr>
          <a:xfrm>
            <a:off x="5400720" y="2489040"/>
            <a:ext cx="1361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专掌经学传授的学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4"/>
          <p:cNvSpPr/>
          <p:nvPr/>
        </p:nvSpPr>
        <p:spPr>
          <a:xfrm>
            <a:off x="6838920" y="2951280"/>
            <a:ext cx="1416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语气词，后写作“耶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3"/>
          <p:cNvGrpSpPr/>
          <p:nvPr/>
        </p:nvGrpSpPr>
        <p:grpSpPr>
          <a:xfrm>
            <a:off x="293760" y="331920"/>
            <a:ext cx="2062080" cy="544320"/>
            <a:chOff x="293760" y="331920"/>
            <a:chExt cx="2062080" cy="544320"/>
          </a:xfrm>
        </p:grpSpPr>
        <p:pic>
          <p:nvPicPr>
            <p:cNvPr id="145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33984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2"/>
            <p:cNvSpPr/>
            <p:nvPr/>
          </p:nvSpPr>
          <p:spPr>
            <a:xfrm>
              <a:off x="293760" y="3319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释词解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21"/>
          <p:cNvSpPr/>
          <p:nvPr/>
        </p:nvSpPr>
        <p:spPr>
          <a:xfrm>
            <a:off x="404640" y="3670200"/>
            <a:ext cx="5669280" cy="405000"/>
          </a:xfrm>
          <a:prstGeom prst="rect">
            <a:avLst/>
          </a:prstGeom>
          <a:solidFill>
            <a:srgbClr val="ff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6"/>
          <p:cNvSpPr/>
          <p:nvPr/>
        </p:nvSpPr>
        <p:spPr>
          <a:xfrm>
            <a:off x="351000" y="1157400"/>
            <a:ext cx="8476920" cy="404640"/>
          </a:xfrm>
          <a:prstGeom prst="rect">
            <a:avLst/>
          </a:prstGeom>
          <a:solidFill>
            <a:srgbClr val="ff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5"/>
          <p:cNvSpPr/>
          <p:nvPr/>
        </p:nvSpPr>
        <p:spPr>
          <a:xfrm>
            <a:off x="351000" y="2389320"/>
            <a:ext cx="8476920" cy="404640"/>
          </a:xfrm>
          <a:prstGeom prst="rect">
            <a:avLst/>
          </a:prstGeom>
          <a:solidFill>
            <a:srgbClr val="ff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404640" y="447840"/>
            <a:ext cx="827568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3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涉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见往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耳。卿言多务，孰若孤？孤常读书，自以为大有所益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蒙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始就学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鲁肃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过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寻阳，与蒙论议，大惊曰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卿今者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才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非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吴下阿蒙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41"/>
          <p:cNvSpPr/>
          <p:nvPr/>
        </p:nvSpPr>
        <p:spPr>
          <a:xfrm>
            <a:off x="1012680" y="549360"/>
            <a:ext cx="1006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粗略地阅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7"/>
          <p:cNvSpPr/>
          <p:nvPr/>
        </p:nvSpPr>
        <p:spPr>
          <a:xfrm>
            <a:off x="2014560" y="534960"/>
            <a:ext cx="2451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了解历史。见，了解。往事，指历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2"/>
          <p:cNvSpPr/>
          <p:nvPr/>
        </p:nvSpPr>
        <p:spPr>
          <a:xfrm>
            <a:off x="2739960" y="2776680"/>
            <a:ext cx="1192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于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42"/>
          <p:cNvSpPr/>
          <p:nvPr/>
        </p:nvSpPr>
        <p:spPr>
          <a:xfrm>
            <a:off x="4103640" y="1992240"/>
            <a:ext cx="1312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到，等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2"/>
          <p:cNvSpPr/>
          <p:nvPr/>
        </p:nvSpPr>
        <p:spPr>
          <a:xfrm>
            <a:off x="5256360" y="2793960"/>
            <a:ext cx="657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经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42"/>
          <p:cNvSpPr/>
          <p:nvPr/>
        </p:nvSpPr>
        <p:spPr>
          <a:xfrm>
            <a:off x="2270160" y="4051440"/>
            <a:ext cx="1447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才干和谋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2"/>
          <p:cNvSpPr/>
          <p:nvPr/>
        </p:nvSpPr>
        <p:spPr>
          <a:xfrm>
            <a:off x="3483000" y="3322800"/>
            <a:ext cx="1106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不再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36"/>
          <p:cNvSpPr/>
          <p:nvPr/>
        </p:nvSpPr>
        <p:spPr>
          <a:xfrm>
            <a:off x="351000" y="1351080"/>
            <a:ext cx="8476920" cy="404640"/>
          </a:xfrm>
          <a:prstGeom prst="rect">
            <a:avLst/>
          </a:prstGeom>
          <a:solidFill>
            <a:srgbClr val="ff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5"/>
          <p:cNvSpPr/>
          <p:nvPr/>
        </p:nvSpPr>
        <p:spPr>
          <a:xfrm>
            <a:off x="351000" y="2468520"/>
            <a:ext cx="3581280" cy="405000"/>
          </a:xfrm>
          <a:prstGeom prst="rect">
            <a:avLst/>
          </a:prstGeom>
          <a:solidFill>
            <a:srgbClr val="ff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404640" y="808200"/>
            <a:ext cx="82756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蒙曰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士别三日，即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更刮目相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大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何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见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晚乎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肃遂拜蒙母，结友而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1"/>
          <p:cNvSpPr/>
          <p:nvPr/>
        </p:nvSpPr>
        <p:spPr>
          <a:xfrm>
            <a:off x="3322800" y="1778040"/>
            <a:ext cx="947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重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3808440" y="717480"/>
            <a:ext cx="279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拭目相看，用新的眼光看待。刮目，擦擦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2"/>
          <p:cNvSpPr/>
          <p:nvPr/>
        </p:nvSpPr>
        <p:spPr>
          <a:xfrm>
            <a:off x="4970520" y="1755720"/>
            <a:ext cx="1739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长兄，这里是对朋友辈的敬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42"/>
          <p:cNvSpPr/>
          <p:nvPr/>
        </p:nvSpPr>
        <p:spPr>
          <a:xfrm>
            <a:off x="6438960" y="1001880"/>
            <a:ext cx="131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知晓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98440" y="1389240"/>
            <a:ext cx="819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本文写的是吕蒙在孙权劝说下开始学习，其才略很快就有惊人的长进而令鲁肃叹服并与之“结友”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407040" y="5889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听朗读，概括课文的故事情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94880" y="31608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故事情节是如何开展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017720" y="3938760"/>
            <a:ext cx="5402160" cy="485640"/>
          </a:xfrm>
          <a:custGeom>
            <a:avLst/>
            <a:gdLst>
              <a:gd name="textAreaLeft" fmla="*/ 0 w 5402160"/>
              <a:gd name="textAreaRight" fmla="*/ 5402520 w 54021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51" y="0"/>
                </a:lnTo>
                <a:lnTo>
                  <a:pt x="21600" y="10800"/>
                </a:lnTo>
                <a:lnTo>
                  <a:pt x="175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通过人物对话展开故事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图片3"/>
          <p:cNvPicPr/>
          <p:nvPr/>
        </p:nvPicPr>
        <p:blipFill>
          <a:blip r:embed="rId1"/>
          <a:stretch/>
        </p:blipFill>
        <p:spPr>
          <a:xfrm>
            <a:off x="6419880" y="426960"/>
            <a:ext cx="1066680" cy="7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3"/>
          <p:cNvGrpSpPr/>
          <p:nvPr/>
        </p:nvGrpSpPr>
        <p:grpSpPr>
          <a:xfrm>
            <a:off x="293760" y="331920"/>
            <a:ext cx="2062080" cy="544320"/>
            <a:chOff x="293760" y="331920"/>
            <a:chExt cx="2062080" cy="544320"/>
          </a:xfrm>
        </p:grpSpPr>
        <p:pic>
          <p:nvPicPr>
            <p:cNvPr id="45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33984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文本框 2"/>
            <p:cNvSpPr/>
            <p:nvPr/>
          </p:nvSpPr>
          <p:spPr>
            <a:xfrm>
              <a:off x="293760" y="3319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910120" y="693720"/>
            <a:ext cx="2514600" cy="33955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6391440" y="41911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孙权（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rcRect l="11011" t="0" r="12560" b="0"/>
          <a:stretch/>
        </p:blipFill>
        <p:spPr>
          <a:xfrm>
            <a:off x="374760" y="1011240"/>
            <a:ext cx="2254320" cy="2981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797040" y="41101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曹操（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3170160" y="743040"/>
            <a:ext cx="2419560" cy="3367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3468600" y="4168800"/>
            <a:ext cx="19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刘备（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11280" y="2465280"/>
            <a:ext cx="8208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可用文中哪两个词语来概括鲁肃与吕蒙对话的主要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250720" y="49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全文共写了哪两个片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2470320" y="1195560"/>
            <a:ext cx="2954880" cy="52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孙权劝学，吕蒙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乃始就学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155320" y="1766880"/>
            <a:ext cx="2100960" cy="52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与蒙议论，结友而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04960" y="3763800"/>
            <a:ext cx="20588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吴下阿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65560" y="3873600"/>
            <a:ext cx="24559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刮目相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183200" y="296856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非复吴下阿蒙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（惊异、赞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27040" y="1692360"/>
            <a:ext cx="50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孙权劝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128600" y="2178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327400" y="1258920"/>
            <a:ext cx="111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孙权劝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485880" y="938160"/>
            <a:ext cx="66852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孙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吕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114800" y="585720"/>
            <a:ext cx="2946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不可不学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大有所益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（恳切、关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7001280" y="153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认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327400" y="3203640"/>
            <a:ext cx="111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与蒙议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576240" y="2933640"/>
            <a:ext cx="6685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鲁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吕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7061400" y="3521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风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箭头 261"/>
          <p:cNvSpPr/>
          <p:nvPr/>
        </p:nvSpPr>
        <p:spPr>
          <a:xfrm>
            <a:off x="1247760" y="27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2274840" y="1368360"/>
            <a:ext cx="76320" cy="2482920"/>
          </a:xfrm>
          <a:custGeom>
            <a:avLst/>
            <a:gdLst>
              <a:gd name="textAreaLeft" fmla="*/ 48960 w 76320"/>
              <a:gd name="textAreaRight" fmla="*/ 76320 w 76320"/>
              <a:gd name="textAreaTop" fmla="*/ 86040 h 2482920"/>
              <a:gd name="textAreaBottom" fmla="*/ 2396880 h 24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399"/>
                </a:cubicBezTo>
                <a:lnTo>
                  <a:pt x="10800" y="8401"/>
                </a:lnTo>
                <a:cubicBezTo>
                  <a:pt x="10800" y="9601"/>
                  <a:pt x="5400" y="10800"/>
                  <a:pt x="0" y="10800"/>
                </a:cubicBezTo>
                <a:cubicBezTo>
                  <a:pt x="5400" y="10800"/>
                  <a:pt x="10800" y="12000"/>
                  <a:pt x="10800" y="13199"/>
                </a:cubicBezTo>
                <a:lnTo>
                  <a:pt x="10800" y="19201"/>
                </a:lnTo>
                <a:cubicBezTo>
                  <a:pt x="10800" y="204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3270240" y="1258920"/>
            <a:ext cx="103320" cy="1135080"/>
          </a:xfrm>
          <a:custGeom>
            <a:avLst/>
            <a:gdLst>
              <a:gd name="textAreaLeft" fmla="*/ 66240 w 103320"/>
              <a:gd name="textAreaRight" fmla="*/ 103680 w 103320"/>
              <a:gd name="textAreaTop" fmla="*/ 63360 h 1135080"/>
              <a:gd name="textAreaBottom" fmla="*/ 1071720 h 113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33"/>
                  <a:pt x="10800" y="3866"/>
                </a:cubicBezTo>
                <a:lnTo>
                  <a:pt x="10800" y="6934"/>
                </a:lnTo>
                <a:cubicBezTo>
                  <a:pt x="10800" y="8867"/>
                  <a:pt x="5400" y="10800"/>
                  <a:pt x="0" y="10800"/>
                </a:cubicBezTo>
                <a:cubicBezTo>
                  <a:pt x="5400" y="10800"/>
                  <a:pt x="10800" y="12733"/>
                  <a:pt x="10800" y="14666"/>
                </a:cubicBezTo>
                <a:lnTo>
                  <a:pt x="10800" y="17734"/>
                </a:lnTo>
                <a:cubicBezTo>
                  <a:pt x="10800" y="196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3373560" y="3230640"/>
            <a:ext cx="71280" cy="1243080"/>
          </a:xfrm>
          <a:custGeom>
            <a:avLst/>
            <a:gdLst>
              <a:gd name="textAreaLeft" fmla="*/ 45720 w 71280"/>
              <a:gd name="textAreaRight" fmla="*/ 71640 w 71280"/>
              <a:gd name="textAreaTop" fmla="*/ 40320 h 1243080"/>
              <a:gd name="textAreaBottom" fmla="*/ 1202760 h 12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25"/>
                  <a:pt x="10800" y="2249"/>
                </a:cubicBezTo>
                <a:lnTo>
                  <a:pt x="10800" y="8551"/>
                </a:lnTo>
                <a:cubicBezTo>
                  <a:pt x="10800" y="9676"/>
                  <a:pt x="5400" y="10800"/>
                  <a:pt x="0" y="10800"/>
                </a:cubicBezTo>
                <a:cubicBezTo>
                  <a:pt x="5400" y="10800"/>
                  <a:pt x="10800" y="11925"/>
                  <a:pt x="10800" y="13049"/>
                </a:cubicBezTo>
                <a:lnTo>
                  <a:pt x="10800" y="19351"/>
                </a:lnTo>
                <a:cubicBezTo>
                  <a:pt x="10800" y="20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6521400" y="1068480"/>
            <a:ext cx="144360" cy="1458720"/>
          </a:xfrm>
          <a:custGeom>
            <a:avLst/>
            <a:gdLst>
              <a:gd name="textAreaLeft" fmla="*/ 0 w 144360"/>
              <a:gd name="textAreaRight" fmla="*/ 52200 w 144360"/>
              <a:gd name="textAreaTop" fmla="*/ 50400 h 1458720"/>
              <a:gd name="textAreaBottom" fmla="*/ 1408320 h 145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0"/>
                  <a:pt x="10800" y="2399"/>
                </a:cubicBezTo>
                <a:lnTo>
                  <a:pt x="10800" y="8401"/>
                </a:lnTo>
                <a:cubicBezTo>
                  <a:pt x="10800" y="9601"/>
                  <a:pt x="16200" y="10800"/>
                  <a:pt x="21600" y="10800"/>
                </a:cubicBezTo>
                <a:cubicBezTo>
                  <a:pt x="16200" y="10800"/>
                  <a:pt x="10800" y="12000"/>
                  <a:pt x="10800" y="13199"/>
                </a:cubicBezTo>
                <a:lnTo>
                  <a:pt x="10800" y="19201"/>
                </a:lnTo>
                <a:cubicBezTo>
                  <a:pt x="10800" y="204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6723000" y="3070080"/>
            <a:ext cx="76320" cy="1613160"/>
          </a:xfrm>
          <a:custGeom>
            <a:avLst/>
            <a:gdLst>
              <a:gd name="textAreaLeft" fmla="*/ 0 w 76320"/>
              <a:gd name="textAreaRight" fmla="*/ 27360 w 76320"/>
              <a:gd name="textAreaTop" fmla="*/ 55800 h 1613160"/>
              <a:gd name="textAreaBottom" fmla="*/ 1557360 h 161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0"/>
                  <a:pt x="10800" y="2399"/>
                </a:cubicBezTo>
                <a:lnTo>
                  <a:pt x="10800" y="8401"/>
                </a:lnTo>
                <a:cubicBezTo>
                  <a:pt x="10800" y="9601"/>
                  <a:pt x="16200" y="10800"/>
                  <a:pt x="21600" y="10800"/>
                </a:cubicBezTo>
                <a:cubicBezTo>
                  <a:pt x="16200" y="10800"/>
                  <a:pt x="10800" y="12000"/>
                  <a:pt x="10800" y="13199"/>
                </a:cubicBezTo>
                <a:lnTo>
                  <a:pt x="10800" y="19201"/>
                </a:lnTo>
                <a:cubicBezTo>
                  <a:pt x="10800" y="204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4528440" y="21319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乃始就学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"/>
          <p:cNvGrpSpPr/>
          <p:nvPr/>
        </p:nvGrpSpPr>
        <p:grpSpPr>
          <a:xfrm>
            <a:off x="293760" y="331920"/>
            <a:ext cx="2062080" cy="544320"/>
            <a:chOff x="293760" y="331920"/>
            <a:chExt cx="2062080" cy="544320"/>
          </a:xfrm>
        </p:grpSpPr>
        <p:pic>
          <p:nvPicPr>
            <p:cNvPr id="194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33984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文本框 2"/>
            <p:cNvSpPr/>
            <p:nvPr/>
          </p:nvSpPr>
          <p:spPr>
            <a:xfrm>
              <a:off x="293760" y="3319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结构梳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2"/>
          <p:cNvSpPr/>
          <p:nvPr/>
        </p:nvSpPr>
        <p:spPr>
          <a:xfrm>
            <a:off x="4317840" y="392256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刮目相待</a:t>
            </a:r>
            <a:r>
              <a:rPr b="1" lang="zh-CN" sz="24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cc"/>
                </a:solidFill>
                <a:latin typeface="黑体"/>
                <a:ea typeface="黑体"/>
              </a:rPr>
              <a:t>（自得、自豪）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00120" y="876240"/>
            <a:ext cx="8315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的人物对话写得十分精妙。请反复品读，细细揣摩三位人物各自说话时的口吻、神态和心理，体会本文对话描写的特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216000" y="2730600"/>
            <a:ext cx="934920" cy="701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孙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3"/>
          <p:cNvGrpSpPr/>
          <p:nvPr/>
        </p:nvGrpSpPr>
        <p:grpSpPr>
          <a:xfrm>
            <a:off x="293760" y="331920"/>
            <a:ext cx="2062080" cy="544320"/>
            <a:chOff x="293760" y="331920"/>
            <a:chExt cx="2062080" cy="544320"/>
          </a:xfrm>
        </p:grpSpPr>
        <p:pic>
          <p:nvPicPr>
            <p:cNvPr id="200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33984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文本框 2"/>
            <p:cNvSpPr/>
            <p:nvPr/>
          </p:nvSpPr>
          <p:spPr>
            <a:xfrm>
              <a:off x="293760" y="3319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研读赏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圆角矩形标注 1"/>
          <p:cNvSpPr/>
          <p:nvPr/>
        </p:nvSpPr>
        <p:spPr>
          <a:xfrm>
            <a:off x="1432080" y="2556000"/>
            <a:ext cx="7292880" cy="1981080"/>
          </a:xfrm>
          <a:prstGeom prst="wedgeRoundRectCallout">
            <a:avLst>
              <a:gd name="adj1" fmla="val -52939"/>
              <a:gd name="adj2" fmla="val -18787"/>
              <a:gd name="adj3" fmla="val 16667"/>
            </a:avLst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先一语破的，向吕蒙指出“学”的必要性；继而现身说法，指出“学”的可能性，使吕蒙无可推辞。从孙权的话中，既可以看出他的善权，又可以感到他对吕蒙的亲近、关心、期望，又不失主人身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6"/>
          <p:cNvSpPr/>
          <p:nvPr/>
        </p:nvSpPr>
        <p:spPr>
          <a:xfrm>
            <a:off x="237960" y="790560"/>
            <a:ext cx="935280" cy="701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鲁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标注 11"/>
          <p:cNvSpPr/>
          <p:nvPr/>
        </p:nvSpPr>
        <p:spPr>
          <a:xfrm>
            <a:off x="1501920" y="1141560"/>
            <a:ext cx="6940440" cy="3133440"/>
          </a:xfrm>
          <a:prstGeom prst="wedgeRoundRectCallout">
            <a:avLst>
              <a:gd name="adj1" fmla="val -56462"/>
              <a:gd name="adj2" fmla="val -36120"/>
              <a:gd name="adj3" fmla="val 16667"/>
            </a:avLst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情不自禁地赞叹，可见鲁肃十分惊奇的神态，在他眼中吕蒙变化之大简直判若两人，表现吕蒙因“学”而使才略有了令人难以置信的惊人长进，鲁肃不仅地位高于吕蒙，而且很有学识，由他说出此番话，更可表明吕蒙的长进非同一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6"/>
          <p:cNvSpPr/>
          <p:nvPr/>
        </p:nvSpPr>
        <p:spPr>
          <a:xfrm>
            <a:off x="7942320" y="2900520"/>
            <a:ext cx="934920" cy="701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吕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标注 11"/>
          <p:cNvSpPr/>
          <p:nvPr/>
        </p:nvSpPr>
        <p:spPr>
          <a:xfrm>
            <a:off x="452520" y="181080"/>
            <a:ext cx="7277040" cy="3421080"/>
          </a:xfrm>
          <a:prstGeom prst="wedgeRoundRectCallout">
            <a:avLst>
              <a:gd name="adj1" fmla="val 53305"/>
              <a:gd name="adj2" fmla="val 28157"/>
              <a:gd name="adj3" fmla="val 16667"/>
            </a:avLst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 “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士别三日，即更刮目相待，大兄何见事之晚乎！”是吕蒙对鲁肃赞叹的巧妙接应。“三日”形容时间很短，“刮目”是擦拭眼睛，表示十分惊奇、难以置信的样子。从吕蒙的答语中可见他颇为自得的神态。他以当之无愧的坦然态度，表明自己才略长进之快之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84040" y="3724200"/>
            <a:ext cx="8448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孙权的话是认真相劝，鲁肃、吕蒙的话则有调侃的意味，二者的情调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53960" y="1774800"/>
            <a:ext cx="8460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ff"/>
                </a:solidFill>
                <a:latin typeface="宋体"/>
              </a:rPr>
              <a:t>鲁肃之所以愿意主动与吕蒙结交，是因为鲁肃折服于吕蒙的才华，这表明鲁肃敬才、爱才，二人志趣相投。这最后一笔，是鲁肃“与蒙论议”的余韵，进一步从侧面表现了吕蒙才略的巨大长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176560" y="961920"/>
            <a:ext cx="5025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鲁肃为什么与吕蒙“结友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"/>
          <p:cNvGrpSpPr/>
          <p:nvPr/>
        </p:nvGrpSpPr>
        <p:grpSpPr>
          <a:xfrm>
            <a:off x="119160" y="201600"/>
            <a:ext cx="2062080" cy="544680"/>
            <a:chOff x="119160" y="201600"/>
            <a:chExt cx="2062080" cy="544680"/>
          </a:xfrm>
        </p:grpSpPr>
        <p:pic>
          <p:nvPicPr>
            <p:cNvPr id="211" name="图片 1" descr=""/>
            <p:cNvPicPr/>
            <p:nvPr/>
          </p:nvPicPr>
          <p:blipFill>
            <a:blip r:embed="rId1"/>
            <a:stretch/>
          </p:blipFill>
          <p:spPr>
            <a:xfrm>
              <a:off x="192240" y="20952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文本框 2"/>
            <p:cNvSpPr/>
            <p:nvPr/>
          </p:nvSpPr>
          <p:spPr>
            <a:xfrm>
              <a:off x="119160" y="20160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455760" y="725400"/>
            <a:ext cx="828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孙权劝吕蒙，使之“就学”，“劝”的本领可谓高矣。试分析一下他劝说技巧的高明之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Administrator\Desktop\探究8.jpg"/>
          <p:cNvPicPr/>
          <p:nvPr/>
        </p:nvPicPr>
        <p:blipFill>
          <a:blip r:embed="rId1"/>
          <a:stretch/>
        </p:blipFill>
        <p:spPr>
          <a:xfrm>
            <a:off x="727200" y="2075040"/>
            <a:ext cx="7437240" cy="237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Users\Administrator\Desktop\探究9.jpg"/>
          <p:cNvPicPr/>
          <p:nvPr/>
        </p:nvPicPr>
        <p:blipFill>
          <a:blip r:embed="rId1"/>
          <a:stretch/>
        </p:blipFill>
        <p:spPr>
          <a:xfrm>
            <a:off x="503280" y="1479600"/>
            <a:ext cx="811512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455760" y="1770120"/>
            <a:ext cx="845964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99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cc"/>
                </a:solidFill>
                <a:latin typeface="宋体"/>
              </a:rPr>
              <a:t>读书、学习是非常重要的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ff"/>
                </a:solidFill>
                <a:latin typeface="宋体"/>
              </a:rPr>
              <a:t>读书可以增长人的才干，读书可以改变人生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66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ff"/>
                </a:solidFill>
                <a:latin typeface="宋体"/>
              </a:rPr>
              <a:t>读书可以陶冶人的情操，可以提高人的品位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宋体"/>
              </a:rPr>
              <a:t>读书不只是学生要做的事，参加工作的人同样要读书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宋体"/>
              </a:rPr>
              <a:t>人要养成终生学习的习惯，活到老，学到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55760" y="712800"/>
            <a:ext cx="828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吕蒙由不学到学有所成的经历给了我们怎样的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298680" y="136440"/>
            <a:ext cx="21751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写作鉴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47680" y="830160"/>
            <a:ext cx="85536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记事简洁，剪裁精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全文只写“孙权劝学”和“与蒙论议”两个片段。写孙权劝学，着重以孙权的劝说之言来表现他的善劝，略写吕蒙的答语和反应；写鲁肃“与蒙论议”，着重写二人一唱一和互相打趣的对话，略写二人“论议”的内容，并仅以“肃遂拜蒙母，结友而别”一句作结。此外，人物的语言也非常简洁，极富表现力，毫无冗繁之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187200" y="1036800"/>
            <a:ext cx="8667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有关司马光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治通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文学常识；掌握文中涉及到的常用文言词语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疏通文意，学习本文运用语言描写和侧面描写刻画人物的方法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规劝的艺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劝，培养善纳雅言的品质，理解学习的重要性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3"/>
          <p:cNvGrpSpPr/>
          <p:nvPr/>
        </p:nvGrpSpPr>
        <p:grpSpPr>
          <a:xfrm>
            <a:off x="293760" y="331920"/>
            <a:ext cx="2062080" cy="544320"/>
            <a:chOff x="293760" y="331920"/>
            <a:chExt cx="2062080" cy="544320"/>
          </a:xfrm>
        </p:grpSpPr>
        <p:pic>
          <p:nvPicPr>
            <p:cNvPr id="55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33984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文本框 2"/>
            <p:cNvSpPr/>
            <p:nvPr/>
          </p:nvSpPr>
          <p:spPr>
            <a:xfrm>
              <a:off x="293760" y="3319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19040" y="676440"/>
            <a:ext cx="845820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正面记言，侧面烘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本文的对话言简义丰，寥寥数语就使人感受到三个人物说话时各自的口吻、神态和心理。文章除正面描写人物对话表现人物性格外，还通过鲁肃的惊叹衬托出了吕蒙今非昔比的事实。而话中的“吴下阿蒙”又将吕蒙的过去与现在进行了一个纵向的对比，得出了“变”的结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6840" y="2027160"/>
            <a:ext cx="84247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读书好，好读书，读好书。   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——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冰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cc00cc"/>
                </a:solidFill>
                <a:latin typeface="黑体"/>
                <a:ea typeface="黑体"/>
              </a:rPr>
              <a:t>读书使人心明眼亮。         </a:t>
            </a:r>
            <a:r>
              <a:rPr b="1" lang="en-US" sz="2600" spc="-1" strike="noStrike">
                <a:solidFill>
                  <a:srgbClr val="cc00cc"/>
                </a:solidFill>
                <a:latin typeface="黑体"/>
                <a:ea typeface="黑体"/>
              </a:rPr>
              <a:t>——</a:t>
            </a:r>
            <a:r>
              <a:rPr b="1" lang="zh-CN" sz="2600" spc="-1" strike="noStrike">
                <a:solidFill>
                  <a:srgbClr val="cc00cc"/>
                </a:solidFill>
                <a:latin typeface="黑体"/>
                <a:ea typeface="黑体"/>
              </a:rPr>
              <a:t>伏尔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33cc"/>
                </a:solidFill>
                <a:latin typeface="黑体"/>
                <a:ea typeface="黑体"/>
              </a:rPr>
              <a:t>书籍是全世界的营养品。     </a:t>
            </a:r>
            <a:r>
              <a:rPr b="1" lang="en-US" sz="2600" spc="-1" strike="noStrike">
                <a:solidFill>
                  <a:srgbClr val="0033cc"/>
                </a:solidFill>
                <a:latin typeface="黑体"/>
                <a:ea typeface="黑体"/>
              </a:rPr>
              <a:t>——</a:t>
            </a:r>
            <a:r>
              <a:rPr b="1" lang="zh-CN" sz="2600" spc="-1" strike="noStrike">
                <a:solidFill>
                  <a:srgbClr val="0033cc"/>
                </a:solidFill>
                <a:latin typeface="黑体"/>
                <a:ea typeface="黑体"/>
              </a:rPr>
              <a:t>莎士比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600" spc="-1" strike="noStrike">
                <a:solidFill>
                  <a:srgbClr val="9900cc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9900cc"/>
                </a:solidFill>
                <a:latin typeface="黑体"/>
                <a:ea typeface="黑体"/>
              </a:rPr>
              <a:t>无论掌握哪一种知识，对智力都是有用的，它会把无用的东西抛开而把好的东西保留住。 </a:t>
            </a:r>
            <a:r>
              <a:rPr b="1" lang="en-US" sz="2600" spc="-1" strike="noStrike">
                <a:solidFill>
                  <a:srgbClr val="9900cc"/>
                </a:solidFill>
                <a:latin typeface="黑体"/>
                <a:ea typeface="黑体"/>
              </a:rPr>
              <a:t>——</a:t>
            </a:r>
            <a:r>
              <a:rPr b="1" lang="zh-CN" sz="2600" spc="-1" strike="noStrike">
                <a:solidFill>
                  <a:srgbClr val="9900cc"/>
                </a:solidFill>
                <a:latin typeface="黑体"/>
                <a:ea typeface="黑体"/>
              </a:rPr>
              <a:t>达</a:t>
            </a:r>
            <a:r>
              <a:rPr b="1" lang="en-US" sz="2600" spc="-1" strike="noStrike">
                <a:solidFill>
                  <a:srgbClr val="9900cc"/>
                </a:solidFill>
                <a:latin typeface="黑体"/>
                <a:ea typeface="黑体"/>
              </a:rPr>
              <a:t>·</a:t>
            </a:r>
            <a:r>
              <a:rPr b="1" lang="zh-CN" sz="2600" spc="-1" strike="noStrike">
                <a:solidFill>
                  <a:srgbClr val="9900cc"/>
                </a:solidFill>
                <a:latin typeface="黑体"/>
                <a:ea typeface="黑体"/>
              </a:rPr>
              <a:t>芬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446040" y="893880"/>
            <a:ext cx="8180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学们知道哪些关于读书的名人名言？说出来大家分享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3"/>
          <p:cNvGrpSpPr/>
          <p:nvPr/>
        </p:nvGrpSpPr>
        <p:grpSpPr>
          <a:xfrm>
            <a:off x="293760" y="331920"/>
            <a:ext cx="2062080" cy="544320"/>
            <a:chOff x="293760" y="331920"/>
            <a:chExt cx="2062080" cy="544320"/>
          </a:xfrm>
        </p:grpSpPr>
        <p:pic>
          <p:nvPicPr>
            <p:cNvPr id="224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33984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文本框 2"/>
            <p:cNvSpPr/>
            <p:nvPr/>
          </p:nvSpPr>
          <p:spPr>
            <a:xfrm>
              <a:off x="293760" y="3319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拓展延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5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455760" y="1335240"/>
            <a:ext cx="82692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学习本文，我们不仅学习了通过写人物对话来展开情节，表现人物的精彩笔法，更重要的是可以从吕蒙的经历中得到启示，认识到学习的重要性，从而热爱学习，树立终身学习的理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"/>
          <p:cNvGrpSpPr/>
          <p:nvPr/>
        </p:nvGrpSpPr>
        <p:grpSpPr>
          <a:xfrm>
            <a:off x="293760" y="430200"/>
            <a:ext cx="2062080" cy="544680"/>
            <a:chOff x="293760" y="430200"/>
            <a:chExt cx="2062080" cy="544680"/>
          </a:xfrm>
        </p:grpSpPr>
        <p:pic>
          <p:nvPicPr>
            <p:cNvPr id="228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43812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文本框 2"/>
            <p:cNvSpPr/>
            <p:nvPr/>
          </p:nvSpPr>
          <p:spPr>
            <a:xfrm>
              <a:off x="293760" y="43020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446040" y="1301760"/>
            <a:ext cx="81295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049"/>
              </a:spcBef>
              <a:buClr>
                <a:srgbClr val="3333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同学们可以进行分组，自由发挥，试将这篇课文改编成课本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1049"/>
              </a:spcBef>
              <a:buClr>
                <a:srgbClr val="3333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如果你的同学不爱读书，你能不能学习孙权的劝导方法劝导他从学习态度上重视学习呢？写一篇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字左右的小作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3"/>
          <p:cNvGrpSpPr/>
          <p:nvPr/>
        </p:nvGrpSpPr>
        <p:grpSpPr>
          <a:xfrm>
            <a:off x="293760" y="331920"/>
            <a:ext cx="2062080" cy="544320"/>
            <a:chOff x="293760" y="331920"/>
            <a:chExt cx="2062080" cy="544320"/>
          </a:xfrm>
        </p:grpSpPr>
        <p:pic>
          <p:nvPicPr>
            <p:cNvPr id="232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33984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文本框 2"/>
            <p:cNvSpPr/>
            <p:nvPr/>
          </p:nvSpPr>
          <p:spPr>
            <a:xfrm>
              <a:off x="293760" y="3319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课后作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355920" y="826920"/>
            <a:ext cx="5627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　《资治通鉴》是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北宋司马光主编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一部编年体通史。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历时十九年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完成，记载了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从战国到五代共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1362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年间的史事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内容以政治、军事和民族关系为主，长于描写战争。宋神宗认为此书“鉴于往事，有资于治道”，即以历史的得失作为鉴诫来加强统治，所以定名为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资治通鉴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3"/>
          <p:cNvGrpSpPr/>
          <p:nvPr/>
        </p:nvGrpSpPr>
        <p:grpSpPr>
          <a:xfrm>
            <a:off x="293760" y="331920"/>
            <a:ext cx="2062080" cy="544320"/>
            <a:chOff x="293760" y="331920"/>
            <a:chExt cx="2062080" cy="544320"/>
          </a:xfrm>
        </p:grpSpPr>
        <p:pic>
          <p:nvPicPr>
            <p:cNvPr id="59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33984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文本框 2"/>
            <p:cNvSpPr/>
            <p:nvPr/>
          </p:nvSpPr>
          <p:spPr>
            <a:xfrm>
              <a:off x="293760" y="3319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作品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44600" y="932040"/>
            <a:ext cx="2817720" cy="184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1295280" y="2655720"/>
            <a:ext cx="1546200" cy="20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93760" y="1273320"/>
            <a:ext cx="6538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孙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81-25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字仲谋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三国时吴国的创建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他从兄长孙策遇害身亡之日起，在五十多年的时间内占据江东。其最大功绩就是开发了东南地区，促进了东南地区经济的繁荣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3"/>
          <p:cNvGrpSpPr/>
          <p:nvPr/>
        </p:nvGrpSpPr>
        <p:grpSpPr>
          <a:xfrm>
            <a:off x="293760" y="331920"/>
            <a:ext cx="2062080" cy="544320"/>
            <a:chOff x="293760" y="331920"/>
            <a:chExt cx="2062080" cy="544320"/>
          </a:xfrm>
        </p:grpSpPr>
        <p:pic>
          <p:nvPicPr>
            <p:cNvPr id="65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33984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文本框 2"/>
            <p:cNvSpPr/>
            <p:nvPr/>
          </p:nvSpPr>
          <p:spPr>
            <a:xfrm>
              <a:off x="293760" y="3319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人物背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3" descr="sq"/>
          <p:cNvPicPr/>
          <p:nvPr/>
        </p:nvPicPr>
        <p:blipFill>
          <a:blip r:embed="rId2"/>
          <a:stretch/>
        </p:blipFill>
        <p:spPr>
          <a:xfrm>
            <a:off x="6832440" y="1160640"/>
            <a:ext cx="2086200" cy="31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43000" y="593640"/>
            <a:ext cx="6478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吕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78-21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，东吴国大将。字子明，汝南富陡（今安徽阜阳）人。少年时不读书，以胆气称，后接受孙权劝告，读了许多兵书、史书，智勇双全。倍受孙权、鲁肃的信赖。鲁肃死后，掌管东吴军事，率军暗袭荆州，擒杀关羽父子，名扬三国。杀关羽后不久病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200563101941554">
            <a:hlinkClick r:id="rId1"/>
          </p:cNvPr>
          <p:cNvPicPr/>
          <p:nvPr/>
        </p:nvPicPr>
        <p:blipFill>
          <a:blip r:embed="rId2"/>
          <a:srcRect l="13535" t="-505" r="5880" b="12096"/>
          <a:stretch/>
        </p:blipFill>
        <p:spPr>
          <a:xfrm>
            <a:off x="6721560" y="1139760"/>
            <a:ext cx="2244600" cy="26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 flipH="1">
            <a:off x="2851920" y="790560"/>
            <a:ext cx="5684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鲁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72-2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字子敬，临淮东城（今安徽定远县）人。三国时吴王的得意谋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受赏识。他少有大志，轻财好施，喜欢习武骑射。他一生的最大功绩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倡导、促成并终身不易地竭力维护孙刘联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三足鼎立之势能够形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200563102831851">
            <a:hlinkClick r:id="rId1"/>
          </p:cNvPr>
          <p:cNvPicPr/>
          <p:nvPr/>
        </p:nvPicPr>
        <p:blipFill>
          <a:blip r:embed="rId2">
            <a:lum bright="12000"/>
          </a:blip>
          <a:srcRect l="39664" t="0" r="13535" b="16985"/>
          <a:stretch/>
        </p:blipFill>
        <p:spPr>
          <a:xfrm>
            <a:off x="426960" y="1050840"/>
            <a:ext cx="194796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 flipH="1">
            <a:off x="453960" y="838080"/>
            <a:ext cx="8336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编年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以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年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线索编排有关历史事件的体例。编年体是以时间为经，以史事为纬，按年、月、日顺序记述史事，比较容易反映出同一时期各个历史事件的联系。以编年体记录历史的方式最早起源于中国，代表作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春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左传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资治通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3"/>
          <p:cNvGrpSpPr/>
          <p:nvPr/>
        </p:nvGrpSpPr>
        <p:grpSpPr>
          <a:xfrm>
            <a:off x="293760" y="331920"/>
            <a:ext cx="2062080" cy="544320"/>
            <a:chOff x="293760" y="331920"/>
            <a:chExt cx="2062080" cy="544320"/>
          </a:xfrm>
        </p:grpSpPr>
        <p:pic>
          <p:nvPicPr>
            <p:cNvPr id="74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33984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文本框 2"/>
            <p:cNvSpPr/>
            <p:nvPr/>
          </p:nvSpPr>
          <p:spPr>
            <a:xfrm>
              <a:off x="293760" y="3319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文体知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71600" y="1258920"/>
            <a:ext cx="69642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　　）　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涉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　　）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　　）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　　）　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若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95000" y="150660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īn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599560" y="242568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984640" y="2425680"/>
            <a:ext cx="6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y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450880" y="34020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3"/>
          <p:cNvGrpSpPr/>
          <p:nvPr/>
        </p:nvGrpSpPr>
        <p:grpSpPr>
          <a:xfrm>
            <a:off x="293760" y="331920"/>
            <a:ext cx="2062080" cy="544320"/>
            <a:chOff x="293760" y="331920"/>
            <a:chExt cx="2062080" cy="544320"/>
          </a:xfrm>
        </p:grpSpPr>
        <p:pic>
          <p:nvPicPr>
            <p:cNvPr id="82" name="图片 1" descr=""/>
            <p:cNvPicPr/>
            <p:nvPr/>
          </p:nvPicPr>
          <p:blipFill>
            <a:blip r:embed="rId1"/>
            <a:stretch/>
          </p:blipFill>
          <p:spPr>
            <a:xfrm>
              <a:off x="366840" y="33984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文本框 2"/>
            <p:cNvSpPr/>
            <p:nvPr/>
          </p:nvSpPr>
          <p:spPr>
            <a:xfrm>
              <a:off x="293760" y="3319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字词注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8"/>
          <p:cNvSpPr/>
          <p:nvPr/>
        </p:nvSpPr>
        <p:spPr>
          <a:xfrm>
            <a:off x="5776200" y="1506600"/>
            <a:ext cx="14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è l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854320" y="337500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/>
  <dc:language>en-US</dc:language>
  <cp:lastModifiedBy>Administrator</cp:lastModifiedBy>
  <dcterms:modified xsi:type="dcterms:W3CDTF">2019-01-05T01:33:48Z</dcterms:modified>
  <cp:revision>11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