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comments/comment5.xml" ContentType="application/vnd.openxmlformats-officedocument.presentationml.comments+xml"/>
  <Override PartName="/ppt/comments/comment12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Sky123.Org" initials="S" lastIdx="6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<Relationship Id="rId22" Type="http://schemas.openxmlformats.org/officeDocument/2006/relationships/commentAuthors" Target="commentAuthors.xml"/>
</Relationships>
</file>

<file path=ppt/comments/comment12.xml><?xml version="1.0" encoding="utf-8"?>
<p:cmLst xmlns:p="http://schemas.openxmlformats.org/presentationml/2006/main">
  <p:cm authorId="0" dt="2016-09-20T14:32:51.954000000" idx="2">
    <p:pos x="3228" y="654"/>
    <p:text>肖像描写上学期作文讲过了，建议去掉，而且所举例子七年级没有学。</p:text>
  </p:cm>
</p:cmLst>
</file>

<file path=ppt/comments/comment13.xml><?xml version="1.0" encoding="utf-8"?>
<p:cmLst xmlns:p="http://schemas.openxmlformats.org/presentationml/2006/main">
  <p:cm authorId="0" dt="2016-09-20T14:33:44.251000000" idx="3">
    <p:pos x="2958" y="583"/>
    <p:text>所举例子学生没有学过。这一点教材没有提，可以不要。</p:text>
  </p:cm>
</p:cmLst>
</file>

<file path=ppt/comments/comment14.xml><?xml version="1.0" encoding="utf-8"?>
<p:cmLst xmlns:p="http://schemas.openxmlformats.org/presentationml/2006/main">
  <p:cm authorId="0" dt="2016-09-20T14:58:35.018000000" idx="4">
    <p:pos x="1571" y="559"/>
    <p:text>请在片段的后面再列举一个完整作文的例子。</p:text>
  </p:cm>
</p:cmLst>
</file>

<file path=ppt/comments/comment16.xml><?xml version="1.0" encoding="utf-8"?>
<p:cmLst xmlns:p="http://schemas.openxmlformats.org/presentationml/2006/main">
  <p:cm authorId="0" dt="2016-09-20T14:42:37.091000000" idx="5">
    <p:pos x="2133" y="740"/>
    <p:text>文章要加标题。感觉这篇文章删减的很牵强，内容也比较老套。</p:text>
  </p:cm>
</p:cmLst>
</file>

<file path=ppt/comments/comment18.xml><?xml version="1.0" encoding="utf-8"?>
<p:cmLst xmlns:p="http://schemas.openxmlformats.org/presentationml/2006/main">
  <p:cm authorId="0" dt="2016-09-20T14:43:30.864000000" idx="6">
    <p:pos x="4501" y="2112"/>
    <p:text>第三和第四建议去掉，书上还有一条是加借助抒情、议论的句子。</p:text>
  </p:cm>
</p:cmLst>
</file>

<file path=ppt/comments/comment5.xml><?xml version="1.0" encoding="utf-8"?>
<p:cmLst xmlns:p="http://schemas.openxmlformats.org/presentationml/2006/main">
  <p:cm authorId="0" dt="2016-09-20T14:22:44.947000000" idx="1">
    <p:pos x="3648" y="1934"/>
    <p:text>后面3个框及文字出现的顺序不对。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FF3-15DA-4342-819B-1D77BCA7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F26-A6FE-422B-98A0-A611C99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5F23-9362-4C9C-A6F4-43A452C8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1DC-EFCF-4D0A-BCF9-4E5F3DA1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425B-835A-4619-9503-460EA365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0D3-0D31-40BE-928D-2E67D680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2E90-B9B3-4566-A81C-6CE54A83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23D-0BC4-4CD5-B781-38C23F79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6D75-1379-47DD-BA3F-61DABEAD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7BC-91D9-4DCB-A926-87B5B46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11A0-3787-4748-9630-41BE9E1B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8B8-30E8-4A6B-ACF9-FB51B49B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6027-1D4C-412B-96E8-DB5A33ACBE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7"/>
          <p:cNvSpPr/>
          <p:nvPr/>
        </p:nvSpPr>
        <p:spPr>
          <a:xfrm>
            <a:off x="0" y="6454800"/>
            <a:ext cx="9144000" cy="40320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130"/>
          <p:cNvSpPr/>
          <p:nvPr/>
        </p:nvSpPr>
        <p:spPr>
          <a:xfrm>
            <a:off x="539640" y="2781360"/>
            <a:ext cx="781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写出人物的精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"/>
          <p:cNvSpPr/>
          <p:nvPr/>
        </p:nvSpPr>
        <p:spPr>
          <a:xfrm>
            <a:off x="996840" y="2631960"/>
            <a:ext cx="7775640" cy="4939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755640" y="549360"/>
            <a:ext cx="770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另外，还可以借助一些抒情、议论的句子，对人物的精神品质进行点睛式的概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755640" y="5445000"/>
            <a:ext cx="8209080" cy="5205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就深刻而准确地点出了邓稼先的精神品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0"/>
          <p:cNvSpPr/>
          <p:nvPr/>
        </p:nvSpPr>
        <p:spPr>
          <a:xfrm>
            <a:off x="1974960" y="1916280"/>
            <a:ext cx="186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邓稼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1"/>
          <p:cNvSpPr/>
          <p:nvPr/>
        </p:nvSpPr>
        <p:spPr>
          <a:xfrm>
            <a:off x="755640" y="2482920"/>
            <a:ext cx="80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邓稼先是中国几千年传统文化所孕育出来的最高奉献精神的儿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684360" y="3284640"/>
            <a:ext cx="8208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稼先为人忠诚纯正，是我最敬爱的挚友。他的无私的精神与巨大的贡献是你的也是我的永恒的骄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564000" y="1708200"/>
            <a:ext cx="460836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通过本次习作指导，教会学生“抓住特征描写人物”的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人物个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"/>
          <p:cNvSpPr/>
          <p:nvPr/>
        </p:nvSpPr>
        <p:spPr>
          <a:xfrm>
            <a:off x="1069920" y="1593720"/>
            <a:ext cx="7775640" cy="4939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"/>
          <p:cNvSpPr/>
          <p:nvPr/>
        </p:nvSpPr>
        <p:spPr>
          <a:xfrm>
            <a:off x="611280" y="765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和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记闻一多先生言行片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文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"/>
          <p:cNvSpPr/>
          <p:nvPr/>
        </p:nvSpPr>
        <p:spPr>
          <a:xfrm>
            <a:off x="684360" y="3132000"/>
            <a:ext cx="7993080" cy="94716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些精彩的抒情和议论，提炼了人物的精神品质，也对文章主旨起到了升华的作用。写作时不妨细细揣摩，尝试模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/>
          <p:cNvSpPr/>
          <p:nvPr/>
        </p:nvSpPr>
        <p:spPr>
          <a:xfrm>
            <a:off x="611280" y="134136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闻一多先生，是卓越的学者，热情澎湃的优秀诗人，大勇的革命烈士”，“他，是口的巨人。他，是行的高标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3186000" y="1657440"/>
            <a:ext cx="46087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通过本次习作指导，教会学生“抓住特征描写人物”的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尝试观察人物特点，了解人物个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755640" y="5084640"/>
            <a:ext cx="8064360" cy="493920"/>
          </a:xfrm>
          <a:prstGeom prst="roundRect">
            <a:avLst>
              <a:gd name="adj" fmla="val 21667"/>
            </a:avLst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─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这个外貌特征可以粗知她尖酸刻薄的性格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5"/>
          <p:cNvSpPr/>
          <p:nvPr/>
        </p:nvSpPr>
        <p:spPr>
          <a:xfrm>
            <a:off x="1828440" y="102888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，写好肖像，以形传神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1643760" y="1628640"/>
            <a:ext cx="28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故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的杨二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图片 7" descr=""/>
          <p:cNvPicPr/>
          <p:nvPr/>
        </p:nvPicPr>
        <p:blipFill>
          <a:blip r:embed="rId1"/>
          <a:stretch/>
        </p:blipFill>
        <p:spPr>
          <a:xfrm>
            <a:off x="6659640" y="1197000"/>
            <a:ext cx="2208240" cy="3036960"/>
          </a:xfrm>
          <a:prstGeom prst="rect">
            <a:avLst/>
          </a:prstGeom>
          <a:ln w="0">
            <a:noFill/>
          </a:ln>
        </p:spPr>
      </p:pic>
      <p:sp>
        <p:nvSpPr>
          <p:cNvPr id="155" name="矩形 8"/>
          <p:cNvSpPr/>
          <p:nvPr/>
        </p:nvSpPr>
        <p:spPr>
          <a:xfrm>
            <a:off x="395280" y="2060640"/>
            <a:ext cx="56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凸颧骨，薄嘴唇；两手搭在髀间，没有系裙，张着两脚，正像一个画图仪器里细脚伶仃的圆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681360" y="2225520"/>
            <a:ext cx="4608720" cy="22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通过本次习作指导，教会学生“抓住特征描写人物”的方法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尝试观察人物特点，了解人物个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1187280" y="2111400"/>
            <a:ext cx="7775640" cy="493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066400" y="87948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四，写好环境，以景写人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2"/>
          <p:cNvSpPr/>
          <p:nvPr/>
        </p:nvSpPr>
        <p:spPr>
          <a:xfrm>
            <a:off x="644400" y="1938240"/>
            <a:ext cx="7948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等线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等线"/>
              </a:rPr>
              <a:t>这一年的清明，分外寒冷；杨柳才吐出半粒米大的新芽。天明未久，华大妈已在右边的一座新坟前面，排出四碟菜，一碗饭，哭了一场。化过纸，呆呆地坐在地上，仿佛等候什么似的，但自己也说不出等候什么。微风起来，吹动他短发，确乎比去年白多了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等线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1042920" y="14540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等线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等线"/>
              </a:rPr>
              <a:t>鲁迅在小说《药》中的环境描写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等线"/>
              </a:rPr>
              <a:t> 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7"/>
          <p:cNvSpPr/>
          <p:nvPr/>
        </p:nvSpPr>
        <p:spPr>
          <a:xfrm>
            <a:off x="755640" y="4581360"/>
            <a:ext cx="7628040" cy="56916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等线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等线"/>
              </a:rPr>
              <a:t>这一个片断所写的的环境，清明时节，分外寒冷，显得异常悲凉。这一气氛与人物的行动、外貌契合，写出了人物内心的悲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356000" y="1484280"/>
            <a:ext cx="650880" cy="360360"/>
          </a:xfrm>
          <a:prstGeom prst="rect">
            <a:avLst/>
          </a:prstGeom>
          <a:noFill/>
          <a:ln w="22320">
            <a:solidFill>
              <a:srgbClr val="ff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166" name="流程图: 文档 3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小试牛刀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矩形 8"/>
          <p:cNvSpPr/>
          <p:nvPr/>
        </p:nvSpPr>
        <p:spPr>
          <a:xfrm>
            <a:off x="684360" y="2205000"/>
            <a:ext cx="8062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许闭上眼睛你都能想出好朋友的样貌，写出他的外在特征并不难，但你还能写出他的性格与气质吗？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的朋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题，写一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左右的片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9"/>
          <p:cNvSpPr/>
          <p:nvPr/>
        </p:nvSpPr>
        <p:spPr>
          <a:xfrm>
            <a:off x="1329840" y="134136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提示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793800" y="1917720"/>
            <a:ext cx="755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，这次是要写出人物的性格和精神气质。当然，也不排斥对他进行外貌、动作、语言等的描写，这些方法运用得好，也可以有效凸显人物的精神气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叙述你和他相处的时光、共同经历的事情，在描写和叙述中展现他的性格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2"/>
          <p:cNvSpPr/>
          <p:nvPr/>
        </p:nvSpPr>
        <p:spPr>
          <a:xfrm>
            <a:off x="1042920" y="1125360"/>
            <a:ext cx="41054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一次放学路上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上乌云密布，闪电交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一会儿就下起了暴风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和我的好朋友雨中共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朋友为了让我不淋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己的衣服却全湿了。我看见她那鹅蛋一般的脸上挂着几丝笑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她的目光像春日的阳光抚摸着我的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的眼睛湿润了。深深的吸了口起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5"/>
          <p:cNvSpPr/>
          <p:nvPr/>
        </p:nvSpPr>
        <p:spPr>
          <a:xfrm>
            <a:off x="5148360" y="1279440"/>
            <a:ext cx="0" cy="3876840"/>
          </a:xfrm>
          <a:prstGeom prst="line">
            <a:avLst/>
          </a:prstGeom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529080" y="1614600"/>
            <a:ext cx="1547640" cy="360"/>
            <a:chOff x="3529080" y="1614600"/>
            <a:chExt cx="1547640" cy="360"/>
          </a:xfrm>
        </p:grpSpPr>
        <p:sp>
          <p:nvSpPr>
            <p:cNvPr id="175" name="Line 4"/>
            <p:cNvSpPr/>
            <p:nvPr/>
          </p:nvSpPr>
          <p:spPr>
            <a:xfrm>
              <a:off x="3529080" y="1614600"/>
              <a:ext cx="1547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3529080" y="1614600"/>
              <a:ext cx="15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1187280" y="2104920"/>
            <a:ext cx="3818160" cy="14400"/>
            <a:chOff x="1187280" y="2104920"/>
            <a:chExt cx="3818160" cy="14400"/>
          </a:xfrm>
        </p:grpSpPr>
        <p:sp>
          <p:nvSpPr>
            <p:cNvPr id="178" name="Line 4"/>
            <p:cNvSpPr/>
            <p:nvPr/>
          </p:nvSpPr>
          <p:spPr>
            <a:xfrm flipV="1">
              <a:off x="1187280" y="2104920"/>
              <a:ext cx="3818160" cy="144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 rot="10800000">
              <a:off x="1187280" y="2104560"/>
              <a:ext cx="3818160" cy="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4"/>
          <p:cNvSpPr/>
          <p:nvPr/>
        </p:nvSpPr>
        <p:spPr>
          <a:xfrm>
            <a:off x="5100480" y="1279440"/>
            <a:ext cx="3554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写好环境，以景写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187280" y="2550960"/>
            <a:ext cx="3818160" cy="360"/>
            <a:chOff x="1187280" y="2550960"/>
            <a:chExt cx="3818160" cy="360"/>
          </a:xfrm>
        </p:grpSpPr>
        <p:sp>
          <p:nvSpPr>
            <p:cNvPr id="182" name="Line 4"/>
            <p:cNvSpPr/>
            <p:nvPr/>
          </p:nvSpPr>
          <p:spPr>
            <a:xfrm>
              <a:off x="1187280" y="2550960"/>
              <a:ext cx="3818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187280" y="2550960"/>
              <a:ext cx="381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187280" y="2982960"/>
            <a:ext cx="3600720" cy="71280"/>
            <a:chOff x="1187280" y="2982960"/>
            <a:chExt cx="3600720" cy="71280"/>
          </a:xfrm>
        </p:grpSpPr>
        <p:sp>
          <p:nvSpPr>
            <p:cNvPr id="185" name="Line 4"/>
            <p:cNvSpPr/>
            <p:nvPr/>
          </p:nvSpPr>
          <p:spPr>
            <a:xfrm flipV="1">
              <a:off x="1187280" y="2982960"/>
              <a:ext cx="3600720" cy="7128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800000">
              <a:off x="1187280" y="2982960"/>
              <a:ext cx="36007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4"/>
          <p:cNvSpPr/>
          <p:nvPr/>
        </p:nvSpPr>
        <p:spPr>
          <a:xfrm>
            <a:off x="5049720" y="2046240"/>
            <a:ext cx="30862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典型事例，来表现人物的精神风貌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舍己为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187280" y="3559320"/>
            <a:ext cx="3745080" cy="360"/>
            <a:chOff x="1187280" y="3559320"/>
            <a:chExt cx="3745080" cy="360"/>
          </a:xfrm>
        </p:grpSpPr>
        <p:sp>
          <p:nvSpPr>
            <p:cNvPr id="189" name="Line 4"/>
            <p:cNvSpPr/>
            <p:nvPr/>
          </p:nvSpPr>
          <p:spPr>
            <a:xfrm>
              <a:off x="1187280" y="3559320"/>
              <a:ext cx="37450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187280" y="3559320"/>
              <a:ext cx="374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87280" y="4041720"/>
            <a:ext cx="3818160" cy="360"/>
            <a:chOff x="1187280" y="4041720"/>
            <a:chExt cx="3818160" cy="360"/>
          </a:xfrm>
        </p:grpSpPr>
        <p:sp>
          <p:nvSpPr>
            <p:cNvPr id="192" name="Line 4"/>
            <p:cNvSpPr/>
            <p:nvPr/>
          </p:nvSpPr>
          <p:spPr>
            <a:xfrm>
              <a:off x="1187280" y="4041720"/>
              <a:ext cx="381816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1187280" y="4041720"/>
              <a:ext cx="3818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TextBox 4"/>
          <p:cNvSpPr/>
          <p:nvPr/>
        </p:nvSpPr>
        <p:spPr>
          <a:xfrm>
            <a:off x="5148360" y="3414600"/>
            <a:ext cx="31687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外貌描写烘托朋友的心灵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187280" y="4567320"/>
            <a:ext cx="1009800" cy="360"/>
            <a:chOff x="1187280" y="4567320"/>
            <a:chExt cx="1009800" cy="360"/>
          </a:xfrm>
        </p:grpSpPr>
        <p:sp>
          <p:nvSpPr>
            <p:cNvPr id="196" name="Line 4"/>
            <p:cNvSpPr/>
            <p:nvPr/>
          </p:nvSpPr>
          <p:spPr>
            <a:xfrm>
              <a:off x="1187280" y="4567320"/>
              <a:ext cx="100980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1187280" y="4567320"/>
              <a:ext cx="1009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9"/>
          <p:cNvSpPr/>
          <p:nvPr/>
        </p:nvSpPr>
        <p:spPr>
          <a:xfrm>
            <a:off x="716040" y="673200"/>
            <a:ext cx="396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吐了出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用微微发抖的声音坚难的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谢谢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的朋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人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朋友如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人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朋友如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有人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朋友如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还有人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朋友如春风和星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要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朋友是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我遮风挡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永远永远是我最好的伙伴，友情无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0"/>
          <p:cNvSpPr/>
          <p:nvPr/>
        </p:nvSpPr>
        <p:spPr>
          <a:xfrm>
            <a:off x="4859280" y="779400"/>
            <a:ext cx="73080" cy="3273480"/>
          </a:xfrm>
          <a:prstGeom prst="line">
            <a:avLst/>
          </a:prstGeom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85960" y="2133720"/>
            <a:ext cx="3619440" cy="360"/>
            <a:chOff x="885960" y="2133720"/>
            <a:chExt cx="3619440" cy="360"/>
          </a:xfrm>
        </p:grpSpPr>
        <p:sp>
          <p:nvSpPr>
            <p:cNvPr id="202" name="Line 4"/>
            <p:cNvSpPr/>
            <p:nvPr/>
          </p:nvSpPr>
          <p:spPr>
            <a:xfrm>
              <a:off x="885960" y="2133720"/>
              <a:ext cx="361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885960" y="2133720"/>
              <a:ext cx="361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885960" y="2595600"/>
            <a:ext cx="3619440" cy="360"/>
            <a:chOff x="885960" y="2595600"/>
            <a:chExt cx="3619440" cy="360"/>
          </a:xfrm>
        </p:grpSpPr>
        <p:sp>
          <p:nvSpPr>
            <p:cNvPr id="205" name="Line 4"/>
            <p:cNvSpPr/>
            <p:nvPr/>
          </p:nvSpPr>
          <p:spPr>
            <a:xfrm>
              <a:off x="885960" y="2595600"/>
              <a:ext cx="361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 txBox="1"/>
            <p:nvPr/>
          </p:nvSpPr>
          <p:spPr>
            <a:xfrm>
              <a:off x="885960" y="2595600"/>
              <a:ext cx="361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828720" y="2997360"/>
            <a:ext cx="3619440" cy="360"/>
            <a:chOff x="828720" y="2997360"/>
            <a:chExt cx="3619440" cy="360"/>
          </a:xfrm>
        </p:grpSpPr>
        <p:sp>
          <p:nvSpPr>
            <p:cNvPr id="208" name="Line 4"/>
            <p:cNvSpPr/>
            <p:nvPr/>
          </p:nvSpPr>
          <p:spPr>
            <a:xfrm>
              <a:off x="828720" y="2997360"/>
              <a:ext cx="361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 txBox="1"/>
            <p:nvPr/>
          </p:nvSpPr>
          <p:spPr>
            <a:xfrm>
              <a:off x="828720" y="2997360"/>
              <a:ext cx="3619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85960" y="3411360"/>
            <a:ext cx="3536640" cy="360"/>
            <a:chOff x="885960" y="3411360"/>
            <a:chExt cx="3536640" cy="360"/>
          </a:xfrm>
        </p:grpSpPr>
        <p:sp>
          <p:nvSpPr>
            <p:cNvPr id="211" name="Line 4"/>
            <p:cNvSpPr/>
            <p:nvPr/>
          </p:nvSpPr>
          <p:spPr>
            <a:xfrm>
              <a:off x="885960" y="3411360"/>
              <a:ext cx="35366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>
              <a:off x="885960" y="3411360"/>
              <a:ext cx="353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Box 4"/>
          <p:cNvSpPr/>
          <p:nvPr/>
        </p:nvSpPr>
        <p:spPr>
          <a:xfrm>
            <a:off x="5148360" y="774720"/>
            <a:ext cx="2878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通过外貌描写烘托朋友的心灵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5148360" y="17794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借助这些抒情、议论的句子，对人物的精神品质进行点睛式的概括。提炼了人物的精神品质，也对文章主旨，起到了升华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4"/>
          <p:cNvSpPr/>
          <p:nvPr/>
        </p:nvSpPr>
        <p:spPr>
          <a:xfrm>
            <a:off x="885960" y="4051440"/>
            <a:ext cx="7207200" cy="5511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总之，这个片段描写很细致，抓住人物的精神，符合人物个性以及特定情境下的情感。让读者不仅识其“形”，而且能让读者体会到人物的身份、性格和心理状态，也就是通其“神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28720" y="3860640"/>
            <a:ext cx="1150920" cy="360"/>
            <a:chOff x="828720" y="3860640"/>
            <a:chExt cx="1150920" cy="360"/>
          </a:xfrm>
        </p:grpSpPr>
        <p:sp>
          <p:nvSpPr>
            <p:cNvPr id="217" name="Line 4"/>
            <p:cNvSpPr/>
            <p:nvPr/>
          </p:nvSpPr>
          <p:spPr>
            <a:xfrm>
              <a:off x="828720" y="3860640"/>
              <a:ext cx="115092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828720" y="3860640"/>
              <a:ext cx="115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067280" y="1557360"/>
            <a:ext cx="609480" cy="360"/>
            <a:chOff x="4067280" y="1557360"/>
            <a:chExt cx="609480" cy="360"/>
          </a:xfrm>
        </p:grpSpPr>
        <p:sp>
          <p:nvSpPr>
            <p:cNvPr id="220" name="Line 4"/>
            <p:cNvSpPr/>
            <p:nvPr/>
          </p:nvSpPr>
          <p:spPr>
            <a:xfrm>
              <a:off x="4067280" y="1557360"/>
              <a:ext cx="6094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4067280" y="155736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224" name="流程图: 文档 4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课堂小结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1"/>
          <p:cNvSpPr/>
          <p:nvPr/>
        </p:nvSpPr>
        <p:spPr>
          <a:xfrm>
            <a:off x="4357080" y="907920"/>
            <a:ext cx="12474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怎样选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-7920" y="2781360"/>
            <a:ext cx="30672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写出人物的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5"/>
          <p:cNvSpPr/>
          <p:nvPr/>
        </p:nvSpPr>
        <p:spPr>
          <a:xfrm>
            <a:off x="3660840" y="1720800"/>
            <a:ext cx="548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抓住典型事例来表现人物的精神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6"/>
          <p:cNvSpPr/>
          <p:nvPr/>
        </p:nvSpPr>
        <p:spPr>
          <a:xfrm>
            <a:off x="3660840" y="2513160"/>
            <a:ext cx="542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借助一些写作手法来加以突出、强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左大括号 4"/>
          <p:cNvSpPr/>
          <p:nvPr/>
        </p:nvSpPr>
        <p:spPr>
          <a:xfrm>
            <a:off x="2843280" y="2001960"/>
            <a:ext cx="793800" cy="2474640"/>
          </a:xfrm>
          <a:custGeom>
            <a:avLst/>
            <a:gdLst>
              <a:gd name="textAreaLeft" fmla="*/ 507240 w 793800"/>
              <a:gd name="textAreaRight" fmla="*/ 794160 w 793800"/>
              <a:gd name="textAreaTop" fmla="*/ 20520 h 2474640"/>
              <a:gd name="textAreaBottom" fmla="*/ 2454120 h 247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88"/>
                  <a:pt x="10800" y="576"/>
                </a:cubicBezTo>
                <a:lnTo>
                  <a:pt x="10800" y="10628"/>
                </a:lnTo>
                <a:cubicBezTo>
                  <a:pt x="10800" y="10916"/>
                  <a:pt x="5400" y="11204"/>
                  <a:pt x="0" y="11204"/>
                </a:cubicBezTo>
                <a:cubicBezTo>
                  <a:pt x="5400" y="11204"/>
                  <a:pt x="10800" y="11492"/>
                  <a:pt x="10800" y="11780"/>
                </a:cubicBezTo>
                <a:lnTo>
                  <a:pt x="10800" y="21024"/>
                </a:lnTo>
                <a:cubicBezTo>
                  <a:pt x="10800" y="2131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bacc6"/>
            </a:solidFill>
            <a:round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45080" rIns="145080" tIns="72360" bIns="72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8"/>
          <p:cNvSpPr/>
          <p:nvPr/>
        </p:nvSpPr>
        <p:spPr>
          <a:xfrm>
            <a:off x="4592520" y="3665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，写好肖像，以形传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4648320" y="4292640"/>
            <a:ext cx="30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，写好环境，以景写人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10"/>
          <p:cNvSpPr/>
          <p:nvPr/>
        </p:nvSpPr>
        <p:spPr>
          <a:xfrm>
            <a:off x="0" y="4865760"/>
            <a:ext cx="9144000" cy="1687320"/>
          </a:xfrm>
          <a:custGeom>
            <a:avLst/>
            <a:gdLst/>
            <a:ahLst/>
            <a:rect l="l" t="t" r="r" b="b"/>
            <a:pathLst>
              <a:path w="9144000" h="1688812">
                <a:moveTo>
                  <a:pt x="0" y="797721"/>
                </a:moveTo>
                <a:cubicBezTo>
                  <a:pt x="1714500" y="-118242"/>
                  <a:pt x="5314950" y="-688842"/>
                  <a:pt x="9144000" y="1640898"/>
                </a:cubicBezTo>
                <a:lnTo>
                  <a:pt x="9144000" y="1688812"/>
                </a:lnTo>
                <a:cubicBezTo>
                  <a:pt x="6400800" y="428191"/>
                  <a:pt x="3457575" y="-346656"/>
                  <a:pt x="0" y="907323"/>
                </a:cubicBezTo>
                <a:lnTo>
                  <a:pt x="0" y="797721"/>
                </a:lnTo>
                <a:close/>
              </a:path>
            </a:pathLst>
          </a:custGeom>
          <a:solidFill>
            <a:srgbClr val="1919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6"/>
          <p:cNvSpPr/>
          <p:nvPr/>
        </p:nvSpPr>
        <p:spPr>
          <a:xfrm>
            <a:off x="0" y="5122800"/>
            <a:ext cx="9153360" cy="1505160"/>
          </a:xfrm>
          <a:custGeom>
            <a:avLst/>
            <a:gdLst/>
            <a:ahLst/>
            <a:rect l="l" t="t" r="r" b="b"/>
            <a:pathLst>
              <a:path w="9153525" h="1504898">
                <a:moveTo>
                  <a:pt x="0" y="613807"/>
                </a:moveTo>
                <a:cubicBezTo>
                  <a:pt x="1933575" y="-73556"/>
                  <a:pt x="4972050" y="-596531"/>
                  <a:pt x="9153525" y="1418884"/>
                </a:cubicBezTo>
                <a:lnTo>
                  <a:pt x="9144000" y="1504898"/>
                </a:lnTo>
                <a:cubicBezTo>
                  <a:pt x="7581900" y="720527"/>
                  <a:pt x="3390900" y="-368645"/>
                  <a:pt x="0" y="723409"/>
                </a:cubicBezTo>
                <a:lnTo>
                  <a:pt x="0" y="613807"/>
                </a:lnTo>
                <a:close/>
              </a:path>
            </a:pathLst>
          </a:custGeom>
          <a:solidFill>
            <a:srgbClr val="2626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8" descr="http://img3.3lian.com/2006/013/03/20050605201058825.jpg"/>
          <p:cNvPicPr/>
          <p:nvPr/>
        </p:nvPicPr>
        <p:blipFill>
          <a:blip r:embed="rId1"/>
          <a:stretch/>
        </p:blipFill>
        <p:spPr>
          <a:xfrm>
            <a:off x="6813720" y="682560"/>
            <a:ext cx="1501560" cy="1542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3924360" y="1844640"/>
            <a:ext cx="4392720" cy="2653560"/>
          </a:xfrm>
          <a:prstGeom prst="rect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看到他，你马上会想到关于他的哪些事？</a:t>
            </a:r>
            <a:r>
              <a:rPr b="1" lang="zh-CN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这些事件又表现了他的什么特点</a:t>
            </a:r>
            <a:r>
              <a:rPr b="1" lang="en-US" sz="28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?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1258920" y="1197000"/>
            <a:ext cx="246852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6"/>
          <p:cNvSpPr/>
          <p:nvPr/>
        </p:nvSpPr>
        <p:spPr>
          <a:xfrm>
            <a:off x="3095640" y="1920960"/>
            <a:ext cx="3046320" cy="734760"/>
          </a:xfrm>
          <a:prstGeom prst="pi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0" tIns="0" bIns="2160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微软雅黑"/>
              </a:rPr>
              <a:t>人，不只有一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1187280" y="2924280"/>
            <a:ext cx="7027920" cy="2233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8" descr=""/>
          <p:cNvPicPr/>
          <p:nvPr/>
        </p:nvPicPr>
        <p:blipFill>
          <a:blip r:embed="rId1"/>
          <a:stretch/>
        </p:blipFill>
        <p:spPr>
          <a:xfrm>
            <a:off x="898560" y="2765520"/>
            <a:ext cx="2365200" cy="2146320"/>
          </a:xfrm>
          <a:prstGeom prst="rect">
            <a:avLst/>
          </a:prstGeom>
          <a:ln w="0">
            <a:noFill/>
          </a:ln>
        </p:spPr>
      </p:pic>
      <p:sp>
        <p:nvSpPr>
          <p:cNvPr id="52" name="内容占位符 2"/>
          <p:cNvSpPr/>
          <p:nvPr/>
        </p:nvSpPr>
        <p:spPr>
          <a:xfrm>
            <a:off x="1335240" y="3065400"/>
            <a:ext cx="6735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人，也不能只抓住一个人的一面，要想把一个人写得真实、鲜活，就得抓住他丰富的个性和精神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3781080" y="119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出人物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250920" y="24300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3"/>
          <p:cNvGrpSpPr/>
          <p:nvPr/>
        </p:nvGrpSpPr>
        <p:grpSpPr>
          <a:xfrm>
            <a:off x="779400" y="887400"/>
            <a:ext cx="1714680" cy="498600"/>
            <a:chOff x="779400" y="887400"/>
            <a:chExt cx="1714680" cy="498600"/>
          </a:xfrm>
        </p:grpSpPr>
        <p:sp>
          <p:nvSpPr>
            <p:cNvPr id="58" name="流程图: 文档 5"/>
            <p:cNvSpPr/>
            <p:nvPr/>
          </p:nvSpPr>
          <p:spPr>
            <a:xfrm>
              <a:off x="779400" y="933480"/>
              <a:ext cx="1672200" cy="452520"/>
            </a:xfrm>
            <a:prstGeom prst="flowChartDocument">
              <a:avLst/>
            </a:prstGeom>
            <a:solidFill>
              <a:srgbClr val="222267"/>
            </a:solidFill>
            <a:ln w="1260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4101"/>
            <p:cNvSpPr/>
            <p:nvPr/>
          </p:nvSpPr>
          <p:spPr>
            <a:xfrm>
              <a:off x="779400" y="887400"/>
              <a:ext cx="17146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ffffff"/>
                  </a:solidFill>
                  <a:latin typeface="宋体"/>
                  <a:ea typeface="幼圆"/>
                </a:rPr>
                <a:t>学习目标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3"/>
          <p:cNvSpPr/>
          <p:nvPr/>
        </p:nvSpPr>
        <p:spPr>
          <a:xfrm>
            <a:off x="755640" y="2205000"/>
            <a:ext cx="784872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本次习作指导，教会学生“写出人物精神”的方法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尝试观察人物特点，了解人物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1"/>
          <p:cNvSpPr/>
          <p:nvPr/>
        </p:nvSpPr>
        <p:spPr>
          <a:xfrm>
            <a:off x="1116000" y="3170160"/>
            <a:ext cx="4314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神态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9"/>
          <p:cNvSpPr/>
          <p:nvPr/>
        </p:nvSpPr>
        <p:spPr>
          <a:xfrm>
            <a:off x="1476360" y="2637000"/>
            <a:ext cx="4524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动作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908000" y="2205000"/>
            <a:ext cx="3264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语言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098800" y="1801800"/>
            <a:ext cx="40003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貌描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6"/>
          <p:cNvGrpSpPr/>
          <p:nvPr/>
        </p:nvGrpSpPr>
        <p:grpSpPr>
          <a:xfrm>
            <a:off x="1619280" y="1989000"/>
            <a:ext cx="4384800" cy="390600"/>
            <a:chOff x="1619280" y="1989000"/>
            <a:chExt cx="4384800" cy="390600"/>
          </a:xfrm>
        </p:grpSpPr>
        <p:sp>
          <p:nvSpPr>
            <p:cNvPr id="67" name="任意多边形 17"/>
            <p:cNvSpPr/>
            <p:nvPr/>
          </p:nvSpPr>
          <p:spPr>
            <a:xfrm>
              <a:off x="1619280" y="1989000"/>
              <a:ext cx="318960" cy="39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18"/>
            <p:cNvSpPr/>
            <p:nvPr/>
          </p:nvSpPr>
          <p:spPr>
            <a:xfrm>
              <a:off x="1779480" y="2379600"/>
              <a:ext cx="422460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9"/>
          <p:cNvGrpSpPr/>
          <p:nvPr/>
        </p:nvGrpSpPr>
        <p:grpSpPr>
          <a:xfrm>
            <a:off x="1187280" y="2421000"/>
            <a:ext cx="4546800" cy="390600"/>
            <a:chOff x="1187280" y="2421000"/>
            <a:chExt cx="4546800" cy="390600"/>
          </a:xfrm>
        </p:grpSpPr>
        <p:sp>
          <p:nvSpPr>
            <p:cNvPr id="70" name="任意多边形 20"/>
            <p:cNvSpPr/>
            <p:nvPr/>
          </p:nvSpPr>
          <p:spPr>
            <a:xfrm>
              <a:off x="1187280" y="2421000"/>
              <a:ext cx="318960" cy="39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1"/>
            <p:cNvSpPr/>
            <p:nvPr/>
          </p:nvSpPr>
          <p:spPr>
            <a:xfrm>
              <a:off x="1346040" y="2811600"/>
              <a:ext cx="438804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2"/>
          <p:cNvGrpSpPr/>
          <p:nvPr/>
        </p:nvGrpSpPr>
        <p:grpSpPr>
          <a:xfrm>
            <a:off x="900000" y="2852640"/>
            <a:ext cx="4737240" cy="390600"/>
            <a:chOff x="900000" y="2852640"/>
            <a:chExt cx="4737240" cy="390600"/>
          </a:xfrm>
        </p:grpSpPr>
        <p:sp>
          <p:nvSpPr>
            <p:cNvPr id="73" name="任意多边形 23"/>
            <p:cNvSpPr/>
            <p:nvPr/>
          </p:nvSpPr>
          <p:spPr>
            <a:xfrm>
              <a:off x="900000" y="2852640"/>
              <a:ext cx="318960" cy="3906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4"/>
            <p:cNvSpPr/>
            <p:nvPr/>
          </p:nvSpPr>
          <p:spPr>
            <a:xfrm>
              <a:off x="1058760" y="3243240"/>
              <a:ext cx="457848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25"/>
          <p:cNvGrpSpPr/>
          <p:nvPr/>
        </p:nvGrpSpPr>
        <p:grpSpPr>
          <a:xfrm>
            <a:off x="539640" y="3321000"/>
            <a:ext cx="4946760" cy="390600"/>
            <a:chOff x="539640" y="3321000"/>
            <a:chExt cx="4946760" cy="390600"/>
          </a:xfrm>
        </p:grpSpPr>
        <p:sp>
          <p:nvSpPr>
            <p:cNvPr id="76" name="任意多边形 26"/>
            <p:cNvSpPr/>
            <p:nvPr/>
          </p:nvSpPr>
          <p:spPr>
            <a:xfrm>
              <a:off x="539640" y="3321000"/>
              <a:ext cx="318960" cy="38916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27"/>
            <p:cNvSpPr/>
            <p:nvPr/>
          </p:nvSpPr>
          <p:spPr>
            <a:xfrm>
              <a:off x="699840" y="3710160"/>
              <a:ext cx="4786560" cy="1440"/>
            </a:xfrm>
            <a:prstGeom prst="line">
              <a:avLst/>
            </a:prstGeom>
            <a:ln w="1260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31"/>
          <p:cNvGrpSpPr/>
          <p:nvPr/>
        </p:nvGrpSpPr>
        <p:grpSpPr>
          <a:xfrm>
            <a:off x="179280" y="3860640"/>
            <a:ext cx="5112000" cy="389160"/>
            <a:chOff x="179280" y="3860640"/>
            <a:chExt cx="5112000" cy="389160"/>
          </a:xfrm>
        </p:grpSpPr>
        <p:sp>
          <p:nvSpPr>
            <p:cNvPr id="79" name="任意多边形 32"/>
            <p:cNvSpPr/>
            <p:nvPr/>
          </p:nvSpPr>
          <p:spPr>
            <a:xfrm>
              <a:off x="179280" y="3860640"/>
              <a:ext cx="318960" cy="38916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 Rounded MT Bold"/>
                  <a:ea typeface="幼圆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直接连接符 33"/>
            <p:cNvSpPr/>
            <p:nvPr/>
          </p:nvSpPr>
          <p:spPr>
            <a:xfrm>
              <a:off x="338040" y="4249800"/>
              <a:ext cx="495324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41"/>
          <p:cNvSpPr/>
          <p:nvPr/>
        </p:nvSpPr>
        <p:spPr>
          <a:xfrm>
            <a:off x="539640" y="3645000"/>
            <a:ext cx="43149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心理描写等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4"/>
          <p:cNvSpPr/>
          <p:nvPr/>
        </p:nvSpPr>
        <p:spPr>
          <a:xfrm>
            <a:off x="4224240" y="2228760"/>
            <a:ext cx="289080" cy="2009880"/>
          </a:xfrm>
          <a:custGeom>
            <a:avLst/>
            <a:gdLst>
              <a:gd name="textAreaLeft" fmla="*/ 0 w 289080"/>
              <a:gd name="textAreaRight" fmla="*/ 104400 w 289080"/>
              <a:gd name="textAreaTop" fmla="*/ 48960 h 2009880"/>
              <a:gd name="textAreaBottom" fmla="*/ 1960920 h 20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41"/>
                  <a:pt x="10800" y="1682"/>
                </a:cubicBezTo>
                <a:lnTo>
                  <a:pt x="10800" y="9118"/>
                </a:lnTo>
                <a:cubicBezTo>
                  <a:pt x="10800" y="9959"/>
                  <a:pt x="16200" y="10800"/>
                  <a:pt x="21600" y="10800"/>
                </a:cubicBezTo>
                <a:cubicBezTo>
                  <a:pt x="16200" y="10800"/>
                  <a:pt x="10800" y="11641"/>
                  <a:pt x="10800" y="12482"/>
                </a:cubicBezTo>
                <a:lnTo>
                  <a:pt x="10800" y="19918"/>
                </a:lnTo>
                <a:cubicBezTo>
                  <a:pt x="10800" y="20759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b05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64520" rIns="164520" tIns="82440" bIns="82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6"/>
          <p:cNvSpPr/>
          <p:nvPr/>
        </p:nvSpPr>
        <p:spPr>
          <a:xfrm>
            <a:off x="4869000" y="2852640"/>
            <a:ext cx="1034280" cy="52056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在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7"/>
          <p:cNvSpPr/>
          <p:nvPr/>
        </p:nvSpPr>
        <p:spPr>
          <a:xfrm>
            <a:off x="6994800" y="3046320"/>
            <a:ext cx="1034280" cy="52056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物内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8"/>
          <p:cNvSpPr/>
          <p:nvPr/>
        </p:nvSpPr>
        <p:spPr>
          <a:xfrm>
            <a:off x="6823800" y="4206960"/>
            <a:ext cx="1674360" cy="52056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性与精神品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直接箭头连接符 5"/>
          <p:cNvCxnSpPr/>
          <p:nvPr/>
        </p:nvCxnSpPr>
        <p:spPr>
          <a:xfrm>
            <a:off x="6156360" y="3212640"/>
            <a:ext cx="552960" cy="1080"/>
          </a:xfrm>
          <a:prstGeom prst="straightConnector1">
            <a:avLst/>
          </a:prstGeom>
          <a:ln w="25560">
            <a:solidFill>
              <a:srgbClr val="00b050"/>
            </a:solidFill>
            <a:round/>
            <a:tailEnd len="med" type="triangle" w="med"/>
          </a:ln>
        </p:spPr>
      </p:cxnSp>
      <p:cxnSp>
        <p:nvCxnSpPr>
          <p:cNvPr id="87" name="直接箭头连接符 47"/>
          <p:cNvCxnSpPr/>
          <p:nvPr/>
        </p:nvCxnSpPr>
        <p:spPr>
          <a:xfrm flipH="1">
            <a:off x="7252920" y="3504960"/>
            <a:ext cx="16560" cy="624600"/>
          </a:xfrm>
          <a:prstGeom prst="straightConnector1">
            <a:avLst/>
          </a:prstGeom>
          <a:ln w="25560">
            <a:solidFill>
              <a:srgbClr val="00b050"/>
            </a:solidFill>
            <a:round/>
            <a:tailEnd len="med" type="triangle" w="med"/>
          </a:ln>
        </p:spPr>
      </p:cxn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1363680" y="2144880"/>
            <a:ext cx="7775640" cy="493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468360" y="1484280"/>
            <a:ext cx="8177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首先，可以抓住典型事例来表现人物的精神风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4445280" y="952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典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468360" y="3346560"/>
            <a:ext cx="65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从唐诗下手，目不窥园，兀兀穷年，沥尽心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573120" y="4221000"/>
            <a:ext cx="6086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饭，几乎忘记了吃，他贪的是精神食粮；夜间睡得很少，为了研究，他惜寸阴、分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5"/>
          <p:cNvSpPr/>
          <p:nvPr/>
        </p:nvSpPr>
        <p:spPr>
          <a:xfrm>
            <a:off x="7093080" y="3139920"/>
            <a:ext cx="1034280" cy="5205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足不下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7101000" y="3933720"/>
            <a:ext cx="1034280" cy="52056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废寝忘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0"/>
          <p:cNvSpPr/>
          <p:nvPr/>
        </p:nvSpPr>
        <p:spPr>
          <a:xfrm>
            <a:off x="2619360" y="2262240"/>
            <a:ext cx="246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和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闻一多先生言行片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4797000" y="2838600"/>
            <a:ext cx="34380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专注认真、锲而不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116000" y="2492280"/>
            <a:ext cx="68407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elvetica Neue"/>
              </a:rPr>
              <a:t>你们站出来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!</a:t>
            </a:r>
            <a:r>
              <a:rPr b="0" lang="zh-CN" sz="2800" spc="-1" strike="noStrike">
                <a:solidFill>
                  <a:srgbClr val="000000"/>
                </a:solidFill>
                <a:latin typeface="Helvetica Neue"/>
              </a:rPr>
              <a:t>你们站出来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3419640" y="692280"/>
            <a:ext cx="2734920" cy="520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畏强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1154160" y="1341360"/>
            <a:ext cx="7665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elvetica Neue"/>
              </a:rPr>
              <a:t>他向全国人民呼喊，叫人民起来，反对独裁，争取民主</a:t>
            </a:r>
            <a:r>
              <a:rPr b="0" lang="en-US" sz="2800" spc="-1" strike="noStrike">
                <a:solidFill>
                  <a:srgbClr val="000000"/>
                </a:solidFill>
                <a:latin typeface="Helvetica Neue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"/>
          <p:cNvSpPr/>
          <p:nvPr/>
        </p:nvSpPr>
        <p:spPr>
          <a:xfrm>
            <a:off x="1116000" y="5862600"/>
            <a:ext cx="76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elvetica Neue"/>
              </a:rPr>
              <a:t>他终于以宝贵的生命，实证了他的“言”和“行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1120680" y="3933720"/>
            <a:ext cx="7844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Helvetica Neue"/>
              </a:rPr>
              <a:t>我们要准备像李先生一样，前脚跨出大门，后脚就不准备再跨进大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8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635120" cy="199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9"/>
          <p:cNvSpPr/>
          <p:nvPr/>
        </p:nvSpPr>
        <p:spPr>
          <a:xfrm rot="5400000">
            <a:off x="2447640" y="-1214280"/>
            <a:ext cx="4032360" cy="8134560"/>
          </a:xfrm>
          <a:custGeom>
            <a:avLst/>
            <a:gdLst/>
            <a:ahLst/>
            <a:rect l="l" t="t" r="r" b="b"/>
            <a:pathLst>
              <a:path w="5166653" h="2369443">
                <a:moveTo>
                  <a:pt x="1350229" y="0"/>
                </a:moveTo>
                <a:lnTo>
                  <a:pt x="5166653" y="0"/>
                </a:lnTo>
                <a:lnTo>
                  <a:pt x="5166653" y="2369443"/>
                </a:lnTo>
                <a:lnTo>
                  <a:pt x="1350229" y="2369443"/>
                </a:lnTo>
                <a:lnTo>
                  <a:pt x="1350229" y="2153255"/>
                </a:lnTo>
                <a:cubicBezTo>
                  <a:pt x="1247686" y="2188856"/>
                  <a:pt x="1137525" y="2207687"/>
                  <a:pt x="1022966" y="2207687"/>
                </a:cubicBezTo>
                <a:cubicBezTo>
                  <a:pt x="457997" y="2207687"/>
                  <a:pt x="0" y="1749690"/>
                  <a:pt x="0" y="1184721"/>
                </a:cubicBezTo>
                <a:cubicBezTo>
                  <a:pt x="0" y="619752"/>
                  <a:pt x="457997" y="161755"/>
                  <a:pt x="1022966" y="161755"/>
                </a:cubicBezTo>
                <a:cubicBezTo>
                  <a:pt x="1137525" y="161755"/>
                  <a:pt x="1247686" y="180586"/>
                  <a:pt x="1350229" y="216187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ffc000"/>
            </a:solidFill>
            <a:round/>
          </a:ln>
          <a:effectLst>
            <a:outerShdw dist="63360" dir="5400000" blurRad="0" rotWithShape="0">
              <a:srgbClr val="4f62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"/>
          <p:cNvSpPr/>
          <p:nvPr/>
        </p:nvSpPr>
        <p:spPr>
          <a:xfrm>
            <a:off x="973080" y="1206360"/>
            <a:ext cx="7775640" cy="4939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/>
          <p:cNvSpPr/>
          <p:nvPr/>
        </p:nvSpPr>
        <p:spPr>
          <a:xfrm>
            <a:off x="2975760" y="1052640"/>
            <a:ext cx="29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Helvetica Neue"/>
              </a:rPr>
              <a:t>再如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回忆鲁迅先生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/>
          <p:cNvSpPr/>
          <p:nvPr/>
        </p:nvSpPr>
        <p:spPr>
          <a:xfrm>
            <a:off x="612720" y="1844640"/>
            <a:ext cx="77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迅先生不大注意人的衣裳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迅“欢喜吃硬的，油炸的，就是吃饭也欢喜吃硬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描写特别生动具体的是鲁迅在寓所接待并宴请冯雪峰的场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年人写信，写得太草率，鲁迅先生是深恶痛绝之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"/>
          <p:cNvSpPr/>
          <p:nvPr/>
        </p:nvSpPr>
        <p:spPr>
          <a:xfrm>
            <a:off x="755640" y="5229360"/>
            <a:ext cx="7921800" cy="520560"/>
          </a:xfrm>
          <a:prstGeom prst="rect">
            <a:avLst/>
          </a:prstGeom>
          <a:noFill/>
          <a:ln w="2232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Helvetica Neue"/>
              </a:rPr>
              <a:t>超群的智慧，广阔的胸襟和可亲可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"/>
          <p:cNvSpPr/>
          <p:nvPr/>
        </p:nvSpPr>
        <p:spPr>
          <a:xfrm>
            <a:off x="1235160" y="2408400"/>
            <a:ext cx="7775640" cy="4935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/>
          <p:cNvSpPr/>
          <p:nvPr/>
        </p:nvSpPr>
        <p:spPr>
          <a:xfrm>
            <a:off x="324000" y="10382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次，可以借助一些写作手法来加以突出、强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3924720" y="47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经典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324000" y="1628640"/>
            <a:ext cx="86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邓稼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文，将邓稼先与美国“原子弹之父”奥本海默进行对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108000" y="2708280"/>
            <a:ext cx="2466720" cy="1438200"/>
            <a:chOff x="108000" y="2708280"/>
            <a:chExt cx="2466720" cy="1438200"/>
          </a:xfrm>
        </p:grpSpPr>
        <p:sp>
          <p:nvSpPr>
            <p:cNvPr id="117" name="Text Box 4"/>
            <p:cNvSpPr/>
            <p:nvPr/>
          </p:nvSpPr>
          <p:spPr>
            <a:xfrm>
              <a:off x="230760" y="2708280"/>
              <a:ext cx="16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职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181800" y="3173400"/>
              <a:ext cx="166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功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6"/>
            <p:cNvSpPr/>
            <p:nvPr/>
          </p:nvSpPr>
          <p:spPr>
            <a:xfrm>
              <a:off x="108000" y="3625920"/>
              <a:ext cx="220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学术水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1492920" y="2708280"/>
              <a:ext cx="397800" cy="1285920"/>
            </a:xfrm>
            <a:custGeom>
              <a:avLst/>
              <a:gdLst>
                <a:gd name="textAreaLeft" fmla="*/ 0 w 397800"/>
                <a:gd name="textAreaRight" fmla="*/ 143640 w 397800"/>
                <a:gd name="textAreaTop" fmla="*/ 35280 h 1285920"/>
                <a:gd name="textAreaBottom" fmla="*/ 1250640 h 128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6"/>
                    <a:pt x="10800" y="1911"/>
                  </a:cubicBezTo>
                  <a:lnTo>
                    <a:pt x="10800" y="8889"/>
                  </a:lnTo>
                  <a:cubicBezTo>
                    <a:pt x="10800" y="9845"/>
                    <a:pt x="16200" y="10800"/>
                    <a:pt x="21600" y="10800"/>
                  </a:cubicBezTo>
                  <a:cubicBezTo>
                    <a:pt x="16200" y="10800"/>
                    <a:pt x="10800" y="11756"/>
                    <a:pt x="10800" y="12711"/>
                  </a:cubicBezTo>
                  <a:lnTo>
                    <a:pt x="10800" y="19689"/>
                  </a:lnTo>
                  <a:cubicBezTo>
                    <a:pt x="10800" y="20645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8"/>
            <p:cNvSpPr/>
            <p:nvPr/>
          </p:nvSpPr>
          <p:spPr>
            <a:xfrm>
              <a:off x="1967400" y="31352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相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9"/>
          <p:cNvGrpSpPr/>
          <p:nvPr/>
        </p:nvGrpSpPr>
        <p:grpSpPr>
          <a:xfrm>
            <a:off x="2771640" y="2637000"/>
            <a:ext cx="2449440" cy="1542600"/>
            <a:chOff x="2771640" y="2637000"/>
            <a:chExt cx="2449440" cy="1542600"/>
          </a:xfrm>
        </p:grpSpPr>
        <p:sp>
          <p:nvSpPr>
            <p:cNvPr id="123" name="Rectangle 10"/>
            <p:cNvSpPr/>
            <p:nvPr/>
          </p:nvSpPr>
          <p:spPr>
            <a:xfrm>
              <a:off x="2931120" y="2637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国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1"/>
            <p:cNvSpPr/>
            <p:nvPr/>
          </p:nvSpPr>
          <p:spPr>
            <a:xfrm>
              <a:off x="2771640" y="3149280"/>
              <a:ext cx="17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文化背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2"/>
            <p:cNvSpPr/>
            <p:nvPr/>
          </p:nvSpPr>
          <p:spPr>
            <a:xfrm>
              <a:off x="2982600" y="3659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性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3"/>
            <p:cNvSpPr/>
            <p:nvPr/>
          </p:nvSpPr>
          <p:spPr>
            <a:xfrm>
              <a:off x="4161240" y="2795400"/>
              <a:ext cx="369360" cy="1215720"/>
            </a:xfrm>
            <a:custGeom>
              <a:avLst/>
              <a:gdLst>
                <a:gd name="textAreaLeft" fmla="*/ 0 w 369360"/>
                <a:gd name="textAreaRight" fmla="*/ 133200 w 369360"/>
                <a:gd name="textAreaTop" fmla="*/ 38160 h 1215720"/>
                <a:gd name="textAreaBottom" fmla="*/ 1177560 h 121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087"/>
                    <a:pt x="10800" y="2173"/>
                  </a:cubicBezTo>
                  <a:lnTo>
                    <a:pt x="10800" y="8627"/>
                  </a:lnTo>
                  <a:cubicBezTo>
                    <a:pt x="10800" y="9714"/>
                    <a:pt x="16200" y="10800"/>
                    <a:pt x="21600" y="10800"/>
                  </a:cubicBezTo>
                  <a:cubicBezTo>
                    <a:pt x="16200" y="10800"/>
                    <a:pt x="10800" y="11887"/>
                    <a:pt x="10800" y="12973"/>
                  </a:cubicBezTo>
                  <a:lnTo>
                    <a:pt x="10800" y="19427"/>
                  </a:lnTo>
                  <a:cubicBezTo>
                    <a:pt x="10800" y="20514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4613760" y="3149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21"/>
          <p:cNvGrpSpPr/>
          <p:nvPr/>
        </p:nvGrpSpPr>
        <p:grpSpPr>
          <a:xfrm>
            <a:off x="5167440" y="2276640"/>
            <a:ext cx="3976200" cy="1734480"/>
            <a:chOff x="5167440" y="2276640"/>
            <a:chExt cx="3976200" cy="1734480"/>
          </a:xfrm>
        </p:grpSpPr>
        <p:sp>
          <p:nvSpPr>
            <p:cNvPr id="129" name="Rectangle 22"/>
            <p:cNvSpPr/>
            <p:nvPr/>
          </p:nvSpPr>
          <p:spPr>
            <a:xfrm>
              <a:off x="5167440" y="3124800"/>
              <a:ext cx="183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3"/>
            <p:cNvSpPr/>
            <p:nvPr/>
          </p:nvSpPr>
          <p:spPr>
            <a:xfrm>
              <a:off x="6480360" y="2276640"/>
              <a:ext cx="303840" cy="1734480"/>
            </a:xfrm>
            <a:custGeom>
              <a:avLst/>
              <a:gdLst>
                <a:gd name="textAreaLeft" fmla="*/ 194040 w 303840"/>
                <a:gd name="textAreaRight" fmla="*/ 304200 w 303840"/>
                <a:gd name="textAreaTop" fmla="*/ 47520 h 1734480"/>
                <a:gd name="textAreaBottom" fmla="*/ 1686960 h 17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51"/>
                    <a:pt x="10800" y="1902"/>
                  </a:cubicBezTo>
                  <a:lnTo>
                    <a:pt x="10800" y="8898"/>
                  </a:lnTo>
                  <a:cubicBezTo>
                    <a:pt x="10800" y="9849"/>
                    <a:pt x="5400" y="10800"/>
                    <a:pt x="0" y="10800"/>
                  </a:cubicBezTo>
                  <a:cubicBezTo>
                    <a:pt x="5400" y="10800"/>
                    <a:pt x="10800" y="11751"/>
                    <a:pt x="10800" y="12702"/>
                  </a:cubicBezTo>
                  <a:lnTo>
                    <a:pt x="10800" y="19698"/>
                  </a:lnTo>
                  <a:cubicBezTo>
                    <a:pt x="10800" y="20649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4"/>
            <p:cNvSpPr/>
            <p:nvPr/>
          </p:nvSpPr>
          <p:spPr>
            <a:xfrm>
              <a:off x="6709320" y="2345040"/>
              <a:ext cx="243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最不引人注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5"/>
            <p:cNvSpPr/>
            <p:nvPr/>
          </p:nvSpPr>
          <p:spPr>
            <a:xfrm>
              <a:off x="7040160" y="2873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忠厚平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6"/>
            <p:cNvSpPr/>
            <p:nvPr/>
          </p:nvSpPr>
          <p:spPr>
            <a:xfrm>
              <a:off x="6915960" y="3442680"/>
              <a:ext cx="79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“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纯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27"/>
          <p:cNvSpPr/>
          <p:nvPr/>
        </p:nvSpPr>
        <p:spPr>
          <a:xfrm>
            <a:off x="4932360" y="2781360"/>
            <a:ext cx="19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奉献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"/>
          <p:cNvSpPr/>
          <p:nvPr/>
        </p:nvSpPr>
        <p:spPr>
          <a:xfrm>
            <a:off x="826920" y="4292640"/>
            <a:ext cx="7739280" cy="1373400"/>
          </a:xfrm>
          <a:prstGeom prst="rect">
            <a:avLst/>
          </a:prstGeom>
          <a:noFill/>
          <a:ln w="22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比手法更有利于表现邓稼先作为中国科学家的气质和毫无私心、甘于奉献的科学精神和奉献品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9-01-05T01:37:07Z</dcterms:modified>
  <cp:revision>2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