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FDB-E54F-4AA7-A3A7-89AA4A49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E51C-8FEC-4A2B-8A12-590960DF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544-54B5-4CD7-AA95-CB201BF6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3696-BA2A-4E70-8E41-FC3CFE26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0C70-5EC3-41E4-87F3-77CCDEDE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359-34DC-487F-990A-BE944556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646-459B-4C85-98EA-5B127DA2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220-8CD1-42AA-AA56-5719566A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3F74-77C9-4C6D-BF7C-86BC679A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CDE-D718-4D8B-AFE4-E46D5198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47F-3547-407E-BDC4-28ED2673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40A-5ADC-4A09-A430-741A5AAB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6404-8439-443A-B5F0-1F7E1FEAF58F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7A6B-928B-49BF-AC36-D5A5F269D951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0" y="6526080"/>
            <a:ext cx="9144000" cy="331920"/>
          </a:xfrm>
          <a:prstGeom prst="flowChartProcess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" descr="图片1"/>
          <p:cNvPicPr/>
          <p:nvPr/>
        </p:nvPicPr>
        <p:blipFill>
          <a:blip r:embed="rId1"/>
          <a:stretch/>
        </p:blipFill>
        <p:spPr>
          <a:xfrm>
            <a:off x="644400" y="5392800"/>
            <a:ext cx="7694640" cy="94284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"/>
          <p:cNvSpPr/>
          <p:nvPr/>
        </p:nvSpPr>
        <p:spPr>
          <a:xfrm>
            <a:off x="517680" y="2293920"/>
            <a:ext cx="79214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单元   青春时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课    青春的心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3014640" y="3757680"/>
            <a:ext cx="31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课时  男生女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99"/>
          <p:cNvSpPr/>
          <p:nvPr/>
        </p:nvSpPr>
        <p:spPr>
          <a:xfrm>
            <a:off x="189000" y="2162160"/>
            <a:ext cx="86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讨论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何正确认识男女生的性别优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"/>
          <p:cNvSpPr/>
          <p:nvPr/>
        </p:nvSpPr>
        <p:spPr>
          <a:xfrm>
            <a:off x="201600" y="2930400"/>
            <a:ext cx="867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男生女生各自拥有自身的性别优势。我们不仅要认识自己的优势，还要发现对方的优势，相互取长补短，让自己变得更加优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99"/>
          <p:cNvSpPr/>
          <p:nvPr/>
        </p:nvSpPr>
        <p:spPr>
          <a:xfrm>
            <a:off x="216000" y="988920"/>
            <a:ext cx="87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四：好男孩好女孩形象设计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"/>
          <p:cNvSpPr/>
          <p:nvPr/>
        </p:nvSpPr>
        <p:spPr>
          <a:xfrm>
            <a:off x="203040" y="1862280"/>
            <a:ext cx="86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活动要求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每个学生结合自己的特点，自行设计一个更富有个性的男孩或女孩的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"/>
          <p:cNvSpPr/>
          <p:nvPr/>
        </p:nvSpPr>
        <p:spPr>
          <a:xfrm>
            <a:off x="203040" y="3543480"/>
            <a:ext cx="86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不同性别的个体虽然有差别，但是我们不应因自己某一方面的优势而自傲，也不应因自己某一方面的欠缺而自卑。男生女生应相互理解，相互帮助，相互学习，共同进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4103"/>
          <p:cNvSpPr/>
          <p:nvPr/>
        </p:nvSpPr>
        <p:spPr>
          <a:xfrm>
            <a:off x="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1073742895" descr=""/>
          <p:cNvPicPr/>
          <p:nvPr/>
        </p:nvPicPr>
        <p:blipFill>
          <a:blip r:embed="rId1"/>
          <a:stretch/>
        </p:blipFill>
        <p:spPr>
          <a:xfrm>
            <a:off x="1081080" y="1606680"/>
            <a:ext cx="6981840" cy="3573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4103"/>
          <p:cNvSpPr/>
          <p:nvPr/>
        </p:nvSpPr>
        <p:spPr>
          <a:xfrm>
            <a:off x="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:\Users\ADMINI~1\AppData\Local\Temp\ksohtml\wps5F02.tmp.jpg"/>
          <p:cNvPicPr/>
          <p:nvPr/>
        </p:nvPicPr>
        <p:blipFill>
          <a:blip r:embed="rId1"/>
          <a:stretch/>
        </p:blipFill>
        <p:spPr>
          <a:xfrm>
            <a:off x="4572000" y="-152280"/>
            <a:ext cx="19080" cy="1908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99"/>
          <p:cNvSpPr/>
          <p:nvPr/>
        </p:nvSpPr>
        <p:spPr>
          <a:xfrm>
            <a:off x="158760" y="1333440"/>
            <a:ext cx="881712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社会中，我们对男女性别的认识正确的有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性别特征是与生俱来的，我们应平静而欣然地接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男女都一样，对男女性别的认识没有什么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通常会受到性别刻板印象的影响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④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可以帮助我们了解自己与异性的不同特点，学会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何塑造自我形象，如何与异性相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.①②    B.①③④    C.①②③④    D.①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"/>
          <p:cNvSpPr/>
          <p:nvPr/>
        </p:nvSpPr>
        <p:spPr>
          <a:xfrm>
            <a:off x="7897680" y="1351080"/>
            <a:ext cx="6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081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99"/>
          <p:cNvSpPr/>
          <p:nvPr/>
        </p:nvSpPr>
        <p:spPr>
          <a:xfrm>
            <a:off x="231840" y="322200"/>
            <a:ext cx="865188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男孩是土地／坚定中充满锐利／女孩是春雨／善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而美丽／男孩爱在绿茵场上驰骋／女孩喜在阳光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嬉戏／男孩会自我激励地说／我要坚强／我要执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／女孩常对溪流讲／我会欣赏／我能把握／如今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男孩女孩呀／共撑一片蓝天……这首小诗告诉我们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男女同学正常交往利于发展同学间的友情  ②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女同学各有优势，在一起学习交流可以取长补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男女同学可以相互影响，相互帮助，促进个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全面发展  ④男女同学差别太大，很难找到共同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言，交流非常困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①④    B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②③   C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②③④    D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①②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4"/>
          <p:cNvSpPr/>
          <p:nvPr/>
        </p:nvSpPr>
        <p:spPr>
          <a:xfrm>
            <a:off x="7623000" y="287028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081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4103"/>
          <p:cNvSpPr/>
          <p:nvPr/>
        </p:nvSpPr>
        <p:spPr>
          <a:xfrm>
            <a:off x="71280" y="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"/>
          <p:cNvSpPr/>
          <p:nvPr/>
        </p:nvSpPr>
        <p:spPr>
          <a:xfrm>
            <a:off x="-96840" y="1006560"/>
            <a:ext cx="5079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罗大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童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池塘边的榕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了在声声叫着夏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场边的秋千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有蝴蝶停在上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黑板上老师的粉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在拼命叽叽喳喳写个不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待着下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待着放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待游戏的童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童年--罗大佑_标清" descr=""/>
          <p:cNvPicPr/>
          <p:nvPr/>
        </p:nvPicPr>
        <p:blipFill>
          <a:blip r:embed="rId1"/>
          <a:stretch/>
        </p:blipFill>
        <p:spPr>
          <a:xfrm>
            <a:off x="4835520" y="1711440"/>
            <a:ext cx="3687840" cy="25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99"/>
          <p:cNvSpPr/>
          <p:nvPr/>
        </p:nvSpPr>
        <p:spPr>
          <a:xfrm>
            <a:off x="216000" y="907920"/>
            <a:ext cx="63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一想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听歌曲让你想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201600" y="16574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朝气、热情、对未来的渴望，童年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254160" y="2454120"/>
            <a:ext cx="86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我每次听到这首歌曲心中不禁生出万千感慨：在渴望长大中，无忧的童年渐渐远去，多彩的青春悄然降临，稚气未脱的我们渐渐拥有了属于自己的“成熟与长大的脸”。就像花儿，我们沐浴着青春的朝阳，和着友谊的雨露静静绽放。这如花般灿烂的岁月，给我们这些男孩女孩带来了兴奋和惊喜，也带来了焦躁和烦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189000" y="5672160"/>
            <a:ext cx="87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我们一同探讨成长中的话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男生女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4"/>
          <p:cNvSpPr/>
          <p:nvPr/>
        </p:nvSpPr>
        <p:spPr>
          <a:xfrm>
            <a:off x="4000680" y="1000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administrator\appdata\roaming\360se6\User Data\temp\t01af057eabdd6f97a6.jpg"/>
          <p:cNvPicPr/>
          <p:nvPr/>
        </p:nvPicPr>
        <p:blipFill>
          <a:blip r:embed="rId1"/>
          <a:stretch/>
        </p:blipFill>
        <p:spPr>
          <a:xfrm>
            <a:off x="428760" y="5286240"/>
            <a:ext cx="1214280" cy="928800"/>
          </a:xfrm>
          <a:prstGeom prst="rect">
            <a:avLst/>
          </a:prstGeom>
          <a:ln w="0">
            <a:noFill/>
          </a:ln>
        </p:spPr>
      </p:pic>
      <p:sp>
        <p:nvSpPr>
          <p:cNvPr id="54" name="矩形 2"/>
          <p:cNvSpPr/>
          <p:nvPr/>
        </p:nvSpPr>
        <p:spPr>
          <a:xfrm>
            <a:off x="1973160" y="1736640"/>
            <a:ext cx="5761080" cy="3384720"/>
          </a:xfrm>
          <a:prstGeom prst="rect">
            <a:avLst/>
          </a:prstGeom>
          <a:solidFill>
            <a:srgbClr val="fbe5d6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"/>
          <p:cNvSpPr/>
          <p:nvPr/>
        </p:nvSpPr>
        <p:spPr>
          <a:xfrm>
            <a:off x="2166840" y="2246400"/>
            <a:ext cx="537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认识到男生女生生理特征及性别角色的差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了解男生女生各自的优势及双方的互补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6152"/>
          <p:cNvSpPr/>
          <p:nvPr/>
        </p:nvSpPr>
        <p:spPr>
          <a:xfrm>
            <a:off x="325440" y="69372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6147"/>
          <p:cNvGrpSpPr/>
          <p:nvPr/>
        </p:nvGrpSpPr>
        <p:grpSpPr>
          <a:xfrm>
            <a:off x="325440" y="406440"/>
            <a:ext cx="2232000" cy="808200"/>
            <a:chOff x="325440" y="406440"/>
            <a:chExt cx="2232000" cy="808200"/>
          </a:xfrm>
        </p:grpSpPr>
        <p:sp>
          <p:nvSpPr>
            <p:cNvPr id="58" name="矩形 7"/>
            <p:cNvSpPr/>
            <p:nvPr/>
          </p:nvSpPr>
          <p:spPr>
            <a:xfrm>
              <a:off x="885240" y="40644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任意多边形 16"/>
            <p:cNvSpPr/>
            <p:nvPr/>
          </p:nvSpPr>
          <p:spPr>
            <a:xfrm>
              <a:off x="325440" y="6948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17"/>
            <p:cNvSpPr/>
            <p:nvPr/>
          </p:nvSpPr>
          <p:spPr>
            <a:xfrm>
              <a:off x="687240" y="6440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文本框 6152"/>
            <p:cNvSpPr/>
            <p:nvPr/>
          </p:nvSpPr>
          <p:spPr>
            <a:xfrm>
              <a:off x="325440" y="69408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文本框 6151"/>
          <p:cNvSpPr/>
          <p:nvPr/>
        </p:nvSpPr>
        <p:spPr>
          <a:xfrm>
            <a:off x="2136240" y="681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一：他和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4103"/>
          <p:cNvSpPr/>
          <p:nvPr/>
        </p:nvSpPr>
        <p:spPr>
          <a:xfrm>
            <a:off x="14292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新课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99"/>
          <p:cNvSpPr/>
          <p:nvPr/>
        </p:nvSpPr>
        <p:spPr>
          <a:xfrm>
            <a:off x="741240" y="1274760"/>
            <a:ext cx="7923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欣赏一首小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男孩、女孩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孩是本巨著，记着一生的英勇潇洒叽喳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孩是首小诗，载着无比的温文尔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孩像块坚石，大风大浪掠过石块儿依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孩像颗星星，无际黑暗难掩星光点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孩爱穿一身牛仔外出兜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孩爱撑一把花伞雨中散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孩把试卷丢一边大喊轻松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孩小心翼翼把错题订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孩爱骑快车满街穿梭显威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孩爱叽叽喳喳走马观花看闹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今的男孩、女孩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撑半边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3"/>
          <p:cNvSpPr/>
          <p:nvPr/>
        </p:nvSpPr>
        <p:spPr>
          <a:xfrm>
            <a:off x="216000" y="82692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活动一：心目中的男生女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189000" y="1549440"/>
            <a:ext cx="87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活动要求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学生按照性别分成两组，说出你最欣赏的异性同学的性格、态度、举止、相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"/>
          <p:cNvSpPr/>
          <p:nvPr/>
        </p:nvSpPr>
        <p:spPr>
          <a:xfrm>
            <a:off x="208080" y="264168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讨论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男生与女生的性别差异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7"/>
          <p:cNvSpPr/>
          <p:nvPr/>
        </p:nvSpPr>
        <p:spPr>
          <a:xfrm>
            <a:off x="281160" y="39038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随着年龄的增长，到了青春期，男生女生在生理方面的差异会更加明显。在社会文化的影响下，男生女生在性格特征、兴趣爱好、思维方式等方面，越来越多地表现出自己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3"/>
          <p:cNvSpPr/>
          <p:nvPr/>
        </p:nvSpPr>
        <p:spPr>
          <a:xfrm>
            <a:off x="203040" y="1160640"/>
            <a:ext cx="85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析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何正确认识男生女生的性别差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"/>
          <p:cNvSpPr/>
          <p:nvPr/>
        </p:nvSpPr>
        <p:spPr>
          <a:xfrm>
            <a:off x="203040" y="1927080"/>
            <a:ext cx="868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男生女生的生理性别特征是与生俱来的，对于青春期特有的生理变化，我们应平静而欣然地接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5"/>
          <p:cNvSpPr/>
          <p:nvPr/>
        </p:nvSpPr>
        <p:spPr>
          <a:xfrm>
            <a:off x="203040" y="3570120"/>
            <a:ext cx="86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对性别角色的认识，可以帮助我们了解自己与异性的不同特点，学会如何塑造自我形象，如何与异性相处。同时我们要克服性别刻板印象的影响，因为在某种程度上性别刻板印象影响我们自身潜能的发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6152"/>
          <p:cNvSpPr/>
          <p:nvPr/>
        </p:nvSpPr>
        <p:spPr>
          <a:xfrm>
            <a:off x="558720" y="56052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6151"/>
          <p:cNvSpPr/>
          <p:nvPr/>
        </p:nvSpPr>
        <p:spPr>
          <a:xfrm>
            <a:off x="1765800" y="5475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二：优势互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152"/>
          <p:cNvSpPr/>
          <p:nvPr/>
        </p:nvSpPr>
        <p:spPr>
          <a:xfrm>
            <a:off x="685800" y="6872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6147"/>
          <p:cNvGrpSpPr/>
          <p:nvPr/>
        </p:nvGrpSpPr>
        <p:grpSpPr>
          <a:xfrm>
            <a:off x="615960" y="333360"/>
            <a:ext cx="2232000" cy="808200"/>
            <a:chOff x="615960" y="333360"/>
            <a:chExt cx="2232000" cy="808200"/>
          </a:xfrm>
        </p:grpSpPr>
        <p:sp>
          <p:nvSpPr>
            <p:cNvPr id="76" name="矩形 7"/>
            <p:cNvSpPr/>
            <p:nvPr/>
          </p:nvSpPr>
          <p:spPr>
            <a:xfrm>
              <a:off x="1175760" y="33336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16"/>
            <p:cNvSpPr/>
            <p:nvPr/>
          </p:nvSpPr>
          <p:spPr>
            <a:xfrm>
              <a:off x="615960" y="62172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17"/>
            <p:cNvSpPr/>
            <p:nvPr/>
          </p:nvSpPr>
          <p:spPr>
            <a:xfrm>
              <a:off x="977760" y="57096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文本框 6152"/>
            <p:cNvSpPr/>
            <p:nvPr/>
          </p:nvSpPr>
          <p:spPr>
            <a:xfrm>
              <a:off x="615960" y="62100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文本框 3"/>
          <p:cNvSpPr/>
          <p:nvPr/>
        </p:nvSpPr>
        <p:spPr>
          <a:xfrm>
            <a:off x="189000" y="146376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二：男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K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女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4"/>
          <p:cNvSpPr/>
          <p:nvPr/>
        </p:nvSpPr>
        <p:spPr>
          <a:xfrm>
            <a:off x="216000" y="227952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男生女生的优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5"/>
          <p:cNvSpPr/>
          <p:nvPr/>
        </p:nvSpPr>
        <p:spPr>
          <a:xfrm>
            <a:off x="189000" y="2997360"/>
            <a:ext cx="865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男孩子思维活跃、活泼好动，像太阳；女孩子文静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气、温柔体贴，如月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237960" y="4514760"/>
            <a:ext cx="84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我们看到，不论男生、女生都各有很多优势。男孩子决策果断、富有冒险精神；女孩子温文尔雅、善于理解体谅他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3"/>
          <p:cNvSpPr/>
          <p:nvPr/>
        </p:nvSpPr>
        <p:spPr>
          <a:xfrm>
            <a:off x="216000" y="53964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三：请你分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"/>
          <p:cNvSpPr/>
          <p:nvPr/>
        </p:nvSpPr>
        <p:spPr>
          <a:xfrm>
            <a:off x="203040" y="1306440"/>
            <a:ext cx="86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活动要求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新学期开学，我们班要完成以下任务：搬运新书、分发课本、擦玻璃、挂窗帘、搬课桌、收费、打扫卫生区的落叶、拖地、扫地、擦墙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5"/>
          <p:cNvSpPr/>
          <p:nvPr/>
        </p:nvSpPr>
        <p:spPr>
          <a:xfrm>
            <a:off x="189000" y="2886120"/>
            <a:ext cx="86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题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会让男女生各承担什么任务？你这样安排的理由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"/>
          <p:cNvSpPr/>
          <p:nvPr/>
        </p:nvSpPr>
        <p:spPr>
          <a:xfrm>
            <a:off x="203040" y="3916440"/>
            <a:ext cx="85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男生承担的任务：搬运新书、挂窗帘、搬运课桌、擦墙壁。理由：男生有力量、大胆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7"/>
          <p:cNvSpPr/>
          <p:nvPr/>
        </p:nvSpPr>
        <p:spPr>
          <a:xfrm>
            <a:off x="203040" y="4908600"/>
            <a:ext cx="873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女生承担的任务：分发课本、收费、打扫卫生区的落叶，扫地。理由：女生细心、爱干净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8"/>
          <p:cNvSpPr/>
          <p:nvPr/>
        </p:nvSpPr>
        <p:spPr>
          <a:xfrm>
            <a:off x="201600" y="591336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男女合作的任务：拖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1T01:29:37Z</dcterms:created>
  <dc:creator/>
  <dc:description/>
  <dc:language>en-US</dc:language>
  <cp:lastModifiedBy>Administrator</cp:lastModifiedBy>
  <dcterms:modified xsi:type="dcterms:W3CDTF">2019-01-11T01:29:3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