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2BF-0D36-462A-AD15-DE4D3DC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4C1-1683-4B03-A155-82D11C0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912-0EAA-4E6B-8347-BFAFC1ED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525-A435-4D24-8FE0-5AD872D0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69B-E57F-4206-BB1B-482CA8D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351-E055-4A2A-B6B4-18EB11E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D52-42ED-44E6-ABC1-98E3B05A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879-7DE1-44EF-821E-5F64D28B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C68-9073-4688-86A6-FA3790C9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73A-80B1-4250-A833-2FAD4BAA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4A6-CCD3-4162-A2B0-45A39A2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8F6-E8A6-4948-89AF-6F1A978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66A-5210-4D3C-A934-EB751BEC6D52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539-4CDC-4EA2-832D-602A8544746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703440" y="5033880"/>
            <a:ext cx="769428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课    青春的邀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2139840" y="37576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成长的不仅仅是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69696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2"/>
          <p:cNvSpPr/>
          <p:nvPr/>
        </p:nvSpPr>
        <p:spPr>
          <a:xfrm>
            <a:off x="26989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3"/>
          <p:cNvSpPr/>
          <p:nvPr/>
        </p:nvSpPr>
        <p:spPr>
          <a:xfrm>
            <a:off x="470700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4"/>
          <p:cNvSpPr/>
          <p:nvPr/>
        </p:nvSpPr>
        <p:spPr>
          <a:xfrm>
            <a:off x="67183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2"/>
          <p:cNvSpPr/>
          <p:nvPr/>
        </p:nvSpPr>
        <p:spPr>
          <a:xfrm>
            <a:off x="-7920" y="434880"/>
            <a:ext cx="70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五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-22320" y="1171440"/>
            <a:ext cx="68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如何评价君君和晓琳的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6"/>
          <p:cNvSpPr/>
          <p:nvPr/>
        </p:nvSpPr>
        <p:spPr>
          <a:xfrm>
            <a:off x="876240" y="173664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君君的建议太过直白，多少让人有点接受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了。晓琳的建议很有建设性，能有效地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-6480" y="3309840"/>
            <a:ext cx="82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如果你是七年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班的同学，你会给班级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片制作活动提出什么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"/>
          <p:cNvSpPr/>
          <p:nvPr/>
        </p:nvSpPr>
        <p:spPr>
          <a:xfrm>
            <a:off x="542880" y="46767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掌握批判的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"/>
          <p:cNvSpPr/>
          <p:nvPr/>
        </p:nvSpPr>
        <p:spPr>
          <a:xfrm>
            <a:off x="301680" y="5248440"/>
            <a:ext cx="808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批判只针对事情本身，而不攻击他人；批判要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有一定的建设性，能有效地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151"/>
          <p:cNvSpPr/>
          <p:nvPr/>
        </p:nvSpPr>
        <p:spPr>
          <a:xfrm>
            <a:off x="1865160" y="571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三：开发创造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6147"/>
          <p:cNvGrpSpPr/>
          <p:nvPr/>
        </p:nvGrpSpPr>
        <p:grpSpPr>
          <a:xfrm>
            <a:off x="571680" y="357120"/>
            <a:ext cx="2232000" cy="808200"/>
            <a:chOff x="571680" y="357120"/>
            <a:chExt cx="2232000" cy="808200"/>
          </a:xfrm>
        </p:grpSpPr>
        <p:sp>
          <p:nvSpPr>
            <p:cNvPr id="120" name="矩形 7"/>
            <p:cNvSpPr/>
            <p:nvPr/>
          </p:nvSpPr>
          <p:spPr>
            <a:xfrm>
              <a:off x="1131480" y="35712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6"/>
            <p:cNvSpPr/>
            <p:nvPr/>
          </p:nvSpPr>
          <p:spPr>
            <a:xfrm>
              <a:off x="571680" y="6454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>
              <a:off x="933480" y="5947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6152"/>
            <p:cNvSpPr/>
            <p:nvPr/>
          </p:nvSpPr>
          <p:spPr>
            <a:xfrm>
              <a:off x="571680" y="6447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2"/>
          <p:cNvSpPr/>
          <p:nvPr/>
        </p:nvSpPr>
        <p:spPr>
          <a:xfrm>
            <a:off x="-7920" y="1244520"/>
            <a:ext cx="68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六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50760" y="18032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-7920" y="232416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四位同学的表现是创造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915840" y="2790720"/>
            <a:ext cx="74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是的。因为他们思维活跃、感情奔放，朝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蓬勃，充满对未来的美好憧憬，拥有改变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己、改变世界的创造潜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4680" y="4206960"/>
            <a:ext cx="61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我们应该如何开发创造潜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"/>
          <p:cNvSpPr/>
          <p:nvPr/>
        </p:nvSpPr>
        <p:spPr>
          <a:xfrm>
            <a:off x="884160" y="4662360"/>
            <a:ext cx="786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创造离不开实践。社会实践是创造的源泉，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了我们广阔的创造空间，激发我们创造的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青春的创造意味着用自己的智慧和双手去尝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探索、实践，通过劳动改变自己，影响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073742888" descr=""/>
          <p:cNvPicPr/>
          <p:nvPr/>
        </p:nvPicPr>
        <p:blipFill>
          <a:blip r:embed="rId1"/>
          <a:stretch/>
        </p:blipFill>
        <p:spPr>
          <a:xfrm>
            <a:off x="806400" y="1343160"/>
            <a:ext cx="7739280" cy="411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99"/>
          <p:cNvSpPr/>
          <p:nvPr/>
        </p:nvSpPr>
        <p:spPr>
          <a:xfrm>
            <a:off x="6480" y="608040"/>
            <a:ext cx="910728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校允许同学们周五不穿校服。小李周五早上穿了一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松松垮垮的外套，上面还印着不雅的英语句子，为了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己的衣服配套，他给一小撮头发染了点红色。出门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妈妈说：“你是学生，不能穿成这样！”小李说：“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大了，我想怎么穿就怎么穿，这叫‘酷’！您就别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了！”对此认识正确的是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步入青春期，我们的独立意识不断发展，对问题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更多的见解  ②我们的思维逐渐具有独立性  ③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独立并不等同于一味追求独特，而是意味着不人云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云  ④有自己独到的见解，同时接纳他人合理、正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B.①②③④    C.①②④    D.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137440" y="337644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99"/>
          <p:cNvSpPr/>
          <p:nvPr/>
        </p:nvSpPr>
        <p:spPr>
          <a:xfrm>
            <a:off x="92160" y="622440"/>
            <a:ext cx="881388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了《三体》之后，小明对很多问题都感兴趣，他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者脑洞好大，我也希望能够造出最先进的天文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镜，让人类不再为食物发愁，能够随时进入太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够读懂别人的思想……不过这些想法都太遥远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根本做不到……”对此。你是怎么看的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春如初春，如朝日，如百卉之萌动  ②青春凝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着动人的活力，蕴含着伟大的创造力，为我们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带来无限可能  ③青春的我们思想活跃，感情奔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朝气蓬勃，充满对未来的美好憧憬，拥有改变自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改变世界的创造潜力  ④拥有了青春便拥有了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拥有了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B.②③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C.①②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7897680" y="24526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9"/>
          <p:cNvSpPr/>
          <p:nvPr/>
        </p:nvSpPr>
        <p:spPr>
          <a:xfrm>
            <a:off x="1217520" y="728640"/>
            <a:ext cx="66708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春畅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春像一座山峰，意味着锐意进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春像一钩弯月，带给我们无限的诗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488880" y="33163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对青春有哪些畅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351000" y="41022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让我们有了骄傲的资本，青春让我们有了一个一个梦想。在这个时期，我们随着身体的变化，也会产生一些烦恼，今天这节课让我们一起来探讨“成长的不仅仅是身体”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2251080" y="2465280"/>
            <a:ext cx="54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到在我们的成长中，思维独立性伴随着思维的批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青春期的创造潜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9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6151"/>
          <p:cNvSpPr/>
          <p:nvPr/>
        </p:nvSpPr>
        <p:spPr>
          <a:xfrm>
            <a:off x="267228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发展独立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-22320" y="1724040"/>
            <a:ext cx="88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一：欣赏动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马过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儿童故事大全《小马过河》_高清_1" descr=""/>
          <p:cNvPicPr/>
          <p:nvPr/>
        </p:nvPicPr>
        <p:blipFill>
          <a:blip r:embed="rId1"/>
          <a:stretch/>
        </p:blipFill>
        <p:spPr>
          <a:xfrm>
            <a:off x="1488960" y="2511360"/>
            <a:ext cx="64008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4"/>
          <p:cNvSpPr/>
          <p:nvPr/>
        </p:nvSpPr>
        <p:spPr>
          <a:xfrm>
            <a:off x="19080" y="4539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-65160" y="974880"/>
            <a:ext cx="93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马遇到什么问题？它是怎么做的？结果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866880" y="1501920"/>
            <a:ext cx="81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过不了河。听从别人的意见，没主见。还是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-66600" y="24750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妈妈的话让它明白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"/>
          <p:cNvSpPr/>
          <p:nvPr/>
        </p:nvSpPr>
        <p:spPr>
          <a:xfrm>
            <a:off x="831960" y="3003480"/>
            <a:ext cx="79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做任何事，我们要听取他人的意见；又要有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的主见，不断去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-60480" y="398772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故事启发我们在现实生活中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1096920" y="4572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长大了要不断去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1"/>
          <p:cNvSpPr/>
          <p:nvPr/>
        </p:nvSpPr>
        <p:spPr>
          <a:xfrm>
            <a:off x="135000" y="5146560"/>
            <a:ext cx="89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成长的重要信号一是生理发育，二是与之相随的还有思想和精神方面的变化。只有当思想日渐成熟，我们才能真正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9"/>
          <p:cNvSpPr/>
          <p:nvPr/>
        </p:nvSpPr>
        <p:spPr>
          <a:xfrm>
            <a:off x="4680" y="701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二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331920" y="14684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-7920" y="210492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同意以上说法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17640" y="3395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初中生的“独立”是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2"/>
          <p:cNvSpPr/>
          <p:nvPr/>
        </p:nvSpPr>
        <p:spPr>
          <a:xfrm>
            <a:off x="1203480" y="3936960"/>
            <a:ext cx="73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行动独立，思想独立，对事物有多种见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162000" y="4710240"/>
            <a:ext cx="89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步入青春期，我们的独立意识不断发展，对问题开始有更多的见解。我们的思维逐渐具有独立性，对未知的事物充满好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99"/>
          <p:cNvSpPr/>
          <p:nvPr/>
        </p:nvSpPr>
        <p:spPr>
          <a:xfrm>
            <a:off x="-7920" y="539640"/>
            <a:ext cx="73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三：小品表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子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-22320" y="11444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4680" y="168444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刚理解的“酷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1157400" y="22510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独特，穿奇装怪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"/>
          <p:cNvSpPr/>
          <p:nvPr/>
        </p:nvSpPr>
        <p:spPr>
          <a:xfrm>
            <a:off x="-7920" y="283860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刚的说法是否体现了思维的独立性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1192320" y="340200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没有。因为思维的独立要求要有自己的见解，而不是体现在追求服饰的特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7"/>
          <p:cNvSpPr/>
          <p:nvPr/>
        </p:nvSpPr>
        <p:spPr>
          <a:xfrm>
            <a:off x="4680" y="4448160"/>
            <a:ext cx="66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是如何理解思维的独立性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"/>
          <p:cNvSpPr/>
          <p:nvPr/>
        </p:nvSpPr>
        <p:spPr>
          <a:xfrm>
            <a:off x="895320" y="5065560"/>
            <a:ext cx="758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真正思维独立并不等同于一味追求独特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意味着不人云亦云，有自己独到的见解，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接纳他人合理、正确的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1"/>
          <p:cNvSpPr/>
          <p:nvPr/>
        </p:nvSpPr>
        <p:spPr>
          <a:xfrm>
            <a:off x="1909440" y="5475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培养批判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147"/>
          <p:cNvGrpSpPr/>
          <p:nvPr/>
        </p:nvGrpSpPr>
        <p:grpSpPr>
          <a:xfrm>
            <a:off x="615960" y="333360"/>
            <a:ext cx="2232000" cy="808200"/>
            <a:chOff x="615960" y="333360"/>
            <a:chExt cx="2232000" cy="808200"/>
          </a:xfrm>
        </p:grpSpPr>
        <p:sp>
          <p:nvSpPr>
            <p:cNvPr id="93" name="矩形 7"/>
            <p:cNvSpPr/>
            <p:nvPr/>
          </p:nvSpPr>
          <p:spPr>
            <a:xfrm>
              <a:off x="1175760" y="33336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6"/>
            <p:cNvSpPr/>
            <p:nvPr/>
          </p:nvSpPr>
          <p:spPr>
            <a:xfrm>
              <a:off x="615960" y="62172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615960" y="6210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"/>
          <p:cNvSpPr/>
          <p:nvPr/>
        </p:nvSpPr>
        <p:spPr>
          <a:xfrm>
            <a:off x="-7920" y="124452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四：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50760" y="1914480"/>
            <a:ext cx="73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在黑板上写字时，写错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69840" y="2508120"/>
            <a:ext cx="88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二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我早早写完作业了，妈妈下班回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见我看电视，马上大发雷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"/>
          <p:cNvSpPr/>
          <p:nvPr/>
        </p:nvSpPr>
        <p:spPr>
          <a:xfrm>
            <a:off x="69840" y="35146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三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讲的知识点我不明白，我利用课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问老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"/>
          <p:cNvSpPr/>
          <p:nvPr/>
        </p:nvSpPr>
        <p:spPr>
          <a:xfrm>
            <a:off x="95400" y="45226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9"/>
          <p:cNvSpPr/>
          <p:nvPr/>
        </p:nvSpPr>
        <p:spPr>
          <a:xfrm>
            <a:off x="4680" y="5056200"/>
            <a:ext cx="87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面对情景一和情景二，你会如何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"/>
          <p:cNvSpPr/>
          <p:nvPr/>
        </p:nvSpPr>
        <p:spPr>
          <a:xfrm>
            <a:off x="907920" y="5553000"/>
            <a:ext cx="74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在课后指出情景一中的老师的错误；跟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讲明原因，并说服她继续让我看电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5"/>
          <p:cNvSpPr/>
          <p:nvPr/>
        </p:nvSpPr>
        <p:spPr>
          <a:xfrm>
            <a:off x="-22320" y="422280"/>
            <a:ext cx="69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表现在哪些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1136520" y="841320"/>
            <a:ext cx="69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对事情有自己的看法，并且敢于表达不同观点，敢于对不合理的事情说“不”，敢于向权威挑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"/>
          <p:cNvSpPr/>
          <p:nvPr/>
        </p:nvSpPr>
        <p:spPr>
          <a:xfrm>
            <a:off x="243000" y="2200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对我们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"/>
          <p:cNvSpPr/>
          <p:nvPr/>
        </p:nvSpPr>
        <p:spPr>
          <a:xfrm>
            <a:off x="884160" y="2622600"/>
            <a:ext cx="734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思维的批判性有助于我们发现问题、提出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题，并从不同角度思考问题，探索解决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批判能调动我们的经验，激发我们新的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动机，促使我们解决问题，改进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"/>
          <p:cNvSpPr/>
          <p:nvPr/>
        </p:nvSpPr>
        <p:spPr>
          <a:xfrm>
            <a:off x="-12600" y="44467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对我们有什么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"/>
          <p:cNvSpPr/>
          <p:nvPr/>
        </p:nvSpPr>
        <p:spPr>
          <a:xfrm>
            <a:off x="884160" y="4881600"/>
            <a:ext cx="729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批判要有质疑的勇气，有表达自己观点、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出合理化建议的能力，还要考虑他人的感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知道怎样的批判更容易被人接受，更有利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27:03Z</dcterms:created>
  <dc:creator/>
  <dc:description/>
  <dc:language>en-US</dc:language>
  <cp:lastModifiedBy>Administrator</cp:lastModifiedBy>
  <dcterms:modified xsi:type="dcterms:W3CDTF">2019-01-11T01:27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