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3BB-49AE-4617-B330-C811C386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2EA-E79F-4C87-89F7-33A30E85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D031D-171C-404C-8DD3-12A4D759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6DC9D-27DE-430C-8906-48BF9F36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36AE6-7DDB-4693-9D99-BB6272D4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7575D-1F28-4AE4-9C24-F6AF231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9A4F8-F0E3-4B2D-B725-62F6612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C50EB-550A-4C08-AFDD-CDA0F6E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04014-4DF0-4E8A-B5A7-EC80199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7BA2A-29F6-4116-8F58-D0C4B94C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88513-EC19-42EA-993F-78E4C0C2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54D91-635B-487C-A2F2-13DDADF6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3F4-DE9B-4628-92CD-90872AEF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CD361-2EEC-46D2-86B9-CF41069A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44C48-C2DC-417E-89C1-43B11A42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60E08-4F8D-4898-9A5B-641ECDBC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76D19-5D52-400A-93E6-1D3E2C8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3EADDA-FD7A-4CBC-904B-2B595277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4E187-A465-4FD2-84B8-CD113E8E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248A6-117C-4BCE-B027-0E88F3A7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86841-6BBD-46F7-839E-B6484E04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868C9-FA6D-4F1E-ABB9-50F4A73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233A-97F9-468D-A375-82A7F344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F4A5-7F40-4095-A52C-21189A1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37717-5922-411E-A4BE-F47F2BAB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87F91-2025-4233-95EE-BC3E9D5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F3B1-009F-4CD0-B9AD-480ADBC4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ACB1C-D745-437A-B061-BCEF3C1C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18EAD-FB74-426D-9601-895B5716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7399C-4711-4EA9-9004-B7C2BD8B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728FC-BE3D-45BB-96FC-2F7D76C5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42193-178D-40FB-B26E-B507D968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A6322-97CE-4A8B-8FAB-89D01D7A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A21A2-6E23-4766-A3C8-E00B6A8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40DE-08CB-476E-9F64-15583F23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77565-FDCC-44A4-8DD3-F01485E5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B8DEE-AC95-4C44-BB3E-3C86CD5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74B8C-C463-4BA7-B45A-A3F4549B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6EE9F-2CC2-4A6B-BB17-69984239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C1483-4FF4-4DDE-97A9-67A8618C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07247-5993-4673-A189-BE569B48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93845-0F88-41C4-AB38-602D5782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8A3FA-6E56-4E26-821D-68940BF5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2CF7-2CCE-4FDD-9A20-41878A42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D942F-3B52-4E83-9B05-4F025E78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0BAE-0209-4C69-B290-0BF6DA5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B3C9-657C-4FD3-B429-E764681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5BAF4-7B38-4E17-B34C-ABF06DF9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8E2FD-269C-416A-8974-2FB2A830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2D322-8349-4D68-BD6D-C06F79D2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0D236-FF80-4550-BA33-B68E167F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2287D-786D-49D2-A021-13187EE4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C7B70-7CD9-409B-BCD8-D90E3CA9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68860-3A7D-43E4-B919-E7C93AF4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72A1A-A14A-44B5-B282-8657D97E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D7A560-E6C6-4844-8E99-A83D42B3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ED27-9ABA-4F7C-9026-F3ADB10E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4CB2E-F31B-4041-8B4D-3B81C8B5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E20F1-3574-484E-9B5E-1AD11D22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87D03-17D4-4BB9-B1D9-9941278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D9329-1D55-4F5C-B8CF-95893C6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A997D-2399-4306-8793-4ED41A7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EE1F1-C686-408D-BB68-D6172BB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E1AA8-4DCB-4ECF-88AB-EF85F3F1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C6AD3F-2F1A-4ED5-9423-CADE07E7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32108-5A49-4292-AAF7-A64B687F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28F479-0757-4D03-8A0B-37CFB8B0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613E-BD82-4423-B0BF-1EDC3745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2645A5-E365-46D2-99E4-91D9A9A9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7E6CFC-84FC-45EB-A6DB-F2E673EB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C97559-C0E5-47BE-AD72-3EF2366F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88940-8F94-4A6E-A3B4-EA1181A4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D2B63-0A3F-4866-901B-3581A16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284A0-C744-4369-B693-F7A4F870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867DA-2F3F-4D2C-89B7-78998831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C0775-E6E3-417F-B3BA-DB193395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103C0-22AB-4BC6-B8A6-0C4677EB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7AA20-0E1E-44C5-A458-BE75EE36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CEB7-72C6-451A-A200-1DCBA17C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5B84A-9529-4D29-9C20-E3A80B4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B761B9-7AF3-4643-9124-A1D40AC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1605AD-9FBA-4402-BC39-5CAD25B6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5889F8-ABB7-4757-9171-647A94DC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460BFA-A171-4A10-8BF9-80110DB0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01655-19A7-4E49-8390-21DDE8E7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0FB4EF-92EF-40D8-985A-5C22E93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8E62A6-0128-4F62-BF70-8E8C5FF3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1AC8D-BCCD-41B3-A1D3-9D96196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2A0D6-7FF5-4393-9006-94954B19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1996-81E7-43D2-96CC-42417B5E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A015DC-660D-4474-81D4-15098445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88613-31CA-4185-B000-9955306E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8EC7CB-8194-4D40-8E86-BA52CD00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AF660-FBF0-4091-9682-BC96C056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4DEC2-D430-49DE-875F-81A7033B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6D574-2F69-477E-A7D4-B735762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34127-BFDB-482C-96BF-47AC740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C84163-99E9-4786-85B3-37A1A081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E6A32-B388-48C6-922B-CDA05B6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1FC76-9A64-46FD-98C0-9EDB96B6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959C-2C0A-4C01-B0F0-4A7362C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5A878-CB60-465E-A640-8C65E6D6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EA29C-26B3-4EEF-8BE6-19C991CB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651DBF-A52B-4CFF-8270-828BD81B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B2153-5315-4DA2-855B-714468B6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C74D1B-6316-45B1-9CE7-7D9C82A9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D09B0-CFCA-4AE8-9EE1-C5F8D81F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01226-B670-4A3F-80AE-B4F6C6CC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C3F2C2-C872-4ACD-BB60-56375F6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71665-B29D-483D-BF20-402BF5CD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1E662-2D64-447C-8DCD-449B57A8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BD8-7275-4DCC-9556-C8D8A66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3E3F-4EAA-4F6E-A865-A39B42D5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AD747-35A6-4B58-8E3E-AB01344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8D8AD-8906-4DAA-B009-C89C506C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48212-B557-4F1B-B017-39A63618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76029-8A71-43AF-8398-30F9B781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AD905-9DA0-4F05-8081-CEC695EB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8B0F5-7FE4-4954-962F-47403E79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AA7FB9-4B3F-40FC-88F5-01F3FE51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12874B-98CE-4629-B76D-37386322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C9C1C-C7EE-4B26-9016-5C1209A4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16952-D070-4133-B8D9-5C0C4C0A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0BAB-0B22-4C26-98F5-8610373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09DC4A-AC69-4964-816F-FE65D022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19D7E7-3045-43A2-858E-482DFBF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BB1F0-CED6-44DC-8438-71770B3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245C3-2530-4FF7-B3CE-54AB863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CA78A-3D3A-4AC6-B2A6-AD43480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9E1F7E-6E1C-4CBB-B601-4FAF141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7098FF-688D-488B-A2D3-BAAFA222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EA745-DA5A-41BE-A2E5-6C035D1A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A3912C-EC31-4256-9184-5326F371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E5D65-F0FF-4424-ABF7-447DCB6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27A0-4970-4ACF-BD68-BF917D26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E59CF3-D629-47B5-B96A-A2D195B0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80845A-2B96-44FF-9327-B1BFF7C3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FC0EB-1BFA-4369-845B-FE6B57B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FC47B-BFE5-4FE4-9018-0736662E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E82DA-25A7-4F1D-9C72-52E2173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925636-C165-4318-B8D1-D6FD7F75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54AB68-3E9E-4FFD-8E8F-85A81E3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8E1017-EAB5-43AC-95DA-8BBE7AD3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4E2F0-9C47-46A0-ADBD-87AF08F6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599DE-4CB6-4DE9-BCA1-E52F2E74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A2C4-8A2D-4703-953D-8E363A95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0C569-4096-4B82-B89B-6601F54A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57C494-6BC4-46BE-8405-175EC20F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A8798-78B9-4D3D-BAFB-1E367DB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7B808-47A8-4A07-B4A9-66E8AFEA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65CADD-A275-4A6D-A52A-62E7BA80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C64DD-BAED-42D2-B751-A8495778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0472B-EFEF-40FF-BBA9-DFDA6F8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4BC12-6AA6-45A1-BA35-E3C3BF1C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58C21-D1C9-4A66-93DF-E9515962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989A6-FEE6-4BB7-83A8-38C392FB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CBED-DB96-4D7D-B149-1009E430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0E9C2-640B-419C-825A-820FF648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5C731F-DAD1-4654-A233-0B58A052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BBC9C0-2340-48F6-86FC-3EE53A5F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75BADB-F2DE-4E77-B81B-C966C77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C9E671-0A6D-41C8-B1EB-082C77FD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E3E28-B27E-4859-8094-ADE9B09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32546-EF9F-470C-84A6-0097F41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A2067-CCA1-4DDF-BF06-6966317E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11224-BE54-4E24-A585-26F71277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9F971-1AD3-4A2A-8A37-483700E8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F56E-F7F2-47FE-BE47-C13D0EEE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ED8FCF-4CB4-4DE3-93A1-88555C75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8B3E3-8438-4726-80E3-6F855F2B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EF0DC1-B93C-422D-9ECE-DCC46C6F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EA7BAE-AEB2-41F6-81C8-797E4AC1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CBBA4E-FD45-4879-A209-ACE06F5E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7577F9-B9E3-49EE-A141-06383192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4E1D5-DCF5-4639-897D-847B25A5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8FC860-7FD2-4039-91E8-B8A0227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9EF1DD-6DBC-482C-B81E-16E0477F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99EA1-2C13-45A8-B73C-54BDFBC0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FC0D-B5C0-436E-84C5-67114E14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85BE81-2541-44BA-B505-EB8070EC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208AF3-B7DF-4765-BB25-64162B54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539147-17EC-4173-90BA-F1EADA7C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338749-8590-4828-B4F2-E6505E5B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5BCA12-0260-4938-97C7-0AC62000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2B00D-DB3D-4E8B-83AD-1F05BC42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12AA81-1B7E-416E-AE74-4E3F4DC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8BCA2-51FB-4DA8-96D8-40A8431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D02B79-DD64-4DF4-ADC1-4B00A548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AF220C-4C17-4DE1-AFDA-89217199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2D64-1C12-4647-9030-1EA21345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1F7679-A22D-4026-ABED-0A748201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8B952-6B0E-4B52-B9BE-21D9A591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2FF8A-1F7E-4304-B503-9CF3CA8B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2ADBF-CB37-4726-A26B-88146282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3ED74D-2477-4988-9BF5-EE1911F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96B70-DF2D-4A9D-BA42-EF9BB452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61A59B-9558-4FF5-8BDA-26CF1FD6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E1DB-7143-476B-9070-7923965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EE171-8F87-4F8A-B6EA-89B2084A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AF6-5E8A-4663-BBD3-4B4D83C4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322E-56E9-49A5-A51B-70B98146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65313-25EA-40B8-A271-091230E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AFEEB-156B-43FB-BA84-B1D48204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22CD1-BAA2-4B3E-9556-7F74720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209B-FB36-462C-A1D1-225B9F94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099C9-ADD0-4A04-AD00-64A163B2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824A-0950-45F1-A6C0-BEB29949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AE505-AF0A-4FC8-B4EE-37FF5D20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83BBE-43D5-42BF-B86A-8F6F18D8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997B-EF33-498A-AA6C-54EB8588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FBD0-C212-409A-AB38-3824D9D8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0877-8542-4B0F-8686-B23F3F35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E8987-ECF0-478A-A381-4190201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3D90-FC3A-4AF1-80F5-253FFEF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9957-C6E0-489B-967B-CB621ED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3466-3DF9-4AE3-8912-3817F2A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5670-1993-44D3-9285-3C62374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6F32-D4B4-4A00-84C0-67277E0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7E12A-AE3E-4BF8-80DA-68470A4B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685D-034A-4BF6-B1B0-C0E1F2A6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B6064-6D65-4988-BFA2-D4039BB1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F53-7F33-40DB-92C1-88AEC97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26155-8E02-4F14-AA06-7279B51D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3B0B-913E-464E-BE2E-8D39404A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FFFC8-E044-4EB2-A323-0EB773EA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21488-45BB-46F5-9310-3D0A684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94353-E564-43A7-84B4-115A86B2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EE48-0963-4972-BA6C-86FFCB8A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CE09-E17D-4303-9552-6E70134F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D819-A3E3-49C9-962B-5F37A330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29563-0624-412A-AF9E-BC0A45C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36BAE-CA30-4561-ADD9-41603F02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9BB-4D1F-4BD0-A9D5-8DB0316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0AF6-7852-4EF1-8602-378991B5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71D45-6549-47E6-807F-6D18E56E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052EF-98BF-4D2B-ABFD-105265D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180F-5DE4-40A7-8390-24AA6956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152E2-2D6C-43B1-89FF-8A6FDB70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D71B5-17C0-476E-8E83-A448AF3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BB51-B78B-412C-B975-5F665CA8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08EAD-8054-4AE2-A4FE-345200B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A543C-B3D5-4069-9D68-D4F1B1F9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A2CD1-0C12-48B5-AAFC-06F3E880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87DC-7591-4AB7-9E16-C65A35A0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E98F1-8A3E-4418-8D35-4BAB584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E494A-23D8-4F69-AD9C-CB3F689F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4A6AD-FD0A-4E44-A8B9-0B6AAAEC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E209-1F3E-4A17-B433-28EF478B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154E-A2C0-461D-84FE-5349303B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F9731-B328-43AB-8A99-E6F99F9C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7EB48-2F76-4026-82F0-5DEB5012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F369-3265-444F-9BEE-FA164D3C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523D7-E634-499C-BBFE-D4F16724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2FAB5-32BB-4B86-B54D-489EB29F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7C1-3C32-4448-A9DD-24D5F40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BE598-75C8-418C-B2FC-F409D11E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C7F8A-54F8-4A5D-BB9C-67DE253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517D9-A938-4F61-84BB-AB85D19D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5AA4-67B5-4E2C-B680-04625133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66CAD-C380-4A9F-AB35-6D8858BA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CCB89-EE23-4A4B-AD59-3646A042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295F0-792F-4FD9-991B-7DFB6376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14742-6AB1-46B8-AC42-89489810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F43E7-750D-45AE-850A-4A0BD614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71B2A-6D64-485A-8AED-4490D12E7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BB4-483D-40A4-8250-A578EA50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FD25F-A1FF-48B4-BFA8-81C6C3BD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C5DB2-654D-4947-8242-264911B5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795D9-B08E-4C5D-B837-7248022E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D0A43-E6FE-4407-965F-95094B36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BE234-3A1F-42BA-B499-8304CDC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EEB9-0B39-4A74-BDCF-6F2DD007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DF022-4C12-4DAA-BB25-48C76309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DB8E0-6779-407D-95CB-67D31F7B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12F34-03B6-40E0-B66E-26169B95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67298-382D-473A-BA81-571953DE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7D7E-F2CC-4221-933C-C75B25EF28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967-CD70-42CA-A76C-CACCA51EDB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622-E453-4E87-B14A-67B938E57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793D-AB4A-4D48-9F35-1CBB53982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464-7A77-4881-A02B-1A92DD9C8C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FF0-17AA-4947-8087-76B93740DA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0776-324D-4F2D-A039-64991B4390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5F00-11DB-4E38-8D98-56B3CD5FD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D65C-7B85-4748-ADD1-A3CC5DC5B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92C1-60C8-45C6-9FBA-0698E179A2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4987-0D55-4FEA-A49E-31F027D6B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DF6-3271-40C0-9D3F-041182722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FFDC-5D20-49EE-8B36-4E877B531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8BE7-AEC1-4AF0-8C13-F7130EAA2B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B518-4677-401E-9AA1-B60D2EAAFE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1956-8E4E-49D2-A432-017E870BD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168F-5F1B-4939-962A-EEB8FC3E46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2EC3-02DD-457D-A56D-F8C12ACD6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4F3-10C3-4586-8D07-153B6A8409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3AA1-CCF1-44F2-8331-D56E7EF533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0DA-B6F4-4859-BC5D-CCF43FB964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D531-41D6-4EE2-A4BD-47B4F3A3A72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B59-5F42-41C6-ABE0-2A060A91BC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7EE4-56B0-4092-ACFD-25B316F7E6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5CB4-75EE-4AEE-BB80-10AE545E1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F6A7-7E61-47BB-85C6-371BCE8137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552-3DAD-48FB-9285-E5E6126D7C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4AF-7359-44EE-A2C9-BE37CF8058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045-9459-4F3F-BF0E-8B641AF784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59E9-07FC-40D8-9B8C-A261BB07F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2951-4543-4545-82BA-50C93DD569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6567-2C70-43A0-88E3-D31265E15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1FDF-0BEA-404C-BC2D-0488618917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C963-35C7-49D7-B79B-96B1CFB77D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5DA9-1730-42BA-9B18-613121379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3EC2-9FA2-49E3-8C83-AE6A8A76B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D4BD-DB54-4C89-A718-6FD7642F5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7822-5B07-439B-8DF5-A1AA37EBE8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3EE8-A63C-4B18-838B-7139990E2E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D96F-A410-419B-9C39-397507BA61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9AB3-DFDA-49D7-8549-4A9DEDE4D1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5F7-A592-4306-8CCB-8C593391C7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666880" y="3100320"/>
            <a:ext cx="38102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85680" y="1447920"/>
            <a:ext cx="8972640" cy="39621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268360" y="3222720"/>
            <a:ext cx="287640" cy="210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788000" y="3222720"/>
            <a:ext cx="287280" cy="210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659640" y="3222720"/>
            <a:ext cx="287280" cy="210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900000" y="4095720"/>
            <a:ext cx="576360" cy="21132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68360" y="4797360"/>
            <a:ext cx="49687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66600" y="2181240"/>
            <a:ext cx="9010800" cy="24955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201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468360" y="3284640"/>
            <a:ext cx="201600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395280" y="3630600"/>
            <a:ext cx="39607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100080" y="776160"/>
            <a:ext cx="8943840" cy="53056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755640" y="2173320"/>
            <a:ext cx="43927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755640" y="2521080"/>
            <a:ext cx="439272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39640" y="3573360"/>
            <a:ext cx="4392720" cy="3193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539640" y="3875040"/>
            <a:ext cx="439272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6"/>
          <a:stretch/>
        </p:blipFill>
        <p:spPr>
          <a:xfrm>
            <a:off x="539640" y="5329080"/>
            <a:ext cx="4392720" cy="31932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7"/>
          <a:stretch/>
        </p:blipFill>
        <p:spPr>
          <a:xfrm>
            <a:off x="468360" y="5661000"/>
            <a:ext cx="5111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37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