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EF7-BE20-4C69-B9C0-689A8081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6CA-8905-4864-AB9E-1D931BB4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5B8BF-CEF1-45BF-9410-66284C5F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E6D05-77AB-47F9-88D0-25C8055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4CEE1-1C51-471C-8BF8-104ADCB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C31F0-D4BA-4B11-892B-DAA7F23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929D3-E6EA-4F05-92A7-F657A58A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4691D-350D-4B27-BCEA-2D07DF1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E0DA3-5202-4E15-B34F-FE84BDD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8FC46-2DE2-43DE-95FE-47D4B769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4925A-F912-4759-9C87-D79991A0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E3831-63A5-4CC5-A32C-D773DE11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EBB-2D47-4F5B-9141-C95373CA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276A9-0E0E-4116-A887-00B60F0D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B0B70-F1AC-4F86-986C-D5986E3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12B4C-988B-4E79-857C-CACE1D74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B29A5-13AD-4EF4-AC24-47AE97E1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EF50A-F83D-4251-BD85-3DC1A898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969E0-F8A9-495D-9324-F65FF43D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5E009-1E6E-4205-8F16-39580E4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934DF-22B3-4560-B2CF-7DF9FD3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0B7E5-DC0B-43A6-A11F-B41D4FF5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47469-9908-45F0-A4FB-57F92552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3C4-CBFC-406E-8600-3A7197D6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130D4-3ADD-461D-A7D8-69A683A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3AE8-EA9A-4813-8F5C-62D18685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86F0A-AE15-4FC0-AA84-7104D335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7F007-5D34-49A4-B9C5-5AFFA4E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34FF7-400F-462D-B2ED-68CA7A2B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1B9F3-C473-441D-BA64-852632CD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00AC-3D98-4E12-8A27-4FD1E44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A11B0-2D4C-4CE2-ADF7-A2E82231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10DC7-2205-4DD3-B13D-8495D6A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653E5-4446-48FF-AF84-9C878DC0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37B2-6467-425C-BF66-ED6708CC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4C5B0-9E48-4064-A57A-41BC693F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628A6-A6D2-448B-88FC-765C3757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C54A6-EB01-40F2-A45A-B4717F2F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952F8-C644-4327-8555-E635A7D1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E08EE-56F3-400E-AFA5-6EF005C0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AC766-0348-4F12-9A0A-84EB589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2E282-808D-4135-829A-9747A168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E93F4-3E71-48A7-BDC8-CAC21174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6CFAB-BED0-4B28-AAEE-F35BDA95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4F825-81A6-4A58-A836-3B5B925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0DCD-05ED-4E23-862A-CA075668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F4B04-6A7C-4F25-B798-42BAC80A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B9CF1-E779-4D39-A05E-7A6EE80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A4C7A-2D3A-4CF9-BBBE-7235BA78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9B44B-05F4-4988-8DA7-4807B691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3F44D-ECE6-47EA-96E9-F15B7CD0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48CBD-1F55-4B82-B467-E37D62BE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BF3FE-C566-4787-B0AD-E5E24075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E9845-9883-48F2-A70A-42A9C8E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CF089-6E44-4553-AD41-8F5A43D1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E4DD6-8224-4D57-8798-90E30A88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EABF-C49D-4BD1-9DA7-9EA103A0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9AB23-BC0E-4EDA-841E-F6248A37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DB940-BAB8-4185-B088-B88FEC94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938C7-DD2A-4AAB-AF62-CBE09DFD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43ED4-769E-4830-A543-F0F569FD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EB74F-9CCB-49A7-AC49-8D3C2E2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ACAD2-7271-4C16-B9A0-95359FC3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9F9FC-5AD5-484E-955B-2D885D3C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5C073-B4DC-46BE-A6CD-80FE965A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48F30-275C-4FB5-B837-330D50CD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29C35-5446-4DCE-B819-7C412ECC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0DD5-32DC-4D0F-831A-9850E968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F4181-8BB2-4EA9-88BE-AD8647F1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FFE4D-43E6-42DB-BFA3-D5991C02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44E33-5E5F-44C1-8B37-DE784595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306A9-1824-4E5F-84BC-C047A581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CD840-4C4A-498A-814F-F35F2A8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10FB8-F714-48FE-BBD1-DF18DCD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8AA03-FB31-4156-8E87-2AE36CBE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E20F4-2244-47A1-B0B4-A4EC2BCC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6E17C-FA50-4612-ADEB-25C64B22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EBBA3-4347-4113-98D6-AEA4B574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48B6-C5E8-41BC-AA08-120F2ADA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B0B6D-1D12-4988-8733-7BB0F49A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E402F-F931-44A3-A394-230703B2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1C73B-85D6-4479-A741-C68FC8AB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83226-CA10-4FC3-A735-F9F7CBA2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575FB-5440-4D88-A03F-B947B3CC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B22B3-511B-4BC2-86E1-4C28A22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6DFFC-8D65-435A-A85D-83B22A3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02FB9-A2AC-4B2C-BEB9-CEB1F40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9A410-A3BE-4ACF-B2E4-E35D17EA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A41E7-855E-47D6-BDC8-38CC0EF3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D9BB-60E2-4342-9428-32FBFFA3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3A665-17F5-48A2-8443-87344CBA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5C1E7-2D10-4FFD-96EE-B6076FA7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F44DE-1EF4-4B35-A30D-2A008851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B648B-16D9-47BF-AB6D-014BD4C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703C7-8909-439A-9D21-C656E69B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0B44B-C9E5-4B21-A69C-156B7B1F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09298-7F36-4061-82B4-3C6F0FA7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8D281-E380-47A1-B4FA-0841C288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DB739-2F12-4E7E-93A3-0A34CCA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CDBE8-C58B-4035-8EA9-417AC48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32AB-D7D5-4D4F-9587-DEC2751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E9D66-AD0C-43D7-B389-AD937C1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8EB46-933B-4CBE-B810-716B4962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BE7BD-2616-4D0B-937D-A5CDD702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A5D63-8E1D-44E5-99FB-CC248AA8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004BB-0B65-4857-B076-8BF9E6B3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8D187-C7FE-403F-A6DD-9A7E6C9B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AF03D-8567-439F-8D31-1A1EFF38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FDA77-6E15-40F1-BA6A-852661FF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831E6-6A93-4CD1-B424-4FCC0EC7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2CF0A-C1D2-4203-9421-ED79542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C9F-69E2-41ED-9F58-7E4047A8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C5CE-0E5D-4575-939D-3A957EE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341F4-D2DA-4566-9856-48802002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4AB36-E1B9-446D-90DB-418AD4FE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91E90-0527-483F-B51A-DCFA2C17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0F0C6-B72A-479A-BCB7-6E9DD865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EA853-075A-435C-B960-AC4533E3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3905C-F6F3-4410-B2E4-496F920F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E5C6E-13A3-4546-872F-536DE65C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DCD5C-0EB1-4D45-B50F-4012725A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7C9C9-F9A5-407D-B298-60FCBA06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7207F-E157-464E-9BCA-DA040FF7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C7F8-D16C-42B2-B686-D834449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C13C5-EDD7-49F9-AE47-57FD16AC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87735-0F27-475C-BE6B-DF9F291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A7A3F-1354-4555-B5EC-118614C4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9F5B2-A806-4D13-8E9A-4C9D35D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78B19-D85E-4B6E-AB9A-1B4B4426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7A39C-00E2-4ED5-A6EF-7CA74503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A8448-2544-4FA9-8941-615B2726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000140-FC9E-463B-82EB-F4C4DB17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3BE41-DEEB-4E6F-A333-7CC17EA3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7E8AF-4243-4B2D-9D71-25C059A1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B13B-B3F1-4C1A-8D6E-76B3EC09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9F167-7639-472B-B3A4-2C06FBB2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8AB71-D26F-4956-97BA-29E73CF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FA5FA6-7B7D-4224-B806-24C684EB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2D392-57A6-4E61-AADB-576F62A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8939BB-0349-4432-845C-47C44E20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60E9E9-CCD3-440A-ACDE-AB40A42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30883-A5C1-44FC-9B9D-83BAA6E6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FA44F-BEC5-4EB0-8E20-B9257A83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00154-5BB1-4A43-A62E-7B827F54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DED8A-A68B-4A6C-ABA4-D4CA72D4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ACCE-1A44-437B-99C4-10019795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646C1-5E12-4E76-8816-D7F6A318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E64E2-DA72-4FB3-B7F0-74AE7A36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AF762-8C1B-40D4-A130-EB5B23E2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28030-DE84-4C16-AE64-31CD523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DA4B7-2439-4B08-A1F5-C231A62E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5AEBA1-42E5-4C1C-B13E-D5030F05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9D592A-3DC6-4EB7-9F07-C80E465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4F8B0-7783-43E0-B406-8A8D0D3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F83B5-FD99-494C-8376-44A8E551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085F3-A4FE-4B22-8E9B-AFC20C67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21BC-DC85-4D6B-943A-75309949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C9B80-34AE-407A-81DD-4AA4FBC4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05DB2A-2282-44AC-B049-95D16014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F1C36-721A-4154-8099-992624B8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AF06F7-AEB3-4ADC-86CD-CBFB5720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370D4-5AC5-4877-8DFD-FF577223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525560-7B7E-4739-97A0-81574DDF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DFD043-E3B1-4AE7-BE57-18D1BB89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AC8016-012A-4B33-9CBC-B05C45F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29219-4D44-4B0E-AF89-BACFF457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48758-8361-4F68-8199-2E285F51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C3C7-E2AB-4645-A870-9C6F79B4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FB097-8734-48C0-875A-572534E0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0B4FA-17E0-4F55-B4AB-C5A94E75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4EC65-7F77-4572-BB0F-9D387724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B9CB99-1E4D-4D8D-B938-BF243B9A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239785-3E7C-42F3-9953-860D3454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180EEC-22CF-4DCA-AC6E-84A6FBC2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364E8B-C6B0-4A87-B506-7343357B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AB1A30-478B-47B1-A909-5CED80DE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8F33CB-7D2E-4248-B0FE-5904FD05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A154A6-059A-4AA4-B208-FFCEB6C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9719-8BA9-4051-A61F-94B74EA1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D4E0F1-1444-4C8C-A9CB-C57C87EF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B874A-BC94-41C7-B7EB-B58C545F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7B05E7-D1F9-4751-8B2C-A2C15720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768B6-D142-4DE8-8253-4FB923C2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61EBA2-FECE-43F5-897A-B140DD60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DE4173-4B88-4A06-88B3-A8286A9F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DC77E3-0DD1-40F7-BBB9-0C1002F3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9E1E91-8FC9-4209-AA80-C5AD0832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9D8989-81D8-4CCA-B774-F7E51E3B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B10F61-6515-4ABC-998B-6915A300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44FE-9934-47E9-B21D-1219F23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C2F032-3FA7-4DB7-BDCD-C363C631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6FB649-0803-48B3-A6FC-908F2B69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81696-1E70-4A41-9709-387D892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ABEBF5-FCB9-4BD9-B3D9-F9CF999B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7C757-944B-4082-A370-67FB7974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D55263-784F-4715-8FAC-ECAC8D6E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152E4-8460-4131-978A-D5818CD7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BFD1-C2C5-4854-AA5E-55A2AC3A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83D7-1D0B-4D84-9A57-6D145164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E17-8D8F-4130-8345-3C6C8EB9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B425-06E9-404A-A4A5-AA083EE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E268-88AC-4D33-9DC8-2280C68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C047-F3BA-4FC2-8DDA-43E6FCE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8015-3DF5-44DB-88AD-8D6C6309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BBF7-56CD-4946-B58C-EB873F68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3E30-B08B-45A2-B71E-36886DAE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74DE-7BD9-4F2E-908F-42D132B9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E9991-DE78-4627-970B-C2B131CC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74FB-F9B2-4DBD-85C4-B6A344FC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2CD90-AB2A-4D55-8C24-7CCA360A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EB9-40EF-4797-B905-286747F3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32C72-2D61-4854-B4C9-DC0B9A48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21BF-79D6-4A8F-8310-0063E2BA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C4EF-C150-40BE-8381-6776B40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FB9C-2B8D-4F36-BF16-A36A0FF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56F9-F758-4256-8575-D777793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EBE9-9046-4B6A-AEE8-3C513514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A0878-1BE7-4556-A389-3A7EC56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81EA-3A51-45E7-AF4E-E15CF8F7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196B-CC2E-4587-A051-08A32B42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40A5A-F47C-4559-A538-7BE7B657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04C-2EAE-4A47-BCBA-DC0CBDAD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90EE1-9E57-43B3-9298-CB0AD34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BEE40-F4D3-423B-BDDF-0433F5EF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85738-153C-488A-8F57-44719D8C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7775-E8D3-4508-B605-3B12FD7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449C-6634-4723-A691-E63C04AD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20D79-945A-4051-8DD4-08D69516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8A01-E340-4A85-A203-AF19A01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C41C-E16E-46BE-A7E8-6E98302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2369-713D-4305-B346-1D389D06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0438E-99AD-4449-996D-FBC5329A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0D7-E800-4EB4-B066-4081D070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FBAE1-5522-41B3-A8EA-C21D5946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DE36-69C1-4795-B34C-4B89528E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F784-76FE-4498-9162-AEB2F458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03BEE-FEBA-4EE2-B20F-2EA7FEFC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3ED71-1CB6-4509-88FD-52AF7FC9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37169-C33A-4806-AFBB-777F78FD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B5662-4A52-4B21-8B8E-1FAD0224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DF52-02DD-4093-B9BC-975C8D05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1EB4-8D17-4952-BAA4-6E910E20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23129-BE4A-4064-8E3D-75B996A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590-5079-4676-A9EF-501494E5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7BF0-516E-4928-8206-E6CAFF7F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01ED3-DE6E-44DB-A964-9117B3C8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52688-6270-4EDD-B944-15D5C5C8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CD75F-DBF4-4A56-AEC9-46174CE4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9BDBB-907B-4CF3-9E3B-E7D83B04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90AB5-D7BE-4E34-9A58-34EC403E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C596-978F-4FA7-AAFF-45D6E176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8843D-039E-4A7A-AD7E-AB17A66F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3C78C-429D-4A9D-87E8-8772C2E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7F70-3046-46F1-B3D7-7193F609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CB5-9AD5-4D36-AD68-2B8F155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88FC-A492-4E71-AD2C-B5725FE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B468F-3184-4794-B953-44EC9FFC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B20D2-5746-46D9-B3E1-8099186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21EAA-A387-4D03-BD8B-793C11E8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8F86-889B-49B6-98F3-785D4946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8AA14-7743-47E8-84B4-013A07C3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63E87-C9E2-4675-866D-785C52A7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0CAE6-7587-4F2E-B039-4F00C0CC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52B10-BD06-452A-80D4-D8E4CD26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64A4B-8DB3-4565-94E4-BA1B834E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BDF-3DFD-4994-A248-9E89BA7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4DD4-A330-4EB8-AD08-32B0395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81FF-96C5-41D3-9CC8-124344E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A6534-8209-4FC9-A6D8-519ABAF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78D5C-74DE-45EA-BD47-0960736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EE9D6-3631-4BB9-8A2C-2FEFDE13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DE7E7-8764-429C-983B-7B6D7322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703FC-6AF8-4A5D-886C-D1DAC227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CF228-D9F4-4BC7-AD4C-BE0164E7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85D0F-8CEA-4980-B76C-E669FE3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77CCD-2345-4BF7-88E2-ECAE2573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3123-0C2A-468D-AA12-AAF01CFE3A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080B-6829-4E4C-8C6D-51CF3E39AE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700-40F0-4037-8E9D-CC0D62922D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363C-623E-49D0-B096-1752226943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15D9-2020-4190-80B0-AE11948D6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86C2-2C8E-4BB5-A1C1-A3719A57F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376B-535B-48C8-9892-68F006A4C3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70D3-B234-4F96-A340-3D0B9A07D3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49B1-A52B-4842-AFE0-563D48A9F4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8CC3-BC31-43CE-84A7-E3158D1FBB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20C0-86D5-4184-AD74-2C7B93E25D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62B0-57B2-402F-84FA-ED1727B0BE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B8A3-8070-4F30-BA46-6BF234F69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7078-D2C6-452E-9648-4C7F832E89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14E4-E7F9-44C0-AD21-DD83283F8C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6BF-7A98-4244-8CDE-BB933D615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5690-1058-427D-80CE-7682BF8C7A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28A3-9AC9-421C-AF52-CDB0725F1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48D4-509F-46A3-B090-AB5ED136EF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E97F-26F4-4EB6-993D-D235E03958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DE3-ECDE-46FB-A29C-FCF211696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3777-0CB2-409C-A0AD-86B101F322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D31A-9F8E-4890-9A74-143CFE17CB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AF93-D22C-4600-B33A-129A277D2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EF2E-3D53-4181-988B-DBEC7FD51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D5AB-4CCB-4ED3-BF8B-83B5397CB9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0F2-2962-4F9D-BF6B-CECCF0F49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7333-2CD2-4D37-A266-B5E561518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73D0-B108-4A71-AAFB-442E30F60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5FA-981E-4F3F-B984-2D00E5128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48EC-4F17-4B8F-B8B2-43BE0B2985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46FD-E9AC-45A6-AC78-7C0957B27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8EB7-398C-4E18-8163-86E871340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BDD1-110A-46C4-BCC6-7DCF03FD0E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B3D-6677-47F6-AFBB-5554F3695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6F6E-CC08-4005-816A-DA92B835CD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88E1-CD11-4E1A-925D-540FD0FDB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0A31-CB29-43D8-93B3-91DAC31EB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B3B9-4EB7-40E3-86E3-9C056C719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E260-E5F1-44D5-8127-96440D7A12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BF86-B1C1-433C-8C9E-47FD165138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CF9C-9372-4BB5-AB2F-E6FAE017CD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776680" y="3062160"/>
            <a:ext cx="35906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0080" y="976320"/>
            <a:ext cx="8943840" cy="490536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6" descr=""/>
          <p:cNvPicPr/>
          <p:nvPr/>
        </p:nvPicPr>
        <p:blipFill>
          <a:blip r:embed="rId2"/>
          <a:stretch/>
        </p:blipFill>
        <p:spPr>
          <a:xfrm>
            <a:off x="4140360" y="2778120"/>
            <a:ext cx="4679640" cy="18748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851280" y="550080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4260960" y="550080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4643280" y="550080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052960" y="550080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443560" y="550080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853240" y="550080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6267600" y="550872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6676920" y="550872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7067520" y="550872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7477200" y="5508720"/>
            <a:ext cx="288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71360" y="1154160"/>
            <a:ext cx="8801280" cy="343836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2" descr=""/>
          <p:cNvPicPr/>
          <p:nvPr/>
        </p:nvPicPr>
        <p:blipFill>
          <a:blip r:embed="rId2"/>
          <a:stretch/>
        </p:blipFill>
        <p:spPr>
          <a:xfrm>
            <a:off x="536400" y="4592520"/>
            <a:ext cx="6944040" cy="11239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3780000" y="217332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3419640" y="2540160"/>
            <a:ext cx="122364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3492360" y="289080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900000" y="4076640"/>
            <a:ext cx="4176720" cy="319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826920" y="5313240"/>
            <a:ext cx="4176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98280" y="1825560"/>
            <a:ext cx="7277400" cy="301932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2" descr=""/>
          <p:cNvPicPr/>
          <p:nvPr/>
        </p:nvPicPr>
        <p:blipFill>
          <a:blip r:embed="rId2"/>
          <a:stretch/>
        </p:blipFill>
        <p:spPr>
          <a:xfrm>
            <a:off x="7432560" y="1598760"/>
            <a:ext cx="1638360" cy="3933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3635280" y="267804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3708360" y="299736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3708360" y="335772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3708360" y="371628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3708360" y="407664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1908000" y="4437000"/>
            <a:ext cx="432000" cy="319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9"/>
          <a:stretch/>
        </p:blipFill>
        <p:spPr>
          <a:xfrm>
            <a:off x="8317080" y="242100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0"/>
          <a:stretch/>
        </p:blipFill>
        <p:spPr>
          <a:xfrm>
            <a:off x="8317080" y="285264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1"/>
          <a:stretch/>
        </p:blipFill>
        <p:spPr>
          <a:xfrm>
            <a:off x="8317080" y="321300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2"/>
          <a:stretch/>
        </p:blipFill>
        <p:spPr>
          <a:xfrm>
            <a:off x="8317080" y="357336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3"/>
          <a:stretch/>
        </p:blipFill>
        <p:spPr>
          <a:xfrm>
            <a:off x="8317080" y="393372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4"/>
          <a:stretch/>
        </p:blipFill>
        <p:spPr>
          <a:xfrm>
            <a:off x="8317080" y="436572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5"/>
          <a:stretch/>
        </p:blipFill>
        <p:spPr>
          <a:xfrm>
            <a:off x="8294760" y="472428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6"/>
          <a:stretch/>
        </p:blipFill>
        <p:spPr>
          <a:xfrm>
            <a:off x="8317080" y="5157720"/>
            <a:ext cx="431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25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