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DBC-E3C3-4CA8-AF8E-06CB41CD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BF1-B9C8-4285-82B3-12D5DD25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9006A-AC9F-4E9C-90FB-6A8A0741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7071A-789C-475B-A91D-61F3716B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3826A-7D38-452A-B800-734B4738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A72F7-B849-451A-ADF1-61E12EC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89536-48C5-40E5-A57C-139D15CD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81619-4DD9-43E7-963D-D1A6964B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41106-92D8-4F92-9F02-4322D7F6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F8B7F-7A10-40E1-A45F-E42AD4F6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8A5CD-6E95-4EA7-B64E-1C864776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6122B-5052-48E7-AB85-EFFDD784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876-AA4A-401C-BAB9-AEDBA949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A2284-68F4-4B9B-BB1D-A082A35D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06FA7-9864-4BC2-8624-FE299F6C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02CEE-8E0B-494E-A532-77651AC7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FB58D-5AA7-4CB2-BCBA-7C56CADC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3A801-4A38-4912-BBC2-45E9E2EE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48A6F-453D-47EF-B164-69C71E3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F48C5-AC2D-45C8-A94E-8C541CFB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10DDD-DF64-4C3D-A53B-C5AAAC1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B6F7E-F668-4F90-8F96-7A682578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A9E69-AAC2-4F63-B21C-6A27F75B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A3B-80AE-456D-99FF-F9F568D4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C56B4-37C8-4067-9EDE-8629FFA0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787E4-EF1D-4A2D-9115-7A909985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0ECE9-38E9-4D42-9480-46C16A78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94F0D-E24C-4282-859A-9D0A9FC6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4835C-4B1A-42A0-ACD8-FB73E0EF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9CD8B-9CD3-424E-BE6D-C353C6BC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4A2CC-3169-4F6D-95F1-EA009F85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E3085-9498-4B3C-B07E-33268C1E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160D4-FD05-4C37-B630-599CF404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E7F56-AAC3-4BD2-AEFF-FD67BC1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4887-1C1A-4A7E-9979-A53EEB16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6AF1D-F0B7-409D-AA62-7D4024BA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97AAD-F0BA-4B03-A40F-AA5FB7A0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18886-F35E-4DDD-AEB1-1FEA3922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FF2EE-27FD-449B-9BC7-7D4611FF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AC00E-4942-466E-BB06-372D14D4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6615C-7F7A-41DB-9C41-CEE0EB00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62927-6BDB-4FB5-89B1-DCCF9F45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B837C-CE78-4EB3-9EAC-D0E9CBF3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BFCD1-848D-46F0-B7BD-7441460C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1126B-ED82-4096-AA44-EC23788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9307-ED06-430D-BBB6-DE265E7E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EF4B6-42BD-4637-A581-F9EBA06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C0574-AD6E-459A-8C67-E10BE131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3EBCC-9EEF-488A-8F4F-32AB437E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A2173-F10B-46B5-A0C2-ACF18EEA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32F53-2B8A-416B-8C8C-0EA91FC4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A3CE0-E924-4D34-BB82-1A8B4814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3C02A-178D-42E4-8AB9-896E351D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2144A-EDA0-4312-AA51-8C83356C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5FD98-AD02-4763-9BEF-07A2477C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A7871-4C6E-407F-853E-4A841993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798C-867E-4CC1-A323-0D7CCFF5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1919D-4D6B-4987-90FD-3DE20B1D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115A5-DA07-47C8-8A48-992D77D6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E3B13-ABE3-469F-AB36-055DEC7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0C3F2-65AD-4549-B76A-EA81F1FE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0FE58-8E7D-4D76-A139-D2461191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6F7B4-B8EE-48FF-8671-A0C6C0BB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43886-AD0F-4E7B-8546-650DE20E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A4D02-97C7-40E4-BA31-F854E232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5F8CB-440D-4B2A-BCBD-9CDF21A0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7D7CA-BDDB-4001-A691-B6B04927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B525-2234-4FE2-80C9-EAE7C2FA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10CD4-F81D-49E1-A8E7-A1FA513B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D64C8-A94B-4881-9EB6-4BFD202F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09037-96CF-49F7-B72D-A9D35A0C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42701-31CF-432C-9458-DA9C4F13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55EFB-00D1-468C-862B-8024499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F6DF1-9563-4408-BAF0-5B231B62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C92C9-5D74-4458-8AB5-C541F878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894C8-869A-4568-88D8-D013905D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92C63-B731-4AD9-9051-F279C413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03D6B-FF69-4838-8CF0-F5837FD4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5A74-2F4D-434E-A125-AE951800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4A2B4-26F1-45A4-B6A8-581406AC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2D679-E4D2-4252-A6D4-7A7F356C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AEC78-05B0-4AF9-AF05-19598B4E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958AB-B69D-45A8-AA12-192BD248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FCFE7-108E-4B56-BFCA-23179A03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B60BA9-2464-435A-BBB6-89ADB124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8012F-7117-4C2C-97DF-1FEBCEBC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CB68F-3802-4A7D-B060-E9BF79F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D6508E-9988-4E3C-B480-CC1DB311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B6F53-86B6-4F6A-9889-1F8E3516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6461-F368-4064-8AB7-93967ABE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028E0-7C6C-4142-BBA6-763611E5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296AB-9107-4010-A83C-4C8E8D2E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178EA-1A22-4930-B4D4-19C67748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985329-412F-4071-A44D-0AB8B2EA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B512C-265F-442F-8268-BA2D4757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107A8-749E-4E6C-A74E-9FB8CFBD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45218-5104-432D-8463-F8829594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3BF9B-E833-43E7-8D28-3B861277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BDE66C-ED0F-4755-86C6-08D156D6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A9EF2-EE53-4DC2-B0CD-BAD8371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6F14-E145-4FB8-869A-0395BDC8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3A48E-74DC-4386-BEF0-3BDC54C8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D5C87-D833-4CBB-A520-35475457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76115-60A9-4329-8160-C88F4AA9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063BB-0B31-44A8-91E2-B08761DA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477D1-997D-41DE-AD36-8DEBCA70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53A753-A755-4E59-9453-DB6207AF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E9E7D-2EC4-453C-AB1E-73785F47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8F53B-84B2-46B4-B40F-922661C0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73D51-9F3B-4563-A8BB-EC7DB77F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340D3C-46BA-4393-935B-E8FBC79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21D-043B-447A-807A-1D986766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5CFD-7CB9-4AAD-B1BE-4DDF7303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794EF-49F4-4567-86B3-D4E88E52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F19CB-3D23-4548-A1CF-FC9EFB14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13AE9-6492-4AA1-8A3F-7A9128D2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B9028-B1C4-4500-8820-8D1A886E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1EDAB-88D6-4EE6-ABB3-16A63648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C7D41-BFB7-4440-923D-195AF41C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FEB1A-7F89-410B-881D-17F729D6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64AE2-3680-487A-88D3-1193CA68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EF8BB-18EE-4BD4-829C-7B6D157F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11016-81AC-4F1E-AC93-994669DE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83A5-C3D0-4A91-9C1C-2CD02A3D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D273E-39CC-40E0-8AF9-D861C663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8E4851-8970-4A51-9083-BA38852D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A2E87-C835-4CCE-B519-23840E0C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AA45F-284A-4802-9FB3-66485562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56D66-25E9-4243-8422-84D80DD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B184C-2256-40DB-B893-71C07DDB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9EE5C-EB80-41A5-9A96-4DD523BC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46BC3D-B396-47AE-AA3C-0297F9EE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C21493-3AA3-4910-B7A7-295AEDBE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41C4F-810D-4E5B-82A5-911ED81F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EEBD-8F91-4280-87D8-0A4CF2B9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11902-ECA1-4439-A72C-7C3D0D4F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11A86-95F5-4046-8C4B-927F99C0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A7507-E307-454B-829F-5185F88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D20DF-5F59-4427-9CCD-B70658CC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30945-716E-474B-A19E-F9E8171A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48B09-7670-4B0C-AEA7-B9817D27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04CDF-8A9E-4679-B3C3-B2A5EF16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B80866-40E1-4666-9460-D9011754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B316F0-3146-40F3-BF54-D9CB1601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2C843-A700-4C59-9D35-6D595B55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5A72-8FF3-4A4A-9BA7-7CAA49C8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6FEF1-175D-44B0-A92D-6F4A2312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D259E3-DCF6-4848-A168-64F830C9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DFCB7-FFFC-4E56-BFB3-DE45166F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15259-C906-48DF-A4B2-4E55E3BE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2E2890-503E-4B5F-A32E-63FFC048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AC10CE-C259-48DF-8275-303343B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D1A49B-7766-4D09-A092-45A2A65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E385C-06CF-4A6B-A1DB-B9229EAB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57BE5-6C94-49D3-B9AC-23ADD09B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781F5-147B-40EB-86C1-2AB188FC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EB97-57DF-4DA1-A424-7A6DAA73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2DB4D-1595-4A7F-A762-E8DF63BF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00F7E9-74A0-4C68-B2AD-68CD98CF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6E5CF0-9506-4F7D-893A-737986F9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7AA7AC-AF96-484E-955A-E58F77F6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F4258-6DC6-4919-AB46-6CA079C0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EB3BC4-26DE-455E-90A4-CCF7E469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C23C5-2554-4CC1-998A-6EC55BDA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87620-E155-411D-BE84-42678B1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7E8D71-DA65-463B-AACC-EBFC5B4B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3168C-D19D-4212-8AAE-685A687B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91BF-3114-47C1-B047-866DE4A6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564A7F-4EA2-4963-83BE-9FBEEAEE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22BCAB-D799-4D07-9670-915697B7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3AF67-710F-4291-999C-88AD9B8A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D2A88E-7ACC-4AEA-A911-2EAF7445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22E0BA-0D2C-49E5-8799-14EB78F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B97B07-2E1C-4FA0-992D-341B1524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329F5C-5C3D-42D1-9FFB-E0885E09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C0A9FF-DDDF-4180-AC65-FC5AFB3F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179986-715A-468A-9DC6-429B3F6E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A0B334-E017-4766-A3B0-3B634F2D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6122-D377-4BB5-85C8-D999370A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2548B6-C6AA-4BC0-B817-DB5945AA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7A2D98-C221-466B-B78F-84BC56F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9CD0A-58A9-4B3B-8717-D80F9B37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92E0E6-7D57-4A56-82F1-710DA6AE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579EF1-AF02-4D55-8D7C-AF49E7D6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DF340B-FCC2-4729-9000-8C65F376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9D2D3E-4244-44F5-8E88-A3978784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386CF0-6630-4308-9305-F9ABF1E7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AEB03C-A657-4335-B286-0C32D9EC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0819DC-B102-48B7-949C-780E19C9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AFA7-ED04-4CF9-9285-C689EF22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601700-D36E-4C82-89E1-320B4089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409CAA-88E7-4286-A977-0D3BEF9B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2E171-39AD-4EBA-B66A-BCC8A21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C92AC5-2E39-4192-B5ED-D3A23397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09B72E-A327-44EF-8619-66C198E1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309C64-D867-435D-A991-E122AA43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D15783-AD2B-468F-BF49-A0A0EAD1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2E73D-E98B-4042-AF8E-D00810C4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583E-D8D0-4A7B-BFBB-7267590C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EDA-ADE8-4CC8-AB9B-6AEEC8BA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0A70C-8375-419B-9D4C-EAC9A760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D6CC-713F-484D-8F15-942F2E0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7C2B-A3E7-4802-A9FE-AE517C56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A17A-6D6D-4A7A-A053-94CB997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E5CF-618A-4E71-8ADF-BE73596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F5445-3265-4450-B2B3-E55849CB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17BD-20A8-4630-BCEF-2DE9199E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0B46D-F3F7-4EFD-B7FB-B842CD60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34EB-6E1A-4EE2-B30E-1290E104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B7977-781D-4C5B-A0FF-6DB003DF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9DE-27E9-4C88-9235-8F6A3AAE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0F70A-A1C2-4E05-A812-F7D841AF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4F91-D5CC-41DB-A32E-CB3FDC42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F3C26-0069-4864-9FFB-8CE4795B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5394-7D46-4CE8-A7D4-1F3AF2A8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2B5D-AF6A-4180-8BFE-38407C1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8B254-247D-49B7-9501-7BAFE8B1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C2394-CA32-4119-9ED5-6FFE9EA6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B321-436F-4C3B-8F4E-415FF7F3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D3ADF-9116-4CA3-8C26-8E062E96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A5C1A-570E-458E-B63A-60A8590F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582-97D0-430E-9D7F-114D4A76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D51A-EA81-4329-BED8-9E7EBA2F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F2734-E8B5-433D-8E91-7AA2A465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3211-750B-4304-AD54-81A13C7D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80BE-0423-4E3B-997D-18084204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1E291-873F-443D-BD2B-944E7AF2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D16B4-A438-4CF8-ADA0-671E874D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A480A-8395-42E7-A9E4-41178A9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A2FC-B62E-4D87-AAE0-27D19324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0C753-C534-4D43-BF62-F0C4E500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D94E-9194-4370-A53F-F04738C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F4B-52EC-4914-AE2B-31EBD99F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14A33-65BB-4B68-BAD6-05F2A04B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CC4B4-09E3-4C58-8F31-3D8E53CD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2F7FE-385E-4DED-A602-D8DC2CB4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DC076-219C-4E81-99F5-53EB4416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92BEF-97E4-4718-A5E5-B1C3FF14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0D6C6-30EB-4083-A1FC-0DCAC31E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746BB-D1E0-4F2E-B5F5-41C3B49D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DAB4-3194-4E54-BE8A-58766066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72927-08CF-431A-B069-E689ABE4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F49A-C76C-4637-A0CC-ECD07E44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C87-17A2-44BC-90F4-3BE83F5F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D3D80-F614-4F94-88AB-67125CA2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47A88-21FF-467D-B45B-CE88B60F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72B1B-C748-42B2-B5EA-115D3B24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97C15-1EC3-4781-A22E-AB4C16AE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E94E5-AE1F-48A6-B7C0-707991A5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F8519-422B-4153-AFD7-7FFD3985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89CD8-F07D-4971-8D20-A82D7BE3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61A8B-71CB-4CB4-81C1-9A41234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16CA2-C43F-4B08-853B-47074F6A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B20E6-91E8-4A70-B97A-2BB324EA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D06-663A-45C8-92A1-3960653D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B7697-71BB-4125-9CE4-8A663D74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C27E9-6239-43ED-A0A2-94B45B70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7EAF9-1226-4FF0-B9FB-EDF38C62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94785-F610-4D59-BB1D-F5CDA9B6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8F5B-3642-4739-8E55-3615B0EB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7107B-BF11-41C8-81D9-959333AD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CBFD1-1280-417A-835D-8968ACD7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73460-022A-4840-A4AB-9DEBB382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01CF7-FC5D-4F6A-9625-C2221214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18B30-9A0C-41AC-9F28-36C9174C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F06-B0FA-477A-9822-89BA87D3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700E1-8714-4DD0-99D5-CA6ED1FE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08EE5-7A1D-4735-8AE7-CCD49046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74473-8DF1-4478-9333-8579031A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2E4F4-4C20-46F6-A278-02A9A2C8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13613-227F-40B9-A4DF-33FE577B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E3399-0A98-4562-B33F-90412FDF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C83B1-FBD6-466F-A254-DB89FCCB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92589-7C82-4844-9712-0019C620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69E7D-B56B-4761-BC53-4BD93B16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E2517-0168-495F-8174-3341268D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C2EB-D670-4979-909C-17EC9B3BC6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80DA-42CD-4646-8E2C-7BA1A7534C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0120-25B6-4FC3-9554-A496172AD7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CE19-2EEF-4374-9791-26CDB0DB42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6EF4-A2C2-42C1-A6F6-FDB25ACF8D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9249-99C6-44FC-BCEE-CCB1BEAE97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2255-E5B2-450A-B3DD-0D2850FE57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8FF3-FD49-4867-9172-A7AACCC11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FB95-34A1-48B7-B39B-D58F7A1507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5E4C-BEA0-4887-9209-FCC08DF5A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C316-A516-4027-93E6-A8DC8E1FE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8835-5EDC-4002-90B6-13293DCBBF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9CB6-B157-4E22-9760-A6E8A6BF6C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4013-ABD1-4FE6-806A-FB62C152B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0EDF-A50D-4012-9307-85FBFD9982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A010-A2C7-4D7D-988F-CA9B571B96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C717-5402-4482-A392-66C07A067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D470-29FF-4FAB-82A9-F9DB8320AF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4D92-708A-4841-8019-5C0DDCD69E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D2FE-9E5E-49DF-9228-7E66B741D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6F00-1A26-4BA5-9914-1A36A9600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9E39-5BFE-40B5-A7EF-060C4F7C4D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987B-131C-48ED-99BE-BDAECDB71A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BBA0-26B0-4070-95F1-809A7A51DB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645C-26F5-4CB2-9844-F4E8ECA5A2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7C57-5CF4-407C-B0E4-25A95BC89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048C-9AE4-4BA8-822A-1F466C4689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E103-5D7A-4B5E-8421-76783F1346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E1A2-E94B-43BB-9A91-F49A66BEA3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B7EC-0633-4B43-A5E7-ACFA4B6957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A5F1-E024-40AB-9FB9-ED9CB1D1E8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6AC1-AC1F-4C7C-B9B0-BA224DA1B6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15B5-8495-4698-85C5-5C4CF1A627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EA6-B15A-41BE-B5E7-93FEE5993C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C6A7-1F8A-443E-9128-EF6CE33FF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C28F-29FD-4DE7-80E3-B4C1356517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2D5A-D181-4EDC-9406-558A356B8E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61DA-1D2A-4549-B9A7-534F7AC74D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9C38-0358-4C05-AB59-3F142AA714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9F36-C274-418C-AC16-7FE1756F2E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D40D-FDC0-4E42-8DBE-3B9ECFED0A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ABA0-093C-49B5-A0BB-DB2C0A06DB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405160" y="3105000"/>
            <a:ext cx="43336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519120" y="1033560"/>
            <a:ext cx="8105760" cy="47908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1295640" cy="1008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590840" y="2290680"/>
            <a:ext cx="863280" cy="319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916360" y="2824200"/>
            <a:ext cx="1295280" cy="10080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606840" y="2333520"/>
            <a:ext cx="863640" cy="3193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5018040" y="2824200"/>
            <a:ext cx="1295280" cy="10080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694480" y="2333520"/>
            <a:ext cx="86364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7093080" y="279576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7783560" y="230508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2916360" y="446580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2916360" y="489744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2916360" y="535788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3"/>
          <a:stretch/>
        </p:blipFill>
        <p:spPr>
          <a:xfrm>
            <a:off x="7754760" y="44658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4"/>
          <a:stretch/>
        </p:blipFill>
        <p:spPr>
          <a:xfrm>
            <a:off x="7754760" y="48974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5"/>
          <a:stretch/>
        </p:blipFill>
        <p:spPr>
          <a:xfrm>
            <a:off x="7754760" y="5357880"/>
            <a:ext cx="576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66600" y="2214720"/>
            <a:ext cx="9010800" cy="24285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468360" y="3832200"/>
            <a:ext cx="295128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468360" y="4235400"/>
            <a:ext cx="3887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2920" y="1042920"/>
            <a:ext cx="8858160" cy="47721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611280" y="1957320"/>
            <a:ext cx="2232000" cy="3193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2232000" cy="3193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2232000" cy="318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395280" y="3198960"/>
            <a:ext cx="360036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3419640" y="4941720"/>
            <a:ext cx="647640" cy="319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3419640" y="537372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8"/>
          <a:stretch/>
        </p:blipFill>
        <p:spPr>
          <a:xfrm>
            <a:off x="8367840" y="2637000"/>
            <a:ext cx="452160" cy="3189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9"/>
          <a:stretch/>
        </p:blipFill>
        <p:spPr>
          <a:xfrm>
            <a:off x="8288280" y="3025800"/>
            <a:ext cx="452520" cy="318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0"/>
          <a:stretch/>
        </p:blipFill>
        <p:spPr>
          <a:xfrm>
            <a:off x="8244000" y="3357720"/>
            <a:ext cx="45216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1"/>
          <a:stretch/>
        </p:blipFill>
        <p:spPr>
          <a:xfrm>
            <a:off x="8288280" y="3789360"/>
            <a:ext cx="45252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2"/>
          <a:stretch/>
        </p:blipFill>
        <p:spPr>
          <a:xfrm>
            <a:off x="8244000" y="4149720"/>
            <a:ext cx="452160" cy="318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3"/>
          <a:stretch/>
        </p:blipFill>
        <p:spPr>
          <a:xfrm>
            <a:off x="8474040" y="4537080"/>
            <a:ext cx="452520" cy="3189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4"/>
          <a:stretch/>
        </p:blipFill>
        <p:spPr>
          <a:xfrm>
            <a:off x="8648640" y="4941720"/>
            <a:ext cx="452520" cy="319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5"/>
          <a:stretch/>
        </p:blipFill>
        <p:spPr>
          <a:xfrm>
            <a:off x="8559720" y="5373720"/>
            <a:ext cx="4525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18:1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