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4FE-F245-4531-BB5F-BA4FAA7B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D56-FDC3-44B2-AA4A-F9CC558F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8D3DF-7896-4DB3-802A-295A3BC6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82E77-3EA5-44DC-BBB4-2FD3095D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90F45-DB87-4C9B-9076-32ACABC5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56B91-6188-4449-B470-4B5BEF2B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FABD8-1266-4D44-A712-2FA7FC5D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398F2-8BB3-4CED-AB4A-2B4636B2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43621-383A-482A-95E9-5EF13BE9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A6933-29C4-434E-BB5E-72DA313B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C375E-6932-4253-BD81-8EA3045F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54A0F-C6A9-43E4-A2FF-A49E48B9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267B-A76D-4CA7-8EBC-AA11C222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9A2F8-8AEE-4EDE-84F6-5B54BBBA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40AF9-D5DA-409A-8651-1FC171FD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7B9A6-C978-4F1D-B28B-682CFF7E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78BC5-0D10-45C5-B822-5B25BE12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AE1FF-9DA8-4933-92A2-0F323B6F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B8370-C5AC-47C0-BC40-DFE6CE33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5ADB7-D190-43AE-99F9-FFC3CD1F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A47CC-8197-47C2-BC0F-65B39297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D754F-874D-4230-87E5-41AF0E12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C5A07-81A7-4B82-80AE-F07A5DF0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9BD-598D-42D0-AB42-4116E927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89933-CB73-40B7-924A-78DB8F34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8E611-2518-4CB9-830F-014366DA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C6BAE-5E3C-4B10-8907-8C62229A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AB695-F4D5-40BD-80D3-BBAAEF3D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E75A4-0FB6-4F7F-869B-7A687E93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9863D-FF67-4378-93B8-4AB077EC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4FA5D-B8BF-4C2D-B598-1BDC7EA1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C5368-D212-47E1-99B4-3FC0B5A1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A19CC-79EC-4A08-B717-E0179108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24E3B-E8FC-4F19-8D60-585F77C7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9796-6F66-4167-A19C-020E01DE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51F0F-F101-46F7-B9B0-82D90409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D9DF6-9073-484E-9D53-049A480D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4CEAF-7D9E-41CA-AD0E-E758E397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01F35-2626-4039-81FB-7C86F84D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9104B-FDBC-4BEA-97D7-5D662AE8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51643-E09E-466A-900C-D1BC4ED4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D91FB-5C1A-409D-899D-201B5EA0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3664F-4580-4E83-BDB0-BA25A24F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899BE-420D-4195-BD8C-21C93ECB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04D12-3379-491B-9BA4-8741551E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46A3-98B1-4B8B-BDD3-6DD015DF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96B27-4B35-4D4C-A026-B4CE1F75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4EE54-10EC-4F32-82E2-4EAC249F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EEBDA-61CE-49BB-97D4-FA378412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0738C-54B5-440D-BDC7-A42054FE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1EF10-35E9-4CC6-BC5D-79945E6C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89831-401C-4D5C-8B7D-47E66A3C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D7B67-E4B7-45C4-8CA7-5FEA69D8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5A6F4-3BCB-4B22-A6B6-19E4B5DD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2C6E3-27FD-4B07-8C8C-1198FC65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353F77-5841-4E55-ABEF-761A1A65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EA52-B875-44D2-B17C-27FED2C2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A7700-8304-45F2-A801-E64B5406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5865D-EE88-4837-8805-D050B672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ED053-4D6E-4B86-B641-94943D2B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6CD35-2466-44DF-B22B-F3EBAC99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D06730-E1EA-4F52-8B70-90E566E4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63932-B9A4-4356-B5F5-B00CE4F0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86C545-29EC-4798-952F-0426A4FB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4BCCD-85D2-4B79-B44B-8AA514BC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9C10C-DC6D-403F-9BAF-9720D31D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2A977-2CE5-48BE-A65F-108E344F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E6B4-10B0-4B3A-ABCC-01F6F0E6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9C2C88-432B-45F5-9A4B-E291D056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7486E-35CC-47F5-BF80-391C3756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28B0A-2993-47EE-A20B-C3561436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5AE4E-1800-4D68-ADA6-02B02783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01D13-3D7A-40C5-9CDC-2F60F13C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43196-B48E-46D9-AE3B-072CA77A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2AD2E-5B0D-4D32-A0B6-51104790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92D162-CF44-4CB5-8C47-2F68AA75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9859B7-710D-4486-851C-7628B81C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E95E14-EF30-4432-9310-362B6893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DAE2-F56E-4FE9-9830-604CFECB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5F5286-3046-4A6B-95E5-07E7C13E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6C8173-CA22-4CA9-8B3E-4F15DF65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4B918C-F534-49B8-878E-3D156916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E5538-A1EE-4207-818A-E66DB4BA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DB0E13-7CB4-4DDE-A74A-ACB94C7A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9A798B-4907-4F13-9DA8-BD3020C2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5E5CB-6E89-4943-B204-0E519FB8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A1C2F8-9576-4C77-99E4-984836AC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B0AFD-349B-4122-8DAB-5B107D11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7CEED0-1A96-427B-9065-F24AC60D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E0F6-9830-44FF-89DE-4237E164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26740-9CF6-4651-A6F5-D2B395B5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7814AD-D5FE-4139-B5D8-D8B24667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CA33A4-F03A-419D-BA37-0A1FE44C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AED751-31FE-4403-85BA-67B13AF5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8C7E1E-FB30-4D86-B515-809D4190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332118-2CCD-4FB5-8CFF-72F865CB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486ED2-74F2-4938-B05F-70A3FEF6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F3C313-76DE-4B50-9925-1125A1A1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A1476-13FC-474D-861B-61D04D3D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8F1DF1-554F-4B34-9A93-BF27F564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C88D-05AD-41E6-8E09-53EDF482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FFFB27-92AE-4FAE-994C-CA357DED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50E18-9078-4A08-A5C1-1053B9B9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2A3556-A5CF-4020-A5F2-BC8F5C89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3F3DCE-9A58-42DA-9680-F0103A24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1C3401-6E4F-4E0A-82E2-DCCD0E88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DE25C1-1C1D-42E8-8434-A79EFD55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6E9D5-D448-4067-B2D5-1515EF46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24D00B-30CE-4154-B1CA-D7D482CE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E7405-09B3-40CA-B27E-BDE44843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48A822-D9AC-4461-B639-91F95F7E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94B-8E83-43B2-BE77-F022A369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E080-0510-4EBE-8638-2A691F73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4A1AC-830F-47BE-A9B9-692A1F68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4861F-BC4B-48DB-A42C-154348A2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1CAD9E-6422-4A13-BB20-F945C6C8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C63431-A97A-490F-AAD5-4ACEC4DB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A0F4C3-D9D0-4334-848D-9A661D9C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50A3FE-BF75-46FB-B649-0876DB1C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20FF68-437F-4C98-81AD-DD8A795C6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CD319-62E4-42CB-B8B5-2B5036E9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68325F-9E37-4F09-AAB9-28AB095C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C62883-C817-40B7-8FC2-18095085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41A4-9429-4E94-8C2C-537A0C22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0FB01A-BFB1-43E2-AB43-164C729F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91C393-22DF-4DD4-8BB7-2808CDE3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85FC40-3CB0-4264-835F-7EFFD076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EBAD99-50E1-4414-AE8C-CCCA9C62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F33B50-0C3D-4ED5-BAA7-7D167590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CCEEAD-17AC-4C77-B4E0-8A7A64ED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F9A4B5-443C-48F3-A29A-CB7B164C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C613DC-505A-4F98-B375-FE84031F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B6DBF8-8AAD-4B49-AD19-B7A98C8D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23501-E048-42FD-AE76-F82AEC39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3C30-5210-4BDF-A7CA-254B3347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AB83F6-565A-472D-B305-8D351B74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2FEBCE-EB59-42EB-A390-1BA915DE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08957B-9552-4A70-9727-01C5F2E4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DF98A7-E8FA-4002-9E31-204DC262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A53056-D804-4C93-AD21-3A34E8DB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358082-C34E-4750-9CB0-546BEDF2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E47D27-3E5E-4AC0-B211-A179CE4B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1FF104-0D34-4644-97B8-4DA6D892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C48AF0-FD1B-430E-BD70-FDC147BE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A52A48-793F-453A-A4A9-D434F52F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B42A-0205-4A92-A056-064A3EE8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EC73C0-798B-43FD-965D-07EC9311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0947D0-FA59-4641-958B-B80BB1A2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ACB3A8-52A8-4C8A-98D6-FDF23777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6C0D89-A2BE-4631-818D-1F6B1F8A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155538-A17D-429B-AB61-9999B8C4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9AC54B-AF3C-44B0-9E68-0E03D06D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35EB33-12AE-46F0-B77B-CD8004F8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6D8C86-9637-4EA1-87E0-329A563B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72F518-8C59-4052-B0D3-E60AD054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4687BA-AF10-4519-8657-E7B0F6DC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3411-79F0-4C63-8A62-8A33628F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95B74A-F513-4522-9013-3072F45B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5D22C0-A2E8-4458-B6B6-706AD836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AD2F89-770C-49AB-9E1D-A3F2DCA6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BA0FA1-127B-4385-A413-E0E2EF49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C39359-0544-471C-9C32-CC883D20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9C475A-D75B-493A-AB7D-6806FB92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A8D0F9-D637-4E66-B02F-14AA513F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11499D-B873-4B7C-A50A-1F7EA5E2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D8CF8B-CBA7-4E56-875E-3A6F6EAE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C5F95F-0B3A-458A-A736-3A84317B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E8653-535C-4C19-AFAB-F2F28559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301DE7-3986-45B2-A73E-120BCE75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D65CEB-8A7A-48F1-9F06-13E6E08E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1D6C65-A48A-4B41-8E10-1D3882C8C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0DA97C-693D-46AC-B9EA-73AF9DAA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4807EF-51B8-4EAE-B479-72388640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677309-E899-47C7-A7FD-C2F294C6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3F867D-0793-4D58-A248-CDCA4B03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1A0ECA-0632-43E3-97F2-50011A48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BED27F-A9AE-4CFC-9540-2BDECF4E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F814B4-9864-42FC-B4D5-839273F1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0E2FF-4534-476A-A794-568DB9F6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F0A59E-8832-4F51-A9B4-A5D6987F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24BA3C-5917-4298-8CED-01119B3E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6F5821-AF84-45AB-B4AA-FB8772B8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96BE61-B5F1-4152-A4ED-056351B7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323F18-F10A-4E7A-AEC9-75FF5EF6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712E12-7AB3-47F8-B097-3C9D962A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1E8AF7-1F03-4965-A18D-3CA7E9C4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B77CF0-7589-4C2D-8022-5F668BC6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549C43-E208-4614-BE7A-0E67821C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4FE939-C4EB-40D9-92CB-D6071F56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6F5E3-F546-4083-962B-08FCC11E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D8D91F-7B49-40FD-9903-D0EE7374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7C2E63-660D-47D5-B9A9-300775E2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6C7B15-5147-44CC-8773-BE1C023A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2E094E-1ADB-4F9D-9111-8E04F154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4AE9FA-9CA0-49DC-8C63-16C6A39B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282C1A-4395-4AE2-9605-615F847A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0C5CFE-38C1-4F1C-BFE5-FC175E19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A428E-C6A6-4320-BF2C-F74F1CFF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8EBFD-6119-4B3E-AA91-1363AA1A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228-22C1-4CC4-BB97-76BA8629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D882-AD94-46EB-8AE4-FBFA67FF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BB8E8-D734-48A2-9292-4929B4D3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1A05C-5EA7-4686-9B17-0453E1FC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F494D-83D5-4ADD-8FEA-89671364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B44F6-CA0E-4E07-BF34-90313410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C84BE-FC1C-4037-9C1C-A0501C1F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99C18-4AD9-4531-B8EF-E94CEE06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D3225-D4F2-4E65-8F63-187850B6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DE15F-DF74-412C-AB68-F75513DC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DD0E8-ED6F-4F9A-8EC1-F630703F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52E-CFF1-4CD8-90B9-1D2822FF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C747A-84D4-4BAD-8EF2-0C74E1CB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7EF4F-0133-498D-83BC-055F8B1B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FF28E-D18F-421C-BFA9-5247E084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867CC-3AF5-4DE3-B3FB-C60FD90C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ADB4A-7906-45D3-9559-327DAF36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4BCF3-63BA-41F1-B907-5BA86819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6E804-C61A-4831-8753-692E280D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D6DCF-B67E-4446-8169-4E54A210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7B443-0164-4A08-BE75-961F8282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906E5-6380-4980-B6C4-93C896B5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2EF-0052-4905-B894-42E961E2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6DD6E-F9C1-4C6B-921D-1B983149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7EF04-655B-4C07-A6AE-6BD0E074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CA6E4-2930-4507-887F-EA073A66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D9B99-2E2D-490C-9F99-0CE38D72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0C294-1EE1-43E0-82BA-C44CEB53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42C2F-9384-4852-BF84-1BF1C043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CF076-3498-40E0-9D6C-92577F06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55AEC-4B27-420B-B818-946D6553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F3654-9E5A-4830-8861-16237F67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EE1CE-11AE-46BA-AA54-179A5442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966-9C50-42A6-90DA-DE2C7427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7A112-54BD-4026-B2D2-182F6523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A5394-5BF7-4CBC-AD02-6D8A975C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8E841-4BE2-49B5-B0A3-BF416D3C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9FE76-86A1-4467-880E-557E3C5F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D1A17-10DA-479D-9A58-5D4B1F9B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8D1DC-73CF-4F4A-90DC-91937958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5C97C-0C04-488E-B3B2-35F7D11D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1C137-0F30-4B4E-B850-73D7E21B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00F22-74A3-4C7F-933B-4057ABCC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6E73A-50BF-4539-87E9-C890B116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5DBC-8FAD-4D8D-82F3-A29535D2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052CC-44CB-4602-B905-A09B354E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1AEF8-D402-448E-BE35-7E1394D1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82661-2155-4630-BAAD-B1CC9643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01D35-E797-42F1-943B-F38D5B01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D3222-B34F-4805-9A3F-08B64DE3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0704E-6CD9-4D0F-8C0B-A8E01A9C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24C80-1B8F-4A18-9DE4-E3168DDF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04F9B-7ED4-47E3-874C-0D070112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4CEFB-3D38-48D6-BD3E-0DC18B7C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CFE5C-3274-4A04-9438-374A9F41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538-A968-42CA-A19F-79714413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1E52B-6D1B-401F-AEC2-77E8B418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D9A12-BE1F-406D-ACA5-8C096262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D60C7-8586-402A-82D6-FD723B63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F9226-A5A7-4C9F-823C-A0D89C87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882A1-FA9A-40AC-8BCE-6DD92A8F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9966B-5192-4A6B-BF78-6BC576B7F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5F2A1-045D-4384-B07C-6DC27700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D57E1-EC2F-42CF-BE42-C9AA8788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0457A-C591-4F4C-AFE6-DB0245D9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7DFA0-1298-4CEC-8641-673BE976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A64-F16E-48FD-80DE-D7C2BC86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356DD-CBE1-4E0B-8BAA-518658D7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79B78-A17C-4CB0-ADD1-5004DBA8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27F2C-153C-4F80-AEAD-E18D664D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9E398-ED93-4D11-ABAB-64C3A828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8608F-E6D3-48DE-A9A5-833DD6B8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A3139-0DA8-4ABE-BA21-A9920553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4369F-ABF1-45E0-82FB-747A46DE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9C0EA-3CD0-456B-8CA8-F8195783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52297-7DC0-4812-857A-83E45BB7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88E09-85A6-49B0-8414-7ADB6731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16C7-36FE-4B5D-8AE0-75CB5370BD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5481-F995-457B-AE69-5CE63A9486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6CD3-1B91-47D3-9A82-264DA8524D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3356-A249-4BB8-91E6-4EB7371601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893A-E0D4-4605-AE3D-44AC75F340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16CB-36E9-4C6D-9F8E-3998F56166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202F-7278-4C3F-8EBA-56778D3B3F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1F5F-7272-4DA4-8863-6062E55329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EC15-0326-4BB7-B806-0728232037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E843-87E0-46D3-ACD1-168AF95558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9EDB-872D-4827-BACF-7F886C3E92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0BF9-7BE7-4E3C-A79D-B9214F325B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AD13-937B-4747-ADA3-C472594AA9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7E3B-7A86-4BB4-9F3F-3CDCA0921D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A8A5-9034-42A0-B4EA-276A8D2107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F41B-A664-4817-8469-6084C896D3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B689-EB87-4BD2-AD1F-7BF86F3118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82BB-AE28-4E49-BA22-31B5134CB8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A009-0452-4566-AC93-293CAF4ACF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5EB1-3504-456C-BDCE-530F801FC4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BDE8-23E5-4035-A48A-E11EFEB9BA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453B-F714-4B01-A344-1D4AABB50A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D8A6-F910-4AD7-9B40-12524A6A8E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0355-0B2D-4FE5-957C-D52235CCF3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75C2-FFD3-4DE2-893F-A624D45BAE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251C-B1E8-4098-A2B7-76A847177D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0B59-A0BA-46AB-B92D-6A448904D3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C5A6-EFAA-468C-9937-2230E4FBE6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45F3-3C50-4803-A4F4-DCF4ADF308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881E-43AF-40E5-A90D-6A917ED70E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28EF-8F18-4F70-9A23-D896572EFE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80CC-74E1-4C3C-9F95-C725106A31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898A-B421-46CC-8DA8-279A06301B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4040-268C-4807-8A76-B92360B911F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F992-27E2-45FB-8178-92F602010C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3B35-46D3-4721-B3CC-B831889545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6843-994B-4F5E-9AFB-4718F9EA21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C21D-0E33-4426-BC4F-54EE2FF256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B4E0-E1B3-4EE9-8DD4-BE9DD4ADEF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EA6F-2D4C-4E4B-935D-AEC1A865A1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68FC-7F2C-44F2-B426-4C55C7A97A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45B6-ECF6-4AB3-AB24-62A6546389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990800" y="3143160"/>
            <a:ext cx="5162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42920" y="976320"/>
            <a:ext cx="8858160" cy="49053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539640" y="2550960"/>
            <a:ext cx="1511280" cy="11527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419120" y="2205000"/>
            <a:ext cx="84924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556000" y="2565360"/>
            <a:ext cx="1511280" cy="11527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3435480" y="2219400"/>
            <a:ext cx="84924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4745160" y="2535120"/>
            <a:ext cx="1511280" cy="11527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5624640" y="2189160"/>
            <a:ext cx="849240" cy="318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6948360" y="253692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7827840" y="2190600"/>
            <a:ext cx="849600" cy="3193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1820880" y="54309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1"/>
          <a:stretch/>
        </p:blipFill>
        <p:spPr>
          <a:xfrm>
            <a:off x="2843280" y="4653000"/>
            <a:ext cx="1297080" cy="10810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2"/>
          <a:stretch/>
        </p:blipFill>
        <p:spPr>
          <a:xfrm>
            <a:off x="5724360" y="54309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13"/>
          <a:stretch/>
        </p:blipFill>
        <p:spPr>
          <a:xfrm>
            <a:off x="6862680" y="4653000"/>
            <a:ext cx="1297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885960" y="2305080"/>
            <a:ext cx="7372080" cy="22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5651640" y="306864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7308720" y="306864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4067280" y="39337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6"/>
          <a:stretch/>
        </p:blipFill>
        <p:spPr>
          <a:xfrm>
            <a:off x="5651640" y="3933720"/>
            <a:ext cx="576000" cy="3193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7"/>
          <a:stretch/>
        </p:blipFill>
        <p:spPr>
          <a:xfrm>
            <a:off x="7308720" y="3933720"/>
            <a:ext cx="6480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90360" y="1238400"/>
            <a:ext cx="8963280" cy="43812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3311640" cy="319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468360" y="2736720"/>
            <a:ext cx="3311640" cy="319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4897440" cy="319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5"/>
          <a:stretch/>
        </p:blipFill>
        <p:spPr>
          <a:xfrm>
            <a:off x="395280" y="5184720"/>
            <a:ext cx="489744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10:17:3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