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9EA-C247-40AA-83FA-428E448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418-24AB-40D8-85A9-833F9135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78370-65B9-4B8D-ABED-D1765B9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175B-37EC-4E65-89BC-3508955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9DC55-4661-48AE-B88B-78085EF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E1819-0EBF-4421-A92D-F0B3944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7CD6-033E-49AA-AF91-B8CDDF6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27F8-E584-41D0-AD77-03A1B9C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93865-0EA2-40BA-A12E-0907B8A5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F9E8C-9D9F-4DB3-9449-A4D747AE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66BE3-F85A-4886-9853-71E75771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877EF-8CDF-4F73-A1D9-5F4A4F77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5F2-626D-41C2-B796-6A1562B8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2BD22-7FAA-49A8-AA7A-4EF403F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E3CB-68D6-4DA3-A88E-4E9C41E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A8AAC-6454-469A-B2E0-D182D67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42F6D-661A-401D-8DC3-DA7FE0D2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68FC-96B0-495B-88F0-37406BF2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5FB9B-8F6A-4086-B351-3D94DFC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234DE-1B2B-4B9E-A41E-7472B64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93B0D-5E2B-40EC-A58E-0AD43A1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718A-510A-4A4A-B74E-27EDE6D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461BE-037A-4C1B-83C5-6907A25E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01B-8EF1-400F-9A71-1955361C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F4927-285C-49F4-9421-20ED0B09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78714-6236-4C91-AEC8-4A998BC3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C08F-44AE-4747-A740-7FDC338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4653C-4A38-4531-B8CA-591B36B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B0178-7296-4730-B6F0-86E3E94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61784-AA08-45DB-BC26-6514327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2A24-EA06-468D-90F6-00CB991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C5489-5CEC-4892-B6DD-41E0EFC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DC63C-2FC9-4D72-A740-C57122B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62363-7E00-48D1-B1DB-FED1C52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F711-23E9-4504-B555-F5F5FD8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D84C8-BAB8-4894-A3C1-6F228F64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AEA15-EB0B-427F-BC74-B209900F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73702-1E32-42BD-AB1B-DD376550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670EC-47C7-4B14-85DD-0B483DC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DE73A-C58A-4ED9-B5B9-E769384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FC712-6A81-40A6-8F73-260E3AC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CCF26-8E93-4019-97D3-81A23CF6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67C8-3935-48AA-A479-B8A8B690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10CB5-96A6-4DC6-A906-7299110D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A4502-4AA9-41FE-8B99-E3B7E8A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19E3-680A-448C-99DD-96D1B4F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CD543-B8A1-4084-B63B-EB8CAA2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AEA23-70C5-43E4-8D8B-C1D8A3D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8DEA1-2206-4C9A-84C2-44835A6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8CB33-88F0-48C1-9FA2-EDFFC842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ADBB9-7DD5-49B0-8309-ABBA7B30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39B7E-966A-4E2E-A28F-C5B40DFA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EB138-1016-4E94-8C7A-374D8EA4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B9F24-CF86-4E0B-9214-6D72C22D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CB70D-E87F-452E-8E11-F71EC45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680C2-8643-4CCA-8056-4D83E4B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E36B-F636-4366-9B5E-A657729D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FDDD1-8972-469D-A6A7-C32F51D7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F6396-007C-441D-A9D0-FCFF80A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F0DBD-E708-4E64-A427-E13E192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4105F-69A2-45B8-A601-C708C8D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43125-A184-4B41-9C51-4294779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7D89F-B6F0-4008-B894-082FE8AC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B04F6-8D30-44CE-A9F2-0AB4727C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61E29-7336-489C-9D86-C2908170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68298-3977-41A8-8CE7-6BE08EA1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48663-09DD-4395-9FEB-7AD76776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1DF8-464C-4BDA-AEBB-69BB9DE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8BFE2-0767-445A-89F4-2BAB8AB9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AFCA8-F8D2-4332-99BB-E16581D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3810C-D345-4256-B182-9A6BC48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9CFAF-3787-4744-B315-333804B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D850F-946A-4E42-AA15-444BF02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04CA5-E910-41D9-AF18-A79D8DA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04157-85B5-4A64-AE02-0E3FED7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6966B-6252-4A12-B385-4512F5FC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1FEC9-A0AC-4140-8A2F-D417E904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1AB9D-AE6C-45C2-8236-ABC7588F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A43E-1F15-4950-ABF6-181C4576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D5722-F974-4694-88C6-8A560B7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B3C05-B63D-4425-99E9-82D960F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AF398-8492-40BE-82B5-D853AE4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88CA9-D105-4B1F-9B10-B59BCF1D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AEC14-DD9D-4370-AF3C-4C534219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4DEE1-6E1A-4578-A8AC-2694616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1A5A6-A5D2-4EDB-8FA4-39CF6CA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04D53-711C-422A-96AB-1C3D735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110B2-A6F9-4434-990C-B65596C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D3671-8217-4A5A-B119-78B1AFC2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1771-03A5-482C-B750-7CFCA3E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5293C-DB7D-4598-A3CF-E4337F8E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C00D1-54B7-42D3-A938-C64E177F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2CA75-D186-4E30-84D4-058CCE39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39552-61DC-4DD2-8486-522C16B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F32D8-2DEE-4B71-9BDB-62A241F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B6062-BDA6-4E2C-AC70-475841DE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DC2BA-C8C2-4ED9-A769-94D23FD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2D885-84AE-4447-8196-625408C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7B04C-2D1D-4897-B87E-7AB5CE48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5BE43-EDB0-4299-AEFA-E118395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12A4-FEAA-44BF-83EF-6694FF0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002B0-B1CA-4151-A375-976773B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3BB9E-8F83-4936-93EE-C0766A7B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EA2DB-2C98-45DB-8E35-7EA30FB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C5A26-EA1F-4067-AC7D-12A856B6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D2FCF-3EA4-49FC-9F50-594E799E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83608-18A5-447D-9757-8B61508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F3D25-88A5-45F6-9285-61EAC378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2D51C-42AE-4A32-9B85-B72B830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C19D2-DE19-41C1-BD1B-8DEAAABB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DCBB8-F5BD-4145-9750-22743F8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4CB-E292-4BE2-BAF4-2DA4C0D4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E1DF-F442-4AE6-8221-87FF761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830F2-E04C-45FD-8F13-27CA10A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D11DE-F5C2-4D66-B9F7-321ACDF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F2507-CD08-4DA2-B854-F5D7E0D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CA851-686B-4D3C-8174-9EE98E3E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4D46D-1C83-455F-B1C8-CEA101A2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52066-AE0A-48FE-A0B2-676968B3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E5948-6D5F-4629-B2D9-39025458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5F864-EFC1-4830-A035-B0521E18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E60A9-BA07-4963-9D4D-5B39217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49AAE-A2E9-477E-A334-D59E0AFD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D940-E59F-47A2-AB62-AB7B08F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A16AD-F3F7-4F12-ADFE-30A1BBCD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3CE81-490B-4283-8B81-E83C064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C4232-E124-4BE9-AFC3-60BD48F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A50D1-57C8-4246-8E75-F2A96A0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09994-F529-4C67-9A9B-147FF04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DE643-6E88-4CE6-9548-9C0A4594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C4AF7-1745-4D14-A4AE-B5D0DD84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A3398-8841-4462-B15A-4108B781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D38E8-B7B5-4A8E-9311-AB3ACE8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126AA-9B8B-4440-A416-FB6F9C5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2DF7-A67F-4D44-BD98-5DB948C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00B03-05E6-4226-AEBE-11D49EA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1E5D7-4B10-4B1E-850F-A535D01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F819C-7D7A-43BF-BEF5-14FAEEA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FB862-37EF-4D6A-9A37-EE1C06D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CC375-6543-4178-8679-6799FE3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5D47E-D74E-4EA7-A252-E771BF4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7EAF8-8BBB-4289-AD6F-3086C5B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2FE4A-A580-4596-A0F7-E08C0BF7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705FA-2EC5-4F5B-8D91-07819178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EA4BF-8111-4796-8157-3F9D0817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2BD0-8A29-4C66-AB4F-CA49785F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21620-BE13-4733-93D2-4C443776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093FB-A641-48A1-BDF1-592B2FDC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B3AFF-89D1-45A4-9340-54D74AD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1370D-DBF5-4122-9E2C-4691E229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EA8C8-ABF2-45CB-9DC7-61927863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DF96E-C7F2-4175-B975-5F4870E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BBC7E-33E4-44F5-AE4F-8198D70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17F1D-0676-4D67-BE5E-F3C0744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B75AD-4F2E-43F7-9EC9-DFAD7BC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4C148-54B4-4BAE-9114-7C72A493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46DF-D2C6-4ADA-A7A1-984CBA80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B8F5B-1D3B-4843-BA3B-60370516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8A2BDE-0EA4-4A5D-8B60-13A17D3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4FD92-1476-499E-B3C3-B8881C6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B6E1A-738B-4FD0-A002-8EE9BCE3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297B6-BC12-40C3-9BB6-E216C732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E543F-0504-44C1-A337-5493B0C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81190-4C77-45C0-9772-DDA727A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02941-75DB-4D04-A24F-AA4382A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0DD49-519C-43C1-A303-BDA8F8A2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FF6BD-6BAC-47E6-B1B3-E35CE1A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04FA-071D-4D89-9406-7CFB903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2359A-F42E-4D76-9A44-E65E6E2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67A38-00EF-4705-ACF9-FD8E03AE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471BC-5A0D-4B9A-A21F-CE2DC76C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4AF2-A9F3-45BF-8FCE-43ABB06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4BA8-864D-4929-A9A1-37C13FD2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7BD2-A7C4-43D5-9EAB-470C1428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4E19-FAFB-409C-9316-FF652828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AB2-1D04-4F7A-AD1F-0EFB098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BF0D-3461-47ED-BAF5-AC15FB19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C90A-392D-459B-8F32-D97AF77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DD7E-284C-43C7-BDE2-643E7E5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0F80-4E32-4D99-90B8-C4C085F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996C-0F7D-4F7D-A0AA-B4C65391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768A-41F3-4C58-9792-FF2F65A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00B3-D7F8-486C-8842-46EECA77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C085-C0FB-425D-8E44-0D9F3795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D0E6-C137-4BF2-A864-B74A92B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67BA-5162-448A-9C02-A186099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461-6A32-4B0F-A861-39B4C06E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3F5B-C75E-449B-A214-4914D08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F741-74F0-41E5-8EB0-587FADB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FD46-0AC1-4024-9D91-A27EEE9A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9D29C-B350-47D8-A462-1B2AD2E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A568-7269-48B4-98E8-055F9436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F1D5-903B-41EE-B882-16771D86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4932-2C74-418F-8A4B-F707AEF8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7E1A-B46D-4BF8-81D7-53CFD15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5F31-ACCB-45FD-9404-E30D9299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96A6-33EE-41E4-B26A-2468B3A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048-9D89-46FE-89FD-D1F3334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16181-87FD-4A76-9E43-7E5E5F4A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8957E-C922-464E-A737-3E20B73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894E-671E-4896-935C-36BFFCCE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A6F5-A604-4F29-8BA6-B2F07F3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F699-8E21-4388-A918-B8C0D3E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A1B6-CF49-430D-B1DA-4798DB1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84D3-45B6-4291-B798-30B9205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B043B-49B4-4D1E-8575-5DBA57D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C887-0D74-4856-B827-3A69906B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5258-5C52-4F98-A230-D499049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3A9-AB55-4E07-93A4-CDAD082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CFE2-EF42-4EF9-BFF7-F78CE293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050E-8AF5-4A89-9CAE-973CE22A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C99E-D97F-4F58-A32C-D3BA34D9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AFCBC-2FED-4923-A92F-8146440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62E2-4B6F-47AF-842A-AC51226B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11F2-922F-400C-82E9-5322FEA5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711C-5B76-4319-8B05-9C1AB75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576D-CBFA-45AF-85DA-167ED62B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F846-D4D0-4871-BDDF-7FDB817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1F73-4463-47C7-AB90-382A9B1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F18-97AA-4A5B-A2B3-E0C5981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58C8-DDA4-4AD1-BBBB-CD684B3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0B68-0FD9-4344-B6AC-9DCF249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6F8F-297C-4A8F-94EA-A25B56BB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E87A-DE4E-4108-9A1A-6AD2500D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EA72F-4F5B-435D-89A4-E4CE3F1C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50B13-EE6E-4C8C-8E49-6DD8CA9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BFF4-B588-472C-B2DE-67E1EF9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6E62A-1F06-4326-A25A-F9E92E7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AA0C-D56A-4078-B183-E7B1435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8BA79-9A71-4184-B6A5-2D88309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4C9-9389-40B9-ACC7-6CFEEFB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3B698-5D4F-4BEA-861B-B2C372A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5410-C054-4F01-8449-8D55989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A8AB-7A50-4BEC-82E1-FC3B6C9A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4965-E63D-4C42-8BA6-44335804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D17C3-9D6B-4614-9AAB-830A20B0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7D8A-124C-4700-9D99-3F35717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736A-F255-4559-8F40-1A35471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F025C-DA6F-486D-AE98-A43AA9D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A3819-E7BB-4940-BF1C-473CE3DC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4095-77F3-44B2-84CC-9430ABF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F40-66B7-4EFA-A304-2CEA9B2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B4736-B729-453E-98A0-98A6D85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4107-34B1-4682-B949-EB0912C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5EA3-2AAA-46A0-8AA1-B5254AE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3EF26-3300-42E9-9BF2-339A2B6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AF4A-8BFB-46F7-B2F1-C1DA26AC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9D0D-DB4D-43E6-B930-0239FCD3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5133-AB65-466C-8984-CDA333EF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766B5-C938-457F-831E-AC8B3A69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EDCC-ACC4-477E-B501-A1B198E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14BEE-FC6C-4F75-A63D-60D28C3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941-7775-4A1D-997F-C53774145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50D9-1854-4AE2-9602-7054BB59A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74E-8D6A-4C9B-832A-32A3826FA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F38-6932-4C1F-8D85-F668FC51A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60C-B85D-4953-A1BF-BD47A72C0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7A4-3615-4296-9490-7010DB4F3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445-5810-459F-B71F-AC28BFA9D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E03-92D7-432C-8255-22B9A4116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2ECD-D00D-41D8-9BAE-042A8F535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5C6F-ED31-4875-A036-7DC5A2F37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DFF3-0120-416C-8FAA-BEFA38F05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583-9576-4552-B446-5D2F93BCA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CB87-F436-41B0-AB16-8BC121494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6A27-89F3-490B-BCA8-135193201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5100-BCF4-469B-A782-2A81DC3CC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3F0-6DD6-4AE9-99CC-C253C25858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6E4-F813-4FE1-B351-BF9D105DC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D34D-4C31-402B-A54F-1DFDD3C93F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5E5-7C60-40A2-A35C-210CAD36C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15C-73FD-41AE-878F-0901240D6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F032-3610-4041-A4E2-1FA6F151F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2A1-297A-403B-8E03-DF527437A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37D-B696-4D4A-AFE6-082A6F1CA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45EC-2B01-4962-AEA4-B1DAEC226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FA8-8C01-4627-B25C-3194848D8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D369-31FB-41B4-933F-3CFD4ED8B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A07-871F-46D6-ACF8-D6CD9D8B6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90D9-851A-4D71-868E-41EC8C092B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122C-96A2-412A-A209-DBBB9C2E4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02BA-EF10-4A08-990A-1E168AE2E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82E2-04C8-4BAA-822F-832C71CB5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9B8-1219-4732-B765-98991CA60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987C-43D6-4AAF-91AD-99574F9E4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CADF-E8AE-4F37-B5F6-EC7718469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77B-26E2-4803-B097-CC4ECEAFD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BE7-E5AC-4EFB-9123-2F3B799DF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BB6-810E-4D69-B0F1-2D2C1ACBA1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D91-DF46-4A5E-87DD-9E4D99083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C6D-C1CE-4A95-92E1-D1E6CF2DB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7BB-9354-4A6D-AE3D-ED6F41D6B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04960" y="3186000"/>
            <a:ext cx="3934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095480"/>
            <a:ext cx="8896320" cy="4667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2143080"/>
            <a:ext cx="1224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763640" y="2143080"/>
            <a:ext cx="1513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244944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246384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08000" y="278136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4360" y="516744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547380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859280" y="5167440"/>
            <a:ext cx="360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09440" y="2733840"/>
            <a:ext cx="8925120" cy="1390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395280" y="317016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395280" y="3798720"/>
            <a:ext cx="2521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85760" y="852480"/>
            <a:ext cx="8772480" cy="5600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45352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95280" y="315108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132000" y="314172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468360" y="344808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635280" y="614052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9" descr=""/>
          <p:cNvPicPr/>
          <p:nvPr/>
        </p:nvPicPr>
        <p:blipFill>
          <a:blip r:embed="rId7"/>
          <a:stretch/>
        </p:blipFill>
        <p:spPr>
          <a:xfrm>
            <a:off x="1282680" y="4753080"/>
            <a:ext cx="2238480" cy="1704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8542440" y="3068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8523360" y="3500280"/>
            <a:ext cx="51264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532720" y="392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8542440" y="4292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8459640" y="47340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8532720" y="51228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532720" y="5554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8532720" y="595944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2:5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