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68B-D6A6-4BDA-B0DD-116B8617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C98-7CE5-4993-9CD4-3D397280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A054E-12B9-4D0D-9E77-6880F0A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F9880-EDDE-429B-B8D7-E737AE18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7CD84-D3B9-4C8D-AA46-2A4E75E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4562A-6B28-4ACF-8532-C513F12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A4344-1CB2-412D-B053-BB68DBC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586BA-BA41-4C6B-A19B-B0F0193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5DFA5-AB18-40CF-A440-3B12F0D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C97D9-ACCF-42F1-85FB-ECA17313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CB053-0A00-4597-A7A1-C1F76931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CB254-C007-44A4-8DFA-54AACFB6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FC7-97F2-4109-8048-DAC4249B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0CF0-B346-45C3-A4C2-2F2080DE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9C4EA-90C5-4B1F-899F-C86CF097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9F82E-D986-450A-B027-9F130D6A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2609B-6CC5-48FD-8EA1-1733FCC8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ED6FE-2051-45A1-8298-26E3D9EF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1B7B4-B1AD-4F8F-8F7B-27010004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F9741-1AF2-40D6-A69F-7FC04A5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8AFEA-135D-454C-A362-C357458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23ABB-33B0-49F5-A4AE-B2EBB6FB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E41AD-62F1-4DBB-BE42-CBCA4680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429-186A-47C2-8762-AD2C05E1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39E01-F3C7-40C0-BC8B-03996FA9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6BC51-B560-429D-AF8F-F22AB61F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ABDB0-754B-4E11-9D9D-3E1EAF66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0EACF-8E95-4ABA-9B64-789719C7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8E3E8-6238-4E86-ABA1-0862CA37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B724E-A9EE-462C-BA50-B45A3C1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D7FB5-04F9-4CF2-8403-7058EF5D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830AD-20E6-492D-A3A5-E2B6913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A1C1E-DDA5-4361-B668-86128D9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50C27-A674-4D80-BCFA-9C876C1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07B0-F8C9-4E24-925C-08E8D486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B1C76-89EE-45CF-B9AD-10E0F618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4ABB-484C-4CBC-82B0-3AAFD777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6C90F-B878-45C1-B566-1EE79EA5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0CFFB-56D7-41F5-BB86-86ED3E7F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93585-C632-463C-9A1B-151EC07E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92EA7-40A5-4851-B3F9-2CFA14A0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F47EE-EEDD-4355-8A8F-13443089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66172-B8BA-44E6-9997-BE5C0104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356B8-D548-4B16-9D8C-78DDF9EF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1E557-52A3-4510-9EA8-674BEB1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938A-5615-4BAA-B983-D8BA0483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7C01B-9F61-4525-88E7-BE6B1A61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1F8F2-5B08-4E94-A79C-9B1CD6E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D146D-6420-4202-8AFA-14AAA0F2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5DFBD-97ED-4707-876F-CA8611ED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6FA2D-80DF-4BE3-937A-F5AC40A2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5DF4A-6640-4316-9AB8-150131FF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3CBD2-7A46-48F0-8EE3-110910E7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247B2-2F2C-4861-B7C2-7B216F6E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BE168-14AB-4231-A2EF-E3E6D16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849B6-724F-41F0-BB4C-2D1A6984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7237-F64F-43EA-A8A7-3C6EEA9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AFC69-D715-4BC3-99F2-3E543910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D4F76-BA2B-4E0D-B44F-225AC7F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E5D04-5D4F-4649-98DD-16851247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BFC3A-BF7C-4BEC-84FE-FB6EFBDD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41C55-FF11-4256-A934-E3A9D557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96B4C-E01A-4703-B65A-27B2C51B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9B197-B02C-47CF-8073-045DDFD7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36F8A-6D69-4E8F-90C4-FA892CAC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D9B87-2E1E-4E8E-9418-E3ED42DF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6113E-71BF-41D7-AFCA-9A77864A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820-D944-46AD-998B-0ED029C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140BB-32B9-4561-94CA-ABA0126F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EEED0-A1F6-4E00-843F-0A2D4E01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54729-4352-4E26-8D7B-71AC5955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DCF31-DADA-4001-ADE6-E8A38FE1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E2103-6CEA-4A4D-A4F7-7A531A6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CF362-78D6-4082-B926-47C3821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F2AA6-4F9A-4556-A23F-323636A4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84D54-FBC5-482D-9792-4342054D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D9028-D7DA-4A9C-AA19-BE25CD6D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3589B-4212-4665-AC09-3A8CC2C2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5961-E85B-49A7-8D15-71A66872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65E79-C10F-4166-B95D-9277E07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2708B-8469-4963-96F5-83E8D570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8EF0B-2393-4B5D-9588-E7507C1B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AAB19-5BFB-41C9-A8F9-552CE786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1ECBD-7A60-4F91-A95C-DB6CC9C1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78FA5-5644-4B88-8015-C65690E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D5E07-BC90-4AF6-B84A-E8107D0F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0208A-D0EE-47C8-9C2E-519D66E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D6555-BFA0-4BF5-9704-DB1B0BF6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432A3-CD04-4DCA-BB68-4465A9D8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4F6F-6434-49F6-830F-B44C11DF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6F2AC-7673-41F0-975B-90FA4B2D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DFBEA-5044-4164-AD2A-288ABEF8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086B4-C9E4-4B1C-BC5A-1E8C766E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71954-399D-4692-AC65-E72671E8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66799-738E-450E-96B3-251BF0E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7CBFA-1483-4B7E-A5AC-43BD3009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2BBF5-DC1F-456A-8E67-9941ED25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46A9A-AFDF-46D6-AB9B-D15EE4C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984CC-09D0-45F5-8976-BE04093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261EC-A9A6-407B-8629-EBBF58D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7825-F0A4-4652-8591-33BBDB90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BF69E-060A-4E87-ACD0-8CF854A9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20D5E-326D-43E1-9722-4A3DA2D6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5AE74-9F35-4945-9E26-53917125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D4F21-1B59-49CB-818A-50CF0D62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F2D17-5765-4BA3-B102-6A515E5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08BD8-2D47-485E-B04E-D7BFDDA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4BF6E-1700-440E-A5E2-0DDE35ED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00324-92D9-46FB-B8BE-7BA2E17B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1171F-CD5A-41EB-B409-5D6346A8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58340-5503-4A5B-B7A4-C8190A2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69D-A0BB-482D-8A20-8E0B261F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1F7B-E04E-45A6-8ED5-7A4C1EA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543DC-8A9A-4BDF-BD07-78559EC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67C7C-836C-4BF1-9934-8E069F6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97F09-B5AE-44EE-9466-C941876E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DC62A1-E9CC-4399-A5AE-AB97632E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7C03AB-0A75-4C4A-8D09-FC29BAC4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01635-6392-465A-A0DD-ADED7B5E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6103C2-B1C6-421B-ADF0-2C55359B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BB199-47F6-4E38-AF84-2A1F7CF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C452B-7094-43A0-B9D8-6C66619F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2AA12-237D-492A-AE7A-A04F9904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579C-BB50-4D18-9445-303A9ED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115BA-9D4D-416F-884B-61C93924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97420-E142-475E-A4B0-F8A720E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2EA31-08DB-48E4-A69E-A6497D3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A1A20-E253-4E6F-AFC8-D6994D3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7A270-EA05-4313-9597-C55FB14F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E4704-3CF1-4187-BCCC-E8255560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4C46E-0AF7-46DE-8F88-65800424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601A0-3DC8-41D5-8CED-64A81550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1D166-75FD-450A-98B1-4EAD8977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B4768-93A8-4B89-8060-DFD51FD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6029-7ED8-49FD-B540-54D355EA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80275-2B60-46B5-9C5C-23D2292C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88B31-FC29-4F3E-8F6F-750B31E0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B2437-E390-4ED6-B7E3-81C006EB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801C4-FCBA-48EF-9110-B8DDC156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58CF3-B942-406B-A2ED-6CB7173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6B7A5-ABF4-4A38-A8EC-EC52CB4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EAFDC-B52A-45A8-AA13-D5CCFA18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01945-CA91-410D-8156-C3CBF172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40F7A-3F5E-4A2F-8844-B3A6863F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46243-9BF2-4EAB-B316-B200D340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FD7B-8969-48B3-A38E-103E8C15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81A7A-879F-4DAF-87EB-A11247CF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AF841-13FE-4B50-A4CF-153A0EA3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422259-63B0-4F3F-8F24-B04F2EBA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61741-E5C2-446F-883F-CB11DCB3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F89F1-79A1-48AE-96C1-716CD52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CC748-CDAF-4D73-A74F-5856EF13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28F885-37BB-460C-9F4E-AC6E8E0F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DB63D-B390-486C-8F01-A3F13E23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41295-8D22-4D56-8930-3A03096C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81ACB-EE2C-4C76-B4A9-A43E20A5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51CF-FBF5-40D6-9044-6BFA7FDB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5D8A4-73B5-4767-82DB-9AD41577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85194D-CD73-4283-91DB-DFF452E9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3DE93-74C6-47FD-B3BA-9C6C0F74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C685C6-BA4B-4800-8F52-52C9F834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C50125-AF01-40A5-899C-DE7BC848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237FF-3797-4660-A848-5C759327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450C1-85AA-4501-88D1-C09342C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5C7D9-8CE0-49B5-A955-D7ED2AA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87D04-FB3D-4859-A6F6-67412EA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9CD92-7376-4CC2-9286-C2CE59B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DF77-0BC4-4DB2-976F-51D1AE34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EEB50-A70E-4444-B4FA-75DFDE3D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B28DBE-3F2D-49F1-9415-40087546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7AF1A-B1F3-401B-B4D2-0440C7FC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CE67-2378-4328-B29F-9A93049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76D9-2B98-45F4-8A80-A6CFBD4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FB49-A83E-4E6B-9451-DF082531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31D3-3848-4015-974A-90AF2DF5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B19-BF9E-4D75-9F08-C561871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C2D9-0921-43CD-907D-1E0DCCA6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07AF-30F8-44B4-9C42-BE1ACF9C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4A19-09BA-41B0-A6A0-E55E103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9CCD-D422-4815-9CB4-5DF5D65C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EB45-9DD9-4B50-BD1B-E8CF1177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C143-2090-44D1-A139-111B30AE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2CFC-37A0-4479-9343-A8E9E80F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9F362-5054-460C-8089-03A1D402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382F-AADE-4802-973D-F02F3A8B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E947-A447-45B8-948C-86F8065B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DD1-ECBC-42D6-BDE7-02E3B4E3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AB83-FA19-4235-909C-534F9855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79F1-A64E-4965-8FD9-26FB679D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1B6B-57FA-4A98-B339-ECC9A162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E34D-9655-40A6-8D71-C296584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8F86-6D04-4D99-B586-0F491D69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AEAE-4EEC-4669-813A-25C03A2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09B7-D51D-4611-9707-03585DFF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AA1AE-BE36-438E-AAD4-5E3C5819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00BF-E93D-4DD6-A3FF-A54E91AA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BF1A-9FDF-4995-8839-69953DC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264-713B-480F-9FA9-B75BFFE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79B6-878E-4A0F-9352-48FC355D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3C377-5FF4-420D-98D2-FDE24DF9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474B4-683C-4705-9F1A-FC622DF7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6747B-77A1-473A-AED7-39B64441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16DE-FABE-4D97-82F3-246806DF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D7D3-B07F-4B91-9EC2-6951147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F4E3-D3D2-4246-965B-39C0D65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3F34-FCFD-4007-9441-050320E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75370-9599-4DC7-9885-4A748AB3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AFF0D-F46E-41D5-B0AD-938C7193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E25-0F9C-432B-B534-7B8AE189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B987-A766-47A7-A8F1-A5DD45B3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11025-9AD0-41DB-A7A4-62D625C3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1DCB4-AD61-4519-880F-FEAA1BF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75FA3-46B5-4D81-9967-2C1CE7AA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7F4B-4A59-4D6F-B930-4EC8696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6A0B3-344A-4E54-9805-ADFD188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67D2-C89E-4878-B743-845D1F8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EB80-0DB3-4A14-9C2C-9447C69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0463-A2ED-4ACE-B454-0F538B04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5E8AF-E86B-497B-9851-B957B9A3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968-A0BD-45BA-98F5-5C214701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2731-9920-43D6-9348-FB1A934D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B9B5-7285-4398-9B9C-9A415759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D6269-A552-4EFD-90B6-58077CAC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F550-B6F3-48C5-8134-6723B757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59C3-074F-4063-9855-B3037A32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7732-3CF8-4A54-9271-F44699B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1B9A-C937-49EF-9DBE-03AA7C97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666B3-E9C9-46DD-A1C6-E15F1881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BD55-7162-457E-AFE0-E7B90302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4DA7-0882-408E-99F7-3D381B0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501-20FB-4A6E-9020-92AA8C43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A11E1-F9CB-407F-8591-1256AB5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88E0-F7A2-4F63-AF48-91440F4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34D17-A639-459E-85FE-927F39C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A8928-43A6-41C5-BC4E-D648B5BA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C519B-67D8-461B-A0F3-FEC07556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C9BA1-2E69-4809-8506-F04506E5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AC8D6-417F-4294-871D-5A74E593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FE608-8679-4FF0-9E4A-04ACECB4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42528-3FD8-476B-9795-077824F1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85CA7-0B73-481E-9F0F-9567186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B53-0EEC-4580-AAC1-C5CBC7AD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646EC-2110-4E90-8CB8-5461428E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CAD4-1864-469C-B70D-F47B7E0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CD9B-B913-4113-91F3-362F96B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8D1C-DA1F-4FC3-BD60-FDC98256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76612-DD27-4281-8294-EA751268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B6FD-0DEE-437F-A7DE-64829442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4A257-86DC-4472-BAB4-744DF678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2195E-B273-4F25-BF2C-DCA94ADA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3EBA6-BEA9-4D9B-B1C4-04F9A5BF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12880-4AD1-45C7-B910-D1D474C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DAE-DCD9-4981-A837-598514F9F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1B8-1021-43F1-B4B7-F3857B3A4B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0C03-0BD0-483C-8177-656E17831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6F6-B3B1-4064-92D4-2B8C1A65B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EFFA-9F60-4384-AB99-8A18EEE1A0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94C-AA9C-4D56-B7FD-E6FAA2C51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B1C5-2E5F-443F-878C-C5830879D4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B349-A9DB-4730-9FB7-304BEA366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D097-A76F-4D4D-97B3-B5223ABAC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02F-8D07-4CA6-8C35-3A5A694009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134F-AB71-4002-863D-376B2D75A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8C9-0343-4EB6-AB19-EFCA42F89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8A61-7040-433B-B962-83FFD23DF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A3F-ADBE-41A5-A8A2-BFAAAC4391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F967-C0C7-4A44-8782-77F9F3A26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8A6C-0126-44E1-81A7-C615BAE3A4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A09A-D822-4919-BF36-41317BF28B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1B95-A522-43A8-9F3E-BD0BC0641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8A37-0491-4AE7-89DB-1D2623B42B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45DB-6A60-4645-857C-3BD87B4211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553-D870-4D51-94EF-D4802454E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1563-1DDF-49A5-AB0D-B46402C99C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65B7-352B-42E8-ADD9-E2EA141DE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A29-1DAA-4A1C-ADCA-4A1528C9B2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D1FF-F9EC-4299-8829-A30F36ADA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C0A-5A0A-4282-87B2-B2F7D0D5C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1260-9E8C-425C-9281-C0DC3F6E69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B4F8-1B59-4B9D-BDCD-E78BB0970B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2ECC-235B-48D4-80CB-F2465746B5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33A4-C69E-494C-8624-543EDCFBE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02C0-C529-4355-8B00-2F85023A3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CD3-8B71-44B5-A3E4-5EF21A8D8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728-F0A5-4DF2-9749-9813FE4A3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B420-DC9C-4DEC-BFE6-8B86025568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825-357D-4349-B541-FB70CE3E9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A73-A7E5-4047-9055-61A723C128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4CEC-6DA4-48AF-881F-E0F6E56105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836-7DCA-4686-A09E-F79831BB0B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6E55-FB57-462D-BC80-3B6671A92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AEEB-F38B-4235-A5B7-97FBC3C6B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57440" y="3224160"/>
            <a:ext cx="40291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04840" y="1228680"/>
            <a:ext cx="8734320" cy="4400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556000" y="16812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067280" y="16812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093080" y="170028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059280" y="2017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88000" y="2017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556000" y="23781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219640" y="238284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771640" y="275256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5940360" y="272736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401920" y="42210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851280" y="42210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050920" y="45813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971640" y="494172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2268360" y="5281560"/>
            <a:ext cx="7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372360" y="424008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956720" y="4230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651640" y="45813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380360" y="45813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300720" y="494172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667640" y="5281560"/>
            <a:ext cx="7920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552600" y="1795320"/>
            <a:ext cx="8038800" cy="3267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380360" y="2349360"/>
            <a:ext cx="79200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3708360" y="280044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932360" y="280044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6227640" y="280044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2268360" y="402444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3780000" y="402444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2340000" y="438480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3780000" y="4384800"/>
            <a:ext cx="71892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5076720" y="4375080"/>
            <a:ext cx="71928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6381720" y="4384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2411280" y="4724280"/>
            <a:ext cx="64800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3780000" y="472428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5219640" y="4724280"/>
            <a:ext cx="360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8373" descr=""/>
          <p:cNvPicPr/>
          <p:nvPr/>
        </p:nvPicPr>
        <p:blipFill>
          <a:blip r:embed="rId1"/>
          <a:stretch/>
        </p:blipFill>
        <p:spPr>
          <a:xfrm>
            <a:off x="299880" y="1228680"/>
            <a:ext cx="8544240" cy="4400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2268360" y="3616200"/>
            <a:ext cx="1511640" cy="676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6156360" y="3611520"/>
            <a:ext cx="1511280" cy="676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3132000" y="4941720"/>
            <a:ext cx="309564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3492360" y="5281560"/>
            <a:ext cx="648000" cy="257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227640" y="5276880"/>
            <a:ext cx="648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8:1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