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A9D-29CA-446F-BA8E-147214FA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1AE-DD53-40EE-BE1E-96C3C7EF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09719-9B1F-40B9-AC07-546D4B8B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F6433-F7FE-493A-9CAE-8EAD4F45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B79DA-1199-4CBB-B0AA-BA52AEF4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24A43-894D-4437-94E6-48FF0FF7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46F5E-F44C-4FB4-A07B-9BB1B02D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D1B87-7A8C-4A40-B968-F85398F3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F2094-794D-4F83-AEE9-7D944BD8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C34DD-1654-4229-964E-508241C0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4A905-3E59-4ECB-A448-8ECB6594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C1911-2B5B-49D2-8358-8EFAE92E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3AB-EAA2-4E19-B64C-76814F28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CA750-39B7-487E-ACB9-8991E79E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3013A-2683-4F59-AACE-7EB83543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F16DD-0457-45C1-84B7-455FEC11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992BD-60CF-4C03-928F-E528DB58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D5055-3358-4D03-ADEA-66D331EB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16812-1D75-4BD1-8655-8C46EF9E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D8E06-FD41-48D4-90FB-926BA299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255E2-B655-4A1D-BF4B-146E2595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AD2E0-7663-40C9-B210-B0C927A2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DE052-8CE4-41D3-9A59-D2A53233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201-15CA-4D53-A46F-50A8FB74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616A1-AB76-48D7-9A14-42FEF640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C3019-F1EC-430F-8D23-B09A78D6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7562E-E25E-4B21-AF7B-A229E7D8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E2061-E97A-41A5-9294-D68381B6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D6DD0-CC5D-4957-924D-D7745BA4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3BAFB-C10D-4408-BB2D-F3A4E531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758C2-B647-48B2-B7B7-BA295EB9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680AA-7E92-42A4-868C-D0CEDCCD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1A53C-D7BC-4737-9DAA-0BC6747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C2407-3182-4D21-9BE3-B31D0E6B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A283-9B42-4556-BFB8-721DEE3C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A3704-94E7-4B5C-A037-472EA2F9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ED5BC-6D0F-411F-84BF-82D3D2D1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B741A-0675-4DE8-99AD-E77585FB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F7513-33F0-4B0B-A101-1B69D5BF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79262-DE8D-422A-ADB1-4840B3F7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AE598-65B0-4D73-9FE0-9A4E284B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2F6B4-CBD8-46A0-9815-480CC7BF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94A31-D33A-4E72-A0C4-01A712B1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52AB9-4DC7-4A0A-A9CF-DDAB6BAE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BF8BD-BD72-4E6F-9AE7-8CA1AA19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653C-3843-4EC4-95B2-2FB1A251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EB8AA-4644-4985-B405-C9EA9F39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DA9C9-4CF9-4F3C-9DFB-6878CDB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4F27A-8A2D-470C-A30D-5AF54AEC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4D92D-2F90-400B-80E9-660AE259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77519-CF9F-4A08-870E-813D279D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1AA55-9211-44F4-8455-0AAE69AC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FDBDB-7ABB-4933-B655-272C5741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44AE6-100B-40FF-A72B-AE1B366E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5D0AD-3C3A-427A-9AA1-59C1D5F0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0BE6A-4A3D-4A20-BC9F-1B7FADEB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2429-8DDD-465A-A648-F87DAD4F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D0F20-8E95-4087-A963-C7A899A8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A4E3A-4466-4825-B54B-0A82AF3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661AA-F70D-482D-BFBE-406F1730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8F845-C52D-40F1-9592-B89E0ACB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DBF5F-ADB7-4653-860D-63B32EBF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06853-7EBC-41F0-B458-BFCF7048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14A0F-8075-4576-853D-444EA12C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9DBA2-C4E9-4B24-B347-60AF7BE2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7F0EA-E684-498C-917B-13E5F827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7D5A8-74EE-4273-9E3D-8633B6FE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4010-8169-48DC-B01E-6AC7988F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167E9-4801-453A-9DC0-B48682D6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383C5-F0DC-49F1-A500-7D99EABA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8531F-9D37-4BDE-81A4-533B3FD2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534D8-294F-49F8-8CBE-68885277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132EA-CF0D-4BDD-8473-E047562C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41F2B-6168-40D6-A2D8-BB9FE539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43C34-CF4A-4EEB-A10B-7BE3EDD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AD94D-A677-477F-9564-B309F173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7084C-FAE8-461D-80A7-5C11AF06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CB389-572F-4214-9A7E-B49E3901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6A32-F8C3-4DBB-ABA5-ED1362D1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85643-A2F3-41B5-8E25-9269378E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28BCC-65E2-4319-84BC-2E612893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8D63D-525E-4455-8CD6-7A3F1879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A4E892-E9CF-4CBF-90F4-161E0216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4D8ADC-3996-4B4D-BE24-9C1303FD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6F775-967C-4696-9B9F-A6C7B0F8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0205B-0600-4EF1-95E1-44AB7373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91C06-CDB3-47DC-9C8D-DC7697AB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5033B-CFAB-4040-B68A-664712E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DAD7CB-951F-4F60-9204-122DC3D9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7538-1F65-4A54-9C4B-68F48730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C99C2-5652-45A0-A465-17D27427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49F19-84BD-49BD-B8E0-4FD84012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DE2B6E-8B57-47F2-8179-67D4EA43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65954-EB71-43EA-B1B6-56D16713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766B4-2FA2-4149-A607-4A63C90C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49295-AA22-464B-8457-95551F06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141E2-4F5B-49E2-9D72-4C3B1DFA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0F5A2-1BC4-4221-BBDB-3D641D2C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36B08-171D-48C2-8B72-BC0CFD47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4B16A-6260-48E6-84A3-6F98F264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4CCF-C5B1-4867-B561-BE8CB731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BB3848-9E72-4657-B338-95B6C852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BE205-2203-464A-BEC1-ED4AD7C9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F1018-A9BC-4553-B82D-9ECA45AA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0BC668-7B70-4D67-8501-C505E210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8815E-5F4F-4364-8F6A-0AB90743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54E99-AD40-46C7-934B-5A1588F2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329B8C-E604-440D-9B89-1CB9B456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4B330-C0EA-4365-AFFC-49E5DA94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05B352-1EE6-4615-9C39-19D16F86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4EF75-C43E-4206-B5FF-24C0326B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D61-A235-402A-9DE7-99E13B09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2BA5-D08A-4F61-8E1C-DD784D1A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926F3-0248-4D89-A621-71DC9B0A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1C274-DA7F-4966-B8A2-E84BEAB9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30AA5-3970-4411-8E5C-844DE7AF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D32EF9-65D0-4E20-BBD2-042CB2BD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5F4129-5DE8-44F9-94BB-C17F8B5D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B5FD2-194C-4AD5-882C-FF9852E8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EB437-B89F-4DE5-9515-8F946B1A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02AC01-1D88-4F24-B47C-F0301D90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8BD60F-B04A-4E9E-A6DF-AA73BABD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76EBBA-DCA6-4511-B7E8-DA898FC8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A7FD-B7D0-49AC-8856-0A681D5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23075-EA6A-4AF8-BD05-EEE349EC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2F7F1-40A0-409D-A78D-E268C588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17974-4743-41C5-AEDD-78E3F9A8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A2FE25-CBD9-4EC7-8DBE-CEE0EABE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BE4F8-72BA-4812-9DC1-87972CA5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FF275C-2609-4EEC-8962-E8C2FA3F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73496A-C33F-47BD-AEDE-C3CF3F55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10B30-EB5F-4D89-8C72-4E7330D2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E9E801-3042-4BB5-989A-FEBE0B06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CB955-78FC-4151-849A-5615C4B3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A26F-FCA2-47F7-9FFC-EC8CF74A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27841-EBFF-4EAD-A99A-CC3364F5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FAAC71-945E-4EA1-9898-81B3F5FF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33B2B-0191-45CF-813E-7EBE7C99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60BCD-7010-42C0-B2FE-593678EF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DE77AA-037E-4EE3-96C2-272DB1BB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0759AC-0B6D-463B-9CDC-5BE854CD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B646B-60E5-43D1-8FF0-995CE807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E969A9-2F5D-4D81-969A-6D9A557B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710740-A1EB-4839-B615-CB2702C0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1DC20D-6FBD-4D9B-A72D-70F92E50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0A88-A267-434B-AC0E-A021BF59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49766-A6A7-4C42-94CF-26AEA649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07BDB-80DC-4794-AD61-8CE6E8C0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47190B-DA65-4420-9191-8627EAE5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439FD0-16DE-4CFC-A164-49F32D4A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1596FC-968D-4400-855D-294FE97A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81D086-BECA-40F1-8D8F-312BA4EF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6A53BC-B154-42B1-957D-C02D4ED6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4F0B4B-5819-4E4C-B267-4C1111DD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BDB5EE-7887-4813-A1C1-91E6F47D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E344F3-7272-48D8-AB13-8ACBC3FA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1588-2336-4D2F-8965-D8D17C92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FF072C-B4DF-45E5-85B7-9CF8FEAB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CFE382-3239-44D2-801F-3BAC9CAB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267A35-B6AC-40AC-88C4-3FA65160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441A86-10E1-46C4-9886-1AD688F6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24EE32-1AD0-4E14-A2FD-8A49C65F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E4274-65D2-4ADE-8AEB-E3C61612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9EAA5-6EE6-4EE1-A67A-C95821E0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9C20D9-32E2-4EEA-A83A-BB5B47A5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70A62C-AAC9-4DC6-9821-99023E1F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4CD85-D735-40A9-BB31-34D84DE3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82F4-5241-4F8A-9932-8A052F27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8E2F8A-D2C2-452B-B155-FB76EDC6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A77963-698D-4708-B041-CD488BEC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A5A26E-3797-44FB-BD0E-6A8E31BB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2A58-BD6F-4B98-A842-E183A927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04DA-4FB7-4D59-B1A0-D5C04BD5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FD7F2-2D1F-4AFD-8086-C95E4AFB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B91D5-AE4A-478A-A96F-E0A9ED6F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91E-312D-4130-8347-C2EA14C3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D2DD9-0CF0-42E8-AE19-3F02687A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4E223-2C3B-4E82-BB20-0E93082A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AA4C-845F-4F44-95D8-A4619735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632D-6CD7-4032-8523-F467665F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DC2BF-1497-4E33-81B2-A91831C0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E3A92-91E8-4FC2-BBF4-F8DFFDA1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06F6E-AD69-46B8-B5C7-EBE00C05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6466B-28C5-43D4-9B1C-84C3AB35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A3A2C-F988-41FB-B0D7-7B641B62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77260-EC9E-48AE-BE3B-8C767E5E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C01-0984-44FC-990F-BF2D4127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7A48-371F-461A-991C-D04B960C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6CDED-145C-4CAC-8CC9-5287AB75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2382C-0519-4817-A1E0-26CBBB45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7325A-3BDA-457F-A9F6-219C592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A4C6F-D0DE-4903-81F1-C1FA4B1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1D143-2C25-4606-A371-33989E47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E54C-C22B-415F-8615-489CB875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D26DA-1D85-4B58-AB8B-FFB22EAB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7EAA9-3319-4EF0-8694-B619D765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DA310-65FC-4783-8C62-75E845CB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D45-6BAA-487F-BCB6-C990C0C6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633BC-C5EC-4E32-9551-F0322CA7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646A2-020B-462D-A39A-DCF1F52C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C65EF-B1BA-4CDE-8D30-6222640D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A499-E402-48BB-821E-D2A7BFBA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4C6FD-F235-4EFB-9BB9-D20D2107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57479-F57A-4AC1-BE70-2C0CA31E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09F6F-D11D-4314-B14D-343B0F1F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F679-5B7D-45EA-9F4B-EAA2DBE0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EEAE-C3CF-40A3-B778-A8A9DA0A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C8AD-C483-445B-A001-0F74FB2D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4B3-8B23-4035-9BED-C0E142E3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06D4D-679B-4A0A-AA47-5A66B880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65FB6-9FCA-4144-8A38-6BF5E437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4F2ED-E953-4D88-8BFF-6DE2DE0B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D643D-955B-4050-A56A-9DF2C08D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3012B-0A56-4B77-ACF9-5F0AB51C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D1C22-C166-4D22-8B0E-65D8F817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6DD99-5A9D-4501-958C-9FCE00E4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A70CB-B25D-4DB3-A6ED-C2098032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6F692-5D44-4103-BE7E-8FA9A6C8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DDBDB-ACA7-4A0F-A6B2-1D290A1B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23A-FBB5-464B-95E4-A2E86760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971EF-E9F8-48FA-861F-849F4205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C298B-8D79-40E8-9591-43A00342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53FEB-75EA-477B-BF33-B22EFA92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8E2CF-706F-4D32-A6EC-A04AB4FC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D1091-DFE4-430A-AF32-50575D6C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33AC2-E2CD-4248-A14C-4C9287CF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C7D68-60F2-4B07-ABE0-2DD6ED95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6FE9B-8CC4-4A1F-AF24-24E52D1F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2A397-59BF-454D-A420-AA7D65DE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37F07-D020-420F-9BAF-A6F1BB06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D7E-D819-4B5B-B7A4-82268BEC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2744C-6335-416D-94FC-DC4A055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C812E-61A0-4D09-AFDB-B8B57DF9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0C5C7-771E-451B-9E67-998D0C4B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03403-B1FA-41E4-859D-03191966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D0A10-3F62-4AFD-813B-FCFDF84E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0F5A9-6489-4B3A-AFE0-D1B72B8A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5F71B-3CEC-4648-BC86-C7A34EBF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70D4F-85E6-44F8-88BF-1E7030D0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94ABF-697B-4C23-B56D-F3BEDD15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F9063-BBDD-4809-AB51-815B7F00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F6F-9CDD-414A-812A-22537F7F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6E228-2FAF-41AC-8A2D-A7C08EEA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BCF0A-5A37-49D6-BCA2-84757688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49DD4-F48C-4410-9CE9-C33336C2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85129-A5DB-4824-B0EB-25F9FBF5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2AED6-0E49-40D8-802E-8CAAC424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6C9DD-AFA1-4D3C-BEB1-A7920A7E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186BB-445E-4AF1-AAA9-AEDD4C36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36F9D-DC64-4559-964B-6ADAB245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70798-22A0-49B7-A3FB-0A118953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57B6C-EE5B-4E35-8CFA-0CCF158C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0045-78DC-4884-B1EB-96DFBAFBE8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BB8B-8EC5-43A7-A700-9974277F96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A22C-8D72-40A3-AC7C-B30667C51B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3172-7AF1-4D87-91E0-DEA68AF738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FDB6-8C84-44A9-ABAA-01326193DC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EAFD-F17A-4429-BEFF-175454EF78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EC64-357D-4246-B262-6EC7B2BC1C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090C-BA66-4340-9CD5-71F8F07929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06E0-0C3D-499F-B488-7604EC9A0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9701-2D47-4FD1-8BF0-662AEE9520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CC38-D8F4-4E17-8F43-56CA6F45E1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FA6B-01E4-4063-AB39-3A6AE9628B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4639-BA32-4172-8FFD-3C3CBCFA5A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11BF-4A52-446D-BD23-03C354A945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0C5B-AEB4-4840-9668-412086F8EF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C118-E887-4C06-9F7C-0247AE9B28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6BDB-BCEC-4A4A-AC18-43277C668E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A22B-1887-4069-93A0-69ED9366BC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65B4-A60B-4461-899A-5DBED6FCB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61F3-5683-40A4-84FE-D907C32310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4A6A-9CF7-4F6F-ACBD-2C8428E34F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E1DB-2BC5-4C13-8CE1-7048C60AF9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72FF-5BBB-4104-BF13-5DE710F85B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E68E-FD4A-4901-86A1-9522C0858B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C2BC-21F6-4AB4-8BC0-91C3E70960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0E21-4F90-4C27-A1FD-32AD807EE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0B99-9590-45B4-9879-52C898C772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A0A0-0C5D-4C84-BB00-E8D08F65CF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6BAC-3F87-4067-B2BD-62DB4DB28E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152A-44BB-4BB3-9602-5D40643FC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18EF-19F7-42AB-8650-FF906D2A7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85AE-EB5F-429F-B414-A777B6B61A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1252-EB84-4426-8C9B-C66A325B2A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E809-034B-4C0F-B02C-213B81A8DB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90BC-E535-454A-86B1-E4C0A72CFB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6257-69E4-47C7-AD7B-080FBD0B43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14FF-BE15-40DF-82C5-83A41DEC67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D974-53AD-4F0D-955D-56E63717AD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C253-087F-42D1-BD80-3271006D25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A103-6880-4DBD-8A48-11E978A6E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971720" y="3200400"/>
            <a:ext cx="5200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3840" y="1442880"/>
            <a:ext cx="8896320" cy="3972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635280" y="2575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380360" y="258444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627280" y="292428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380360" y="2933640"/>
            <a:ext cx="43164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276720" y="3284640"/>
            <a:ext cx="9349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788000" y="3645000"/>
            <a:ext cx="43164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268360" y="4005360"/>
            <a:ext cx="144000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148360" y="4005360"/>
            <a:ext cx="158436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124000" y="4375080"/>
            <a:ext cx="144000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716360" y="4384800"/>
            <a:ext cx="19432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185920" y="4724280"/>
            <a:ext cx="187164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5219640" y="4734000"/>
            <a:ext cx="3313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181080" y="790560"/>
            <a:ext cx="8781840" cy="5591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476360" y="2727360"/>
            <a:ext cx="201600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042920" y="3078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2411280" y="3078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3780000" y="3078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1547640" y="3438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5724360" y="2717640"/>
            <a:ext cx="194328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5148360" y="3068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6732720" y="3078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8317080" y="3068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5896080" y="3438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2"/>
          <a:stretch/>
        </p:blipFill>
        <p:spPr>
          <a:xfrm>
            <a:off x="6588000" y="4932360"/>
            <a:ext cx="194472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3"/>
          <a:stretch/>
        </p:blipFill>
        <p:spPr>
          <a:xfrm>
            <a:off x="6588000" y="5291280"/>
            <a:ext cx="194472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4"/>
          <a:stretch/>
        </p:blipFill>
        <p:spPr>
          <a:xfrm>
            <a:off x="6588000" y="5661000"/>
            <a:ext cx="194472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5"/>
          <a:stretch/>
        </p:blipFill>
        <p:spPr>
          <a:xfrm>
            <a:off x="6516720" y="6021360"/>
            <a:ext cx="1944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8373" descr=""/>
          <p:cNvPicPr/>
          <p:nvPr/>
        </p:nvPicPr>
        <p:blipFill>
          <a:blip r:embed="rId1"/>
          <a:stretch/>
        </p:blipFill>
        <p:spPr>
          <a:xfrm>
            <a:off x="804960" y="2128680"/>
            <a:ext cx="7534080" cy="2600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5796000" y="2565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2987640" y="3284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5041800" y="400536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6:2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