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7456-4EA4-440F-BAA0-5025FB927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B6A8-C819-4014-9AAC-7F8C2DFFD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6980C3-0E36-40A4-A268-A46E092AA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4E358B-8251-4017-9147-E19A5C330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DCCF3E-62EF-48E0-999B-1C4F09500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26794F-9E07-480F-87E6-49C8D68E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5A13E2-94E1-4522-BE44-66E086CF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74821E-56B9-47E2-BEAB-7D4E4E484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4AB5CB-8296-484F-9EAA-74D732EB7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FCF333-F39A-460E-8219-9D7BDC538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5A9907-D400-4DA6-BAF8-E984D4ED9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7E5B4C-002F-4EBC-814F-77B2D5671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C003-9159-4475-B6C4-92D75F2EF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4E6305-6385-4D98-9CD7-F04E7EBD5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D7330F-CDDC-4CAA-9A5D-B0B0F2767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FEA05B-28ED-4AB0-BE58-4BCFB473B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F4CEB6-D699-4B1A-8F40-4C95A1B95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35F4C0-37A8-4824-8DD9-7978F8F80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76674C-97AF-43B1-BF5A-32DF43FF2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4A49D5-0B67-4AAD-BB5A-AA3001FEC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AFF673-306A-4668-9483-BEFAC649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FEAEAA-2EEA-483E-B626-C1EAD5DAC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06C4FA-520D-4E45-8CC1-DCB5F6B2C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F526-202E-4426-9945-57131A136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C0ADBD-0DF1-4AA6-8869-AF3F902F2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35253C-72A3-48A5-A0F4-98A265A5A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2CE374-4840-49EE-BD52-CA375DD4E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F8F771-EEF1-48FB-8DB8-A83653681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C00CCA-0176-42F6-81C1-6C1A501EF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60BC8F-4E62-486F-B4E5-6A27513FC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A32FAB-88B5-41DD-86A2-69E2A873B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71A898-200F-459E-9BDB-B962951B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7697F9-770E-4614-B84C-899B50239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1AC725-0B48-493C-81D4-38101D6AC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883C0-B1A5-45CB-BB8C-E6627BEA4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B85219-32F0-4D09-9884-52B0F6CD7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59F7CA-E9B8-463E-897E-0A80B906A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612802-0B42-42D4-8B7D-6056E280C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1102F7-0BB1-4DE1-A46A-987A83FE1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74B537-06F6-49F9-8947-59F3CA338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0FDC34-BEA6-414E-8678-C6C005A88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CEE80F-B997-4CC7-9C65-EFE8A9C96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1BC458-BFE5-4788-A56D-0FA6E4E59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03142B-8F42-4969-9F2A-6034B3BB1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62F24B-A817-450F-AD06-53C6B5081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FBE63-D3A4-4E50-9DA8-67C8161E1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617D51-9DA7-4B97-84F8-D47B4769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C7524A-B684-4474-ADB5-8DE59AC22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4DAEDF-2ECD-44B2-9A3F-E811B0168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44ABD7-2DD1-472B-AD24-8E40A1D10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AF3A74-E5EC-4E40-93D5-E3E9FBF64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D87E1D-18D5-4DA1-83F7-64144174F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3C86FB-6B09-4A72-811F-9BF0184CA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BC51DC-18E4-4EFC-B311-95DB8136F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A04AC5-6CE1-4A26-9ED3-CD94E330C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BFCEFF-2038-4EEE-B59D-0725B3A3C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28839-FCCB-4297-8DCF-0481C7768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B66880-65EF-4F93-9249-3A712D701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244208-B875-483A-ACF9-3A9B252C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C594B0-A407-4C0E-B350-B4790E42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753914-D555-446A-8B5A-D0EE160C6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FA7ED9-A055-4899-8037-9754CEE0B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66723F-60CB-4A92-8384-30044FFB1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D25D95-B667-4FD1-9C1E-4C7A67E75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CFD931-D5DB-4950-B74A-50442514E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323DA2-9D6C-4D1D-AD26-14C6A42F6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8029A3-9B0C-4A54-939B-DCB46FD5B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2D11C-1400-48F4-AE60-5BF7AE54B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CF3A41-A58A-4137-98D6-7D10D9B3D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B21409-B2A8-4BB6-9DEC-FD56351BE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6EE0D9-3E67-4805-90EB-51F0AB4B8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BE5BE3-3872-40F2-A7E9-4D095DB4E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27F8C8-7582-49E5-8429-5047ED90D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87C5A9-0EBF-4BDB-8873-2781D6E10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FA6BE5-338C-4CB0-A502-C32A60562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70462F-369E-4BB1-B13C-EFB0660BF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FA4AC7-9302-460B-B5E0-23F04B848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8BCA05-B365-431D-81E3-9FAD893A9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A7537-51AF-4489-A65A-F8026FFBD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3630CB-5000-482C-A871-ACFF8B7B5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90B1F3-41E1-4091-AF3E-AEE221CFE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0FC416-1DEC-4355-85E0-21FE00DE2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AD143E-91B1-48B8-B269-FF2139B77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09BD91-7AEF-4E6D-A708-A74F8513D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C99B6C-85FF-477A-A2AA-ED2970770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5800EC-951D-46F0-98B7-2AC8977D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B7F3DC-EB84-4986-A85E-AF941102E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E7FFF4-605E-449E-89C6-EBB698F41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16FC10-ED70-4914-9D93-74E0C8D09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EF576-C938-4EFB-A88B-4234965F2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8C6834-C9CA-4E05-84AC-65BC90750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30BF04-1E3F-4E12-96F5-70EAA8D2A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9F7D48-20AE-478F-BE43-AADA6480C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967727-5760-425C-A472-3983F7C62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A8363F-2EDF-4142-806B-0AC670396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38FD5B-E9AA-46F7-A6F8-26B2A15B2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9FE104-E5C4-496D-BAF3-CCF9BA88B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DA8552-DAE5-4CAA-8AE9-5AA8C9A22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1FECA8-4064-46E1-9EC8-2DCFFBB26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38889B-47E5-496B-A2CD-1E104DA0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713F4-CC82-45A6-B941-D88039DA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9B6314-5AD3-411A-A073-420AE5BE6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227006-FD70-43CB-847A-41351D5AF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0ED170-FE9A-4A43-A188-B85B1A129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D7DB81-EFD8-4E29-B1FA-38FEE4A6E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8A755D-FC23-4424-B948-B12B127DE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7C8D4F-9941-4E42-9693-263C8DB1B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F10743-6DE7-45FD-893B-00E0C3DDB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D48F72-BC62-4C86-B4AF-0D52C238F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C958C0-E68E-473D-9990-B6223D2CB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8E33CD-887C-4B23-B27D-624320B5A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060B-8D0D-4FBE-83E5-9E0903472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4F355-9823-461F-8499-BE505E7BD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4866BA-DAE8-44E6-88C3-74A929F7C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5A84C6-63FF-471B-B743-2EA52436E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6AF683-08EA-4812-B5FD-564958123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8D6208-9ABD-4C76-B8D7-564E85C8E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4F0C81-C7BF-470C-A46A-34C542E78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507220-12BF-4AC1-AB01-DD6A0F0A7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3BFC4C-7297-4D6F-8C0E-E7EC102D6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8990F0-D3C0-4CB9-84F1-51BE463EF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015B6F-1320-4B57-9E6B-16EEC0139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D12042-8C1C-4992-9BD0-C215F59AA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32C9B-1554-4D2D-8180-319600331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A4F755-EFAE-43C1-8BC1-6953A0C5B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538A70-CA4E-4A15-9FC0-E46706722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132ADA-8986-43C8-B771-A1E263B5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AA815E-EB51-481B-B0F4-115DF0123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6C5983-8ED1-4997-BE7F-473EE60AD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70D801-7E24-4D8E-AADF-86510F7FB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5D75B3-7872-4173-A704-8203C3F50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ABC8DB-72CB-4AE4-82A2-E9A3CB9DA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54A71C-5FF1-42C5-B9F8-85BBB4E06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658C1B-07E0-4DDF-B09A-C11DFD9B1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BF5AD-C2BA-435F-B5CD-46E25646F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222946-C863-47F8-ADB2-873138ACB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74D7A9-9CD6-402A-B5FF-237FF5D14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AB2AF9-2390-4B47-B9DA-2EE86B103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DC9E41-331C-423B-8575-6ECCC3B1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0163A4-D81F-4CA9-AE9E-488A4FF0B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2324F5-8F1E-4576-B81A-1FBBC25D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6A4769-E307-4AB0-ABA0-59D2D12EB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2E4BAF-C760-421B-819A-39A00EECB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A895CE-2C74-49C7-8D5E-77C457E6C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909CAF-919A-4CA5-908D-E74F30838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3EC1C-8C16-4938-894C-50586701C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EEF704-4518-4018-A65C-4B56F5ABD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3C85B0-7B9E-40BA-A857-E8D6C4FF9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9B148C-BFC3-4916-9570-A1DB33A0A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A275E8-2018-4CE2-BBBC-9C954E37F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7A88CF-CC36-4476-AB96-6F93A7E93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7E49BE-BA4E-4DF2-8EA8-EBD40ED4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E78D4A-D9C6-4500-B7B4-5D2E3B2A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480202-6546-4026-AA19-E0E26669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90A42C-055E-4913-BDB9-51F4BDDB5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0CE0BD-D100-4E9A-BD43-DAAD0ED2B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FC075-FBD5-40E7-BEB8-45F1AADF2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73C438-6C23-402A-A06A-3E57F585C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9B78E7-9555-43A2-93BF-FADB6548F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A55AE4-F332-4AEA-B86C-B6BD8C2E7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A9551E-AD6B-4CCD-9A23-CBC80FD4A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681BA3-8577-486B-94A3-A5BDCA32A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E756B5-1E37-47DD-AF7D-15AA1EC24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68F006-6B88-4429-BDD8-C15E81332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078780-B773-4BD5-866A-4A1DBA3F9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30A6DB-6D7D-4988-9332-371D51937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D6AB84-FF91-4442-8213-CAB78FF3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925F5-1167-4490-913A-C0A400F12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492126C-AF3D-407B-BF3C-BEDE1AD43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958691-2F72-4A20-B4A9-E5732058D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917EE7-F202-43C3-8C60-802C79C68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28F66-A2CF-43BD-9ADF-8C54E1D8C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F9521-3CF2-48DA-9AB3-91D6822E3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AB1DD-0E64-4686-85B3-806489A3B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22826-818C-4A22-B51D-4E5CAF0B7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160F-351C-4F5F-BC9A-404CCB263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038E3-FEDD-4D96-8665-8E822D6ED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4E31D-4409-4C09-8F4D-7473024F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7F41F-C28E-49F1-81DD-0A991694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EA93D-033B-4452-93ED-12D65C2C2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703CF-CFAE-4087-B010-4CFB67B3C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30561-1D30-4B01-A79F-46D3B44AE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0EA86-A544-4BFD-9036-B22B3E4AB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59867-9F0B-4579-B33D-8CDCD9F73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AED59-D852-4C7A-963D-489B78847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7F25C-4934-4F40-A8E5-966E41B8A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4E57-62A2-41C6-861B-6F4D19A28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28FAF-353A-4DBC-BD8D-8C488933A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83050-5983-4E37-843E-812B97302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FCC00-233D-4F9F-AC72-C2C99D6E8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1A9FD-699A-4440-8E31-3183F98E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A583A-5C07-4E2C-9F40-FB60F088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4F815-037F-4DB7-A8AE-3B42A1F9A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35E63-9289-4986-B26A-5C07BC7A3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6363F-FA24-4A6B-85A8-38CF4F267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3B3CE-8CE3-457A-B9BE-262BF029C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8AA0B6-59F8-4074-B25B-AC643A64B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EB36-2650-48CC-A5EC-255215065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CECF5-3213-4ABE-8ED4-EECF6CA9C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4B1A9-434F-4C4E-AED9-38BBC80EE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A46AF4-C89D-493C-BD1F-EE7F7836A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21C24-7A22-4C23-88A0-318589C9A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02CCBF-3CAF-4932-8E70-680BEE962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568DC3-BCFB-4778-8D50-C59F0837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199AA3-1A5E-4F03-840E-D9214ECE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9D318-2B60-429D-AB41-E19A16B9C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F9781-FA5C-42C8-B05D-1F0BD9807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E867A-C2D4-48B9-A9D0-5FC9C71E1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332B-24A8-4E31-B4BF-6161B4B22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EB6569-8EF1-4D2A-A1A4-A65D1B3B7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77FD55-8BE7-40A9-9E10-06393C0ED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748FEA-E87B-4576-B463-73CC1A4A2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D6CA8C-10FC-4ED3-8586-66DDE3B01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3BE33B-A0FD-4361-AA26-B9B1B9A52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F32623-28B1-4DBC-BEAB-D60EA200C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8C8048-665B-4D91-99A8-8C0B71335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983B66-14C7-48A6-A9F4-146DC73B4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7A2F75-5734-4F69-BB70-3263E629B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249E83-7311-490C-AF0D-AD12D1265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E50B-E924-47AA-8F9B-A1879E866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65C2CE-268A-4B50-A795-BE63DECA9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ABC3C9-F22A-41EF-9F58-07EC093E0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670FE6-A50F-4E24-8951-4C86FEA76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29B9E2-9607-4EC4-B8CD-6170AE229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4230AE-E945-49FA-A69F-BFD094EF4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52B88C-8730-438B-95EB-67110AB75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C37419-731F-41A8-BFCC-E82844A27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5648B5-8816-4B40-914D-F5E6FDE8B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7F31F0-10A2-4B24-B21B-9834AFB70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4C2288-F8AC-4E28-A1B8-AAE5474B2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2E24-194D-4A77-91D0-4CA9CAEA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B5AA5F-9D1A-4E97-A83E-E3942861A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55ABAF-673B-47FF-A81B-1A612F8F6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40703F-5EC4-47A4-ACD5-86216219D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58B5B8-3627-41CF-8F3C-4C2E2B70C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5173AC-EA9C-479E-BA26-93B870364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39727E-BC54-4153-B90B-6395ED871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BEDCA5-DAC2-4B75-9984-64E52FCA4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AD187B-FFEC-4AD5-9023-A197A9AB6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2353BA-D82E-496E-AE85-829E40F28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BD3DCA-2110-4139-ACFA-B95306A8E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AF68-EA4C-40C0-AFD9-237848319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C416B5-3D53-4501-A6C3-5BCB93E70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D294A3-8D3C-4D28-8293-9CCEE0EF1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F11D54-190E-43AF-B72F-17F3658B7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28F8B5-DB42-43BC-9C1E-B02365110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8421CD-3D03-45FD-A3E3-B7E1F0708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0696EB-B4FB-473E-BB42-5F5F9DD99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4E4478-8317-4F1D-AB3E-EA5D90F3D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2BDBD0-9A94-4AC1-868B-730EC382C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58D997-5163-4452-8559-BA7BE6881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FA820F-47DD-4755-BEB3-4693808D4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ABF92-FEF7-48BA-9FCD-33411A90CF3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07C91-6980-4517-8F53-72BD76BABD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C971A-111F-49A0-8BBA-721E10B8F0F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983EF-ACAB-4401-8B91-719458D4A78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5D416-8B74-492F-BE0A-90E80A247B4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45384-931C-445B-9414-2C0DE14EEAB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A998F-3078-4500-A8B4-03ADA8EB1A0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EF7D3-C059-42EF-9BE1-D82A8509756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8750E-4A20-4BC7-8571-00A81A139B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5A0F8-F29E-4DB1-8EB4-68502220AE0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00E3D-A553-4827-AF9B-F16411D5506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AE610-BFCF-437B-AA6A-964E07D647D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8EDFA-97EE-4100-A782-FC32C4BE7CE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2FC18-B3F5-44F7-B1AB-75188F7A6B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D77E3-AD90-4C5F-9861-DBC14A898E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0D030-659B-429B-AF0C-54817303A2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9C8FB-B678-4792-A607-9A0241675C6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5B8F0-F7C9-43DD-BEB0-AFBAFB1981E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FB9DC-5037-40CA-8947-8DF61F1540A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AB7A8-5DFF-4DD3-91A8-2C72730FC93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ACD9F-2DA2-43FA-9417-8270294FDE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6DC36-0401-48BF-833A-6D5F95B3B5A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8873E-E453-42C3-8D06-EF63B7DA154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3C7C3-3E0D-4CA4-9F17-AF9B09663A8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15BD8-9BDC-4FC8-9F28-A52BDA3224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BE34B-6374-483E-9309-DBF19FBD202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82CAF-ECC5-4ADA-B45F-A8B17E725AC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D6371-A22F-4219-8547-23269CF8E54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36BCA-BEDD-4DD0-8F75-750989CFAB4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7B5CC-A6CE-45D6-8DCA-43A358AF359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05DD2-8803-4FFD-BAA4-D9FCA2901CD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FC2A8-A9D9-4AAF-89AA-F64427BB445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16A44-5458-4E49-9B7F-BDB6D0C0E59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24AEF-4F7C-4516-8C46-BC5D84733C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1EE5A-4406-49BA-A334-2418FCD95D8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841CC-E2A4-4559-A2EA-3BF50AF0120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D55F0-3065-4D39-8F67-5C95CAA097E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9933C-B03C-4047-A126-811604192B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469C8-AE27-4669-974B-6328BF9B47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42C11-AD4A-40AB-A8BB-B96A34754C0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766880" y="3200400"/>
            <a:ext cx="56102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37960" y="806400"/>
            <a:ext cx="8668080" cy="579132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3727440" y="198900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6237360" y="1989000"/>
            <a:ext cx="288720" cy="25740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2781360" y="2349360"/>
            <a:ext cx="288720" cy="25740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4572000" y="2349360"/>
            <a:ext cx="576360" cy="25740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2556000" y="2708280"/>
            <a:ext cx="576000" cy="25704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5219640" y="2717640"/>
            <a:ext cx="576360" cy="25740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3267000" y="3429000"/>
            <a:ext cx="576360" cy="2570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9"/>
          <a:stretch/>
        </p:blipFill>
        <p:spPr>
          <a:xfrm>
            <a:off x="5022720" y="3429000"/>
            <a:ext cx="576360" cy="2570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10"/>
          <a:stretch/>
        </p:blipFill>
        <p:spPr>
          <a:xfrm>
            <a:off x="2771640" y="3789360"/>
            <a:ext cx="576360" cy="25704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11"/>
          <a:stretch/>
        </p:blipFill>
        <p:spPr>
          <a:xfrm>
            <a:off x="4427640" y="3789360"/>
            <a:ext cx="576000" cy="2570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12"/>
          <a:stretch/>
        </p:blipFill>
        <p:spPr>
          <a:xfrm>
            <a:off x="5724360" y="3780000"/>
            <a:ext cx="576360" cy="25704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13"/>
          <a:stretch/>
        </p:blipFill>
        <p:spPr>
          <a:xfrm>
            <a:off x="2719440" y="4149720"/>
            <a:ext cx="576360" cy="25704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14"/>
          <a:stretch/>
        </p:blipFill>
        <p:spPr>
          <a:xfrm>
            <a:off x="4005360" y="4149720"/>
            <a:ext cx="576000" cy="25704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15"/>
          <a:stretch/>
        </p:blipFill>
        <p:spPr>
          <a:xfrm>
            <a:off x="5689440" y="4149720"/>
            <a:ext cx="576360" cy="25704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16"/>
          <a:stretch/>
        </p:blipFill>
        <p:spPr>
          <a:xfrm>
            <a:off x="3635280" y="5041800"/>
            <a:ext cx="576360" cy="25740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17"/>
          <a:stretch/>
        </p:blipFill>
        <p:spPr>
          <a:xfrm>
            <a:off x="2916360" y="5492880"/>
            <a:ext cx="576000" cy="25704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18"/>
          <a:stretch/>
        </p:blipFill>
        <p:spPr>
          <a:xfrm>
            <a:off x="2916360" y="5940360"/>
            <a:ext cx="576000" cy="25740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19"/>
          <a:stretch/>
        </p:blipFill>
        <p:spPr>
          <a:xfrm>
            <a:off x="6640560" y="6353280"/>
            <a:ext cx="57636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图片 59410" descr=""/>
          <p:cNvPicPr/>
          <p:nvPr/>
        </p:nvPicPr>
        <p:blipFill>
          <a:blip r:embed="rId1"/>
          <a:stretch/>
        </p:blipFill>
        <p:spPr>
          <a:xfrm>
            <a:off x="438120" y="1824120"/>
            <a:ext cx="8267760" cy="3209760"/>
          </a:xfrm>
          <a:prstGeom prst="rect">
            <a:avLst/>
          </a:prstGeom>
          <a:ln w="0">
            <a:noFill/>
          </a:ln>
        </p:spPr>
      </p:pic>
      <p:pic>
        <p:nvPicPr>
          <p:cNvPr id="942" name="图片 59411" descr=""/>
          <p:cNvPicPr/>
          <p:nvPr/>
        </p:nvPicPr>
        <p:blipFill>
          <a:blip r:embed="rId2"/>
          <a:stretch/>
        </p:blipFill>
        <p:spPr>
          <a:xfrm>
            <a:off x="876240" y="2928960"/>
            <a:ext cx="775332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3" name="组合 58376"/>
          <p:cNvGrpSpPr/>
          <p:nvPr/>
        </p:nvGrpSpPr>
        <p:grpSpPr>
          <a:xfrm>
            <a:off x="290520" y="1857240"/>
            <a:ext cx="8562960" cy="3143520"/>
            <a:chOff x="290520" y="1857240"/>
            <a:chExt cx="8562960" cy="3143520"/>
          </a:xfrm>
        </p:grpSpPr>
        <p:pic>
          <p:nvPicPr>
            <p:cNvPr id="944" name="图片 58373" descr=""/>
            <p:cNvPicPr/>
            <p:nvPr/>
          </p:nvPicPr>
          <p:blipFill>
            <a:blip r:embed="rId1"/>
            <a:stretch/>
          </p:blipFill>
          <p:spPr>
            <a:xfrm>
              <a:off x="290520" y="1857240"/>
              <a:ext cx="8562960" cy="314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5" name="图片 58375" descr=""/>
            <p:cNvPicPr/>
            <p:nvPr/>
          </p:nvPicPr>
          <p:blipFill>
            <a:blip r:embed="rId2"/>
            <a:stretch/>
          </p:blipFill>
          <p:spPr>
            <a:xfrm>
              <a:off x="1185840" y="2300400"/>
              <a:ext cx="7172280" cy="2276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46" name="Picture 1" descr=""/>
          <p:cNvPicPr/>
          <p:nvPr/>
        </p:nvPicPr>
        <p:blipFill>
          <a:blip r:embed="rId3"/>
          <a:stretch/>
        </p:blipFill>
        <p:spPr>
          <a:xfrm>
            <a:off x="7236000" y="4629240"/>
            <a:ext cx="1439640" cy="257040"/>
          </a:xfrm>
          <a:prstGeom prst="rect">
            <a:avLst/>
          </a:prstGeom>
          <a:ln w="0">
            <a:noFill/>
          </a:ln>
        </p:spPr>
      </p:pic>
      <p:sp>
        <p:nvSpPr>
          <p:cNvPr id="947" name="直接连接符 58377"/>
          <p:cNvSpPr/>
          <p:nvPr/>
        </p:nvSpPr>
        <p:spPr>
          <a:xfrm>
            <a:off x="1835280" y="3429000"/>
            <a:ext cx="5400720" cy="86364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8" name="Picture 1" descr=""/>
          <p:cNvPicPr/>
          <p:nvPr/>
        </p:nvPicPr>
        <p:blipFill>
          <a:blip r:embed="rId4"/>
          <a:stretch/>
        </p:blipFill>
        <p:spPr>
          <a:xfrm>
            <a:off x="4356000" y="4610160"/>
            <a:ext cx="1440000" cy="257040"/>
          </a:xfrm>
          <a:prstGeom prst="rect">
            <a:avLst/>
          </a:prstGeom>
          <a:ln w="0">
            <a:noFill/>
          </a:ln>
        </p:spPr>
      </p:pic>
      <p:sp>
        <p:nvSpPr>
          <p:cNvPr id="949" name="直接连接符 58379"/>
          <p:cNvSpPr/>
          <p:nvPr/>
        </p:nvSpPr>
        <p:spPr>
          <a:xfrm flipH="1">
            <a:off x="3851280" y="3429000"/>
            <a:ext cx="504720" cy="122400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直接连接符 58380"/>
          <p:cNvSpPr/>
          <p:nvPr/>
        </p:nvSpPr>
        <p:spPr>
          <a:xfrm flipH="1">
            <a:off x="1907640" y="3500280"/>
            <a:ext cx="5256360" cy="86544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1" name="Picture 1" descr=""/>
          <p:cNvPicPr/>
          <p:nvPr/>
        </p:nvPicPr>
        <p:blipFill>
          <a:blip r:embed="rId5"/>
          <a:stretch/>
        </p:blipFill>
        <p:spPr>
          <a:xfrm>
            <a:off x="1557360" y="4629240"/>
            <a:ext cx="144000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7T02:04:24Z</dcterms:modified>
  <cp:revision>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