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EEE-4C49-43CD-9B5D-9C1DB595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001-20F7-45DC-AF7B-67114B2F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76A74-E8F1-42D7-8703-28356D2E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4BFB6-6C6C-44A3-8B94-F0036DD4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515A8-314F-475D-95DE-84F3E1C7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F2803-97AF-4487-AB14-E326E55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D94EB-C593-400D-998B-C8C33FE7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D6EE3-FCB9-4B63-9FEB-F892FC7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A70D1-4A52-4738-9BF8-9E955E6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6F20B-4D0F-460F-B216-0307E670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8A29B-71BE-452B-816A-0A863599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A4A6A-B5ED-4258-88AB-F8CD7E70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AF7-65E2-40D7-B9F8-D7ADA715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EA054-5DA0-4104-9C45-1D01047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1B87C-2515-4A2F-8F8F-FFD0136D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13C9D-B571-4459-A982-86619017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58E39-71A0-4C5A-A4A2-CE8DC92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63B21-43EB-420B-9CE5-655D369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58AFF-E974-4FB5-9F85-41D27F44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290B7-1019-4D76-9147-083438B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72034-8F6F-4AED-AC22-A57A5EB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26041-B2C5-41D8-B8EC-8862316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E03A9-3B3F-4D25-8F72-633BBBF5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596-EFDB-42EA-9354-D27D8871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539AB-2350-458E-9D51-94C65013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0973D-47B3-40EE-9D7A-B75DF282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06C1E-521F-4082-B342-1827D4C5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B682F-4EBC-4A93-BA46-BB44697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9897D-9FED-415C-B335-167721E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A12D7-9C73-4C1A-8EA0-6C7BA06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504B9-8A24-4F6A-BE13-F5963D06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0EA2F-DCA4-4533-A983-B510792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FA2CC-5260-4EC9-B6A2-C7FD3EF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B8BAF-FB03-4C74-9749-0B6D2A45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059-3F12-4E50-A469-7D1678F3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A9FA4-C341-4D82-91B5-69FFD843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855F-1759-4B6C-8E9A-F2A42852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626B1-CCBC-48AF-AE29-C09A5103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B2816-5F80-4561-A2A7-2433B563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9B416-A123-432E-B28A-344BA67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8A81A-AD75-45AD-B521-2BCB8290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3102A-6AC3-46DF-AC2A-3AA92F8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18EC8-C301-4610-8B6F-1BD061B0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7FE04-FE86-4947-B94D-1453A25D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72403-1467-4741-A97D-8CB4AB3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9160-E83D-4A3C-B233-8406442B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C823D-1CC6-479B-849C-B79EBA8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5CFB0-C855-4CE7-B06C-884F831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522AD-5319-45BD-96A3-5399C7D1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E0809-4E4F-4617-8623-69A6FFB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9AEC6-4E3E-4762-86D5-E640B7A3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92A3C-01AB-4FC8-9461-E8933BE3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C3F54-3768-4B28-BBAE-A81E5F5A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0401E-5BD3-4B4D-B984-0E3FA830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65F8C-765F-4403-918E-F0533901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E8066-2ABE-4E0D-ADBB-62C82B4A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E189-670C-476E-9634-7283CFC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05DF3-5BD5-48A5-9694-43198BA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D42CA-4E59-450D-9BEC-1498E327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13649-E4CA-463C-BB76-24DEAF8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34AC0-2A25-464C-98B2-618EFA0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3267C-77B8-4DBA-AC71-9B58936F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C3643-391F-4C5D-A291-17E78FBF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02D74-E268-45F0-8C94-E1D1A1FE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A4F73-DC6F-43EC-9755-C0B94ACB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2091D-365A-4E0C-9B10-83D7029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32D5F-0E55-4A3C-92FB-10B6C074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7F9F-B6D9-4917-A6B6-0F8BF412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A7AF2-84D3-4B91-9E0B-AF93837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99F75-995C-476E-BD18-5C1E84B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505FD-C7CE-4B70-803A-E6F7B1BB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B6122-E44B-446D-83EB-DC6DCBF1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CCE8D-B570-4A11-A5F2-5157EE0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6ED21-C526-4603-A0BE-44F701E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A19AF-862A-4E48-B793-CE8496BA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90B75-FAA8-4313-9A3C-033E4CB2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DD51B-1141-49D4-BF6C-5440BD10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D922D-E2C9-4C6A-A6DF-0268459D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4A5-5D23-4F45-809B-CC634276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37BC8-5E7C-46E0-AC27-19BD96D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1CB31-EA3E-4B58-A4C1-CEBA42C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F6CA1-B72D-4D27-ABE1-C4E75022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0543A-FD74-4031-A66A-68E2C049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EB88A-A8D0-490E-A316-EC40F2D3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42CC5-7AB6-402B-9B1E-45F09B8E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0E8DC-C207-40CD-9BFB-70E21D5E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E8DFB-3F6F-47DC-929E-B8712FA4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3EC66-A91C-4998-A14D-AF3AB58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BED58-521F-4BD5-910B-B3271AAD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6E46-49CB-4A61-9F9C-E9CC61B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F91E6-FE59-48E7-9ACF-50169EA9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97624-91E4-4575-9C1E-E117B11F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45D5A-6F29-4C04-B885-A0FB7D85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5920F-439E-4814-9EFC-B697434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D475C-9804-4841-8CB6-39A99FEC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5089C-DB38-440E-A222-19DD38FD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AC520-61BD-4835-A727-66D25594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8779C-6217-4913-B177-639C615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EE82F-6084-4111-BE8C-58019BF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16A32-3502-47F0-963C-9895BAE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D00D-9A45-427E-9722-F5FA10A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0806C-B002-45B0-9DBA-4E9F5EC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72D98-3D8C-4E10-B6D4-CA33F547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8BDF3-E154-466E-838F-A4174D7C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4C161-400B-4D95-971E-28CFACC2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B936E-AA1D-4810-9564-0D799642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00C0C-1660-4957-948A-97DA85E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50FA0-3CF3-4310-87FF-8256A96B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746D9-F01E-4AF6-87DF-48BDD86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387EE-B590-46F5-AF57-60A90667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BF714-7D9A-4829-A556-63A650CA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BFD-9FF9-49D4-8D5A-F1A7D40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BFDA-EDD6-4E8B-A1F9-F155040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8AAA3-B457-4696-AB3F-F19CEAE7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F6521-D12E-472D-8E6E-797762B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B481B-78F7-4066-8CA6-59195404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3DCEB-EEE9-4E9F-832A-3FE0182C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77190-42CF-4DA3-B7D9-A2949EE3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81FBB-1640-4E30-94B6-80927AA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07BA0-70F6-4DA4-A0D8-0BDACC6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93E33-A027-45E5-8EFD-18367A9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F42BC-4DC3-43B6-AD06-E3C440E9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A37AE-69CC-4481-B757-85C5CC91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B960-453D-4C63-A29E-09E14FB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0B658-A1A1-4517-8974-483FDC4C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6DDDF-FA03-4764-86C0-02E5FFEB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5F9DD-477B-4D76-B527-B85FFAA1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36A70-6D64-4CC2-8DA5-1DFA673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508F8-2042-4682-AFAB-83C081F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9CA94-691F-41D6-B6FC-ADE3C4E8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C5BFC-A7CB-4109-8B6B-71C587CD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6E957-1D39-4A66-9BAB-71842CA0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17CBB-FF5F-4677-8ED1-9949A48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287B13-118E-41B3-BF41-47B13E3B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A98-3533-4D45-8559-7137307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5BC47-6F67-4729-80DA-C11A9E13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72C38-9738-42BC-BE0B-226150F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FF6A1-D186-495D-8A70-9DE2E8A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C1F21C-2927-4855-87FD-4397046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97249-2D53-4068-83BD-4CF1F6C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377A6-7847-403D-9470-5D19EEF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37CC2-BFCB-4DA9-BBD0-CDB35D92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ECCFD-8BA1-47D2-8AC4-7C9DBDD2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3E5D6-FA7A-4B51-AA1D-D8AF4FDB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2823B-C76D-4D8C-BC2E-9C570D8B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F398-000B-4929-858E-7328DFC5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3006A-BA40-4BDB-A417-0FB17CEF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EE80C-FD42-462B-8C5A-13F61606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95D2F-A6D0-44E0-95D9-5FD0024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0D7AA-0F8A-4C25-A3E5-4999A4B1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A21A5-958B-4828-9267-886B77DE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0C2BE1-203C-4987-8E75-A558521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A6479-7644-49C6-80FC-050F7D3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5BF73-18BB-45DA-936D-C8B3AE2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22AD0-1944-49F8-A062-F83BE69B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9531A-0715-432C-AE36-56160C19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F5BF-BF06-4E7E-A18C-214426EA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906EB-A96C-4F44-85AB-710856DA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1ACEA-A4D7-4731-9152-819792F1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37858-21D2-489B-960D-E4DCA770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393BA-0B01-4321-B1CE-0D22D64F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E7BCE7-C459-4A2B-85A5-2E1D8258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C21F0-1A4B-47E5-BDD1-655F93C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99394-9635-4A61-AC6C-D6A17C7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27264-E345-4F13-B2BA-B2A00D5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17387-AC75-44EE-AAE3-4517329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E911B-C8C3-4E40-ACBE-AB6A2B7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63E6-271C-4384-A852-75C49C71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58661-883F-4810-8900-0A8DD82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565A2D-7F92-47CF-9938-46351A06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CDE73-17EA-4B39-B08B-3DC3AD3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48C7-2911-48C4-9E80-2C902B5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E2DE-A63D-4887-91DB-5DE6EBAC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4B7A-C2A0-48B6-A0FC-CB05A04F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C163-1CAF-4B5B-A0B0-4C12753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610-6CBF-4440-8E5F-6C877DB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7A87-1597-4A60-8D9C-9FCF96BF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5EA7-7EA6-4EAA-94E8-0E180E1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E509-CC27-477F-B4EB-9328C14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BEDA-BD54-4CDD-8A69-09BD1C8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7A26-AB38-45FA-8E42-9A2CFE4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6635-7385-458F-BFFB-E2829496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E252-A434-4C21-910C-346DDAA2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35F8-36A6-42B1-BE21-B709BFD1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BAF3-813D-4E06-B1EC-7E0F121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D2B0-C153-4CBE-94B3-03B524EF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6BB-3485-4D41-B410-3E593BFC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035F-8322-44F9-9330-14A5741D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1225-CB08-406A-AC9C-7CC3CF68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D9FC-9ADF-4D1D-A89E-A4C6831E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E995-A1E0-4DEF-A55D-D3706B2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0A62-2BA7-4F01-9CC3-45E31E6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0960C-0BF9-4555-9699-F680096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FBB0-999B-4DA0-B389-F2E1717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1936-5EE1-4AE9-AB7A-C3C5B16C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EE73-3FF7-44FE-AF14-144E1E21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5063-BCC0-44FE-9299-2534BDBA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3D5-E0C3-4235-9BE6-4A62FF66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316A-070E-4174-9892-CADF762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6CC73-3CD6-4C9F-BD35-EA340D5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16FF-8E5E-44E8-84DD-3961050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D68E8-A8EB-4D83-8B85-960C83E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4D5A-90EF-438A-AF53-850858CD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E4B4-35DE-45B3-B839-A1EE880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9FBF-21ED-4374-A622-C180B85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FD64-F5AD-4159-8E8B-7128407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4DEF-872D-4305-9303-5399C78D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BF4B-7C40-40C0-8C60-6F13EBFB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902-E8E7-43AA-9C9D-90404DF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3666-CF66-4944-91C2-6616A57A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1958-A857-4205-BCE1-13145F43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7D55D-528F-4A66-9BB2-1EFB6EC2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CA4D-CD6E-4CDD-AA32-786C1692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DC08-52A9-4082-8687-8F253C8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C4AC-8BD3-4A57-B190-2242976D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4B227-DE58-42AD-9BC6-E09C706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CC1B7-D03D-40DC-BEBB-C9A2DBC2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847F-7711-4A6F-A780-C5B218E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2B8D-851D-4FDB-958B-A6D25F0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05C-1C06-4A2B-8677-2ACBDEC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C4B8E-7948-4380-B919-DB1353CE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4625-1FAF-4ACF-8C73-AFF0983A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22E13-310B-45E4-9FB9-42A0E2C0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A548-0A09-40C7-A1A4-C0AE3482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6A5C0-D82E-4175-865E-24AD79DF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88A9-355B-4E7D-98A3-A270E493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99BF5-193E-4DD5-AC84-D1EC5C1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425FB-B002-45F4-BF07-E3AAD79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3B253-ABF0-4A19-9CF2-0E6549F2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70F73-64F2-4B5F-847C-F6E02AD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483-0AC3-4FDD-B3BE-91884EA4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E633D-47D4-4ED6-ACE1-D670967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0874-7D19-42D8-89FC-5933E188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4134-AC7B-4885-985D-82FEB30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A75F-6BB1-4649-B4A7-0CE76FC2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C28C-5C90-424B-98B4-11FEA23C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D30E-3663-4FA6-8185-3C33A0F1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A893-B8D9-4486-8D04-F4C4762B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920A4-F5EB-4781-90A7-CB672040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AF7D-8BD1-4A7D-A511-6C68D2B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01A67-398B-4DC4-9772-BE1E88F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7F0-C60E-42CE-994D-23A20DB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C181-032E-4619-97FB-133BE31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BBB56-B42C-4EB9-B157-1F9073C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85FB-5E06-43B1-AB08-F246ADC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832B-9115-4836-B4D3-1148B4A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47086-7CD4-423D-AB5F-73CD02F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9CFC-2999-416B-86F8-D014E8A2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394B-B860-46A1-8D4F-23A08DCB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AEE36-D054-40AE-8DBA-869B5EA1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73AC8-6273-43EF-AF7B-3B6F538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6CFB6-E359-44BE-B296-7C476091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03A-06AC-4B3E-A605-E212ABD120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4B89-6138-4AE5-AD1B-5807700F0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0F66-2416-4032-B67B-24CBD1BF9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4419-F9C3-41CB-A829-1E6798B4A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6C21-7C3D-434C-8077-683B1814A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DBDE-E0B4-43CA-81F5-ED45C2DDDA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3701-D072-4E04-B5EF-196BAF63F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DCF-7BC5-43CF-A9D6-8C161C0803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81EC-2BF6-4661-A3FE-B9C8505A8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B90-32D0-4D8D-874A-EFC5A7690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FA60-0ED1-47F9-9302-19B9F63C9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85A8-222D-4BBF-9DF8-89A861FAF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FF14-3D40-499B-ABB8-4272568326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15BF-04C3-48EA-B778-2BD06EFA8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D6B8-362C-49FB-9A2E-1085CB1F1E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E919-DB9A-4D54-A602-27BEAE687E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C15-CFFD-4973-ADB2-2B7262C3A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1BBF-9BFC-4D70-B97E-66CD7E86D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DE3-7762-45A9-8378-D3BC9EA70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34FC-3745-4A96-8C8B-0F599755B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684-1BD5-4669-AA07-4E5DF8DCF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9A17-C05D-4EBD-8FEB-A6AEA044C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BE4-5216-42B7-9DE2-E73FE91EB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6023-D186-40F5-AC89-7A237D202D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EC16-A00E-415F-871F-3D245C56C6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B94C-660E-4D96-BAF4-E04F40370B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57B-278F-4970-AA0F-8F82E9E4C6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738-01C7-44F1-917B-ADCAF3FEAB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371-F15F-4014-9A5D-CF005889D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CA9D-A042-4340-B9DD-6E6F0DD75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4C80-5D25-4969-9642-A644F0626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C310-59C9-4319-8379-37BAD801DA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3C29-A90D-4049-AA53-6A8D4C7BE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5AD2-EB7A-409F-9D0E-7774888D9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2A60-8D85-4B44-ABB5-8798107D9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2735-6279-4F2E-9973-EAF5FF6FA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971-EF25-4E6C-9680-7303E0087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DDD3-2815-4270-AA54-B07D30CE8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E62-8C05-4812-ABCD-C4AAA00F82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B236-69FA-4B6D-BCF6-7A3FE4853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66960" y="2757600"/>
            <a:ext cx="72100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47760" y="1433520"/>
            <a:ext cx="8448480" cy="3990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24000" y="32511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084720" y="325584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340000" y="422100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284720" y="4221000"/>
            <a:ext cx="14396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56360" y="4221000"/>
            <a:ext cx="144000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956720" y="4221000"/>
            <a:ext cx="79200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340000" y="4653000"/>
            <a:ext cx="15112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076640" y="4643280"/>
            <a:ext cx="151128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4643280"/>
            <a:ext cx="15112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632720" y="4653000"/>
            <a:ext cx="11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060640" y="5084640"/>
            <a:ext cx="11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708360" y="5084640"/>
            <a:ext cx="118764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292720" y="5084640"/>
            <a:ext cx="11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000920" y="5084640"/>
            <a:ext cx="1439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9410" descr=""/>
          <p:cNvPicPr/>
          <p:nvPr/>
        </p:nvPicPr>
        <p:blipFill>
          <a:blip r:embed="rId1"/>
          <a:stretch/>
        </p:blipFill>
        <p:spPr>
          <a:xfrm>
            <a:off x="138240" y="833400"/>
            <a:ext cx="8867520" cy="51912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411280" y="1820880"/>
            <a:ext cx="511344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2124000" y="2665440"/>
            <a:ext cx="511344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619280" y="3554280"/>
            <a:ext cx="511344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4159080" y="4816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4835520" y="4807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4159080" y="5300640"/>
            <a:ext cx="55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628560" y="2395440"/>
            <a:ext cx="7886880" cy="2067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4408560" y="323208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5464080" y="325584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24720" y="3251160"/>
            <a:ext cx="40320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181480" y="397188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6218280" y="3971880"/>
            <a:ext cx="40320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7155000" y="3962520"/>
            <a:ext cx="556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2:26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