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AE17-7C6B-4697-AB50-28259A84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95CC-443C-42EE-85BE-DF183B9F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DD87A-9C50-4148-B8E8-741D3F7D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8FEEC-F7E6-4C7B-92DB-C2079961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D040E-7FFC-4ADE-A3F9-DFFA0B39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3D679-9A64-49E3-B9BD-63DEB6B8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9F069-4655-4665-A2D1-2CB7EB72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4F2EB-C84B-4322-A3C7-C1287073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AACB8-167E-4855-A584-B306FF89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E74A5-20C5-4FA1-A708-9B617AA8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90A8B-C8F5-4799-8FCD-14A6B6FB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AC38E-209C-4534-B10D-C81E94CB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7FA8-9A2A-41E3-B80E-6722E418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41B03-2EBE-4A1E-8B55-21447D8C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3533E-884E-453D-BD55-14D13174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481DC-676B-4CC7-8B8F-14DC1253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050E2-0485-4B9B-AA8D-45B525FD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11F95-E2A4-4A52-AA54-288D97CC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291EB-1523-47BB-8F07-8A1F0527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AFC91-BC01-4D78-9D4E-ED3D5AAB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598D0-6E5C-445F-880F-ABE53826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D1185-A94E-4276-9F76-85968A5B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C821E-756D-4FCB-8E38-926D2BDE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4B8A-7830-4ECC-A5C4-FEAB4B9A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20803-4C64-45EE-8653-C9D24A17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AB8A5-6590-4C65-B89E-5B0CEFEA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7799B-EDEB-4A4B-A83A-05EA9AF8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BEC2B-D16B-4492-8711-EB29C0E9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2EFDF-BF28-46F0-8780-EABF2734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41C9E-6D22-435C-B3EC-78CC0914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D30D9-DAFD-450E-985C-C21AA530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F001D-7C32-48F8-9481-100710CF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6F85D-C113-4902-A290-AF220AA4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EC662-A7B9-49D0-8A0F-42D14165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692B-4D53-49E6-85A2-8B2FE130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47345-C023-4C80-84FD-85E7AFD3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D77E7-DFBE-4AC6-9307-118EF815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F3735-2930-47EC-B79A-242CF0EC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F6538-2FAD-485C-BA5A-DB5FD617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163C9-F4F2-4584-B302-6FC80300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59341-E1A4-4A21-87CB-C5075161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A68BA-4336-4BEB-9A2D-B855728F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34FB3-0BC1-4E1F-9796-7A7861C4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65C4C-F5BC-4AF9-981A-0EBE34A9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EECEC-F26F-48CF-8C7A-66BEC795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5839-7325-48D5-BD60-5F9E96F1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893B8-6956-46D7-BF7A-D2FDFBF0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E30F1-8E7E-47C6-9BB7-AEFC9E33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0E0F5-FF48-464B-BEE2-F10C52BC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0E3AD-6AF6-4EE6-B334-0F5BE13B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C7A37-7EF6-4B61-B40D-14F3C8B5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EB8269-331E-4664-AB2F-2BE08E72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0F877A-1606-4B53-A6E2-1A356038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AFCE6E-C092-42EC-9C65-7653E258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6B651-ED5D-4900-AB6B-74771D36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8D129-BC1D-4748-A272-93B77CEB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D620-7003-4976-A81A-476525EF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7167EB-BC40-4533-BE62-81836980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66B079-E6EA-4E6E-857E-5C831C59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0BBE66-1307-4A86-BCBA-8FAF7FD6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A801B2-178F-4073-93C0-A14A2AEA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A615D9-AB0E-4001-8F2A-3F085E39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006EA-879E-45CB-B1EA-6E3912F9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A0AD93-126F-4C19-AFD2-194AD0BE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BC2512-DAA8-4C4C-AAC7-D162E680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EDE5E6-2D09-4824-BBF5-3B3BFD28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785705-C1A3-49C5-9563-6E2792D2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6E76-F4C5-4F73-A4DF-B0C440D7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C41C50-2426-413C-BB51-5658F13E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1C7E05-A38F-4267-AF07-D551CBF6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2711EA-EB11-4F53-9384-85F83B78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BAD1EE-EBFE-4620-AD53-995B4AE4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30544A-D786-4DF5-B8A3-C38D439F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824CFA-7617-4B0E-8103-5BAE0C5A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D99455-1029-4ADF-AA8B-8F4A2421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9DED5B-DB4C-4E55-A106-5D2FB9D2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D21C01-6A96-4CD1-A653-1B69289B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9374C8-BF28-4BE3-B042-DA6DDD3B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C30D-2FFF-4E29-A3F1-6A810010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FF04A2-E491-48A1-8C24-6D66EF20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34FD07-25C6-4758-A91F-0A12FCAB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BFC6EA-9145-44AD-A1FF-585352A0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9490EE-0D71-4C03-8E10-BAA61D65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4A4C4E-1F17-4509-A3A4-0794708C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61219B-E724-4E98-9738-02C9184F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51341A-9718-4EF6-A020-8C49A3EF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B29840-E3DC-4D04-B4DE-D81C61E6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BFA18F-3A8D-4689-9492-EF7813D9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6C3EF4-2125-4B61-A7D7-C197DBCD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9672-A0D6-47E7-B43A-B0F13E36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EC47CF-846B-4B0A-9E1D-F1D78E03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056EFA-C477-4AA3-90A4-E69598BC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F7E3B8-24F6-4F63-A67C-BED50AA4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3B640B-23C4-47CF-BC5C-AC7005E3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583487-F48F-4820-8E4A-941DA943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257E8A-8C0A-4B4E-813B-80144ABB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1AA201-FEC8-4294-8E7E-A6EAD5A9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16B282-40FB-4828-98F4-DE252A83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626F73-1464-4D47-89FB-4FBA3FCF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C8EA8F-C95D-4999-8BF5-B506AE04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F44E-88CA-4AB2-8F00-8003C59B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8B2CCE-6F54-45C4-9282-132E4014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877BDD-559F-4C0F-B858-CDA33218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012056-6776-4F5D-9E3D-FEF857EE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B35F60-A4CE-4CE7-9D1B-B0111827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20BD32-604E-4152-944D-B18AF1E9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B1517B-CDF5-4BEB-A965-E5206007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79D546-D70A-44DB-BA98-64712D4C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EF9062-5B76-4BDA-883E-6AF0DC9C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EF67E2-41A8-4AE7-9E28-BF8DFDAF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3D8B7F-3566-4285-B5AF-D6544E16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6284-F36B-4032-AF18-478E6C96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36F9-03F0-4CCB-8BE9-0CA53B5C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9DE191-BD8D-437E-8B5E-1CC47586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35A304-2692-4766-A9B2-B4C1FAD6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152E2F-4CA6-4801-AC26-00BB68A1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C7575D-BCC3-419E-9E90-083437E8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93AA9D-F1E9-46D9-9E8D-C0BFA78B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8D2015-D00B-49D6-849F-3C4DB697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B78C34-284F-4B3D-9B87-95569D35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A4BF03-5616-4D30-8AF9-6C25C465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58D4C9-633C-4574-87A6-A714AFB4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E5F87A-9BA7-4B8A-A708-876D659B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9AE9-2143-4BC8-8F97-7407444A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FE7A1E-DF77-49B8-BB06-1DF4C4F4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39FA28-1224-436B-8AF3-3ABF03D1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0353D8-611E-49EF-B8F9-7A06CBD9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9C42FC-4A95-4618-A908-B4E85FCA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BBCDA0-D86A-4720-AF7F-2A99B0DF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138CF6-DF57-439A-A5B5-FD1D3436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5B08EE-3C49-4618-8D47-B4EF4B78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CA4F1C-ACAC-4269-96B3-B1158F51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870B14-3488-4424-8644-5A1C71C3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9030EF-EA93-4C0A-9F25-FE63BACC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7F60-D148-4659-9D97-78FB6267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347728-C8ED-4A29-8139-973CBBEF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34ADB9-0A16-4EC1-9E34-604A101D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2096DC-0E36-4525-B2FA-AAF194D6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33514A-5919-482F-96B6-B4D12E14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0F7257-C9EE-4534-B2D8-7CBC2C1F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7131AB-F573-4843-B374-C4ECD87F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955B95-9F6F-445B-A2AC-DEC82092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47C553-1559-4C6B-8CF7-B0297A16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A8642D-155C-4095-953B-357379BA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B6983D-EC23-4ED3-8509-5C65733E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0FD2-5FA4-4376-962D-699BD8FE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948E2C-CCA7-4520-A6B8-D3ED870E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E2DBB1-2834-4977-BE5D-2BF9CEFD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9EAF10-47DD-42CC-A066-519C744D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C31011-0691-47F2-BECF-8972F779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7BE3E7-2F50-46AE-812B-E43B6DB1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8F1566-8F2F-4C45-993C-FD4C4FC9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3CF8EC-1191-4BA0-9002-E14579EF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CB305E-9E44-4DBE-A232-476CA2D0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F9C891-4F7E-4D3B-9FFB-7FCDEBE4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2F0031-8E17-4610-BAF7-1E342C95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F05B-699A-41A0-A750-6450507A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1B2EEF-D841-4A70-9E89-77817E80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11DA31-F8B3-400F-9732-13E75C0A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A4F2BB-2A58-4003-855B-B400EC92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14373E-B603-4C9E-B959-19DBC564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1B320B-FC3C-4051-9E6C-D17AE1F1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EBFC97-2B7B-456D-84BE-CBA08169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13F5FC-2EE6-45B5-A918-3CF7D058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248D43-70D7-4126-8BC1-ABB1592F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89B192-966B-42C8-BEE3-5495AA65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40147A-F19F-446F-BEAE-667CD4CC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E03DC-8D7C-4E84-9E48-E1A73E23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F3B580-4455-4E03-857D-D45E102D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4973FA-7716-4482-9975-5E016643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57FE88-4641-48E8-A162-303D30DA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9695B-C36A-4217-9BD2-BA9C947F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6E75E-444A-4BC4-9184-6B467BD5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42178-A261-4F41-9D4B-131E9854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38B91-9BFD-45B7-A48D-F9F05932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8C4E-274A-45AB-82CB-9A2C8BBE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2AD10-251D-4A4D-A31D-6C3D2FEB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EF5D3-C940-4545-9B2C-B8EF300A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AA98B-EB65-4454-92F2-4595A942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A2868-B641-43B0-926E-B41DA7F8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C87CF-92DC-4D7C-91EF-E344FAF7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6E16B-502E-4340-B006-8737BFF7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0F861-0016-4ACE-BC36-7853934C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A8828-1C4A-4555-AF89-29E667FD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E4763-F698-4F0D-9383-A3CD6402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BF709-D0CE-48B2-AD43-2F337088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2D3D-EBE2-404F-B352-D35DB1CB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4A117-33D3-4A38-B8C7-283ED2BD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44BA0-C316-46F2-B8FC-0FD57D86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0E9A5-1E7A-47A3-9E38-F9DF62EC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CF73F-CE61-481A-B9AD-D9E386E9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6DD44-0F41-44B4-A945-E47FE49C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F7DF9-A645-4253-899E-E97090A4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90463-2058-4958-BF82-84158555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0DD81-EF0E-4996-BE73-88BD89F6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0F9D8-1543-4AE4-8C03-44497E4D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EE42B-BA67-4B44-96DF-FE7C8319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3DE-A893-4C21-867A-8CA2BE6E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781D0-82E9-47C9-8761-C919EAB0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42D2E-F92B-4495-943F-3196C2D2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C8D5A-13E7-4A48-894D-5209EE7D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DA753-6DFA-46F2-8A91-3E32E1F6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919B7-FCFE-4288-992F-9E3135FA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C7277-7EFA-4A40-812F-61B4B295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5E039-ADF5-40E8-9563-6D181B8E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5D8DC-B0BB-4D1F-A651-87CE6F0E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005B6-CDEC-4107-B62B-F29747BF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4603A-5CB0-484E-8ACD-6CE3F6B2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209-2CB1-4BEF-9C33-72CFBAE4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28D46-7AD6-4FCE-9D5E-6F55D166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90B65-18A6-4564-A95A-49EEC777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2E7DA-70AD-4601-99EB-9C72DB3C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D12AC-D179-45AF-A50C-63EE9A39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43C1D-62BB-49FC-BAC6-4B2B6CE4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688A2-9904-4BDA-BEF5-2B87F583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01222-F6B0-4168-A558-DB8859D4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78E59-9536-400A-9DA9-DC4B97D6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85ED5-CCA2-46A8-B280-EB7EB833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E5BEA-1C43-4055-B149-77B15EA2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D523-A30C-4316-8C5E-0EB690A4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5A20D-C9E8-496C-974B-2D665E48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1D0BE-9989-428C-BDCC-4AC3ED2F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08A3B-144C-4DE4-9AAA-76ED92E2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6DA3D-3866-4D58-94DD-BD2E437C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F5425-36FA-4897-AE7F-F3A15170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7BC27-D623-4B6C-BDC2-C9E4DC67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8EE33-9195-4BC5-B068-0D546AFB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C20AE-36AE-48BA-BEA6-F64291D5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FEFF2-56A4-4786-AE93-12AC9C12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778B7-CFAC-4BA1-B723-D8D873BC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CEE9-4252-448D-9382-19123DD1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A5600-EBBE-4C3B-B4D0-9498E29B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543E2-3A6F-4B7D-B2C9-D03A2936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84E45-79C7-4C09-9B83-483791BB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C15CA-CC0A-41DE-AB5D-77ADD634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D2E6F-54E4-4B21-99C1-02DBAC76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59DA8-4875-4173-9C2B-C1AB5479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F13DF-840B-4A86-86BC-A3DCBC3E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46A38-0E7D-4F50-8B44-68E926FF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25550-1F77-4F1B-9680-0D233A25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21AB0-D0F1-452E-9EE3-0F6B126D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396-1154-4BF5-AC79-1A450D62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7A064-3848-4852-99CC-351F8A5E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AD691-B94B-4D57-A3C4-4A43A1A9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3F792-EAB1-4FC6-8F70-6D5A9EF5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7D1FC-5D87-4B89-89D7-B74A1B46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6EB09-4759-4FAB-A2F0-94FE0F7E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A53C9-38C6-47A3-B975-5D767D4F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47D44-AAA7-466B-8879-293C20A5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8670C-3487-429D-B6B4-B26290CE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B1EF4-E76E-429D-B0DA-2CB39F19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5A1BC-DD5D-4049-98C8-3D65B415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055D-9A7F-4C9F-9871-FA40925D07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2252-1729-438F-91E4-B620FA20CC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BB58-76B9-457C-82D1-F168A2062F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A1B4-13F0-4734-8865-1A82073D83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0548-F834-4DB3-8285-F9590CCD6E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123F-B0E7-4216-9128-0A5B52885C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7ACE-D157-409A-BAA4-5DF2FF46F8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9184-3879-4AD5-B6E6-68F8B16BAB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D936-EB74-432C-AC71-6E0C39CEC7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F6A9-189D-426E-B8B1-18CB50F61C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C0F0-52CB-456B-8570-7F0E8DFAE3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4140-D662-4303-B87D-DF974257BE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A759-5F04-45AE-8301-AE211EDC72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D6B0-A1EB-407B-94B9-5D8D4A4268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8746-5AEB-4CD0-973A-59E4756409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1D07-25FF-4110-99D1-EFB25D3AC2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4014-87AC-4941-93EB-0B1094E66E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1746-5D51-448E-BD1B-E4273DD854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D38D-7F05-4D6A-A6FC-9F605E2766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7F16-BE97-4B74-908B-7BAF242A13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1DE5-FA82-4B03-AFB2-ED8600E986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6053-A799-4CC5-BD3D-5D0A6D2F27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1795-6095-49CD-BF14-3B9A21DC43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70C0-FA42-4C41-A2D6-DDEEAB2BE9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F318-3471-45EB-AD4E-6960050634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282F-7A0D-4450-875D-289FE75A1C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8F2E-8B8C-4FB8-9BB7-5DFCB02590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51F1-4D5D-4DEE-857A-D14E7B6467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3550-B92C-4770-8D3C-1D30D1F7D5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4733-1E54-4512-BAF5-2E04A1BD65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BF68-8531-47FE-B10B-86CDB7DF01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AFA9-F2D5-435A-B8AD-AD36DF7156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ACE3-E600-407A-9BE0-F58025CD54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50BA-4642-469E-B048-CCDA6D5C78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B3D6-98FA-4069-B30A-092A6277D6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29FD-C781-4DA1-AEEE-6E7ED11E7F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3AAD-2117-46C7-BD12-89B331180E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07FD-B52F-4291-A94A-E0D13BB7D9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9AE1-5579-4E69-94AB-74285CD4C8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57A8-59EC-4D6C-9D54-EADA330C37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23960" y="3152880"/>
            <a:ext cx="40960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47600" y="1085760"/>
            <a:ext cx="8848800" cy="46864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700360" y="2593800"/>
            <a:ext cx="244800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211640" y="2943360"/>
            <a:ext cx="244800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050920" y="3313080"/>
            <a:ext cx="244800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68360" y="4095720"/>
            <a:ext cx="244800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95280" y="4479840"/>
            <a:ext cx="2448000" cy="2574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68360" y="4807080"/>
            <a:ext cx="244800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395280" y="5157720"/>
            <a:ext cx="2448000" cy="2574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244800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438120" y="2157480"/>
            <a:ext cx="8267760" cy="2543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755640" y="3270240"/>
            <a:ext cx="237636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755640" y="3635280"/>
            <a:ext cx="2376360" cy="257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684360" y="3971880"/>
            <a:ext cx="2376360" cy="257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755640" y="4302000"/>
            <a:ext cx="237636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8373" descr=""/>
          <p:cNvPicPr/>
          <p:nvPr/>
        </p:nvPicPr>
        <p:blipFill>
          <a:blip r:embed="rId1"/>
          <a:stretch/>
        </p:blipFill>
        <p:spPr>
          <a:xfrm>
            <a:off x="128520" y="1157400"/>
            <a:ext cx="8886960" cy="45432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201600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324000" y="2070000"/>
            <a:ext cx="2016000" cy="257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324000" y="2411280"/>
            <a:ext cx="2016000" cy="2574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395280" y="2771640"/>
            <a:ext cx="2736720" cy="257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6"/>
          <a:stretch/>
        </p:blipFill>
        <p:spPr>
          <a:xfrm>
            <a:off x="395280" y="4897440"/>
            <a:ext cx="273672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7"/>
          <a:stretch/>
        </p:blipFill>
        <p:spPr>
          <a:xfrm>
            <a:off x="468360" y="5248440"/>
            <a:ext cx="345600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8"/>
          <a:stretch/>
        </p:blipFill>
        <p:spPr>
          <a:xfrm>
            <a:off x="8450280" y="242100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9"/>
          <a:stretch/>
        </p:blipFill>
        <p:spPr>
          <a:xfrm>
            <a:off x="8326440" y="285264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0"/>
          <a:stretch/>
        </p:blipFill>
        <p:spPr>
          <a:xfrm>
            <a:off x="8317080" y="324180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1"/>
          <a:stretch/>
        </p:blipFill>
        <p:spPr>
          <a:xfrm>
            <a:off x="8450280" y="365436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2"/>
          <a:stretch/>
        </p:blipFill>
        <p:spPr>
          <a:xfrm>
            <a:off x="8666280" y="407664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3"/>
          <a:stretch/>
        </p:blipFill>
        <p:spPr>
          <a:xfrm>
            <a:off x="8666280" y="449424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4"/>
          <a:stretch/>
        </p:blipFill>
        <p:spPr>
          <a:xfrm>
            <a:off x="8656560" y="493236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5"/>
          <a:stretch/>
        </p:blipFill>
        <p:spPr>
          <a:xfrm>
            <a:off x="8647200" y="5300640"/>
            <a:ext cx="2872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52:20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