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E28-13D6-4BB4-996E-659C8306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552-72FF-4533-8EA6-0C6C0F15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6AE57-A930-4C9D-BED1-710CE8F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E8732-4B82-487D-90F8-49D91291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1B529-7167-479E-9C05-9B2C1292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D8178-4B5C-4526-BD56-5BE0E4D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48E81-19DB-4C63-B615-984C5FC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70E76-2435-4491-AC1A-85A5CC7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11E7F-94A6-4453-B867-04B9917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E9107-8AD1-43EA-866D-34A85B70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C82A2-58BB-42AF-AD0E-947656B6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010A2-968D-4FD3-AF4E-7854DD03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0E9-23B3-423D-96BC-80B20535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D994B-6E1C-4B74-A8EE-F99E7684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51126-C92C-40AE-A897-27A8E36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3CF41-C5D7-4F5B-B183-E42897E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32028-FCBA-4D81-BA92-C2D5C5EC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26124-8060-450A-8CDB-AF45232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0BE6E-007D-42BB-BEB8-732B31F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F6B98-0766-49B2-A905-7DE49E2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0DA1D-D2CF-4586-BD1A-E00D1F3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2038B-B4EA-4953-A0F0-B01B9BA5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3FA11-B225-4218-8D5E-60859C55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F1D-9753-46FF-ADF3-433DFBA2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18A46-E633-4A63-AFA1-9A172D72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19A5D-03C7-4B60-876B-593E63DF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6A06-66A6-4569-AF29-EE0B63F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22501-27E8-42E5-BA45-0A2021CC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B63A3-67B5-430A-807C-757FFA70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A40CA-A3D5-4684-95B5-71A36B88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123C-5E4B-42B5-8D7F-04D8B62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BC39-D61B-4758-ABD5-DBE672D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BD23-DA84-4E06-94EF-BE07BD4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E35D9-FB3A-4FAE-8EA9-4291A34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2742-9DFD-48D8-9866-60D15DEA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07438-E0EA-4770-B6A9-936F6EB0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9A5B-CFF7-4059-99B6-173BBCD5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1CF5-7CB4-4E9C-AFC6-407BCA57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D12FA-5BCF-481D-90D8-91F4B141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BB0FF-E89E-4DB6-A0D6-87E1F882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2AB73-5310-4646-BC90-D3038FDC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DA3E1-0B8A-4A13-9707-7B92C47B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C5877-4315-40F3-B64C-5CBB461E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8AE52-3976-4921-8C25-BE192D4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B04CA-9549-4575-8B35-B754D4E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43D0-0153-4E3D-BAB6-9B858359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FB80C-EB5F-42F6-9410-F00DD3C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149C3-AAB9-4160-B3F4-5EF09D1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36330-90E3-4437-9DBA-B415D411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A5727-155D-4CC0-93ED-FEE597F9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E7E20-71A4-4A2E-BF9E-49E98BAF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25F7D-0607-4C16-8713-D84D0EC6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B62A0-38C0-4FE3-8E4B-01016AC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A2CEF-8B53-4018-98A0-13BE388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53198-4AF7-427C-9C33-A1955221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EF7C9-9BA9-4808-B2D9-5F68D4A8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049F-8B21-42E8-A025-6C230811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51DAF-CF59-454D-BA16-21DBFE3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0327D-B0BC-4B4C-8D43-DE9F0B0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20D41-58CD-4105-A759-16CED1F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30F41-37A3-42C8-8E83-C62A8CC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E9015-7B31-4F22-A1EE-C583F2E9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5D8F1-02E4-4BC1-B189-7E850558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2613D-8D23-4BF0-8EA4-132D1534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EADAB-B3B8-49A9-94F0-28058BB5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C6DF2-E7F3-4B75-B420-87600E5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F1902-8141-4146-BE00-58BD5A73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1640-C4AB-4A29-8C70-0A3503A6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CD693-2581-4DB1-A33B-8B50E76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A5455-030A-4CC8-8278-B3157AB0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7EC3D-A51F-438E-AF69-BB1F01A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7100A-9D94-4C6D-9A78-80AAB33D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0301A-2903-43A8-99E8-C5BE75E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3EEC4-8ECE-486C-A03C-37FC3CB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0E8FA-C53F-4133-8325-A3F1221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A6D4F-3674-4ABF-9EB0-3ACB7CE7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E4C81-6464-42B4-8E29-B0A4E721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F4819-5089-4F8C-938A-113748F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701-E337-43AB-91C0-A05C2B0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19782-1953-4F88-82A3-DA66FB53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21790-571C-4D76-91E1-8C7ECF20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667B1-99DC-4241-928E-00B4BA48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5BA2E-6C05-40B2-89AD-4A48851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01FE6-04E6-448B-8901-BC7464B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2E709-AEC1-4F02-8B25-670FCA1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D3F83-461B-4913-B093-F27CF0A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A88D7-03A1-4BCF-998A-D2308930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A4C51-5506-4A0D-94C3-80228157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96137-5736-4817-8CCA-4B211131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E3C-8660-4A8D-ADF4-B9133A8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E59B0-2910-4466-951D-F22DB3D4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790EB-F2E2-4E53-A754-F0579811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A369C-24FA-424A-B587-07EFEB77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BC427-64E2-491F-835D-4E9C5FFD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2A3D3-F499-4867-9B73-0B484E26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0E520-C069-4FF6-BC09-5A21A569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AB4B0-2DCA-4FFE-8C2C-914E9C1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D9A3F-0E12-4FD1-B812-60EE3BC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E9973-4C8F-4E05-BF17-8286DC9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24196-4844-46D7-A769-7FECF1D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B0D2-D02C-4785-BA58-7774D7C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83DEA-3FB6-4996-8B00-F8572816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6A582-CF48-467A-92B6-08930AE2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D4D81-EEA1-4E3D-8434-93048937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7F7EA-747B-4FF3-B2DB-97BE2EBC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830F8-48BB-43C7-BD6C-7C9CEACC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DA148-C50F-42DC-8632-53098B71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0FA53-7203-4E22-80DB-E893A09D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A062F-0EFF-4A2B-980A-C0B80E2A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4E495-4592-4BF1-926A-A4BCD6C3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A16C3-9FDF-484C-A1F2-A634D6B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933-8EE6-473A-A20E-A896360E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9D66-E326-4BEE-84CC-D1F95DD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AE05D-EB72-46C5-BEE5-3A0C2316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28DDF-4718-40D3-B1AA-36D0AB3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4438C-F3FC-4039-BBB8-CC8DAAD9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9E8AE-D0E5-4589-8369-1533F73A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BC2C7-EFA1-4D76-8639-44D960E9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C6191-6F58-4668-B1CB-41F2ACA9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79444-38D4-44D9-8792-8F0E2A7F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A5F41-3973-40CC-B6F8-6F2522AD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86E65B-5F05-4CE3-8F9F-97EDFD6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CA49B-8B45-4A83-8259-667B098C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B52-514E-48C4-A28A-176348B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AC613-4D6C-413B-A810-F909F16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17DBB-3246-4E91-B8FC-87AF14C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22E8F-4E26-4ABC-AFB4-8626CB6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10884-5441-4412-A407-098285F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84617-8EBA-4AE5-B476-4C99E7A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1D033-4CE0-422D-9FB3-B798C317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D9AA6-5E55-42B0-9593-DFA091C4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8C80F-BD0A-48BA-A1B6-A1A017EB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E6D45-2A3C-4CED-997E-BCE89ABF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1624D-615B-44A4-8695-DA773B6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C771-10EF-4E6D-979E-40F2CA0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5ABFD-48CC-48BB-81C6-44F8D745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C43CE-7007-4A1C-932B-9CE17B1F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32F7B-A74B-4C2C-9C41-E49D57D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A587DC-C0FB-480E-9DF9-429F887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D10B2-76BB-49FB-9725-9AEF80CA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BB2E5-ED05-4F00-BBF2-2D8E6056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D182D-F82A-488E-844B-69F8FAE1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69512-D765-44E5-9D82-9528AF25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C3754-00D2-4096-BA1A-06B6F917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1547E-9FEA-43F6-BC90-4C1068FA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5DD-BA04-44A6-BC71-E8494A34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367F5-1C18-4BE1-81A1-9E4E2282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C6274-6493-4847-B2DF-1A5DDA86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BB47B-B085-459D-AF69-376C8F74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4D8BFE-7B85-4AAF-AE82-47F465A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B23A2-C74F-4B62-81DA-AF02CAA3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FB141-7B25-4C3C-808B-8512F48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23420-A5C4-4EF5-A4A4-4340AD8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A723D-558A-459B-BFA6-B76110B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A837E-D522-4EB9-9D61-BE88CDA6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BABFB-0FA5-49C6-8AC9-D5497BBA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2A46-0B09-4C90-94DD-43BC95FF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13625-7951-4492-BE50-7D60A9F5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A1BEF-0989-4864-88AB-0AE8BD3B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EEB5A-64A6-4D30-B78B-0A79BE3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E97EC-2C24-494B-827A-D4AB782E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3256D-A105-4D12-85BB-A155A6B1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1828C-14CC-41E5-9608-2F15192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7715D2-6931-4C82-9D5A-7B4BFB5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38262-E7D3-4882-9787-ED64AF8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8067E-8E8B-4999-A2EE-BF735EB2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EFC17-D267-43D8-A28B-2190230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E9D8-FF64-4986-897D-AA8D29FF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6AF7C-B536-43FE-93BA-AE1DA78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12450-1D80-492D-B41C-2879B6D5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860A6-ACEE-484C-9311-48FB9CF1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78B5-E253-42ED-898C-89EA48A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B489-7F4A-4E80-8EFB-BFF4D6FE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1BA5-8E5D-438C-9C48-6E62C9C2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C541-7ACD-469D-B0E3-F2F87279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26F-7940-49DF-AB76-133D1D8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DA12-C698-4D4F-83DB-6A57FF29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2AB0-942D-48CA-8D5D-C0BE563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2411-C8C0-40B8-8C86-296AB0C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9471-E45C-4293-B0E9-24CE5D9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6314-82B5-46CC-8640-7304241E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C4C0-B7E6-4B67-8773-346807F4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E900-FE0D-4B83-9905-7C52BE97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60267-FA26-47E4-824B-85D2053F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6059-C26C-4CCE-9A08-ADFDE5C9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6CCF-D3A9-4B6A-8D37-44465445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D66-3C40-4B8F-B7EB-23B94320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F2E1-6146-4DD6-8D1A-BDE643C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26B0-9FC0-4A8C-AC23-98A008EB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2DDE-10BC-4DC4-9B4B-CCE442F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34B3-9879-42B2-AF25-37B5D98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A6AB-6606-4F43-94DF-2BBEE4C2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5991-66D9-4188-BB98-D9485A6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60B84-511B-4F1C-B5CC-C97DC38A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A46A-C202-4486-87D8-93EB6974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A65A-F0AC-43D2-911F-26B5C661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4C7E9-75E9-40A0-9489-EFEA7AF0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90B-8919-4E6C-B89F-10E1E982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3CEB-CC74-4A7E-81BE-AD16ABF8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3FD9-7123-4995-A4C5-604BB2C7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FAD5-2FE3-41E0-AF01-1EE2401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58EE-0DED-4E18-9815-3E80EE2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8F83-D6DD-4FE4-BEFA-83263A7C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A4FCA-95F5-484D-A6CD-51576438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E964-B2EF-4499-BFC9-471AFFF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CAF5-8CB9-4DA7-9E52-27AD2F1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5EF3-E3BD-4A43-867F-563EAA8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5FEC-F632-4842-97B7-1F3FE2D3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F33-C22E-45D9-BE9B-61411131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47E9-1EE9-4F23-B24E-2C7DE558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182D-E7FD-4DBF-96D2-7CE230DA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EAB4-1C87-4C6C-815A-332EABA6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DDA6-D57B-4964-A77B-868DE1D9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52992-3FE2-4CEF-BE51-FB4156F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3F80-2496-41CA-87A8-8D2CC6DD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C668-3E9E-4CE4-A16E-9A276B57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C489F-C80F-4C7D-A649-99F1F3A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45F67-CA19-471B-97AF-B1451AA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BB7E-0288-449E-9A00-E0CB2DB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1BA-235C-4344-82B7-44DAC26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5165-E454-4D8B-A9AE-7F19731A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F367F-6499-44C7-BBF9-7AF8C1EC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4D8C-1954-4EAF-ABB7-BEF421BC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323A-A6F4-4963-9966-15A659C4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6F307-14B5-4879-8D63-0FAB3BD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EACA-BBEA-49EC-8B1E-8D87761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BE395-E028-4E6F-BFCC-842B4DB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2341-E57E-4CE0-A21A-67179AB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E83B-8F32-4942-8DC8-122A7DF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62137-8EF1-4591-804A-2BBC0EF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77D-1598-4828-8010-F2373C8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2D10-8B04-4CAD-9BDD-48EED9B0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E4AC-AB39-4B3F-9FA1-8C3BD5E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6E2CF-0879-4259-BD33-49E0A262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5B9B-9301-4A9F-B3BD-7D86F127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1FD0-56CC-46C9-B455-942450EE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86D6-3B7B-4BC6-BCF4-F00FE66E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B940-6E05-4328-981E-662C122F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A13C-B508-4F05-8C82-CA39922E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1D3F-57FE-486F-857F-9B2033B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5E8F-D582-4081-87F9-7402F1E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08C-FDE7-4A77-AFD0-62F6A53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F3CF9-C226-45B6-87F0-299A26B5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3673-6203-4EEB-A3B5-915C8B7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769B-0F30-4E76-933F-800DD03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307F0-5170-4F93-B720-62BFBAA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D1F14-B710-44F5-A8B0-F9244BE2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9A6C-7B7F-4766-99EF-9CADD814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CA10F-DDD4-4B79-BC12-9FFD76D4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1BBAE-9E65-4769-9A4D-B5F59872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B0346-DB71-463B-B32D-BE823D6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C3C3-1A9C-427C-B64F-E0E9F00F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158-4376-4128-B968-263BEFDF7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C47-43A6-4924-A69A-8DD0EEA13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9D0-D950-4FC1-B6DE-F032571BE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057-6177-4189-B1CF-46764BB49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FCFD-BDB4-47C9-85BE-BA2FDC1A08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8E3D-F073-477A-8FB2-0C94B2C5F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983-8CBF-4DFD-A28D-05C88B1A4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2CA-EC13-4EAF-A288-CA209484E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0671-FDCF-4BA8-81C7-36B5F1DE4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FAE5-3834-444E-A470-A9F38DF0A6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4E2D-9347-41CF-B020-3706871BC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1A6-EE20-4A10-833B-5BCEF683E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719-A96C-4684-A4D4-56B1B243B5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F77-DBCD-4D49-B0E8-DE87CDE1D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204-9D24-4D7C-BBC7-19E46C9ED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EDFB-5955-451B-9BAD-C61371058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FA55-33AA-4CFB-BE81-72E5CB5D9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A18-39CA-48F4-AAC7-9146E1CCB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B21-5D9F-49B5-82F8-48FA69F0B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F708-376C-4F26-9068-457458343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5A6B-CC08-432B-863B-915400987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0FC-6685-4E44-9D46-223A561A9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590-787A-422A-B93B-8A3C8022D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BE5D-0ADA-4C11-BA18-5817C5EFC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9B6-AAFE-4281-9FF8-47732A2D4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F4F-2C18-44F6-BE23-1525657DE1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C13-8777-40A4-BED3-8736DCEF4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0D9-B8D6-4F81-99B4-82001A0D25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808A-95CE-48A0-AA00-4DDE2465E9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785D-06D3-455A-865B-DFFA1E96AB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0901-3907-4864-A049-B49A121B8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3CF7-0789-4967-8D89-37D3A6821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B4C-B69E-4106-BAEA-ED00F5D64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9D8A-56F6-4BCD-A4DE-3C15B5F4C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50F-39F2-41E8-BAF4-D395B51BE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DE32-B123-4570-9EAE-7469363A7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5960-E8AA-4D07-9C55-77EC85E9A9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2AF5-1254-47B6-9058-9450BC873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2AB-E759-469C-8739-B9E5AF9BB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9430-7A64-4AE8-9D92-907224C9D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71920" y="3200400"/>
            <a:ext cx="3800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7960" y="723960"/>
            <a:ext cx="8668080" cy="5410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61920" y="217188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52560" y="251136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814480" y="215280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805120" y="249228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797360" y="216216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250200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29360" y="216216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020000" y="250200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125360" y="402588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116000" y="436572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135080" y="538488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125360" y="5724360"/>
            <a:ext cx="87336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124160" y="402588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114800" y="436572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130640" y="538488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121280" y="572436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093080" y="4025880"/>
            <a:ext cx="87300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083360" y="4365720"/>
            <a:ext cx="873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093080" y="5359320"/>
            <a:ext cx="87300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083360" y="5699160"/>
            <a:ext cx="873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95400" y="1104840"/>
            <a:ext cx="8953200" cy="4648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332000" y="24591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4356000" y="206064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4284720" y="2411280"/>
            <a:ext cx="187164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324000" y="5003640"/>
            <a:ext cx="244764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324000" y="5319720"/>
            <a:ext cx="5760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276120" y="2533680"/>
            <a:ext cx="8591760" cy="179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84360" y="3962520"/>
            <a:ext cx="237492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3564000" y="3962520"/>
            <a:ext cx="237492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415200" y="3962520"/>
            <a:ext cx="2374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7:3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