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D561-6B4B-45CC-A954-AD3C2374D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0DC8-BD17-47B0-BC10-585C89B0A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80EF1E-1DE2-4D70-9D3F-EBF20DB06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F2072D-94F3-4D62-ACB0-5BDD19C69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F41E33-65E3-427D-9F90-F01B1332A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D18B9B-4DA5-4882-8CA4-31FBEDE1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55B81B-0475-4639-BCC6-DB69B10F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ACC493-1B97-4384-B2E7-3C7A1B8D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5E3ABA-A48E-4255-83F9-E0D36CEC6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A03EFD-859A-40A6-920B-F62421C8C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A4C293-E86A-4272-A74E-DACEA7474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2D40C2-40D2-4D75-8E63-1BBD929C4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3B1C-865C-46AC-B66F-493492730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EEA064-50D9-4482-A8B9-B2211FADF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1728D8-81D4-4DD1-88B5-53BEFBDFF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11138B-6AEA-4F3A-8AB7-23C9C738F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EA6F00-60CB-4A55-B48D-5C7D121A6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0AAF54-7B8F-4EC1-83C0-1DAD2D90F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0426D6-C1AC-430A-84BA-096B2402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CAF713-049A-4A0B-9656-3ACC42F8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AE3A0E-721C-4DFA-ACDD-108680B2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525B12-4AEB-43F1-B522-A390BE53F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2947D0-14E4-4534-BCDC-47DC40C36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D873-C74B-4A9F-9CBC-565A04CC5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CE087F-7197-43D3-BF3E-273906D16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CEBBF5-C96D-4C35-8B5D-677E9E46C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1BCB24-3891-4A9B-B021-1BABCC6BD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0DB9F4-E5B4-4F09-9D85-25753EBCD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15BE7F-A44E-4426-9D5E-EE6B0124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2B1FB9-284E-4DAC-80D2-5CF8631F6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E3C66C-C537-4DB2-B764-ED3ACF453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9E003D-82FB-4939-B59A-6D080422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047130-E108-480D-AF58-EF8FDB41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272FBC-12EB-4355-8900-52D3C2CE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6746D-25E2-43A3-A0E4-8F7F98A60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D4F3FD-E2EE-4890-944A-B3FB2C9CE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B73CA5-46EC-4C45-A925-F395D7E63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7A7861-E950-4096-8F03-75DBFCFF5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B4B07D-44E8-4B78-9CA9-F29ABD546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8F0DA2-9958-4DA8-A038-4F60A253F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F6BD81-81CB-4659-85D4-1DA45FC83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145B71-AC5A-4D2E-95D4-CC1BDA46B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89A29E-8122-4294-8A6E-20900454D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BA4386-57BF-4BD7-A22B-6364B1628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E79537-F972-4266-B094-044F017E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A5838-DBEF-4219-A65D-D3EC34866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919AA4-7DB0-4293-B7D0-4C17D6AA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D76448-86B1-4D84-8EA0-1BBBAD41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785BFD-DDED-494F-91CD-48D7957E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863E85-3F40-41D4-BA80-65DFD33AA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6CBED1-75B9-4D90-B075-706F3E468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1C5946-22C8-40EB-95B3-34CEA6D94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03BF44-24B7-4613-B2D2-CD0A5E0AE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EF8318-53B3-4ED6-B000-580FB7880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3FB959-52DC-486E-AF6E-2B364EA7C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ADA828-B242-4EB2-A5A9-D1459FDD9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B7A85-C4ED-47D1-9D55-718E7D3F6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1ABED9-D1D0-4736-A545-51869F9BE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353F0A-CD3F-4151-9479-67325586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D7FB0D-3350-404C-A765-6335CA25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A53D76-0DCE-4739-A1D7-4BB6E825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648FA8-566E-44C5-BFD2-B547F20B4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2120D0-5CCD-4452-902D-0B1E9B10E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B95F14-9E05-4881-BE2C-3DE8ED970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D7E5B7-34CB-488C-B912-2FC2B0BD4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08C1C7-4F51-4FE4-8C24-89C992436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15A848-904F-42E7-9075-821204DAE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C7DBA-9010-4F09-8857-92B2DC662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4A4D41-34FF-4221-BFD3-8CC2B77EE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B55C7C-4FC0-4C44-98BA-20CA9B59E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7D0BB3-5615-472C-A22F-D8C0D6C8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0A87FA-081C-4AE2-AC32-9F782C2E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63674C-0FE0-4230-AA5A-4568B3A5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53C4C8-BB33-4447-B9D1-B2F6FCFD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4E71AE-13F0-4F46-9A56-39715C678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E0A516-A93E-4511-A3B3-6B6034373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3F725B-1F18-4D83-8065-A96A6C6D4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46D95B-0DDF-47DC-A99B-886C6A009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8EF82-DAC4-4AF4-BDF9-5BCCA07DB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65A350-1351-41D4-A3F4-D9C65BB8E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FA2ABB-AEDC-466E-83FE-F62CF2DD8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BDC2F5-09DE-4AE4-BB30-09C8C2C4E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C4AE57-7D9F-4368-AFA8-636E32033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9D5FA0-91EE-43CB-905E-45A39C889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C8DB96-85E9-40EB-B496-8217F877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292157-0481-43E6-8657-183EAC25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FACADC-B0AE-43FA-98F0-8FD1205B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A93C7B-E8DE-4EB2-83DC-2FB9901A3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45DE40-E6F2-4046-8696-507797321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52A0D-C0D4-4B08-81C9-F41884172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02FE73-DD73-4209-AAC3-A064C3D2F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18ECE8-9F4C-4653-ABEA-0B143EA15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4D9BC3-B891-4EB6-98BF-8A7AFC8CF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24D7C8-9B03-4983-9935-757999EF4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EF18E7-0A1B-4824-9A9E-1A7D227F6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31986B-170A-4604-90BC-D7605BBB5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55B080-86A0-4353-A8AE-ADA49C66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0FE88D-4253-4FA6-8BD4-31B24640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2E8CA2-180F-4015-98CF-F228B7B5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8A7689-1248-4DEA-93D3-8505689D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EBC33-5781-4DDA-8D8C-9E97A637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A3220C-B59A-483A-BAE5-AD2FF9564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1E6DF4-FE92-4068-BD34-ED095DD2A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F4665F-D576-4A97-B2AE-3F4D56094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9C4B8F-9863-491B-A582-AF2149EB9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76B991-D0C8-4AD7-976A-FFB919DC6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8BEF3D-7179-430C-B8F6-0617AC70F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AFFCA7-CCCF-4B2F-A250-C9970F41C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963129-FD31-4018-B2CB-EE40F4B23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8164DD-3C83-4873-A9CE-DB2DC698B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E6A8FA-DF26-4F35-A802-346CE1CA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9515-115F-4B67-A7B7-722766C58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8F563-2346-43C2-93A3-DEFED7E7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A8E52C-4D70-44E9-89CB-004447ED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3C5254-8446-42E6-B485-EE7D52E3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9529C5-6D6F-458E-AA45-959E9A52F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E3EEE7-F42F-4C85-8D99-BEE4A25C2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176878-BEC6-4025-B602-03BC6650D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100264-AF32-4839-BB78-AC1462B25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74DDD9-D5B6-453A-B79B-E3B15C0BF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4EA0C0-A05F-44ED-A0FB-CEA635BD1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F44DA1-596E-4D3F-9DD6-CF0B138C1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556F4A-37BC-405E-9124-85F0DA6BA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D87B6-8295-45A6-BDD4-F28F2FC3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8CFC49-9DCB-4F13-B7A4-702E5FE05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544258-5855-473F-A370-86B935E1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89EE6B-E77F-4320-9A41-7AD0C0E9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980A87-090B-43EC-8416-17DB854F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EF0878-B89A-4D82-AC42-CACA80F12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5F892A-9632-4D46-BC9D-94E9A2E47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54444D-FA42-4C6A-A5B0-C9BBDF53C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6BF9F6-9926-485E-8BD9-D5A07FEBA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BED86B-2CCB-4263-9FFB-1486842DB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2B34CB-3EA1-4818-BD95-272D8E67D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C38DF-AC93-4C75-9BB4-56E1CF3D0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C99B84-7AB2-4066-8542-7BD930BF9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6EA0E0-D70E-4FAB-8FA3-B97EDAF13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00161A-1FCD-4DF6-B908-707D4D168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C5A7C5-38DD-49EE-BE8A-9EFAC8A3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7D7FD7-01B5-4D80-A5CF-0D48C844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4930E9-7872-44A3-9439-97F9D168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826DDA-1720-437A-9AAA-69176F23B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16851F-7873-4A53-B881-EAB54931A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96EB22-0F8D-453E-BBC0-B0F54055C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7BBC78-76EC-4955-A89E-EDDFADFC8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E7232-04DE-4BAD-B423-79A709204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8AD0A5-ABB2-4A3F-92B1-48758E1DD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9177D1-1B8E-4688-BCCD-5FCD73E39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CFDA89-87C2-49FB-9DA4-7E68AED8D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FA892D-0AB5-4E98-A9D4-4273A69CE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7A452A-667D-4771-AA08-4AAB92048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2F462D-E87C-43A6-8DC2-FE461D3D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94BBE8-964C-4495-9FD5-E9636658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AEA279-8170-4526-B39E-D26524A7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679B8B-1222-495C-8B5D-1B5D4F8D5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B9DC89-32E0-4CC3-9820-D119C0C76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89516-4789-4DE1-AE14-AC8DD861C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1A4ED2-29FC-499C-8D79-FC58BB2B3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2ACF6B-D013-4D58-AC22-10762F0BB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11416D-521C-441F-A721-8492945CE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2C3745-A7BB-41CA-BC68-C2C6BAEEB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98AD4C-4F33-4827-8168-2F4789067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A0A82E-8422-4ED9-BDD0-68A89E988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68E8D0-3D83-41FE-8C4F-5E2BB76CD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F6D524-0BD4-4B03-B35E-0A2ED462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BA39CE-90DE-4FE6-9672-1BEC149E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6CAE0D-4187-4E57-97ED-ACDDA0B3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5D756-3FE3-403C-BE48-88099EF8B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9A77C5-E4DD-4082-B113-71F7582A7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813D8A-52B2-415B-8861-E4561399C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953AF6-67DC-41D1-92F4-3B656F872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282EA-B135-4584-9BCB-377850EC1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242DE-C87F-41DF-BB49-D4BA6007F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118CC-1BFC-4FF3-8096-C7FDB2461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519BB-78D4-44B5-A987-17D1DCF5B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3BD0-7900-48EA-B751-6F54A9F55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A3E82-CB91-4A71-AE7A-7F7E3E6CA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DC5A7-8C93-48AC-B02E-2B538581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EED53-5DEF-44E7-80C1-DFFB814B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E2698-E603-4367-8CD4-03CDA378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4936B-FEBB-467E-8E48-B0B818350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A6F98-A7F8-4D5A-8395-1EF7B89DB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42D5D-8A96-4FF0-B459-466F5A539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2586F-BEA5-4321-8BA2-6CB89BF7F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1C666-3D28-47F3-9B90-33F731F0A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5F5A0-E38D-4317-B3F4-FDA259B42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09B0-E6C8-4C84-A11C-85AA79585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A2373-40EC-49F4-89F2-336638690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28CBD-619C-421B-8DBC-CB7ECCF05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349D8-DE83-4306-B78C-607C6E33E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41360-A0A0-4C01-882C-E1FCE68C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C93B1-FF02-42AE-AC6E-EA93DDF4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B8E87-5E8B-4037-B60E-5B4A08DA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A3516-D2BA-4E77-BF08-0BAC26C9F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E6F4C-B1D3-4DA2-A64A-ED919B18E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00ED3-C8C7-4314-8A95-28045A23D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74BA3-4593-4258-9958-87A8B0C54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1016-FBF9-40FB-87A7-95DDD222B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74DBA-4C26-4508-A85D-9517220F7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2103D-C03B-412A-BF37-B91D72D86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66D81-E109-4A6A-B9EE-DAB5BF192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95D90-E367-4709-BC2E-A7EE11B7F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99C3C-84E2-414F-A937-9C4EADA5C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BC2FA-3B90-48DE-BA6E-CAFCD0E1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3474C-69CE-40B9-9EF2-6D04E41F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DAB92-F4A6-4BFD-9D6F-2ABE2967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00CA3-778B-44EF-83B9-8E4AC0870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28853-2851-493B-9713-485DA5111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8E34-24A6-4FD1-B27F-BA2D2DD6F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F9B32-79E6-4CFC-B11B-2E1DA4B2D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217CF-B6C0-48BD-85AB-DC74B76BD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24F6B-A45D-4147-AD07-D42BFEA51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3B815-235F-46E2-9249-7D96A9E6F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D0B50-CFE0-4805-BE6D-4ADD49F99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444CCE-C015-4938-96B9-CCD9CA6D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44DC6B-CB62-4424-9CB7-18D833532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BC08F7-ACDE-499D-BDF7-B5EDE6DF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0BDCE-FDAA-4A7F-A94A-C3EECB1B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6270B-901F-4AB3-AF56-05EDB43D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5432-E2A0-47A3-B1D0-741D724D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13381-4EF4-44EE-B2B8-102B90839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C5C0F-66A2-403F-8E82-62F2F35E0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33E0E-A34E-4F6F-BEA5-A09066EE1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D4C4C-4C86-447E-914E-CEC7C5463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8B041-80A7-4DF1-A53B-F4623EAF3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E5C60-DFBE-4FD8-9437-1E9C098D8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463E1E-966E-4428-93F0-C86BDD2A9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62CC8-0A10-490B-8C92-627B9BD8B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ED0503-FD31-4A06-A309-CF5D3AA9C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479BBE-C428-4F29-99D5-A4809130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4CAD-4244-4F49-A91F-ABA744358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250C77-916E-4532-9650-33FD586A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461938-8B2D-4FE2-9254-E2900EF5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12F65-E5C6-40FB-9B57-241FEB0DB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D5ADC-72DC-467B-A04E-63D4E2DCD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7F0AAE-DFF7-44B0-807C-554F0B89C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B4905-EDD4-4EAB-AF3A-CA056A5AB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74B247-FF51-4B90-9BEF-29356A16C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15705C-0416-400E-9842-FEC2A1C95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9B32F3-D7CE-47E6-90F2-8C99951EA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8836BD-3EC8-4DD8-B186-18FF0FD21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C64C-3D07-4FCA-9152-91BFC879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DB09B2-94DD-4697-A87B-A7A94A80A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D67754-E06C-4BA4-9CDE-51A2ADF6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3D64A2-83AF-479D-8A52-A1CB80F8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23839-F5F2-4E60-8143-3CE1FBFC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F4E530-E33D-4D46-8AA8-5BB071748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A71CA-1627-48CE-AF44-808EA9590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07A977-FC91-4583-9D27-0C5B45DA2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9F4407-FDEE-4059-86EB-0D9A49B68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E6FB73-076C-4C8A-8E09-8AE757C07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01E1B2-82E6-4745-9984-5DC00FFE7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A401C-D384-49E4-B846-341C766AF03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41AB9-0935-479F-ADA4-0D7BEAD599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5D25B-8769-4B84-B93E-829EEC81A9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9FA8C-45AB-45B2-A582-6497703EA1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D1A24-B13F-416E-9149-122A5F4AFD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3E616-D577-480D-8B71-6C86E8BD42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A4C2E-BDDE-4D29-AAEA-83631236D8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FD747-4D62-4E3A-B48E-1926E16118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00604-DA37-4EEB-AE52-6B07B7DD4F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B0FA7-E291-4B49-9846-576349F943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EF7B2-8144-45FB-A6D1-5F09B7262F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DB4B-F5C1-402B-AACB-FFE213E6FC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2054-B264-403C-8258-D564DD7A0E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32FF0-3FF0-433A-A9BE-68D3E079B8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051DC-4B9B-4C74-984F-A765BA2336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717FB-030B-4DBE-B078-CAE61B957E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D4C94-C02C-4067-9DF9-16E6745F25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2A4E8-7552-41C9-B215-15BE856E29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89BDC-5CB3-430A-9770-F2E020EA7D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9FB69-BF14-4AEB-8046-3ECAE50C69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BF97-AC06-41AF-A0D1-336BD262EA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8C918-7560-4549-B2AD-607A2D5EBB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BD62D-5BC1-4B48-AEC0-4C0698974C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95831-F41A-423D-A44D-41994372FD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BF74E-B010-4E3C-B7CF-CC0E4F77AB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A1790-9832-4F93-AED4-5C6A78C2F7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571B1-EEAA-4A36-B20F-6C4981E4B7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CA053-B8F9-41C6-8BDF-3BF9C0BF4A3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3FC0D-6BC1-4F7D-BC63-4AE056B72D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35EF5-41C9-4328-B83A-3094A480D5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1A895-3F32-4378-91D2-3C595F5481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29671-4727-4B49-87C0-6FC9DA8E71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CEBD4-2B7E-442B-B018-A531BED67B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C0B79-11B6-4DA7-A74E-2FFDF61659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8DDC2-4373-4B5D-B2B5-9726DCD732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94F07-F971-4131-A838-9CC6B24446E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9C24B-0F78-4EB3-B4D6-F68866B32B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E64DB-6D92-4867-8889-D631DD1EC6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5B2AE-B113-411D-89E7-A0A63AA903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8EC4D-C03E-4C36-9DF3-3461F584A4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1.png"/><Relationship Id="rId18" Type="http://schemas.openxmlformats.org/officeDocument/2006/relationships/image" Target="../media/image10.png"/><Relationship Id="rId19" Type="http://schemas.openxmlformats.org/officeDocument/2006/relationships/image" Target="../media/image11.png"/><Relationship Id="rId20" Type="http://schemas.openxmlformats.org/officeDocument/2006/relationships/image" Target="../media/image10.png"/><Relationship Id="rId21" Type="http://schemas.openxmlformats.org/officeDocument/2006/relationships/image" Target="../media/image11.png"/><Relationship Id="rId22" Type="http://schemas.openxmlformats.org/officeDocument/2006/relationships/image" Target="../media/image10.png"/><Relationship Id="rId2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433600" y="3176640"/>
            <a:ext cx="427680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152280" y="758880"/>
            <a:ext cx="8839440" cy="583884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7524720" y="1960560"/>
            <a:ext cx="863640" cy="2570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1692360" y="2349360"/>
            <a:ext cx="863640" cy="25740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3525840" y="2736720"/>
            <a:ext cx="460440" cy="25740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5138640" y="2755800"/>
            <a:ext cx="460440" cy="25740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7020000" y="2736720"/>
            <a:ext cx="460440" cy="25740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3625920" y="3141720"/>
            <a:ext cx="460440" cy="2570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5283360" y="3141720"/>
            <a:ext cx="460080" cy="2570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7155000" y="3141720"/>
            <a:ext cx="460080" cy="2570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2843280" y="4264200"/>
            <a:ext cx="865080" cy="10152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1"/>
          <a:stretch/>
        </p:blipFill>
        <p:spPr>
          <a:xfrm>
            <a:off x="4284720" y="4264200"/>
            <a:ext cx="865080" cy="10152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2"/>
          <a:stretch/>
        </p:blipFill>
        <p:spPr>
          <a:xfrm>
            <a:off x="6372360" y="4264200"/>
            <a:ext cx="865080" cy="10152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13"/>
          <a:stretch/>
        </p:blipFill>
        <p:spPr>
          <a:xfrm>
            <a:off x="468360" y="4653000"/>
            <a:ext cx="865080" cy="10152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14"/>
          <a:stretch/>
        </p:blipFill>
        <p:spPr>
          <a:xfrm>
            <a:off x="2268360" y="4653000"/>
            <a:ext cx="865440" cy="10152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15"/>
          <a:stretch/>
        </p:blipFill>
        <p:spPr>
          <a:xfrm>
            <a:off x="4643280" y="4653000"/>
            <a:ext cx="865440" cy="10152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16"/>
          <a:stretch/>
        </p:blipFill>
        <p:spPr>
          <a:xfrm>
            <a:off x="6804000" y="4653000"/>
            <a:ext cx="865080" cy="101520"/>
          </a:xfrm>
          <a:prstGeom prst="rect">
            <a:avLst/>
          </a:prstGeom>
          <a:ln w="0">
            <a:noFill/>
          </a:ln>
        </p:spPr>
      </p:pic>
      <p:pic>
        <p:nvPicPr>
          <p:cNvPr id="938" name="图片 60444" descr=""/>
          <p:cNvPicPr/>
          <p:nvPr/>
        </p:nvPicPr>
        <p:blipFill>
          <a:blip r:embed="rId17"/>
          <a:stretch/>
        </p:blipFill>
        <p:spPr>
          <a:xfrm>
            <a:off x="808200" y="5683320"/>
            <a:ext cx="1081080" cy="4046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18"/>
          <a:stretch/>
        </p:blipFill>
        <p:spPr>
          <a:xfrm>
            <a:off x="880920" y="6265800"/>
            <a:ext cx="287640" cy="257400"/>
          </a:xfrm>
          <a:prstGeom prst="rect">
            <a:avLst/>
          </a:prstGeom>
          <a:ln w="0">
            <a:noFill/>
          </a:ln>
        </p:spPr>
      </p:pic>
      <p:pic>
        <p:nvPicPr>
          <p:cNvPr id="940" name="图片 60446" descr=""/>
          <p:cNvPicPr/>
          <p:nvPr/>
        </p:nvPicPr>
        <p:blipFill>
          <a:blip r:embed="rId19"/>
          <a:stretch/>
        </p:blipFill>
        <p:spPr>
          <a:xfrm>
            <a:off x="3851280" y="5684760"/>
            <a:ext cx="1081080" cy="40500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20"/>
          <a:stretch/>
        </p:blipFill>
        <p:spPr>
          <a:xfrm>
            <a:off x="3924360" y="6275520"/>
            <a:ext cx="287280" cy="257040"/>
          </a:xfrm>
          <a:prstGeom prst="rect">
            <a:avLst/>
          </a:prstGeom>
          <a:ln w="0">
            <a:noFill/>
          </a:ln>
        </p:spPr>
      </p:pic>
      <p:pic>
        <p:nvPicPr>
          <p:cNvPr id="942" name="图片 60448" descr=""/>
          <p:cNvPicPr/>
          <p:nvPr/>
        </p:nvPicPr>
        <p:blipFill>
          <a:blip r:embed="rId21"/>
          <a:stretch/>
        </p:blipFill>
        <p:spPr>
          <a:xfrm>
            <a:off x="6948360" y="5670720"/>
            <a:ext cx="1081080" cy="4046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22"/>
          <a:stretch/>
        </p:blipFill>
        <p:spPr>
          <a:xfrm>
            <a:off x="7020000" y="6275520"/>
            <a:ext cx="28728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图片 59410" descr=""/>
          <p:cNvPicPr/>
          <p:nvPr/>
        </p:nvPicPr>
        <p:blipFill>
          <a:blip r:embed="rId1"/>
          <a:stretch/>
        </p:blipFill>
        <p:spPr>
          <a:xfrm>
            <a:off x="433440" y="1724040"/>
            <a:ext cx="8277120" cy="3409920"/>
          </a:xfrm>
          <a:prstGeom prst="rect">
            <a:avLst/>
          </a:prstGeom>
          <a:ln w="0">
            <a:noFill/>
          </a:ln>
        </p:spPr>
      </p:pic>
      <p:pic>
        <p:nvPicPr>
          <p:cNvPr id="945" name="图片 59411" descr=""/>
          <p:cNvPicPr/>
          <p:nvPr/>
        </p:nvPicPr>
        <p:blipFill>
          <a:blip r:embed="rId2"/>
          <a:stretch/>
        </p:blipFill>
        <p:spPr>
          <a:xfrm>
            <a:off x="1158840" y="2146320"/>
            <a:ext cx="1081080" cy="40464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3"/>
          <a:stretch/>
        </p:blipFill>
        <p:spPr>
          <a:xfrm>
            <a:off x="1222200" y="2728800"/>
            <a:ext cx="287640" cy="257400"/>
          </a:xfrm>
          <a:prstGeom prst="rect">
            <a:avLst/>
          </a:prstGeom>
          <a:ln w="0">
            <a:noFill/>
          </a:ln>
        </p:spPr>
      </p:pic>
      <p:pic>
        <p:nvPicPr>
          <p:cNvPr id="947" name="图片 59413" descr=""/>
          <p:cNvPicPr/>
          <p:nvPr/>
        </p:nvPicPr>
        <p:blipFill>
          <a:blip r:embed="rId4"/>
          <a:stretch/>
        </p:blipFill>
        <p:spPr>
          <a:xfrm>
            <a:off x="4202280" y="2144880"/>
            <a:ext cx="1081080" cy="4046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5"/>
          <a:stretch/>
        </p:blipFill>
        <p:spPr>
          <a:xfrm>
            <a:off x="4265640" y="2727360"/>
            <a:ext cx="287280" cy="257040"/>
          </a:xfrm>
          <a:prstGeom prst="rect">
            <a:avLst/>
          </a:prstGeom>
          <a:ln w="0">
            <a:noFill/>
          </a:ln>
        </p:spPr>
      </p:pic>
      <p:pic>
        <p:nvPicPr>
          <p:cNvPr id="949" name="图片 59415" descr=""/>
          <p:cNvPicPr/>
          <p:nvPr/>
        </p:nvPicPr>
        <p:blipFill>
          <a:blip r:embed="rId6"/>
          <a:stretch/>
        </p:blipFill>
        <p:spPr>
          <a:xfrm>
            <a:off x="7288200" y="2139840"/>
            <a:ext cx="1081080" cy="40500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7"/>
          <a:stretch/>
        </p:blipFill>
        <p:spPr>
          <a:xfrm>
            <a:off x="7351560" y="2722680"/>
            <a:ext cx="287640" cy="257040"/>
          </a:xfrm>
          <a:prstGeom prst="rect">
            <a:avLst/>
          </a:prstGeom>
          <a:ln w="0">
            <a:noFill/>
          </a:ln>
        </p:spPr>
      </p:pic>
      <p:pic>
        <p:nvPicPr>
          <p:cNvPr id="951" name="图片 59417" descr=""/>
          <p:cNvPicPr/>
          <p:nvPr/>
        </p:nvPicPr>
        <p:blipFill>
          <a:blip r:embed="rId8"/>
          <a:stretch/>
        </p:blipFill>
        <p:spPr>
          <a:xfrm>
            <a:off x="1979640" y="4259160"/>
            <a:ext cx="390600" cy="428760"/>
          </a:xfrm>
          <a:prstGeom prst="rect">
            <a:avLst/>
          </a:prstGeom>
          <a:ln w="0">
            <a:noFill/>
          </a:ln>
        </p:spPr>
      </p:pic>
      <p:pic>
        <p:nvPicPr>
          <p:cNvPr id="952" name="图片 59418" descr=""/>
          <p:cNvPicPr/>
          <p:nvPr/>
        </p:nvPicPr>
        <p:blipFill>
          <a:blip r:embed="rId9"/>
          <a:stretch/>
        </p:blipFill>
        <p:spPr>
          <a:xfrm>
            <a:off x="6175440" y="4259160"/>
            <a:ext cx="390600" cy="428760"/>
          </a:xfrm>
          <a:prstGeom prst="rect">
            <a:avLst/>
          </a:prstGeom>
          <a:ln w="0">
            <a:noFill/>
          </a:ln>
        </p:spPr>
      </p:pic>
      <p:pic>
        <p:nvPicPr>
          <p:cNvPr id="953" name="图片 59419" descr=""/>
          <p:cNvPicPr/>
          <p:nvPr/>
        </p:nvPicPr>
        <p:blipFill>
          <a:blip r:embed="rId10"/>
          <a:stretch/>
        </p:blipFill>
        <p:spPr>
          <a:xfrm>
            <a:off x="2104920" y="4700520"/>
            <a:ext cx="390600" cy="428760"/>
          </a:xfrm>
          <a:prstGeom prst="rect">
            <a:avLst/>
          </a:prstGeom>
          <a:ln w="0">
            <a:noFill/>
          </a:ln>
        </p:spPr>
      </p:pic>
      <p:pic>
        <p:nvPicPr>
          <p:cNvPr id="954" name="图片 59420" descr=""/>
          <p:cNvPicPr/>
          <p:nvPr/>
        </p:nvPicPr>
        <p:blipFill>
          <a:blip r:embed="rId11"/>
          <a:stretch/>
        </p:blipFill>
        <p:spPr>
          <a:xfrm>
            <a:off x="6175440" y="4705200"/>
            <a:ext cx="39060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图片 58373" descr=""/>
          <p:cNvPicPr/>
          <p:nvPr/>
        </p:nvPicPr>
        <p:blipFill>
          <a:blip r:embed="rId1"/>
          <a:stretch/>
        </p:blipFill>
        <p:spPr>
          <a:xfrm>
            <a:off x="600120" y="2119320"/>
            <a:ext cx="7943760" cy="261936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2"/>
          <a:stretch/>
        </p:blipFill>
        <p:spPr>
          <a:xfrm>
            <a:off x="1547640" y="3284640"/>
            <a:ext cx="287640" cy="25704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3"/>
          <a:stretch/>
        </p:blipFill>
        <p:spPr>
          <a:xfrm>
            <a:off x="2022480" y="3889440"/>
            <a:ext cx="287280" cy="25704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4"/>
          <a:stretch/>
        </p:blipFill>
        <p:spPr>
          <a:xfrm>
            <a:off x="2268360" y="4340160"/>
            <a:ext cx="1943280" cy="25740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5"/>
          <a:stretch/>
        </p:blipFill>
        <p:spPr>
          <a:xfrm>
            <a:off x="6046920" y="3284640"/>
            <a:ext cx="287280" cy="25704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6"/>
          <a:stretch/>
        </p:blipFill>
        <p:spPr>
          <a:xfrm>
            <a:off x="5580000" y="3898800"/>
            <a:ext cx="287280" cy="25740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7"/>
          <a:stretch/>
        </p:blipFill>
        <p:spPr>
          <a:xfrm>
            <a:off x="6300720" y="4340160"/>
            <a:ext cx="201636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1:43:36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