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91E-6343-42F3-AC57-86FC2A20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7ED3-802F-4131-B9CA-9B58705C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85A9E-2A5A-4AA1-88DB-B6D746F4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F0EC0-D45F-44C6-B539-91D95602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D9569-AB83-4636-B972-2B9DEC5A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D5F0E-94A6-4E42-9A71-5ACC5063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751DE-7B9A-44BC-BEB5-C9BF4732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51971-5C19-4812-89F0-816CBCB3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35F1F-2E9E-4478-A8F8-D439632B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8DA54-3254-403C-B865-9A87E61B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326F4-2019-4A3E-AF58-B687601E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73F33-3682-4FAD-90E0-79516C13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0CD-B339-43D9-98CA-D487E5BB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FD937-B825-4482-A3A5-F21781E8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EE315-014D-4FF1-B6ED-0E280456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AF5EC-1D8B-4874-81A1-279F8098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D1B07-367B-44B6-B25F-03B5E3E6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83EBA-46CD-43CE-A703-8B3529B4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6326F-F760-4268-9B96-520EDFA1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33606-50A5-4558-A00F-1DF9E76B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3FB57-6F1B-4F6B-B1A7-772B7C03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965E3-F0B2-480D-A904-97251D07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67C70-0FEA-4CFC-B620-7CA0BFCF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91CB-A604-4255-AEC3-80863465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1969B-7377-4E32-92B9-D77F5EDC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0EC6F-BC4F-4EF6-9052-7010A500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D3EED-FD2A-4CA4-8ECE-67349465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FDB1E-570D-4DD3-A127-87F34886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FC065-BAFD-4BE9-B882-43EE9313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3EB5F-E937-4173-BC6C-4792D1AB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5FA41-7C25-4F54-B6D5-F4F017D9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240B9-9C1D-4DF5-852F-FD41C826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B1B80-4D53-4EEB-8898-2A59882C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511C7-329B-4A05-B7D6-1AC92339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5F93-74F1-4E69-AFCB-E123A844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3D79A-50E1-4CC6-BD66-42DCEED2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FACDB-4E2E-4BAE-A956-C0246577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42010-FBF6-4F43-AB78-631B788F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5EF6B-3170-4FDB-AFE7-45CDE5C7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77CD1-CF58-4360-A6AD-EAA40732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1E163-C823-4C7F-8353-D67C3636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C8FAF-B54C-47E5-8F2F-2A403ADD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39864-F0E4-4153-BC16-3E415919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A914A-8284-4CD9-9ED8-DA37B329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D0B03-0761-4015-BABB-4BF12646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E800-1066-4F23-82E9-F1C7B620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B164E-43D2-47AB-9C8E-24F62AA3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10B26-CBAF-434C-ADB4-22712DA4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8F830-15B4-402C-B9DF-676F5A53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196C0-FDE9-40B6-B4E9-DD71EE14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BFAAA-2761-4603-BC66-72EC0FED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060B7-4442-4607-A828-E4D50244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C6CF8-DABC-49DD-B35F-F3E5D5FB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87D14-7121-4087-BDC8-95138DEA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D0C17-E180-4C86-850C-4F656182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F5822-D98E-45B0-88A9-EFAA50B0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314B-4EF9-420A-B072-B4B5998F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65E46-4981-4207-8F51-BBD6D9BF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156EB-0E56-4012-B5ED-712A33C4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5876B-E9E2-439D-A592-1A26F143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21D22-0E53-4926-907F-253983C4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44DD2-B1B2-4CA1-88B6-D3277CF5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0DF829-2E66-4220-96E0-26366234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15224C-D92A-491E-AAD0-E5A629D8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94C3C0-FB26-4848-9C27-0DA3D54D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0395A-B41F-431F-8E84-55CD3266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5D3256-1C2C-4FDB-8C5E-AD128E76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C22F-BD8D-49A1-BC87-7B0604F1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A97E2E-E92E-4E47-88AF-9F5C4B24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A73175-A2A2-4319-92C1-14E0E0C3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4AB31-7745-42ED-BB46-DFBC82CA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B76C1-CAEB-4E24-ACF5-5CC07E8A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85E57-F22D-4ADE-8BD1-C9589437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FE5B5-000D-4C08-BB17-A994784F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660FA6-C4E3-44E9-B1FB-95659C04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E4AFD0-AC62-4276-A9F1-76F30C1D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201833-B67D-45B5-8911-38782E7C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A533E5-5724-4561-A930-54B050DB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3B5A-820D-46C2-A9A0-04A8881A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0E0C8-5F4F-46A8-85CC-E4E76EE8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E3A346-3ED9-49FA-B8E4-4A7579FD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9665A5-49F5-4499-AB97-1A43DCE1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0E2467-02C2-444D-B065-12851543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467D12-EB42-46E7-AA18-4230D9C2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B5205E-D72D-4CEC-AACC-CBDF2FA2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2DB9FC-1719-48CC-A8CE-02566839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932FF5-56FE-4B45-B0EE-A4636D65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7736F3-453E-4046-B8E3-A0B1CBC5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BCFE7D-3832-4068-8936-95F4E8BD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12E6-ACB7-47D0-96EF-05C2F186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93C792-3D7D-437C-BDB6-29B11E46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056811-F8A0-491B-88E9-078E8C0B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F813F-E0E8-45A7-957B-9DB854ED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699C28-864A-4578-8B4D-B7898840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7C3D6B-3AE9-4400-AEEF-24214BFD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F2E87F-64B8-4266-B935-06AD3D23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8747DE-A340-40F3-AB7C-6EF5EDB6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E2C670-7F24-4DDD-BD74-AEE08737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43B755-F704-4A36-BF68-983C1A5C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B0788E-A7D8-4B14-8219-14A70E2B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3D0A-3520-41DC-8E7E-BEE3F130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2CDE0D-079A-46B1-805C-80926A74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9C91BE-4CCD-4F8B-AFF5-011D0D07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65A07E-E3A1-4C41-B5DA-88BBE303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C576A0-2C80-4EC8-8FE2-400E832F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F22BAE-3F2A-4878-97BA-8A76E5FE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633A03-5740-4A03-81BB-87146071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09B933-5D37-4EDF-999E-CA4682D8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C4C02A-86A6-4933-87B3-4AB9FBD2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125DA5-22EB-485F-864A-62224223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BE9954-D6F2-42F4-827F-04EE6A7D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169-A15B-4B60-84E2-A8142816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73EF-B7E0-444A-B57F-C049A4CC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52FFE2-3B6D-441C-8C0B-CE6C25BE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DE3411-9C6C-4FAA-AD2D-3EFFD1FC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844A95-57CB-419D-8991-48AC0658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9DA783-8A56-4E7D-9215-3E1D55D8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65E758-448F-49C2-995E-8506118A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9757C6-3B02-4C57-B125-A3433DE5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E05664-AD98-4273-B87A-DB276208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DCF0CA-3622-41CD-A67E-5B700AB2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5C4E5C-EA9C-464D-BED4-E0CAFAFF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E1B493-7792-4052-9439-5EAAF0A4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8EFC-5546-4834-AA3F-83E446ED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6262B1-1064-42E1-BAB4-D7B4712B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35E6F5-DB4A-4ED1-97A8-8B9DC982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38C5C2-8B4B-4F17-B463-1514416B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D35889-A97C-4674-A07D-99C96EA5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F36EE7-E064-452B-8337-F75A96E1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B97B3D-6545-4883-A437-0F3769DA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73A10A-8974-4C21-A2A9-1D896571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BF224F-D980-4A68-B90C-AB596041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B6AA0D-81CB-4D1A-BC87-E950474B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B81038-06C3-4547-93C6-A7924EA2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6EF3-F6E2-4467-9E8A-B6472248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B80FDB-E42D-4D36-A28E-2D9AC963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B5377D-52E7-44A3-BCF1-6F65FE1C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AAC6FF-1690-4C7D-AD6B-74168BEC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AC0F2D-F65D-419B-BE2F-26728F27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A80206-2AEA-491C-A1DF-31A0725C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6C6039-72BE-4DF8-AD52-51078712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E30751-1106-4502-9B52-D94828C8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88C0EA-51D8-4E5B-8BB0-40944A29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4A581D-400E-4DBF-BAA2-FFCF807D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D4E76C-2453-4B52-8279-48854CFB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99FE-4D37-4085-BE3E-B86A8EAB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904E87-571E-43EC-A5EF-992B5DB8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08F2DD-DA3E-496B-B024-B91F07CB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87237C-0E5A-4920-9A69-364D0B9A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B1440A-C7E7-4690-A82F-02FEF10B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A0AB18-ABEC-4115-9EFC-CB3A8812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E8CF9C-E483-4B9B-A84E-3F119350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2EB278-B517-49B8-9652-49495700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9E113F-1E6F-49C3-A397-07680C11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99A3CD-8812-4C35-B5A2-F1643DFB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9E78E4-4C56-487C-9647-27BD55C5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E577-EFF7-40DE-83C7-4E764FA7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F30E60-A0D5-436A-8C92-E056EC51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7A7E4C-C730-4389-B869-CB218164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1F40F6-A79C-4363-A8D3-14AD016E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C020B7-B258-4A07-BCA7-0BC63413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69CA90-93B2-4BA4-A10B-5B73690F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CB97AA-DAA0-4E20-9F99-8F05F592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351D8F-9538-412C-AE5B-6CDA8AA3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EE7888-C578-428C-B945-171BE658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EBA056-7B35-4EE9-9E0F-CB3687D4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A2801F-4FDD-42B5-B4EA-3279E94B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B6F3E-E15F-4FD7-82A9-7664E368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D8D363-D613-4285-B7BF-860F4BA2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F38BF6-1366-497D-957E-6BD4DF15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6D10F6-F96D-4B70-AC0E-B7051A23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0D38F-73C7-479D-9EFF-D0BBF98D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A6434-CE93-468D-92F3-3E1AC2CB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9330F-AA5C-4E71-A49D-B66C44DA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96DA5-577E-4B65-93C2-262D94FD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D9F-8041-4AF9-83C2-31355009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C91DD-C4FD-4558-AB35-F705F3EF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4F7E8-C762-4A48-B7DD-13531AB8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E3758-FA7B-428A-9388-B9B6279D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DC796-1406-4CD2-A730-2EBE656C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41E56-1927-4A98-A92F-3988D51C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0492A-C12C-4DD1-B716-572D03CA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5F74F-5346-4483-BA3D-5D264AC6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CC2E2-7063-458D-BA60-3298B3F3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2A2D0-ADE4-4BF5-AB14-BB6E5A73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6E9E7-737A-4F8E-B4B0-0544D41B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BB9C-4ABF-472F-8550-13B6EC0C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99D62-7239-4128-ADE4-DB239797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E40FF-08F9-4008-A23F-D7DB9EC6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AD444-B758-4A96-B6D4-D2F76A49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4F357-318C-4527-BCAE-C63836E2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61101-E83E-4A42-A831-26FA3930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9C6C8-6DEC-489B-AF39-8925EBBD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0481A-8B64-41E7-A89C-C7ABE7F9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F2CA6-9156-4CCB-8AAA-8E891716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FCAC7-8441-4C94-AF13-3F650134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FF03C-F572-496E-897D-D2519AE0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6E0-4B0B-4198-8B3C-CA5819A3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192AD-BD8D-4D13-94EC-238D045D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DAB95-D0F6-4378-BEA9-AD049912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B76EA-A855-473E-B1C6-FAB30C0E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9FE34-4366-4A79-8CF4-B4F74D1E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75493-5CDA-491A-A513-2BEBF703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7F419-4E60-4D8C-9E65-C8F097CC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D26A9-9C71-433F-98E5-B543D986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79789-0473-4E94-866C-69286462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B0E05-3C1E-4D21-BDE5-CF69DAF9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46D74-3B64-4A69-BF75-2E90FC32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B7B8-05CB-4162-AA84-029E8D06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7C50F-774F-4E55-9994-603D4C5D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4C5F6-22B1-4EF3-8A74-3FC811A7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166EC-723F-4F57-8C8A-986B00EA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EBD9C-20B0-4091-84BE-C4649A43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396F5-38C4-41EF-AD7B-5C301459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59922-CE49-408C-8573-2D97FFF5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D0DAF-1DF7-414A-9C30-56A18520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4C86E-B638-46CC-8011-ABD3D05C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3074D-D220-40BD-A64F-1619EBF5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2D8F7-779F-46BD-8F6B-5E013A39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097-410C-41EC-99D8-555950AC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58185-528E-4450-AA56-1846CF1A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22903-E972-4DED-8B9E-B318DE5B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1E3A3-1E3C-4A8D-93DF-C2C8252D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B78BD-E4ED-4AA3-A61E-71EC83F3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A6C14-E775-41DE-81E1-0A8C4A5B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96A0E-DA7D-4DD6-8AFB-2AACA7C5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D1FEA-E487-4A8D-9C56-95764C6D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97F63-487A-40BF-95A7-69512977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135F1-96D7-47B6-B939-415E3C8C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DC344-6902-4748-AD7A-13FBE3A6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7EB-9658-4504-90E8-F73CE41D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F60BF-B7D2-4789-9CDE-0C5B46AB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CFFEC-7AFB-4552-BFD9-7544D5ED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B5A45-FA29-43BE-B3BC-5EC3120E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82560-1B5E-4956-8457-F4DD5014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6265C-7868-492B-BBD6-F8DA2352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69AEC-BA8D-4BA5-82DE-E9C890B2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431E7-E95D-4221-8C0B-21979454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558D2-DCF1-4DA9-98DF-5F59723E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67304-EF12-453D-BDBE-4ED8A49E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6B4BB-DFDA-4B4F-9399-90F69434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B13-412B-49A0-954D-3B3BAA05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BC04C-4551-47AE-B0E5-C7CD1538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19208-954B-4E7A-8193-46D1D25C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ED088-61A9-42F4-B594-B145663A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83F58-D5A8-4D22-82B7-3AA57316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6797B-E07A-41BB-B1A1-A8D7BF6F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06EED-1A8C-4874-83DA-4A7F1F5A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9267E-7C32-4BA5-A8BC-B5B66F78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1B002-D24B-4622-9656-43595BE2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7729B-58AD-4924-94A8-82BD8AC7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7D2E9-76F9-4889-B449-AC152780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8B73-24BA-4DC3-8213-DD0CB559FB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8016-A2C1-4047-9F39-30A456DDC6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4BDD-1409-49CB-821F-B9AB788D5F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5CE6-A62A-4335-8A4E-3B428C7601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AA96-329F-4D96-A9FB-FEB61A2031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2CC4-6476-41DF-A120-C328B699A4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90C6-32DD-403B-B89E-B745669C89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B576-FAC1-43A9-89DA-BFF68406F6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E5FF-449C-407C-97F2-2859B15E72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6766-5E2A-4A97-A6F4-AF8ACFDE69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CEC1-117B-4418-A807-7840F7330A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A664-4CD6-44E5-987A-8908EAA49E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2E78-B0C5-45D7-9D3D-748885A77D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D2CD-9DE7-402E-8BAE-5EB43B5B7A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4FFE-A5BE-450C-94E2-C2889B2C1D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7F82-E9AC-429C-992C-C158A8387A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31F4-8466-4AFE-B30B-D5BFD9E20A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704D-4ED9-41A8-8F77-280A46DC17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DCF2-0850-4F67-8DE8-ADC1E96643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1AD1-1C32-4D77-A159-E59D49CE6B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C7A4-9838-4752-AE0F-70AB9E1FF3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D299-6A19-492D-8314-93934FD2C7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0F3B-42D8-4ECD-9CFB-14D54B7735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6742-58D0-4302-9237-DC3B698131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4501-69EF-475D-B94D-DBE320FCB2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2C99-9167-4BEA-9D94-DF485D68A3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FF2B-3E24-4E7E-9E5D-29F0957E5C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8855-0613-4FC5-9A00-FD5C738511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EEC8-67BF-438C-B4C9-49A3D1B3D2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F917-B884-4519-B645-7DD39EF5D0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3A09-D754-44B1-867D-1F5BE85D51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BD21-B733-4BB2-84D6-5AA74E349F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29C6-3F63-4F84-AD59-41F89AB242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F964-B4B0-4156-88FE-34A21BD970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8F2D-433F-4373-9CED-30335F8757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75E8-872D-4E79-8A81-BAE84EF38D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9069-C84C-4C93-AE71-2130FDA69D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78F4-87A2-4F6B-A70C-58FE62DE10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9BC6-FF76-4121-9BFA-42DDA17AB8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85CC-E0DF-4170-91DF-09453131A6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09760" y="3157560"/>
            <a:ext cx="45244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42800" y="1219320"/>
            <a:ext cx="8258400" cy="44193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050920" y="36529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70836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29272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588000" y="3654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956720" y="3654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8" name="图片 60434" descr=""/>
          <p:cNvPicPr/>
          <p:nvPr/>
        </p:nvPicPr>
        <p:blipFill>
          <a:blip r:embed="rId7"/>
          <a:stretch/>
        </p:blipFill>
        <p:spPr>
          <a:xfrm>
            <a:off x="1744560" y="4559400"/>
            <a:ext cx="67723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847800" y="2124000"/>
            <a:ext cx="7448400" cy="261000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59411" descr=""/>
          <p:cNvPicPr/>
          <p:nvPr/>
        </p:nvPicPr>
        <p:blipFill>
          <a:blip r:embed="rId2"/>
          <a:stretch/>
        </p:blipFill>
        <p:spPr>
          <a:xfrm>
            <a:off x="1657440" y="2695680"/>
            <a:ext cx="6324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8373" descr=""/>
          <p:cNvPicPr/>
          <p:nvPr/>
        </p:nvPicPr>
        <p:blipFill>
          <a:blip r:embed="rId1"/>
          <a:stretch/>
        </p:blipFill>
        <p:spPr>
          <a:xfrm>
            <a:off x="109440" y="981000"/>
            <a:ext cx="8925120" cy="48960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900000" y="5219640"/>
            <a:ext cx="503280" cy="25740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58375" descr=""/>
          <p:cNvPicPr/>
          <p:nvPr/>
        </p:nvPicPr>
        <p:blipFill>
          <a:blip r:embed="rId3"/>
          <a:stretch/>
        </p:blipFill>
        <p:spPr>
          <a:xfrm>
            <a:off x="1825560" y="2482920"/>
            <a:ext cx="1171800" cy="10191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2843280" y="5229360"/>
            <a:ext cx="50328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4859280" y="5229360"/>
            <a:ext cx="50328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8494560" y="25462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7"/>
          <a:stretch/>
        </p:blipFill>
        <p:spPr>
          <a:xfrm>
            <a:off x="8604360" y="29718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8"/>
          <a:stretch/>
        </p:blipFill>
        <p:spPr>
          <a:xfrm>
            <a:off x="8604360" y="33764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9"/>
          <a:stretch/>
        </p:blipFill>
        <p:spPr>
          <a:xfrm>
            <a:off x="8594640" y="3789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0"/>
          <a:stretch/>
        </p:blipFill>
        <p:spPr>
          <a:xfrm>
            <a:off x="8379000" y="4221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1"/>
          <a:stretch/>
        </p:blipFill>
        <p:spPr>
          <a:xfrm>
            <a:off x="8379000" y="46101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2"/>
          <a:stretch/>
        </p:blipFill>
        <p:spPr>
          <a:xfrm>
            <a:off x="8388360" y="50418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3"/>
          <a:stretch/>
        </p:blipFill>
        <p:spPr>
          <a:xfrm>
            <a:off x="8388360" y="5445000"/>
            <a:ext cx="289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36:01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