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C33-B780-42F2-B8CC-EBA66ECF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84B-4725-4F56-A8D0-22A6DBB4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AA100-31E7-4E8D-BA1F-77CE71A2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AE1E8-4333-4364-9DC4-6AACEBD4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A1EA2-F704-4127-8BA4-8D75BCC7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F70FA-A6FF-450F-AB29-1AF30406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223D4-2B4F-4683-B578-AB1F801A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8DEE7-84DD-4A9A-94D6-2478D79E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EA1B7-AB23-41FD-8D9A-A9F96A36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45BBE-C7F7-4526-AFBC-E77BDCF6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AE228-08C2-4259-B2E9-BEA15FA6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E659C-3F69-42C9-98EC-319DF9A8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A1C1-35FB-4E77-BA07-92CDC214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B69C8-5B35-4031-B787-CE58BDC2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C21E4-D857-4362-95AB-D2EF4032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BB333-A8AA-4C39-9AE3-37D18D50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2C093-A30A-4894-A1AB-0A754175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1398B-F1E8-4AB2-89DE-B4E83772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951F1-C83D-40C9-921B-69C34532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CD058-3E19-408A-9D74-ADAB9BC0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89AFE-44E7-4F58-B065-994E226D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3112D-F5C5-4A46-AC0C-998F53E2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0E8BD-E43F-4DD8-8344-E4BEB581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83B-BEB9-437B-974B-9169FEBC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20FF8-5BE8-48F0-AB28-25EF6DE2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B340D-8270-4151-AA19-DDD81B1B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D1C63-FA9A-49AA-92DC-F092AABA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6A71B-368A-4A32-9C68-22089B80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778A0-6C8A-4B4E-A37E-254C90A2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02079-F544-4330-BE71-A0FBE7E7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2D31C-8C00-4D1A-ACA6-B2656ED7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505B8-1189-47B3-A59F-D8D13FE0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FDADD-5A41-4267-B8D8-35D08C22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87680-F6FC-4C80-B502-AFE5DA05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DCE6-0742-4653-BD7C-A53228BF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7A5FA-9750-4370-B829-52F8DDB8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B8B50-4BE3-40B6-8AA3-8A8E3ED8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7F9C9-960A-4BA6-86D7-A58948FC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9201E-8C9C-48BB-BCBA-F5DF286D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32224-6063-443B-820A-6F7BE886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FD432-992F-483C-9C89-216C511A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A3455-5F81-4F3F-BB05-679DCCB9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0FEF3-3652-45C5-B760-BB7B542C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57382-4C7B-4E7F-9F9E-E59CD09F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D0734-B930-4109-8FFB-D72FBF09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6610-74B9-4F1F-8D84-03EDE1BF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DC0DA-0E2B-4F8B-A368-B78F7468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5A99D-83A3-44BD-AFC9-0CAD789D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CD534-3F97-438C-9104-226F2FFF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8E106-46D6-48CC-92E1-ABFF9563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0E08C-9E67-469E-8876-13927722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8A400-E525-49B7-8333-7B47320B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686A1-8870-4908-9F30-2573C626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D0C97-A00C-4AAB-AA3D-D61C1546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38364-C375-4F9F-8473-3969FD9F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BEA47-994B-4A04-9300-E62944D0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1B27-1E91-464F-A330-A8965DF3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BC501-CAF8-4A24-BFDA-7969E35F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A5951-E450-4470-BD93-C9FEA459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FFDC9-E540-4586-8D75-65D39AC7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B0307-8233-4351-9EB6-5F4EE4A5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3F7D1-BE22-4004-AFF2-5D749C37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02A7F-42E5-47E2-9456-C2D029F5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9977CA-4F35-426F-B630-79D65C05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5C15B0-040A-4E7E-8626-B8BD9C7E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839EA-9A56-4E47-AC30-4CA06A2A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44093-6378-4AE6-AFDB-72E87DA3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09FC-3910-4386-B05F-C7E1F113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A0079D-E353-43D7-A8A5-1CB8C7B9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B6723-C3DF-4D14-B3F0-51968595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F2F071-FA31-4D12-9954-20F72F7A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A87F09-891E-4F8F-B03D-A88A5DB6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46767-0259-4785-88F4-27193A4B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D0C1D-5A3F-42EA-BAF4-AA7C6F53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0545D-78DC-4AA7-A559-6820C1A0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52D6B-2600-4C3C-BD05-229E66CA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1CE66-6B7C-494A-B670-118B26BC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378CF-FD54-4DCB-838A-2503F7DF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8723-415C-4083-895F-40A126C8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B5EE11-D95A-49B8-AD56-D9FA3D4A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ACF2D-BC15-40A1-BB0E-98011FC4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9E374-17F1-4C28-BA1F-DEFC8FC3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5F4E29-CBBC-4329-B0C1-0D741025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3312F-7F6A-40FA-B547-A3CE926F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7AB906-D6AC-47D4-BFE3-6C65879B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068B2F-D93F-4D44-B5F3-918E5DC2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6A81C9-1521-4A5F-994E-64477D23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235A2-0B7C-431F-9F16-C009604A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E057FE-49B0-4993-A2AD-1B3F9370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A50A-B87F-4ECD-98B2-16533FB1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9C7E3-CA0A-4CF5-AF35-464B4EE3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7409A-B00C-401B-B6C2-E340A943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8E553-63A3-44D8-AA4F-12F91CDE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50525-D257-4A9A-8DA8-04CC51E6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FFF08-24F7-42AC-9B74-219D5C3F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22EB1-057D-49BF-B5CE-E2292749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D7F2BA-A446-4954-9980-D82EB92C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1F61A-A35E-48E6-8E79-AFE18FA6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CB89A-FCB6-44BE-A5B2-058D3984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862E5F-1EA0-4665-85CC-844AEF4D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B436-B57F-4D61-AA8F-4FAD12D9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24A384-F00C-4C9A-B74D-B9661BBC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32DAE9-ECD8-4E85-9F4A-0C06B9B2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CBF1C-F8FC-47BF-A797-86B80CCC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EC0EE2-B5BC-4218-A762-A14BFA5C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55837-CD48-49F8-A515-693FAD13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18124A-AFFE-48C1-B543-63CF3953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49443-B150-49C9-B787-9278D307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CF5A6C-7331-4051-8D41-3B1567D1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C63300-6E85-4289-ACFF-5EEA4573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2618CE-5E2D-46BE-B6D2-325B7CD6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8B8-163E-44E4-8D65-50719D2D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7DC5-AB11-4057-A29E-5274A84A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943F7F-3F3A-42DC-9E86-6875B95C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33ECB6-021C-44B6-9A5B-834E8031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D4B0FD-941C-4EFD-99C8-01B4E0F8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F1C8E-8693-4584-BAEE-64598C36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AF8FD-0CB2-409C-936D-CA93B398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997E32-4F26-41AA-A4F5-25E6252D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C2FA7F-061E-47E6-874A-F3863671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E56E12-6C02-4F81-B2E6-A8670A6F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7A42E9-2A04-44AB-ABF5-9EB249B9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78740C-7D6E-40A2-A0B3-196CA6DF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ACFE-7D98-4C67-9DBE-4482BD62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F5EC2-5A65-49DD-8326-955F057A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0B2DCF-C8E1-46DE-AEE8-6E2BDF6C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09BCD5-643B-4F8F-B9D9-34C06B41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4360CD-4781-4FA3-B55F-2DC38401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E4C643-470D-487F-B812-A7C938A1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880AF7-E730-4095-A0D4-5F3763BD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652D6-D2D4-445C-B394-FDFFFFB5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EF0DF1-84E0-4764-BD03-76BEBDBD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933C7A-DBEB-464E-BECA-0986816D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87FA84-2864-4BC7-A2CF-E0B0C772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0225-A94A-440C-B92F-73424C81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754487-8870-46B3-9B3B-AD9769CB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8F8A88-FD2A-4122-8BF2-33BCD860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49D0F2-E3EA-4B0B-95F5-C23C6E98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4395C1-64A2-45F1-95DE-FE5B8B26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27C46A-5BC3-45C5-B453-AF69BC17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D54C1A-2DD7-4623-A0FC-63F1B155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AA5DF4-1311-4A75-B11A-E3367EB3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E64CB9-4A90-42A7-83F3-74136544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AB35E3-1E47-4EFF-804A-07111BFA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A03E20-1C7C-44D0-9FB2-57316C9D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D732-63A4-4B4A-9E04-0942C6CB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C66A66-FAAF-42C7-8499-1CE2D2D9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06D302-F486-4C1C-99C3-122C9F8B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3DF141-4B92-421B-AE5D-F2CC6EB1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7667C4-E143-4245-A6A5-E64D2409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58815B-8F37-43B2-94DA-110F08FA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2F9D7F-143B-4553-AF3A-4BBB414D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F0338C-21C8-4D74-A1D2-15CA04FC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A8E909-1B53-48BF-A5DB-33D804E3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4C21CB-B44C-4F1B-B628-FE8F9A79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3A7197-ABE1-48A4-AF66-9B395246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F3AB-885E-497D-B58F-21030986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CD827A-85FA-4E3F-8E2B-52DB9852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986E37-E97F-464B-B873-95BFFEA5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9503D5-F32A-41A6-83BA-B316D568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189FCB-2DDB-4411-A5EA-2AF91BC5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9C45AD-646D-4FCC-80DE-8206F306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9BB785-30F7-4B4E-B3E9-15A4E8EA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24EDB9-826B-4E42-834D-3A734A4E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43F5A5-BBF9-4571-96FA-FEAD68E2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DC434D-BC21-4CF4-BDB5-6D887926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1A364E-9A66-4DC9-B72C-61D49097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CBEA-F8B3-4663-A9CC-D93A981B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89319A-5AAD-4980-ABD3-239F1012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29C444-E793-456A-9ADD-ECDF4529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256C22-C155-4B15-A66E-05CC284D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04674-7DF5-40FC-B652-C0DEB779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C2BD3-85F1-48B0-B203-8063B043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01B6-190F-4907-A743-0EFD34A9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907B-930E-4CDD-8F4B-28292E25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F12-9053-4669-8B04-E1AA27F9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DCEC7-7F4A-4E0F-ACDD-270F0C36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E4D31-C0D5-4538-BD3D-D268ABA4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B445C-B0D0-4E51-8AB1-3D0074F7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74FB-D1FD-4ABE-AE2C-60FC64CA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B65B3-E9D6-44B5-B281-21501AB2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AF09D-F415-45A4-8565-92FB34A9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1EDE8-45BA-4D2D-A536-981E5BFB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5AA72-873D-469B-A1B1-3B52B7CD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5B919-26C5-4036-A64B-D514F8F3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A736A-D6E9-4620-9813-395B42C3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C31-F9DE-4101-A71E-D57F78D1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40CBA-4203-4A62-8412-B6BF2CB8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0B15D-E2BE-48E0-9587-B3F68020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52E73-5525-4251-87AE-C08EF67D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376A9-C98F-45EB-8A22-D161DA5D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DB2BE-918C-444A-9A26-39E52550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661F5-BDE4-4030-8237-AB0D011D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EDD2F-0FAF-4A9A-8B8C-3DA0C581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1F6F1-D76E-40EC-9E5C-11C5D665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63C63-1158-4723-A513-4B3493F8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18625-3D32-47F0-AEF1-AB271827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5E3-B2BE-4604-B26C-61E1148A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873AE-9311-4B64-A82F-A8F68B7E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AE757-328F-44FA-9E9E-F2AC0E43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DB073-9DE5-4E69-A2EE-8DA967EE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C50AB-0C7E-4E72-8408-FA08E3DA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66637-2C3A-45D4-9E3D-3489DDDE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6B20C-E8DA-4C79-85B8-28A5A6EB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A0E3A-BA32-4AAF-A181-EFE957A3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B88B6-2E88-4458-B183-2BE19734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E284C-A81C-49CE-9737-3D358104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74AB2-DED8-42FA-BEF2-B429FAC3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553-4796-4119-AE85-D37A866E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D35DE-A0FD-4754-BE9D-E373C145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8CF29-CE55-4245-A0FF-507702B5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AC961-F4B8-469B-AF30-2D6B3135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93A14-4E12-4B40-B022-B065199A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FEAEA-BE01-4038-818E-CEF2BF8A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FF1D6-BB4A-4985-88F4-997BE9E5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0D2EF-87F0-4B5C-B542-872F207B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8C292-597A-4C73-8FE8-DDA62DC1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AD981-93AB-4250-BD15-921F3D29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63C1D-D786-4F7F-987E-705236D8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1F3-38DD-4077-B6C8-D9F54EC3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F40AA-6484-409F-8A33-F4C552A3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FCCEA-1EA1-4CAE-9AD8-AA6A779D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CBFB4-30D2-45FF-B98B-FF80B3E0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34504-26F2-433E-9E00-021F788C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4E861-4DC8-4847-B689-9A3F8CD6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B31C2-20D9-422E-B559-40F6CC2C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57B19-2DB8-46A1-B45C-6644B975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4022B-0F0A-4B78-AC8F-C5C1C8E5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6686D-5C1D-435C-8BCF-C77C53AB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F18EE-5388-4EB3-A3EB-300303F9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5B7-0961-4AA3-ACFB-B26C94B5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DD7C9-0232-4961-BDE6-19845F6C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B58A0-2CCF-4CC8-99CD-2810A9EF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F3647-90A7-489C-92A7-302BB098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808BC-D766-43D7-A465-478B52AB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4B647-818F-441F-AF3D-66719096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33D58-2CFF-46E5-B074-00058D1C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0504C-5614-4969-AC35-166BD089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79503-A3DE-4BD3-B2FC-FEEA2541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887B3-612C-4BEC-B91B-6EC3F122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FC13D-BCE6-4238-B14F-19239CA3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C110-FDA8-4C2A-BB94-0734785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62192-DDA7-4C1F-A728-43B257F5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5C257-714E-41E4-9A66-1D7E97ED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56EF3-A3B6-4CF5-BDF1-EC22A913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85428-33E0-4C8A-9DE3-01FCAB57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86117-4340-4318-A9F0-17752BCC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B39E6-6329-4FBA-9030-25DEC48D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3C411-9658-465B-80C2-6DFEC1A1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25F2A-8CCD-4B23-99C9-DF23926E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3E0D2-37AC-4965-BB9D-A405BF9C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4399D-95C1-4453-BBE4-6F0AFA79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4B0C-8976-4417-B832-4FE6F4DCD7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AD8B-4DC4-4136-AD7A-0F54E24E40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735A-7B88-4933-964F-DFA90519EC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FF43-650C-4922-9832-F3DCC0803B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B063-5BBD-4A6B-AC73-4FFB3F9472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87D1-BC14-40D8-8436-F7C5C034B7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7B5A-69E3-48C7-BC2F-D1E96510C6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1C86-E925-4552-95B9-E7EBBACB22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9977-6450-493E-B6F1-DE7096DEE7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6C95-4A74-4B69-954E-ABA257E04E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4973-EC57-4C92-8334-6150D95466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D451-1621-4F34-A625-AF991A4E27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755F-1C55-4FF0-91F5-F28FC1AD4C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1CC9-D190-4F7F-A152-94343E27D5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AFB0-1C02-4C4D-957C-222C023898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F4F4-45CE-4CA0-A89A-AD0D2DD495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BA1F-B9A3-49D9-923B-E6D1A5368D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BD55-7BC6-40C8-AC47-9238C008EA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766D-B08A-4945-8E59-75DDC4DF9C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B962-D0C8-4756-9AF1-914223F082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4423-AAE3-4B1F-A1F9-236F96C362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6F54-8B21-4DA9-B752-0FCB721DD2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6D55-3431-4926-ACD2-FC9FCFA8D1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6E63-0650-470A-9679-EA9C94F9E3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F5C7-3E36-4CEC-94E4-49CE8B3193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C38B-F48F-48A1-B41D-A669BD6ED3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58EE-3FFB-40C2-81B3-0730DCC6AC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8FAA-6E3B-4261-B84A-797E473109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25E4-0ACB-42FF-8861-94EBF8D6C5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ADBD-4AE0-4CD7-AD12-EA31165F3B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F5ED-7D1A-4855-9549-6AB30F969B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B03A-2782-4779-9E3C-0ACF1368A3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E2B7-689F-4337-A52C-F0FAAF0B59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FE33-7E03-4C00-B641-42435EB6B0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E413-B3B4-48C4-968C-FEFE811C75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4F7B-9C0A-40B5-A5E6-2A7C158374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B605-5164-4DCE-AB53-033FF30A9A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C31E-E23D-4127-A51B-BC1F10C442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8875-C1CF-4B17-B3E0-39846A88E2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2C06-E4CD-47AD-81F0-B9AD01E302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19360" y="3147840"/>
            <a:ext cx="3905280" cy="5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700200" y="803160"/>
            <a:ext cx="7743600" cy="55054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427640" y="2276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987640" y="3068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780000" y="38606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940360" y="3860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994280" y="5950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372360" y="5950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792920" y="595008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100080" y="1190520"/>
            <a:ext cx="8943840" cy="4476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7245360" y="24638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5867280" y="439884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600120" y="2409840"/>
            <a:ext cx="7943760" cy="20383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5532480" y="4140360"/>
            <a:ext cx="288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36:53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