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207-1E2D-4BF3-BEDC-F0C3F27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52E-0231-47C6-ACBD-D3F2072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1CE1-C08A-4814-B598-713AE012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781CA-B58F-4D22-ADB1-AB928A7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862E2-0AC3-4AED-A227-2EBD319A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C697D-7F3E-41F0-842C-8CFE1C82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C110A-A1CC-4778-AA37-5D8AC38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0A567-609E-464B-A15E-CB59D89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53D5F-B1F8-4915-9F35-3093156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32F0-97AB-4F95-BE4A-1F3718A5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FE21-F058-414F-A7BB-B0289187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0487-E823-44DF-B763-4738736C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7B6-F9E2-4988-8912-15B2F00E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88B25-F67C-4C8A-8104-FEFAEE3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C89D9-E3ED-4593-B7BE-1A9AFAD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F9973-E929-4B27-864C-EFA9A4A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16715-A5C8-434E-9FBB-B1C29863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6F5C6-5215-46FF-9E13-88DB712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C713B-4A37-4DD9-8E08-46F02B8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6D6C5-2B01-421A-875D-4AC0262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B995-9E47-4422-A236-18576E7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E4126-B957-417E-B296-EB683698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0E85D-B605-4C88-A128-73D0365F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213-78B5-4C21-8CC9-065A98C4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37ECD-E24C-42AC-A5DC-3D070882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7F0B-609F-4247-8C8F-BAA79293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F6010-DF22-48D7-80E1-0C7027B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09B26-8AC5-4BCF-A6D4-033C36B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A4DF-E3E3-4820-893A-F6CD2A40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ABEA-523E-4041-A2D6-21CD1D05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3D7AB-9C86-4A32-BCC7-B7FA7B92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3C9D0-C05F-49D4-B7E2-D4913CF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25D3F-2E32-42A0-84DD-0B45623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A329D-478F-4655-9549-BC4BF2AD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3242-E55E-43A9-B099-8C5E258A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8F8AD-B682-4368-806B-DBDC3C06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D2A82-7F1A-4C24-BE8F-9852F4E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EEE6C-62BE-47C2-A42E-F1D09C1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16B9F-8293-46E8-92B4-9D951C87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D518A-F18F-419F-A1C7-614751DD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39672-84C2-46E4-8345-8F4D108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C029F-7B3A-4F06-9208-047C943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25006-50FE-4B71-BCD6-7430C68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079BC-CAD1-4355-9A96-8706CCE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9C50A-8767-4C22-BAA3-7D89244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514-380E-4354-8DF4-5F006A32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131D7-50B5-4B4B-8B94-E85285A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64911-8A71-4655-8CEF-AA0A44A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C4CA4-6EC1-403C-A3FB-03260B6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BAC6-6CCF-4EF0-A674-2BBAC15F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022F0-A0F1-4F7E-964D-FCAFE45A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8836F-83DF-4886-9923-9B720AD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BD371-DF53-4973-BF86-FBBFC22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86A94-0229-44A4-AAA4-DD6EF5B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41BD2-35C1-4FB9-B453-F6E8E756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0B45E-CC2B-4724-9EFB-2CD8381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2E7B-B9CE-4108-8397-DEAACEE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23D39-6057-45F8-A62F-CAEB382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007C6-18F2-4E8E-8C5A-82F4D2A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9AAAA-8958-46A8-B197-3210733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CF40E-F5BC-4E79-A352-AFFC7AA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5296E-48CC-4C2D-8FC2-91927BE4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46759-DFE8-4B44-9642-4A52ABBF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16DD4-831F-49F3-AB1B-BAC59E2C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7ECF8-07B0-4AC8-8377-D210286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BB529-EFD3-4B38-B637-8991E97A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73BC8-BA2F-4A0E-A8AF-43BAD3D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413E-7E63-4242-91B3-F1E504D5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D715C-B46F-4E95-B270-88FBF59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84E37-CC09-4C6E-8D85-DF2723A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9A74E-F544-4360-856D-1818144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06530-BB82-41ED-8733-CD58882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723E7-C150-4613-8917-E050F1B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50C84-B35E-4760-87B9-77383F1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A19B1-8821-4D3E-A9F5-44B30B7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6798D-9377-489D-87D9-14E2F46D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49AF5-B871-4759-9FB6-7DE57F35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CD880-52BB-4EEA-A0FB-078CE6C9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26A2-29DF-41E8-AD8D-D75B257F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51D74-5BC9-4962-B494-CA9D7C63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A73E0-4470-4E2F-A1C7-E6DF02B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4C88C-3B5C-430C-A150-F2A2BF8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682E9-A87B-43C5-B94F-A4AD782F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5684D-4D94-4C35-98FA-04001207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84096-1E7A-401D-B314-E9946AB8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FBCC0-E29E-4844-A401-8E8799B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6E73B-C7FE-41BD-BD34-F51F0BE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32172-C7F7-472A-AEB7-721AE44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492EB-CD0C-4C4D-B2F0-27B9EE6B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551C-8AED-45E3-A679-011CD1E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202FB-D67D-4145-88AD-1DC0C184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D8EFE-1C8B-4466-9785-38316B1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3538F-DC5E-4A09-A0C3-1EF7E88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EB424-6958-4B3F-9807-394F477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F4279-EC37-467C-8B14-91D388B7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2A4D8-9BBC-4261-8A67-0E6C2674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570FC-3744-48C2-9FE2-878F3078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1F92F-A971-4EE1-B02F-3637A2D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F74E2-6CF3-4486-995A-DB3C0FC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F8276-09F9-424F-BE6C-CB29408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04F4-A05B-4AB4-AE88-13A2090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D87F4-0A0F-41BB-B838-FD992B7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554CF-763E-4070-943E-76F99B99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0A391-7ED3-46DE-BF42-E47EC365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B487E-1488-4792-8EF1-A38BFC6C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BF63D-F3A3-4A84-A840-C90BF1F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E6618-331A-443E-BCE4-60BCBB5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3A052-7641-406D-9291-02088AB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524BD-91E1-44E1-BF94-1A71ECF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B99E4-882A-46C9-85CC-487D354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553C5-4CE8-4B11-8B9C-9684A7A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574-DF30-427D-A0D6-16EC1A6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6DFB-80DB-4A49-8C41-8781E0F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0559E-3E46-45CB-96F7-845A510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0B8D1-EC20-4AC5-8801-0385283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60F23-DE23-4955-8C45-8353FC3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59D9D-E286-4874-9FF9-EE6D21C7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4DB09-07B7-428C-B8C3-D887C822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6AC53-0137-4286-AF71-B6D9F2DD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3FBDA-BCC5-435D-8514-2E8A6322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28907-88CE-4069-AC4C-152D4BB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B3FF4-05A9-4113-9B04-68745DC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D12DE-190A-461F-9643-38076CE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A8C-AA14-49BE-9B37-C48AFF5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77073-F9AF-4738-9E57-B5F22AB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8238F-3F5C-447F-9160-5C4BDC3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EC40A-4F14-4295-AFF7-70B2D7B6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BDB91-5E59-42E5-AB49-A42883A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C5751-1CB9-4116-8CAB-19A8D4B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4071C-BB39-463A-A309-11427556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F6610-C58A-4060-BBFB-661C5A2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FF808-AEE0-452E-9FDE-60E03953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E3A4E-68DF-479D-BA13-867160A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8D873-4F9A-4F1B-9EBC-713EEED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0662-C1FB-4415-9DEA-28C43D4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9A8FF-DC62-4707-B94D-63634C7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A03A0-3BFF-4830-8FE4-9AFCB0A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6B0A0-F460-4C68-9D81-6E05221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F3903-AE02-4629-A714-5F51C8E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3939D-49F1-4C2C-A738-0E503C0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AC277-520A-4A1D-A3E2-38231B3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E565D-A0A0-4F52-A988-3C84EFA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CC95E-3FAD-490B-8398-4D6464E0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412A5-E69E-4CEE-8344-63F82F19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652A4-C3B1-46A1-ABB6-1D146B9A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7FB-E99C-4A99-A3B8-4801031E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20148-33C5-4658-ADB1-FD0B310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00617-AB9A-4D45-941C-1FF50706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40EBF-C79B-49C5-BEBD-C4F976E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6E3EA-6449-4D2C-B17D-59026E04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90ED9-66E2-4462-9670-29BE0641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2FD44-D001-4925-B784-8E4CD034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1DB3D-2B97-4953-8BD4-8CB183F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FABC8-F63E-41B6-A6CC-C4F7BA5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98E39-B170-4477-B21C-423B5AC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1722B-1E4D-455B-90B6-1200DA06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8F0C-7B05-4040-B17E-D3344060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2CCE4-50E0-48CB-BECE-81142E18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87CCB-5607-41F5-8CB4-ADA70FD0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6049D-B4A9-4119-A61E-BA72187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F78CD-2B4D-4A32-8B48-36231A9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2A03B-554D-4A77-9DE4-42CECF8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E0F7D-9418-460B-A89D-FE7C2972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9B2F2-B07A-4087-BECA-9934C73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2D707-3DA0-4B89-9D1D-C9873C4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9C15F-C993-412E-89B9-EF559E8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5DDE7-9145-419B-99F1-A5D8BCE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6C14-6740-49D1-BA91-662D031B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E6C7B-034D-47DE-BEC7-5E034DDE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7475B-9518-4E5F-B207-3B996305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B3359-EC16-4289-861C-9392AD7A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DC64-292A-4D49-BBD0-5B902B77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C5A7-E834-4631-B970-DF91ED9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FCBA-21D2-4B2E-AF5D-55CB2A1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34A2-A70A-4D5C-90E1-D667A3D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61E-47C3-430E-8ADB-4E5D6FB9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70EC-0ACB-4D4F-8F9F-2B36CF2E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11F8-DDCB-4FD7-935E-543B3FF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2623-AD82-4488-9E24-CA83CD4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FD99-21EF-4C65-983A-B8242F25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836E-A0C8-4CF8-A186-0C076099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279F-E540-4A42-901F-D5CD3A5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937C-1DD5-4673-844B-4BB0AB0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00BE-8C1D-4741-9C9A-4F207A94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2503-165F-4583-927A-34AC44A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5B35-1C12-4CD0-96BA-5FA8E6D8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FD1-884D-4B6F-AA4B-8CF4ED0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747B-3EB9-4F54-B855-8BE9D9DE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7478-329B-48BF-8AB9-9CAAE262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783F-F1D1-4415-8697-0BC9B2C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CC8F-2EDB-4ADD-8BC1-8273BD4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2274-F8F2-429C-B5E8-A2CF0C0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F8FB-A237-4CFB-A097-E8AF79F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789E-D9C8-4B5E-BBDA-E404C2B1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E39E-EC15-45D4-A556-37D9F26D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45DC-5D10-421C-B836-CCB31C5D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E4CE-354E-4183-9516-AED271E8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4E5-1536-432C-8865-A7B57F4E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72BE-A840-4CE2-9C8F-BD9762A0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082F-8A26-42D0-B45D-9304CED2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CDC5-09ED-43E1-94B4-09BEB07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E1FB-79D7-4887-9804-4CFF88F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58B6-2E18-4D83-AA4E-F8722EC6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0B51-A555-4440-8593-89F8DE1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ED50-3F01-4E95-933E-1D0CC39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216A-0B2B-4AB1-949F-15B395A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ACA86-E9B4-4330-B601-D5E7B39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1170-8437-451F-A6A8-E0467CFF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DD2-1D05-45A9-B4FB-335CF3F9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FE0DE-BE5C-4AD8-B498-B7DE3BAB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F560-5891-4EC6-882B-001FB35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D77A4-B686-4E54-837D-335BEBB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A8A3-8779-4024-848E-0050C37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195AB-6F5B-4888-9031-6613C75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8E26-4B10-4A8C-BBAA-A34CC1E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18F4-BE06-4268-9876-DA00F1AB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9AE2-85DC-41B4-B7ED-51F34F7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4D14-DF0A-4E18-96AF-96F8ADF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6AE8-D2F3-4DB4-9F00-BBCB41C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06B-4A01-4947-853A-65BF0E4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BA65-4EBE-4336-B8DD-35EC79E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5661-7C04-4A34-9011-E388DFC3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4F9F-EDAA-48FE-BED8-CF0F19D0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0FB6-333B-4759-A8FA-DC966F9D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B60B-C833-4B4A-9A71-572052E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B40E-44BC-4EE4-A0ED-7D72FF2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5D2A-4259-4443-BD5A-B3DB1117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AD05-E02F-4B06-ACEF-C73EC21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5022-A06C-4FC4-9F36-AB1D791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E440-3090-45D5-AF0A-FB3F335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485-2C57-4AB2-ABE7-84C74F4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23171-D6D0-4F85-98B0-747D8A3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6E47-142D-40A0-8782-9920751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7914-347C-4839-99E2-C97831BE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8245-C5A0-4A97-8B03-81B19E44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81C0-A21E-4A37-92B1-0FDC7111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EDB6-E9C8-4694-89C0-6601C3C7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D725-C44E-43D7-9624-C3A5549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E224-C9FB-4D9D-AD0F-5611CEC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A7AC-6D61-463B-BBD4-37EB7D6F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FDF8-E6ED-454D-85D2-6AD247C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332-F824-40E8-B076-F2654FC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BE25-DFDD-4CED-AAA4-E94A922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A03F-3C8B-4CCC-94CC-9963324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4AE2-069B-49F6-A2C6-EE2A6CA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E316-F53C-44C4-9516-620E31C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F876-8C93-406B-95C1-0C67699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25AD-8936-4D65-85BE-BB4DF76C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1206-4925-425C-AD5E-A0492E07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C22EF-1A21-4E26-8D65-0BF1325C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38655-F8DE-4F94-A844-0A01F33E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79694-51BB-413D-9A4A-E22FB86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0E9-6E90-4E18-94BB-42CFDCEFF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E1C-28CD-48DC-8570-C187ED18B6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AE4-F854-4FCE-82A4-F6F5D74F1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2248-3687-4A08-A551-A6798A84B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E7F-55D6-46D7-B7F3-137CF1997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81F-8FCA-4826-97A8-7E93FC64E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FAA-7A54-4AFB-BADE-3CB1C56A7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E991-B64A-4659-A614-C9D35A65E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8F31-5407-43AA-8E22-D4188E4BFF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40C-5BE8-4E70-A28B-BCBD95470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5CA-41EC-4C78-9C22-F7D613DCE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80E-44C7-43C3-952D-7FDAB5229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2F3-716C-483D-93DC-ABA6ED029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BB38-85A1-4E1F-A268-7008FAFFF1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253-DCAA-4330-822A-14652205C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AC10-F7EB-4A4C-A31C-84CE57023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23E-D6D9-4A28-B30B-7ED46A8A7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B11D-BC75-4DDD-88EE-780547F32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466-44E4-420B-8D8B-ADFD26ACD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C158-2303-41E2-8683-653660CE7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E4A2-E581-4423-8205-4E9C2AB74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418F-E794-4BDE-A863-0B2F53F2F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07A-9F07-4CDF-BEAF-E419B9599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9613-8CB4-4FD6-BFDF-A07A247B9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33E7-2FDE-49A1-8DEC-F7255BCFC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987-2CFF-4D0F-8340-6E050E39E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831-88DD-45D0-ABF4-0BE22C2E2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FF9-CA19-4310-9B59-AF5BDCCDF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C44-038D-43FF-A529-68469CE2D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DC7-9AAC-43F5-AFC9-F400A91F30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18F-8B02-47A5-8717-5E42AF0E9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8EE4-BB08-4531-8F83-021AB2018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713-7FF4-4EEF-A5D2-88706B627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FBA-6EC8-4E4E-87D4-087A2B479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ED9-5688-4834-9B7D-CA7866397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022-A7B2-401A-9344-24C488B75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14E-5972-4186-9EB0-6C6B33E0B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064-2670-4DA6-AC28-3F3FD5EAF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0E1-07B2-4A4E-9DBC-9D7D1D7FC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06C5-C53B-4614-A159-8E7C511B7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0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3166920"/>
            <a:ext cx="45532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858960"/>
            <a:ext cx="8896320" cy="5810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95440" y="1450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1825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78280" y="184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7636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47636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476360" y="295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71680" y="3348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978280" y="2214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96856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2987640" y="293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987640" y="3348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35600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36572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375080" y="293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375080" y="332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75316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767560" y="2943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757840" y="332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145280" y="295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155000" y="3313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8532720" y="333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60451" descr=""/>
          <p:cNvPicPr/>
          <p:nvPr/>
        </p:nvPicPr>
        <p:blipFill>
          <a:blip r:embed="rId23"/>
          <a:stretch/>
        </p:blipFill>
        <p:spPr>
          <a:xfrm>
            <a:off x="620640" y="468144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60452" descr=""/>
          <p:cNvPicPr/>
          <p:nvPr/>
        </p:nvPicPr>
        <p:blipFill>
          <a:blip r:embed="rId24"/>
          <a:stretch/>
        </p:blipFill>
        <p:spPr>
          <a:xfrm>
            <a:off x="601560" y="569916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60453" descr=""/>
          <p:cNvPicPr/>
          <p:nvPr/>
        </p:nvPicPr>
        <p:blipFill>
          <a:blip r:embed="rId25"/>
          <a:stretch/>
        </p:blipFill>
        <p:spPr>
          <a:xfrm>
            <a:off x="611280" y="5208480"/>
            <a:ext cx="1628640" cy="3812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60454" descr=""/>
          <p:cNvPicPr/>
          <p:nvPr/>
        </p:nvPicPr>
        <p:blipFill>
          <a:blip r:embed="rId26"/>
          <a:stretch/>
        </p:blipFill>
        <p:spPr>
          <a:xfrm>
            <a:off x="601560" y="621180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60455" descr=""/>
          <p:cNvPicPr/>
          <p:nvPr/>
        </p:nvPicPr>
        <p:blipFill>
          <a:blip r:embed="rId27"/>
          <a:stretch/>
        </p:blipFill>
        <p:spPr>
          <a:xfrm>
            <a:off x="3232080" y="46832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60456" descr=""/>
          <p:cNvPicPr/>
          <p:nvPr/>
        </p:nvPicPr>
        <p:blipFill>
          <a:blip r:embed="rId28"/>
          <a:stretch/>
        </p:blipFill>
        <p:spPr>
          <a:xfrm>
            <a:off x="3213000" y="570060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60457" descr=""/>
          <p:cNvPicPr/>
          <p:nvPr/>
        </p:nvPicPr>
        <p:blipFill>
          <a:blip r:embed="rId29"/>
          <a:stretch/>
        </p:blipFill>
        <p:spPr>
          <a:xfrm>
            <a:off x="3222720" y="52102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60458" descr=""/>
          <p:cNvPicPr/>
          <p:nvPr/>
        </p:nvPicPr>
        <p:blipFill>
          <a:blip r:embed="rId30"/>
          <a:stretch/>
        </p:blipFill>
        <p:spPr>
          <a:xfrm>
            <a:off x="3213000" y="6213600"/>
            <a:ext cx="1622520" cy="40932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60459" descr=""/>
          <p:cNvPicPr/>
          <p:nvPr/>
        </p:nvPicPr>
        <p:blipFill>
          <a:blip r:embed="rId31"/>
          <a:stretch/>
        </p:blipFill>
        <p:spPr>
          <a:xfrm>
            <a:off x="5834160" y="469260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60460" descr=""/>
          <p:cNvPicPr/>
          <p:nvPr/>
        </p:nvPicPr>
        <p:blipFill>
          <a:blip r:embed="rId32"/>
          <a:stretch/>
        </p:blipFill>
        <p:spPr>
          <a:xfrm>
            <a:off x="5815080" y="5710320"/>
            <a:ext cx="1622520" cy="4093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60461" descr=""/>
          <p:cNvPicPr/>
          <p:nvPr/>
        </p:nvPicPr>
        <p:blipFill>
          <a:blip r:embed="rId33"/>
          <a:stretch/>
        </p:blipFill>
        <p:spPr>
          <a:xfrm>
            <a:off x="5824440" y="521964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0462" descr=""/>
          <p:cNvPicPr/>
          <p:nvPr/>
        </p:nvPicPr>
        <p:blipFill>
          <a:blip r:embed="rId34"/>
          <a:stretch/>
        </p:blipFill>
        <p:spPr>
          <a:xfrm>
            <a:off x="5815080" y="6222960"/>
            <a:ext cx="16225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9410" descr=""/>
          <p:cNvPicPr/>
          <p:nvPr/>
        </p:nvPicPr>
        <p:blipFill>
          <a:blip r:embed="rId1"/>
          <a:stretch/>
        </p:blipFill>
        <p:spPr>
          <a:xfrm>
            <a:off x="219240" y="795240"/>
            <a:ext cx="8705520" cy="5267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93920" y="1297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348000" y="128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354640" y="128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451640" y="13032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1486080" y="1700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48300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35464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58664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384200" y="207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3483000" y="207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5454720" y="2089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3"/>
          <a:stretch/>
        </p:blipFill>
        <p:spPr>
          <a:xfrm>
            <a:off x="7451640" y="2089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9423" descr=""/>
          <p:cNvPicPr/>
          <p:nvPr/>
        </p:nvPicPr>
        <p:blipFill>
          <a:blip r:embed="rId14"/>
          <a:stretch/>
        </p:blipFill>
        <p:spPr>
          <a:xfrm>
            <a:off x="2133720" y="4527720"/>
            <a:ext cx="1622160" cy="40932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424" descr=""/>
          <p:cNvPicPr/>
          <p:nvPr/>
        </p:nvPicPr>
        <p:blipFill>
          <a:blip r:embed="rId15"/>
          <a:stretch/>
        </p:blipFill>
        <p:spPr>
          <a:xfrm>
            <a:off x="2143080" y="40370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59425" descr=""/>
          <p:cNvPicPr/>
          <p:nvPr/>
        </p:nvPicPr>
        <p:blipFill>
          <a:blip r:embed="rId16"/>
          <a:stretch/>
        </p:blipFill>
        <p:spPr>
          <a:xfrm>
            <a:off x="2133720" y="5056200"/>
            <a:ext cx="1622160" cy="409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7"/>
          <a:stretch/>
        </p:blipFill>
        <p:spPr>
          <a:xfrm>
            <a:off x="2700360" y="5599080"/>
            <a:ext cx="129528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9427" descr=""/>
          <p:cNvPicPr/>
          <p:nvPr/>
        </p:nvPicPr>
        <p:blipFill>
          <a:blip r:embed="rId18"/>
          <a:stretch/>
        </p:blipFill>
        <p:spPr>
          <a:xfrm>
            <a:off x="6232680" y="4527720"/>
            <a:ext cx="1622160" cy="40932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59428" descr=""/>
          <p:cNvPicPr/>
          <p:nvPr/>
        </p:nvPicPr>
        <p:blipFill>
          <a:blip r:embed="rId19"/>
          <a:stretch/>
        </p:blipFill>
        <p:spPr>
          <a:xfrm>
            <a:off x="6242040" y="403704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59429" descr=""/>
          <p:cNvPicPr/>
          <p:nvPr/>
        </p:nvPicPr>
        <p:blipFill>
          <a:blip r:embed="rId20"/>
          <a:stretch/>
        </p:blipFill>
        <p:spPr>
          <a:xfrm>
            <a:off x="6232680" y="5056200"/>
            <a:ext cx="1622160" cy="4096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1"/>
          <a:stretch/>
        </p:blipFill>
        <p:spPr>
          <a:xfrm>
            <a:off x="6799320" y="5599080"/>
            <a:ext cx="1295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8373" descr=""/>
          <p:cNvPicPr/>
          <p:nvPr/>
        </p:nvPicPr>
        <p:blipFill>
          <a:blip r:embed="rId1"/>
          <a:stretch/>
        </p:blipFill>
        <p:spPr>
          <a:xfrm>
            <a:off x="128520" y="623880"/>
            <a:ext cx="8886960" cy="566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55640" y="2157480"/>
            <a:ext cx="1655640" cy="2570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4716360" y="2152800"/>
            <a:ext cx="1656000" cy="2570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1656000" cy="2570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4643280" y="3274920"/>
            <a:ext cx="1656000" cy="25740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58378" descr=""/>
          <p:cNvPicPr/>
          <p:nvPr/>
        </p:nvPicPr>
        <p:blipFill>
          <a:blip r:embed="rId6"/>
          <a:stretch/>
        </p:blipFill>
        <p:spPr>
          <a:xfrm>
            <a:off x="874800" y="47149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2914560" y="4778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58380" descr=""/>
          <p:cNvPicPr/>
          <p:nvPr/>
        </p:nvPicPr>
        <p:blipFill>
          <a:blip r:embed="rId8"/>
          <a:stretch/>
        </p:blipFill>
        <p:spPr>
          <a:xfrm>
            <a:off x="874800" y="587520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2914560" y="593892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76801" descr=""/>
          <p:cNvPicPr/>
          <p:nvPr/>
        </p:nvPicPr>
        <p:blipFill>
          <a:blip r:embed="rId1"/>
          <a:stretch/>
        </p:blipFill>
        <p:spPr>
          <a:xfrm>
            <a:off x="147600" y="2009880"/>
            <a:ext cx="8848800" cy="28382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"/>
          <a:stretch/>
        </p:blipFill>
        <p:spPr>
          <a:xfrm>
            <a:off x="826920" y="2482920"/>
            <a:ext cx="2521080" cy="2570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611280" y="3943440"/>
            <a:ext cx="2520720" cy="2570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520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77825" descr=""/>
          <p:cNvPicPr/>
          <p:nvPr/>
        </p:nvPicPr>
        <p:blipFill>
          <a:blip r:embed="rId1"/>
          <a:stretch/>
        </p:blipFill>
        <p:spPr>
          <a:xfrm>
            <a:off x="204840" y="1252440"/>
            <a:ext cx="8734320" cy="43531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684360" y="333864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5"/>
          <a:stretch/>
        </p:blipFill>
        <p:spPr>
          <a:xfrm>
            <a:off x="684360" y="370692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6"/>
          <a:stretch/>
        </p:blipFill>
        <p:spPr>
          <a:xfrm>
            <a:off x="4726080" y="4888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7"/>
          <a:stretch/>
        </p:blipFill>
        <p:spPr>
          <a:xfrm>
            <a:off x="4735440" y="5248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8"/>
          <a:stretch/>
        </p:blipFill>
        <p:spPr>
          <a:xfrm>
            <a:off x="8469360" y="2349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9"/>
          <a:stretch/>
        </p:blipFill>
        <p:spPr>
          <a:xfrm>
            <a:off x="8469360" y="2762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0"/>
          <a:stretch/>
        </p:blipFill>
        <p:spPr>
          <a:xfrm>
            <a:off x="8469360" y="3141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1"/>
          <a:stretch/>
        </p:blipFill>
        <p:spPr>
          <a:xfrm>
            <a:off x="8388360" y="357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2"/>
          <a:stretch/>
        </p:blipFill>
        <p:spPr>
          <a:xfrm>
            <a:off x="8379000" y="39528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13"/>
          <a:stretch/>
        </p:blipFill>
        <p:spPr>
          <a:xfrm>
            <a:off x="8478720" y="4375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4"/>
          <a:stretch/>
        </p:blipFill>
        <p:spPr>
          <a:xfrm>
            <a:off x="8379000" y="4797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5"/>
          <a:stretch/>
        </p:blipFill>
        <p:spPr>
          <a:xfrm>
            <a:off x="8379000" y="519588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4:33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