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DC9-EF52-4205-BBAC-E2621FB7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E22-D4C2-431D-81CE-23FE53A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E569-6F6D-454E-9F94-6E74206A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1F870-8683-40FD-B2CE-BD2940BF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1ECEE-6EB5-4CEA-83FB-724DBEB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5CDF4-4BC6-49B7-A40F-25361D6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CFC5-DAA3-47B7-83D6-71E0E4EE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CE424-50D9-4066-A945-09AD228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8D899-C4E5-433F-93E6-73358F0B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DEE2-68CE-4987-816E-C963E956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11931-BF09-49C7-BC67-3A1DA726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F8D30-8654-4667-92FA-F6C8571A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B13-14F6-4E2E-92A4-20E03955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97DA5-5A6E-48B2-8B33-E4D7C3D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E6946-46FC-4AA7-B5BC-B48498FF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2207B-2C93-40CD-B616-6ED2EB65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B692B-177E-4F6D-AF1D-B8B67D2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1D993-A58D-44AA-9346-1D74FEB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5D943-E865-4F5F-9B66-76D8F57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6114D-147E-4C15-A779-6095757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AD4E9-EE18-4DCB-833E-665ADA9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1ED50-32D5-4341-9C47-BC3E8C75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E5292-EE6D-44A4-B4DC-855BC51E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4F8-2EE8-4FCC-A06B-75F2BA76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410E7-DD24-4788-A9CF-97D7B81A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62A94-023A-4272-ADF6-6DA2C39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76B9C-6346-4861-8B02-8831F57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4CF4-2415-44EB-B6AE-A00AC6D5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0446-3953-41B7-81C5-4E237A41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6BA14-96CA-4877-8116-303D65CB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B82E-41D0-41E2-9FA5-06CB2CF8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4B77-B958-4CE0-B47E-CDC259D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3D85-5515-4ED7-8738-8241A4D9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8C772-C513-4E62-90B8-A6C43483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2814-E684-46AB-80AD-7C2002D3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436E3-A148-41CC-8D95-620CBEF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AEC2-CE21-496D-9D03-0A48A398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B7483-A01C-45B4-BDCF-5529DC96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7F8FB-A991-459B-80C2-FE64BA6A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4E04E-F589-4067-8D34-A0D7CF20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3A059-E44B-491A-9592-49B789C1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0DAAB-3C6B-48DB-8676-5DE1F1F4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9F39E-8099-476D-8265-F88E76BD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A7C0B-85EC-458E-97C6-73166B5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1A0A8-6EB1-4C8F-8AAF-768C406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CA3-14F7-4018-858A-808ADA19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A16D1-1125-4F26-9EBA-13BD0F0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EE182-5824-481B-A5E9-0886A69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1D65-03A1-4A8A-A516-C94AAD5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FBF5-3BD5-4F34-9FE9-AC45EA74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39D9E-3B30-4773-819F-50D9E505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7CCED-9E9F-4D7A-B58F-377E304C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9D05F-00C9-4EE8-8882-E86450B7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3007A-36C7-4E41-A25C-BA092B5F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D2135-AA63-43D5-BABF-2D1644A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49DCC-3515-4AB6-B547-1B4FD22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0AD7-C9E0-4C18-9389-CB60B14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4967E-87E3-442B-B187-6A0C3A5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12FD5-9430-43D5-AB20-1502AA1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2ADDB-AD21-40BA-852E-0F9ADA0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15068-0DAA-4744-A602-9CCF62C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B0C0A-4560-4C86-ACCF-6B27F59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D7D82-4FF5-4FD6-8055-76A7A448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AC980-D230-4BBC-BA5F-E33E17FC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F227B-ADE9-492A-8D8C-36ADD26A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FBEAC-D232-4ECD-846A-7ADED1B3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F4AD3-BDBB-4416-A59C-BBA8B47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3DDA-BDA1-46DF-9EB4-12CE707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8EC64-11F6-45D6-9E9A-0F631ECC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73EFF-E2E9-455B-ACE5-9B00B8C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A2659-91D2-4873-809D-B6DF595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F8DEC-325C-4779-A5F6-7E8940AB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B1064-0388-45E9-96E2-7D23ADB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39385-51AD-440C-8DD0-2C93636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9BA68-7D87-406A-B3AA-D7DDE2E9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CE027-56E8-42AE-B03D-D29D3DA3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B2B38-A843-4707-BF37-50131923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1EA66-CC78-49DA-9084-03CC073D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8C2A-2AFD-4E3A-AA39-661CFAA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352EC-4F78-4379-8B4D-9F816AD9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0EB85-345F-4023-8478-FC82649A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096F9-D0C7-4534-BCD7-E4645DA0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06411-8255-427E-B119-ADD5B54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B53D3-37D4-450E-A34D-BE3807B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CCD0B-4CDA-4789-87B9-8FD4387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1792D-04D0-4A82-A5FF-153440A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0E587-91F8-440F-A3C5-95570FB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1A3FB-3525-424E-A12E-824E023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E236C-4363-48CF-BE58-BEFA2353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975-619B-44EA-80AF-CC231FB4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E1C63-7AD5-4072-8826-348BD974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CD291-56A6-4AE5-A36C-6C1A12B0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7B42F-7082-4EE1-9068-4CC6B1BA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B0E43-942A-4B30-B18D-611AFD9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3FCB3-0095-4DBF-AA45-CD1070D6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30A68-EDD4-41B8-9A19-915626A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B0C6E-0D0B-4F77-A0E6-96EFE61B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954D2-3FFE-4BC1-8565-A621BF0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0F92C-AE78-46B7-94A2-E453FD4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CC0A3-1F31-47DB-A34D-A21C2E5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272C-DEB1-4900-8937-CB5F117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35F20-BBE1-4688-9F75-73EDCAE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05637-8D11-46E3-AC33-97592A5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05D43-380F-4B8B-935F-30B9D52A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F2098-BD72-49D1-AC13-02BEB661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A78B7-A4DF-473E-9DC8-423EA93C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9D333-8F1F-4E9E-9B1C-B3CD29AB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7B8B3-520A-4FFF-98C5-5F56D6A4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25BF3-319F-4141-B8FA-EC3C92D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35816-DAEF-452E-9679-B9AF3259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1B02C-F0B8-4AD3-AC4B-4CD8FB5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4CF-89FC-4B71-BDD8-60ACE7FD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100D-1183-4425-88A5-A13295C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8648F-AA8D-4231-8801-9F5A977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983AD-483D-492C-BBCB-417CB54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37DC1-ED28-46CF-AE72-9E26F63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3C14E-0ACB-4497-A00D-2088F98B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23BCB-BB52-4A2C-BF04-765A0D5B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77EB2-5045-49EC-9096-913EE750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27197-74DA-48FF-BCA3-C9747CD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1B4FA-2352-455B-92CD-81F4A66E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DA8C1-DA8D-41F7-9E05-0844ACFD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0E173-8BED-403B-AA97-FBF86B08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465D-989E-4C31-A6A0-EA331E9C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484DA-C522-4886-82A4-046A2F50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5A968-0D1E-4797-9CBC-7DAD914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5ACA7-3FBB-4B5E-A6E2-AB72042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033E5-0831-4C44-9AF9-169BCD3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01F94-1F2D-48D0-A121-DB7DCD9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47D13-A3F7-49C7-A206-5649401A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642C4-5D78-40F0-AAA2-A613342D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090CC-356C-4EFA-98BB-6CD333AE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CA3CD-0D13-4983-ADBA-0A6D635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F741F-AE01-4EF9-B471-32EAF1F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F033-89D1-4102-B546-D8E7FC0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BEAB3-FC73-49B8-92CD-C4899CD1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348BF-62A0-4493-88AE-CF4E22C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3624B-2182-40F6-A177-71C45616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C2F56-C740-4BB4-9563-24B2DB3F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A077E7-F04B-42A0-94E7-FDD4A67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F0439-DB1E-44DE-9AC8-00B68F84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F4F63-2F59-401F-BF8D-46639A9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5630B-FEA9-4597-B700-5D9184BD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555BE-2AE4-4EC6-BC6C-3E40EF5D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33343-6B26-45CA-86C5-E8DAF29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E912-1D71-4343-B807-A1E25B13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634D6-212E-4F61-B8E7-EAE2C058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E6A6D-12E8-4C95-8CEB-305927A8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CFB1C-7508-4B48-A97F-7F21DFD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78DBD-4A83-48DA-A274-9845AA9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824DE-2CF0-4B00-8E48-FC61AA60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32692-ED8E-480A-92FE-2A99B9D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6EFF4-F32D-49D6-AB55-C04010B0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DD104-4E2F-4CCE-A501-21DA84B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91618-0F67-49D4-B7CF-50A54554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EDACD-28FB-491B-8490-52AF6E2A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D5D-5FD0-4C06-90D4-66F62E79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CA41F-5F61-4A27-A4E5-D4EDBC72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31054-59DB-4E41-A9E5-A54CD874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B7D98-E599-43CC-BF10-AC722277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DED40-FB2A-4AAF-B1C9-7C4D643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B422A-9E49-486C-A793-8E8D1AC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A8304-8DA2-46F9-8EA3-5238B752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7323F-521E-424B-8BEB-AA43979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91D6A-7F80-4B5B-A264-E9E67AB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98EAB-3AFA-438E-B135-2E81E9E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FC362-A854-41BB-A83A-24AD21A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0D6B-E0D8-4BF2-9281-C457B0CD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6E635-9E69-446A-8DCB-4AC531A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35C69-FF55-42A9-A2E0-AA2213AF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33F8A-3AE5-4A6C-AD05-6AAA91D5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0615-9746-4BCE-A6F2-A9CE91EF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ADA6-2486-47A9-B2C0-A087472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D10B-CED5-4D47-B64D-A05218A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99AB-8BFD-406C-87F7-42DE5E28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F1C-B4AF-4CF9-8340-356F4121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3AE00-358C-447C-811D-CDADAEE6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0C45-9824-4ECD-9905-09306A4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33F2-C104-4FBD-870F-CDE49F1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DB06-20F1-4397-9858-9E11707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9E3E-F17D-496B-9D50-43FB48E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479C-EAE5-4198-A991-EF574865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C869-5239-46CA-892C-74135099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88CA-8C4D-43A9-9C9A-5F5A506E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7283-DDD3-415A-8B3A-979BA906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AF98-1C8E-4554-8FEC-7F6028B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F4A-E5F9-469A-9413-0937FF24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3DB1-A31B-4964-9F8F-79E41DF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C1EB-5082-431A-BF03-774B26D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74A4-7828-4153-8427-8DF1A93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82CC-5DD1-4393-A038-820DA05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076E-394B-4CA3-A75A-34DE89A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9449-9D10-42E2-8386-3A150B7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9B4D-8E22-4FE2-8291-F3EAD6B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1904-AE45-4EAF-8094-84B7C24A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1ED4-094D-42F5-A91C-E045908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4F6F-031B-4BD7-A60D-5ED41795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527-EAFF-400E-BFAD-EC2C0C6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D159-6E66-4D9E-9591-6609617E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1FC0-ED44-42AC-92AB-9A75BF9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0061E-417A-4B9E-9523-AEBFDD9E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F05B-66AF-41AC-92D1-660C5C2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9F1BF-3D41-41AB-ADD9-A725A80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9224-E720-4AA8-9FAE-E234EDA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F577-A3D1-439C-AF15-E80A4B6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D0381-A9D4-423B-83FF-C75199D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FB69-56FF-4D54-8E07-52BE1FF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955B-F991-4FAB-A9E7-CF6F5BAB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14B-2A28-4592-80E4-74C4F2C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1AB57-2012-41E3-919F-36CFE643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D7F0-0D2F-4B25-A2CC-5072617A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8975-38FD-4F12-B795-C6F0D81F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FBA5-3439-4C8A-B109-011E2C4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070B-4C5F-4E95-8107-201E2023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80A5-03A3-4DAC-90D2-644B1E59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092F-2C56-4EE6-BC0C-C5529F0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5B2C-5C8B-49F0-9B36-CAB91D1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372CA-CE64-4606-9D61-86B131F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BCAB-FDA1-4CC5-B5A7-022906A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30E-475B-47A6-A3DF-1D9A9F3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ABCE3-2555-42B4-A86B-28E9A586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AD05-F9F2-4DE7-81EB-9D85B0A7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A31A-C600-470E-B2EE-7796264D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E553-50BF-436D-93BD-3F090F46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DD1E0-86B9-469B-ADA6-13ADAD8B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5C1CC-3D97-4048-8D54-62AAB6C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ABA97-77FC-4C2B-8B81-9894508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022C-BAD1-4F85-B398-0BF77C9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95EA-B881-4AFE-97E4-D6B378E2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9723-D70F-4A79-A977-E016CC1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99A-910A-4085-BE4F-87BB975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84BF-9D61-4851-ADE6-5D8D3F1B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A3B11-E29E-4E2C-B486-37BBE9E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AC45-844B-4E76-8D79-1A0925B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56F1C-99BF-4E98-8800-B5083A2A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5C326-AACE-412F-AA1C-A8C333F9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FCF5-7D92-447E-8762-7F18B7D7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60E88-FFEF-4010-991E-A0CE774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30D6-794D-449F-B3D9-AB43E607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BA24-35AE-44D0-ADE0-6105744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B95E-8613-44C8-87A7-65E6E0D1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6CD-A299-4548-A68D-8BCFAACA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0578-D844-4982-8071-4B4D06B9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E6D25-7BEB-4FED-B0FA-7D5F8BD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3284-B335-4C61-8741-B95FF31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746B-E4A0-44AF-8B08-F44FF37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9989-3F57-4D82-8156-3CD9A0C2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E15A-1A4E-43A3-8D9C-469E1EC6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7BB4-FD04-45AE-B20C-159927C3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329B-AFE8-4F06-9C9A-ACA51E6A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9CA53-AE53-4FCE-A429-7C5C8C8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B945-95BD-4FDE-AB08-B2330D86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D42-571D-47E9-9581-A3C72905F4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9B34-F7D1-4E56-92F3-A68684A17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5081-7B50-435E-A84E-5DE9FA3080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662-8460-4DCD-B9E1-A3A0902F3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906-62AA-42D8-8282-D8EC6B5CC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613-CACE-4F39-B2CF-A44B3B1BF2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9C30-CD94-41BA-9459-E1D5EBA4B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CC7-F9D4-4492-96C0-ECCBB18E1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11BF-4B5F-4729-B405-4FAB74D09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3FF-9E9B-41CA-88B8-610FC65BE9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EE2-5642-4858-B674-1D6685E23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FFA-5635-4D2F-AD24-F34AC7E90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E6A-6682-4532-9900-46DC5B05D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2EF-F024-49F1-874F-A66969F03D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058-B3F7-466E-9F14-0CA44D4E2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3A49-F088-4F29-9DEC-5CFD1B218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134-7239-4E44-818C-0C72B4A77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8FA-8B04-4BAB-BB20-E779BFDD6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F4B-72D4-4D22-A82A-CA36CE4F5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65D-7450-4C14-A63A-37DC84D13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9A6-FAC3-4CA4-BE87-15E03ED5E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B58B-845A-4BFD-8965-99FBD1896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8E5-706D-444A-BF95-5DCF0064A1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6AA-0D46-4854-AC7C-A5F434FC6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17C-06C2-434A-82FD-A7D337CA3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32FE-8DD4-48EA-BE60-A711C043D4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AE56-F678-484E-8F05-495B5FF24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192B-AFB1-44ED-998E-D422883DB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9E9-FDEB-4FE9-8409-D6403C2B7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A63E-83EA-4780-B3C7-D58EA4BA2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2B09-5A06-4641-8C26-679AA0745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141-A38B-4277-BD09-24040F28C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9DD-A473-4770-991F-42CF29F28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D4FE-094D-4EB7-B2CD-602B37544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7E48-40CC-4A53-80E3-A683CC156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3E7-FD87-447A-A0B8-A2F0A4BC3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9EA-8CDA-4902-B624-D25586A0B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F8D1-5DAF-4BC8-A03B-0B36A51F2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FF2-096A-4A29-95D1-D51895443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637E-77E4-4176-B18D-83B1A355F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57480" y="1628640"/>
            <a:ext cx="6629400" cy="1257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19480" y="3641760"/>
            <a:ext cx="45050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57040" y="1195560"/>
            <a:ext cx="8629920" cy="4466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684360" y="317016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43927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62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262080" y="1566720"/>
            <a:ext cx="8619840" cy="48866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81400" cy="1181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46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460836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373720"/>
            <a:ext cx="460836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84360" y="5964120"/>
            <a:ext cx="662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5840" y="870120"/>
            <a:ext cx="8572320" cy="543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348000" y="2867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140360" y="458136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588000" y="458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124000" y="5805360"/>
            <a:ext cx="115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2143080"/>
            <a:ext cx="7914960" cy="2571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04720" y="1400040"/>
            <a:ext cx="8134560" cy="4057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916360" y="4781520"/>
            <a:ext cx="19429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516720" y="4781520"/>
            <a:ext cx="1942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247760" y="2481120"/>
            <a:ext cx="6648480" cy="1895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508720" y="3803760"/>
            <a:ext cx="230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81160" y="1504800"/>
            <a:ext cx="8581680" cy="3848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042920" y="293832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6920" y="35290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900000" y="41338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4724280"/>
            <a:ext cx="755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09600" y="1481040"/>
            <a:ext cx="8524800" cy="3895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84360" y="2867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632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12720" y="4091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24000" y="1214280"/>
            <a:ext cx="8496000" cy="4429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74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85840" y="1185840"/>
            <a:ext cx="8572320" cy="4486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319896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539640" y="384660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98560" y="4379760"/>
            <a:ext cx="5905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027760"/>
            <a:ext cx="59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5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