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C3F-38C8-444F-9169-5A1A7A37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92D-A02A-4272-8489-B9157D5F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8205F-3D11-43A0-9E1F-D3795D8F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E38E8-5624-49C7-A5FC-8654D1AD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94F28-E49D-4CEC-9BF0-B22A247F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C4134-27B5-485F-A244-EFE169E9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9E941-89D0-4FFA-B090-C09D959C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9118F-C067-456C-8F92-5D67E567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98966-319C-4CB6-AD12-4A618A1C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929FC-772C-4711-8A93-033FE7D7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C6971-A243-4A54-AF3F-FF647344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DDD0D-6910-4B75-ACB8-33E22395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69A-9364-474D-8262-D98547D8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C7910-B745-4B88-B1BD-485CE9F5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A2600-B9A3-4EF4-A55B-CB7CF223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D115E-C81C-4273-9020-5B33C0F5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BBFB8-B761-4753-B6FD-4B9E78ED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39BA5-6D66-4C8F-936F-2FAF59A3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7C446-9747-410C-9387-2009AC6A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21A2B-60E0-4CBF-A78B-DEBCFDD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4C062-CEAF-4564-A033-76FB81DB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1F5E1-22AA-43E8-BB12-0053E793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BB1AD-D325-42A8-B797-8B2E82F5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6D7-2AF7-4295-B732-B74C84FB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D47A6-1583-456E-89BB-AE7FD630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0D56F-4B32-4ECA-86BB-61733A40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C7390-7A8F-4FFE-BAE3-0AAF6949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9E5CD-89DB-4760-82F7-3689025C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5B39D-BEEF-4188-B51A-6B4296CA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E1C42-6E22-4763-9C6B-5541A864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EFF45-8E5B-4A0A-AD19-70C0DBDE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4EFD6-9178-4981-A6C3-C7F4D33D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F8595-7B6E-4478-90A5-8DBBD610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A1710-0F2C-40C6-B517-BD6E12F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F5C4-3223-4F1C-8883-F812440C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53C95-1C60-4D9C-9C57-9B68AFCF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DB8D4-9C9E-4C0F-8C65-27E37CD2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EB6CB-9DA9-4E3C-B07F-54DF5C9E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C5245-F358-4D39-9B8C-E4724F4C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29168-F4EE-4105-82DC-B6151DBC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AA124-B794-4F99-B663-4B6E7356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86EEC-FBC9-4429-A05C-AE0799B6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89B06-4888-4336-BFF3-6BF9748B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C52EA-6772-498B-AE1E-7BEB724B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3901B-43D2-4681-86B0-653DF825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2B29-8EEE-4F24-B97F-3DBEBC63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E8AC0-126B-418D-8958-9AF4FCA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A9165-AEE7-4352-AF9A-2030BF7D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90BA5-004A-41A4-A1D8-AAE32057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3AEE3-D9BF-4CAF-8F57-5FB0AC0C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6EE0C-B2E7-4246-B9BE-D78178EE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4D978-105E-4659-AD87-18685B64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FBDA7-D539-4A35-BE45-BAD0775E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E08A7-FAEB-490F-BFBD-2D513000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9E4BD-D5A0-4775-B49D-B6FDD31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D5828-E875-448B-833B-BEB3490B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4428-1C72-49DF-A53A-02F73792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36B1D-1430-441F-9C35-66E2BC12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1C239-19E7-4E45-9FF7-0D9AABAF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45A04-E48A-4570-9E54-3F0C79A3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27B1B-D982-4F45-83E5-80134AC6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E3E36-ECC4-4582-BA4C-47285D0D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BCBAE-0CEE-4E08-94B2-2FFA2AB5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2A895-A21C-4580-B350-4C23D9F2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489F0-7424-412A-B2AD-CC103BF1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AF058-EE26-4608-95B3-9422C0BD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FCC04-D547-41A7-8D76-A678652B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CADD-4485-4700-893C-0BAA5520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B9981-D547-49D2-A1E5-CFA9DD72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F7EDD-3D6C-4FB3-9866-C39693B1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A74F6-62DE-43E3-8F67-64574B80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A69F8-54DB-483D-ADD2-B258919C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7FA19-648E-445B-9BF8-BD8D6071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14E5A-3626-4E81-B3A3-9D35C5A4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AC1AA-F261-436C-BD28-5CE07FD9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0FC64-5652-4106-9435-47C53675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5E6D0-D358-48FB-B5F7-2215E8EA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0698E-EF59-48C3-8EB3-03E65D63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8339-3FC8-46CE-B180-055DFB16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06D28-2FC2-4D85-B326-C2B50AED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3C382-FFD2-4B29-B765-564D5ADC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9EFE4-4ECB-41B5-8D7A-AD4C2E0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9B7C5-A0FC-4627-A0E7-271FF247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3E89A-40EA-4A90-8D87-01F1FC76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8DE0B-3B4E-43CD-B529-64876847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175FC-EEFE-4790-8439-7418709C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3B95E-96A3-4DA5-88A2-0A237F8C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E0963-FBF5-42BF-B215-407A9C6F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FCE48-FA7A-4ED4-8280-64E253CC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40D6-120D-43ED-A329-5FFCBA70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19AC0-82C8-4D3B-A023-37BB7B81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26A979-3E00-497E-8D0B-219A55D0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A1DEE-E534-482E-8EB5-5B3B9D5B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82509-3782-4236-8044-D75F9723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2F366-5236-4E75-B1FC-E50E1A8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E3F6C-F82B-47D3-9BEC-D9524817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A776A-5C01-475A-9D8A-32E92E50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71D90-7443-498D-9540-519B3FEB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AAB61-844D-40F6-83E9-CEEBD371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01570-01D6-4F66-A45B-95221509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6A9E-88FD-4E45-A999-704C7330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1B8EC-B89B-4358-A0A8-FD2C9358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8C1BA5-B1D5-40BD-885A-DC2D8208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1C4B7-4BC3-421D-AFC0-607A8403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E47DB-5177-4E5A-A5AC-738A25D9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7742C-817F-487B-A2A1-89A3C4C9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5828C-22AC-47E5-AA2B-73C91295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CC0BD-70C1-4967-BC1E-D65616CC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5BBF2-AD52-4D80-AE82-EBF4274B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8C189-A24E-4FC8-884C-3184A387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89755E-A10D-465F-9287-C355F184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D5E-E08D-4F26-864A-E940905B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6719-F8F0-410A-9495-4A8F436F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D4A486-0DBB-473F-B0EA-660456E5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6D15E1-CD91-4CA7-AE95-40B19056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E89B7-2494-401B-B9A7-D736F070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39ADC-F13B-40FC-8B7E-96D32532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135B0-B4C6-4D43-8CEA-8F390E51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CABB8-EED1-402E-8599-7AFC3546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57C84-25A6-42EA-BB65-25EEC435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F8B1A-86CD-4119-A0D0-B073665E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C978F-3E40-42BA-81B0-257377E6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9F9E9-1AC8-4C5E-B377-EA865A17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E822-6C6F-4888-AAAE-7868ECFA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5A760-7849-486F-9A2E-5BA99CF4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381BE7-C3F6-47A5-946F-EB81AD05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413967-F12F-4316-BAC1-672B3340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6DD9D-60DA-48EE-B9E1-C797CBD4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16DDC-43C2-476D-986C-4995CEE2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FFBB3-F469-460E-A20F-5A752D5E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AD999-E7BB-4139-B7AB-DE2D72B4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69CF1-3D30-4972-8A01-E60DF096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749FF-504D-4FE2-8506-D4902ACE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8A0392-9A18-4FA9-8DFB-807F49E0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AE1D-D47D-43A0-A4B1-29B62112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D5E6F-C7B3-4D9D-A1A1-0C7866BA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7865C-F5C3-4B7E-977A-4C83E479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740B5-142D-4BDD-A075-D04EE237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939E8-8D1B-4AB1-8F0A-249E90A0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31F8B1-29B9-45B9-9361-9A35B044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A05BBA-E0A9-4C82-9BC4-70B228D9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2C367A-3066-4ED0-A636-2EBCBCD7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8CDE0-AB3A-4C8E-B876-EE35A472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0E25B-F68D-49F8-9461-7D88E423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B7B60D-5D73-4529-A228-743F0DCD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A733-7005-4B67-8AFB-591435DB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595FE-D3F0-46FC-9E81-34030E4F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D2E6D-A6AF-4C2C-B5D4-E3B6FDFA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B7FCC5-423D-4408-94AA-52A88277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30AC8B-3A95-46D4-A47F-FA75B5A8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5DDBF5-FF3E-4712-B917-2E4BA858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F73300-A994-43E6-8EE5-F4FEC55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C95B5-4BC8-4106-8CD4-11219859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7488B-F049-4BF1-BCCB-33D2C37B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9C2104-59DA-4732-B32B-72C3E1CF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845631-4C24-4097-BC17-62E040BA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5520-9935-44A0-946F-7C9BF877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93BB14-D5E9-49A6-8B7D-49E3FD8C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7029F9-E924-4F47-B1F0-F4693542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ABA33-62D3-43CB-BAA0-C75E2A19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0CAA2-F65F-46AF-9785-AC35660E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85E2B9-F25E-4908-B038-3C0F434D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57161A-EDFE-4E12-9CA9-E3A718E1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4C42D5-344A-4314-B164-4A2E99CD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7CB568-0632-4028-8754-B5C5DE46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A5E408-C79B-4563-A56B-50C58EC6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93451D-2D82-457F-A3D5-09A2795F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6255-3B55-4721-BC14-0ACE471E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A49332-7F8F-4C30-AEB8-9ABDE059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8ABD18-3495-4F86-AC40-6A62EC27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AD3ED-F81C-4D14-A342-93478577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E8E5-10F6-44F5-8D58-4FFDD37B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00AE8-4C95-4EA4-BCF8-F166C3D4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BB4E-FA45-4FD1-831C-4CACAC22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A272-B2E1-4456-8136-E479845C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118-BA78-4377-8285-043518C8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A16B-D385-43A2-BA08-FE34D473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CA9A-FEC1-45FA-AF50-3FBDC03B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2AFF-5C56-44C4-B25D-C66F393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187C-8C8A-4BB2-99AA-9A2A90B7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C4BC2-0B06-4B79-BE3B-80406412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4528-C2EC-49C4-A07C-880E6D62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94FA-7731-42F9-9AD2-5C351211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AFBC-4557-4736-BD53-C4B7990F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D948F-C248-4DCA-A809-E9E59F1C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A33D3-DE6F-4A41-99F1-C818E0CC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BC9-CF6E-4A44-ABD3-4D81DEE9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0DC3A-33E5-4219-8413-06ED282C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5576-3FA4-4CBC-B468-775A72E8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E2EB3-7644-453E-A082-EB6D2BB3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CBEF5-AE09-4455-A309-76934387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F9E3B-176B-465D-A9A2-147887C1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6F101-9A74-4050-A3D8-57255581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6DFE8-4EAF-45F2-9447-237D899F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D4D6-2B00-42FA-A5BE-7C8D05EF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7063-A6AF-4846-A520-8657EA6E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CA960-4B79-475B-9A04-5767AAA7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8E9-6AD0-44D4-8263-A7824934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54D6E-C0BA-4CBE-B418-A4B318FD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08750-D76E-4D9F-B703-53184F68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02064-6A00-43D8-92AB-97E3E35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DADD4-0FD2-446A-98EF-14B4AEB6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B5CFC-E9F3-4550-9149-BFF428CD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C1EE9-ABDB-4773-9F20-6725265B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ECD13-5964-489D-9A53-7A2FE57C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EB18F-C280-4084-BE03-646F81E7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B21D9-F2EF-477F-91DA-61E958D7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4166B-4F8F-49F6-A50C-7BF219AF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D5D-CF98-499C-BE12-A13E6DF9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3A001-510D-4A9C-BB71-92FFC80B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EA905-263D-453D-BC94-EB74F336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AC3D0-0926-4C1C-88B3-DB6CDF02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3AAD1-2EAC-48CA-8DB0-638D6B70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FE21F-C760-4E56-8792-B364D567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70314-0A92-4849-AE20-9DC42491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6120C-67FD-49A4-A65A-81931637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B42C7-6BE5-4543-9431-33506213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33753-3DFF-4BAF-ACA3-5FC01585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393AE-A86A-4E25-A1AB-B5943098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2BF-0816-4AAA-B328-CA238F4E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1C182-70CD-4FCF-953A-5EC1DA1D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6FD7D-82CB-41E1-B383-59F28C36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D063F-73C2-4A25-84A7-0F41A508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411F1-73D8-402F-86F4-BE7BDD7D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DA805-72BF-4C40-9B4D-60B22A76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4270A-DCE0-47CC-8EB6-742758A4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9AA2B-F6DA-480B-AB5E-7069E824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2BE7-5078-4F98-A59F-B23C675F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5ADEE-D5E4-445E-92A2-E9ABCD53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1A778-2F49-4643-A66F-4C289437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1A1-CD59-481A-8135-F2D2E1C6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CB853-CB1E-4DF5-9EED-F63AAF1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8C693-09AB-431F-8FED-B825F4DA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DC7DC-F58A-4DDA-B605-B10B71FF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5EF90-B069-4233-9D32-B5CD590F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4120A-37FD-416B-89E2-537EACB4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485D7-D52E-45F0-B0FE-B7CB83A0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8C16C-5EA7-42C7-AAE9-44149ACE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076FE-D71C-46A3-8D42-FE318B37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8109E-ECC5-4703-BB6C-3223AFED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BAAA8-6114-4587-A1FA-5ED96B02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A53-1204-4515-A60E-8ED09EF3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8215C-D1AA-4465-85CC-AB3D63AF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4DD5A-9853-4BF0-8785-3FC9E151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ACB93-E870-447C-AC3A-0338E774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69147-6430-4408-BAA8-CE99C61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2187C-DE7C-43D8-803F-29C27BD0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DD4C2-0073-4B93-AAC3-0199254A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D6222-F402-4557-9DED-16EB6E1A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06D81-99E5-45A8-ADD2-B72AF3DD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36762-7118-433E-9AA4-B0F5DCB9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F3772-3A8C-43A2-B29D-6F7CCAAE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9DEE-AC24-414C-9C59-C06ED0145D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838C-FA4E-4C7E-B060-0B168CD010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6A7E-0192-463F-BAA2-764E010F63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ACE7-7C4D-4EA8-9C85-B01912FF2A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6B36-1293-4325-A101-879F2C9982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6DA3-98F8-4140-A180-162C73EFDA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1342-5D20-4070-84FC-2310A000AB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D48D-5C83-4808-BF7D-D811384196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2C71-82D9-4B43-81BA-3A7EDC092F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ACF8-FA98-4BA3-A7D7-1A3B36ED67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866B-7FEF-4F78-958E-9AD9E6E0B0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D07C-1561-4AEC-BCDC-A6AA2C2B6F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D6A9-7590-4242-B3CF-CFB1F50D24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2310-D021-4730-AE47-4C0FC82A9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431C-2E1C-48CC-A62B-A1C545B60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FFE6-3907-4409-90A4-77368AA0C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1C9A-27E3-4551-95F0-14ADF44859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488B-CB2B-4245-B0EB-33F2791397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EE76-3F04-4D64-B5F8-DD1EA373A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410F-5D0B-47E9-B154-567FED3C80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85F5-9CE5-4E13-A929-D4DF303443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C57C-C689-4B20-8597-040E1A7FC3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7737-17DD-4FC6-8C20-5232845F5A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0822-1CC4-489B-86A7-773D3EC22D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F05F-05F8-4E02-A72B-DD36D38E8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A21-29CF-4084-8A51-DD0F6AE08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992D-1D31-4F52-A763-AB18CC99E1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93B2-C7D9-40A5-B14A-A314CE2E3F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CE02-D30C-48AE-8A24-100F36C96C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A2EE-6102-4F30-A5A2-B4A249EEE1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49A3-89AF-43FE-B40E-467405E84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F06D-34FA-46B3-995B-EF19733785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057-96CA-4B52-86BF-F309DEBFB0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0807-5A2E-457C-BCC8-8D9818E9D0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CA79-57D2-48F6-BD67-E74B4A12FD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7D66-D06D-4E38-9E70-52F0EFC528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F4C0-F13D-4C61-9FFD-1DC8FAEEC9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F7F8-B32E-4B3F-8DE2-E091FEA322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EA4D-870E-4BA4-8A72-9BF3DDED1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558F-170E-45F9-8310-C8FBF73352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81360" y="2886120"/>
            <a:ext cx="5381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69633" descr=""/>
          <p:cNvPicPr/>
          <p:nvPr/>
        </p:nvPicPr>
        <p:blipFill>
          <a:blip r:embed="rId1"/>
          <a:stretch/>
        </p:blipFill>
        <p:spPr>
          <a:xfrm>
            <a:off x="480960" y="804960"/>
            <a:ext cx="8182080" cy="5248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23200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3059280" y="214776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5148360" y="280980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3851280" y="5459400"/>
            <a:ext cx="936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8609" descr=""/>
          <p:cNvPicPr/>
          <p:nvPr/>
        </p:nvPicPr>
        <p:blipFill>
          <a:blip r:embed="rId1"/>
          <a:stretch/>
        </p:blipFill>
        <p:spPr>
          <a:xfrm>
            <a:off x="314280" y="1986120"/>
            <a:ext cx="8515440" cy="28857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00000" y="4062240"/>
            <a:ext cx="2232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60430"/>
          <p:cNvGrpSpPr/>
          <p:nvPr/>
        </p:nvGrpSpPr>
        <p:grpSpPr>
          <a:xfrm>
            <a:off x="257040" y="152280"/>
            <a:ext cx="8636040" cy="6589800"/>
            <a:chOff x="257040" y="152280"/>
            <a:chExt cx="8636040" cy="6589800"/>
          </a:xfrm>
        </p:grpSpPr>
        <p:pic>
          <p:nvPicPr>
            <p:cNvPr id="923" name="图片 60428" descr=""/>
            <p:cNvPicPr/>
            <p:nvPr/>
          </p:nvPicPr>
          <p:blipFill>
            <a:blip r:embed="rId1"/>
            <a:stretch/>
          </p:blipFill>
          <p:spPr>
            <a:xfrm>
              <a:off x="257040" y="152280"/>
              <a:ext cx="86299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图片 60429" descr=""/>
            <p:cNvPicPr/>
            <p:nvPr/>
          </p:nvPicPr>
          <p:blipFill>
            <a:blip r:embed="rId2"/>
            <a:stretch/>
          </p:blipFill>
          <p:spPr>
            <a:xfrm>
              <a:off x="1025640" y="4970520"/>
              <a:ext cx="7867440" cy="177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012000" y="292428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156360" y="414972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8388360" y="5589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476360" y="6194520"/>
            <a:ext cx="107964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6443640" y="6194520"/>
            <a:ext cx="108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252360" y="782640"/>
            <a:ext cx="8639280" cy="5886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7272360" cy="10083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539640" y="4595760"/>
            <a:ext cx="7272360" cy="1008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468360" y="5675400"/>
            <a:ext cx="7272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85840" y="1486080"/>
            <a:ext cx="8572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880920" y="1709640"/>
            <a:ext cx="7382160" cy="343872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7353" descr=""/>
          <p:cNvPicPr/>
          <p:nvPr/>
        </p:nvPicPr>
        <p:blipFill>
          <a:blip r:embed="rId2"/>
          <a:stretch/>
        </p:blipFill>
        <p:spPr>
          <a:xfrm>
            <a:off x="1052640" y="1733400"/>
            <a:ext cx="70387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1071720" y="1805040"/>
            <a:ext cx="7000560" cy="3247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7128000" cy="936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826920" y="2938320"/>
            <a:ext cx="7128000" cy="936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755640" y="4135320"/>
            <a:ext cx="7128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276120" y="1000080"/>
            <a:ext cx="8591760" cy="485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2050920" y="3313080"/>
            <a:ext cx="5689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1162080" y="2305080"/>
            <a:ext cx="6819840" cy="22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042920" y="2406600"/>
            <a:ext cx="6553440" cy="951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042920" y="3559320"/>
            <a:ext cx="65534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223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76438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6:1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