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5E8-E3FC-4A73-8F75-9DD424BC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1B1-1192-49BF-B089-314EFB4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D6E8B-DCFD-4F61-915D-99A19F13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C4E6B-B2D0-4BEE-9E7E-5B19350B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D0D1A-4686-4DFA-8FED-B41E9D02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A402E-8533-4AE5-B124-96B2D53A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85209-03AC-4788-9B73-E8F32E71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4F3BB-5F0A-46A6-A2D3-0958790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0BAC6-FBAF-4FC6-82AA-3C5463EB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4D026-4B96-4A19-85E3-B2E4F52C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40CB7-36F7-491A-9700-64C199AB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45C10-7251-4C9D-8BF4-E234E6FD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95B-6FB5-415A-B7F6-2207D18D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3CA60-4319-48F4-9D62-8C7E19B9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705DC-EEC6-4BFE-B59B-A3C66950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F470C-8819-4F9A-8858-3CCFD65E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C57DA-F79A-4B38-9796-C72266FF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02E33-0D67-41BE-88ED-A1EA26AF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41487-FB54-4F58-9494-7C0AA76B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517E5-AD50-4CCB-866A-855BC214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C3D0C-73C5-4B0C-A6A4-FE9D9CB4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3AC96-5FEC-428C-8EDF-E202747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6EE59-C7D0-4691-917E-3BD009EA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9E6-CEFC-4D79-9978-5D7FD5A1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6652C-9ED1-4FDC-84C8-642CCD7B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5BA26-46F4-494F-9D6B-9E73E34E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712CC-0007-42E6-8533-110CB36E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24A78-23FC-455A-AE11-ABF833A7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08FF9-3A6D-4B35-89D1-8C22392D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240D0-BD5C-4184-9AF8-4660CC0C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76974-41E6-4A51-B3CC-5CAD277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B3E0C-AF30-47FC-990B-C5FD4DB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55987-3931-49D2-9157-6A12546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853CA-6DAF-4E8A-B487-D3740731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F6AB-0606-4186-AE18-64368A65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AE462-CFC3-403D-896D-45536B25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C8E68-9664-4A9F-BD91-ACDECD7E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B5801-2175-4C7C-88C0-33596957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3D878-2756-41FA-9629-8381115C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E33C2-7FD0-4F33-AED4-962E96CF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292F4-448E-4F40-8F31-33D465AC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99059-4CC6-4415-B904-6311B714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B30C8-2B8B-46EB-AF2C-FB1355A1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1A531-8868-42D1-B9C8-328A48D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67757-5D9F-442E-A7E9-D197CE75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BA04-33CB-4D3D-A0D1-26799C21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F92D5-3E4C-48BC-B8AE-89CDEBE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FE714-EB85-49FC-AC06-2C511101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CE2EF-73A9-4ECC-92A4-8E712561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95CD0-B41B-401A-8B9A-17D3A489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DBF01-055D-4201-94D1-A0074B9C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541E9-0842-44A1-92AF-AF333177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C565F-7CFD-48A5-B021-2201B368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28963-D484-439A-96F0-8CBEFDF8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68A24-65E2-4F4B-81E6-D93AAAEB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DDF26-A80F-4783-9171-1EECF89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8A00-45DE-444A-A3B3-21D61F38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C7B2F-13E0-4E7F-BABD-C7782477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6166E-EB92-4512-BB3E-CC282937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9BF0C-D846-4585-957C-64D930A2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BAEEC-3028-4004-A370-BA461CA3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59D67-FAED-4EC4-BE4A-902F61A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07FEF-8E68-4516-B82D-08FD5E55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98960-0909-4158-9D52-51AB1A86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85CC1-6321-435E-BCE4-62A15E4E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C0F44-4206-4620-B8AE-B3C974FD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30403-AA24-443D-AB15-4BA3411D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240A-638B-4EEA-8E0C-4013367D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AC768-7311-453D-A8F1-BD45A2F9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1F028-A091-4759-B002-9F85F80E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28217-2AFD-40F0-8BD1-3CB48C9E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52481-C588-4B92-968D-371587D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30708-3377-4874-8BE3-89B3C23E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7D356-AFB8-43C4-BD0D-91365B2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2C4E0-CBE5-492A-A828-A497BAC4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75117-5BAD-496D-A304-39FDFAB7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4704D-960A-4359-A8CB-348A83F7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DC321-FE83-4AC3-B61B-8E39E0F9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6C88-E925-47D1-BC2C-E7C61C33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6F851-DC83-4749-8721-9AD66E04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56B31-E5BC-4046-AFEF-669CC02B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F0273-9597-4F6E-95F5-474E3B90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3F909-D433-4BE8-962F-89F3FF2C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79203-DC1D-4B07-BF31-BB34A4D8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9D1D5-CFB1-4D58-8E45-1950172B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2E0ED-41FE-4440-80FB-73E026D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8834E-B5CF-4577-A990-0D4D6010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4EA31-1B24-4797-B005-2D0BEB7B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787AE-B9FD-4C3F-A4D7-C55FAFF6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095C-256A-4ED8-9F84-1466A9C1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86AA2-272B-4010-9C5C-7FF67350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8909E-04E7-4F29-B7D7-7FCBF1BD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AE10A-79E3-425E-8F37-7F89A3C0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0D840-D578-4393-A3E2-3BDAB1FE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A06D1-09D0-44F8-9210-F190403F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EBE10-CF58-4AE5-A107-613DDD50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ECA70-0449-4B44-8050-5AD59EB8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8BC0D-A586-4169-8A8C-CE3F74F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EBEAB-1318-4BE0-85AC-2A248A0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FE6EF-BBD6-4345-99C4-49AB64F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4B75-DC91-42C6-B440-F6115E0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CF0E5-E56C-423D-8E59-E44F9B91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40044-E4E5-4DBC-9F1A-293500D0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E7FED-E258-41B3-8264-DCEFEB82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579DA-A279-4B4C-9C76-88F23A96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30CC7-227F-4905-83CD-868B09B6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8C84CD-06D9-4CD5-BD18-DE89FB0F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2789A-2781-45D1-8B75-7C5CAE5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AA89B-F2AF-4E3A-948D-E5B8C376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C6631-DD5F-44DC-94B5-51CDEFE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76135-769B-472E-987C-894600E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B96-4E6F-48F8-A7E4-9AEA09E6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8B06-CDCC-4320-836B-B024ECEA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31D2F-158E-4649-9F20-D8EC874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62DD5-172A-4B4E-A152-1274664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4D2C9-6AED-436B-A01F-45238BC2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668D7F-A422-4638-A1A7-D3E69FEA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F425A-0BA9-4A75-8D4C-E3396D02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09524-FB1D-46D1-8FFD-234F5BA4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56D958-0A2A-4831-B48F-1DB41DD4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D249F-075A-495A-85B4-6771DF34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609045-0822-49A3-9466-D21924A5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F83AA-EADF-4CF4-A6B5-D9224C41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CC8D-AFCF-4193-A9A7-C28B1ADC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75BB0-EE65-4F42-9C23-E3E9A508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FA7DE-13C2-478B-B286-D948C26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0AD242-2BAC-42C4-B913-C45DC460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7E4C7-9D75-494D-B92A-E485C17F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82B6D-BC97-44FF-A3BF-FCFA2112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69278-D2F2-4BDB-A74B-9B3AD92E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DFF05-F386-440E-ACE3-86007904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2253F-504F-4E36-9BDC-93389973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5CA2E-D512-49F0-93EC-3FA6F0A2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2EF6C2-E303-490B-AFC7-7CFCFEA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1233-0B3A-47CB-94E4-E536FBF6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05244-A473-4834-91F6-5E75884C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6C3715-24A1-4912-AD1E-F5221C9B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85C4E-EFA4-4CE0-AB17-CF8254F1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099BD8-BB8F-4FE0-B1C4-0EC8304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21D987-89A2-4B18-B283-B1DADD91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C0D3C-0FEB-454E-9BBC-5B8CCCAF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173CD-F483-4621-A752-E5E86328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C80DA6-40C4-4401-81E3-2C5AF639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1CE59B-BD17-4FC7-8F5D-E8EEFD28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3DF1D-0A02-4089-B919-1834B105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F5BB-4125-4D09-AF87-5EB5B8C8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8CBEB-CDC0-49B8-8877-FE4CB478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13343-FDE1-48C2-9052-2A7809D8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C9CC7-0F21-4682-AB24-EC6B9D2C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6F6B1-587E-45A3-877B-EEA5A833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BE05B5-AC34-4A0C-B53F-7111EC74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0DF64-BFA1-4B3A-AF04-5F3D861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6CC2EB-A95D-4C32-BC9C-254271B7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CBDA0-7CC3-4DAF-8169-57E27CC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F317DB-BBED-4333-BC21-8FC04F8F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02DAB3-D7A5-44CC-94E9-F89BFCE7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5CA4-4D86-4A87-87B5-D64614F4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F6ABF-B86A-4374-978F-2F9FCE49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864EF-D8C2-451F-9517-CF3AF965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2A1EEE-D3E7-412B-9BE3-027DBFD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DC7B37-6749-41E7-9DA7-44F3F529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DC57E5-E7D7-4366-887C-753FE31A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5B7F7-F7E0-4FC9-BA4A-4056F057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F5D824-3C25-4716-B228-123FB142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AF33A-9672-4637-AF40-48094939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7ED3A-4E03-4025-A98B-A0DDABF0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D0B41-71A0-44D0-A16D-56ACEDCE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746D-A625-4367-9CDA-08CF2020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351895-C45A-45F8-9B78-7FABA787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C2E8EF-C87C-420D-9298-7BF84160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0A0BB-40C8-4153-811B-31C4078F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BCD2-394B-4F85-B510-D93A5C4C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C40F-D988-4FCC-A753-B3D1467D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D469-B34D-430A-8FB9-AA3F2996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0020-872C-4611-8062-F69791E5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0F1-AB84-42F5-A193-4DE2CA1B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A3DB-63B5-43AF-83B1-4B890619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88CB-F839-46BC-A70A-091D2D33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E466-1E4D-48E7-9224-FBED604C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3563-FDDE-4FF4-AF26-E000BBF4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8AC8-7C31-462E-81AD-7A8FDC1C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8E167-BEBF-4CF2-B514-5F5D7A6C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110F-CD08-4F36-A464-A35F35F3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2555C-29B7-4C23-BF52-9C71B6BE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5181-6C3C-478C-AB68-AB05F0A2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492C-7309-4327-833B-ECC757E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00B-FD05-4666-BBB0-77C2C5A7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2CD3-5537-4C3F-8457-B507FCB5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4002-BA24-442F-BC0D-029EE4E0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2FCC6-AB34-47B9-BB29-C6850F98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3F42-966C-48C6-87E5-F79AED7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7F3F-07AE-49A7-889E-275C8097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2F1EE-641C-4301-8BCB-F7B132CF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8222-3985-4DD8-A94A-D5A952C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F08C3-0C0D-43EE-899C-33D41097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8D2E-8052-4467-AE58-7388D84E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C700-D7D6-433D-AF15-270ADBF1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F60-B924-4795-97DD-967B3F91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6EA62-B8CE-4D6C-AB88-B5A4A7D7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F9520-4BE7-4C28-A5AD-6D6E35C1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7AEA2-61BE-4654-8FC2-F325C63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42A6-356C-4BA7-B6C7-420C546E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FA70F-D429-447E-A0B2-0068B134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980D1-45D3-4115-82B2-443A6BE8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6F3E-9799-4122-A05C-A1731EE8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A487-85E3-4954-A3F7-0AEFE65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D8DFD-28DB-4150-AC87-F44A785F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5F3A7-0AF3-4C6B-A966-25E698C3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967-3BA7-457E-A4DC-1388583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5933-868E-4848-8D0B-60049313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61F33-4623-4EC9-B111-5B409F13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18024-5E12-4052-A1C4-325AE584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22F2-2147-4F36-A431-2A87E30F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D54D3-287C-48A2-BA38-3E0AE34B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08B0-8506-4370-A14C-EFC56056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6729-045C-49A4-B343-1C3047D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B18D1-45EF-45AD-AB6A-80E5A81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3EA44-23EB-4FF3-8673-98022933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EC648-DF8C-4E37-AF4C-6EF44DF6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BA5-32A7-4741-A683-1B47F99B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5FA9-EC0C-4176-9F77-AE51C85F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B9A62-3F98-44B2-8E67-149CBD92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C522-19F6-475A-BAB0-AE0FFEF4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2BBE2-17CB-4638-8C60-333663DD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002C-1251-4E97-9F0F-7538F0AD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8E240-445F-4A53-9CAA-1D2B4733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0F1A8-BD45-4188-90ED-5CA7C84E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7AD66-CB18-4070-8F0D-BF6A2920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21018-DDF8-4923-9005-C6FDFDC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3FDD3-315F-4663-BA6A-2BA54DD9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A47-7BDC-44D4-B4E0-C6F92E0E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2D0DB-8069-41EE-B7FD-B165FE84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7BE5C-C2D5-44B2-BFBC-7CF51289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2B894-CCEA-4426-9136-FEAD9E1A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8C09C-40A8-409C-A97A-C61E8221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BFC6-C215-4B9F-84DC-E11AE23D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17304-EE64-4E08-BADD-D08463B2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559A8-34EC-4D75-ACE0-DB176DE9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A8C05-EC79-48DB-BB97-9AA23C45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6ABBE-E6E7-42E8-BB71-FC0D26DE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321F-DE3D-462B-A62D-79D9C788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D8E-F88C-4949-A0DC-97F48CB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CC187-CDD0-4D60-AD14-442C31A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FE85F-6551-4D0E-96A1-E7F3211B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C0CE5-F6D9-4B53-A402-934721EC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6404F-138B-4B7D-B5E1-B01D75AB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A4842-0876-4F47-8075-992BB218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BE91A-27FF-45C5-87A0-64789FCF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585E9-9DA6-4F30-B668-9882C65A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433D5-451D-4402-B957-0B425F38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9E8F8-51ED-44C7-8B58-718F178D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9AE81-F6B8-4FA9-8A4C-869AFA36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0151-D03F-4A56-B6C4-685E79D0E2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AD3A-E6EE-4B84-83E6-B33118AEAB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51A7-C9AF-4973-A232-0F936173E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548C-0F8F-44FA-875F-63E31EE04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E99F-5871-4622-9D6A-1BD3546D9B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559B-B7CC-48AD-8630-9E3C304CDE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3FCE-A98A-49BD-99A7-7E9987E22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03F0-EBA7-4F41-BA11-4766A45103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829B-27D1-4E12-8A30-611B8C1CA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599F-A4D7-4745-A86F-9D5B2E341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67F0-FCEA-4EA3-9398-A8747208A7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E20F-8DDD-43A3-B980-82C47A3862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6AE1-917F-4757-93D7-F9030D1CE3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F83E-19E9-4B5C-9F2A-85F0F477AC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4BF6-3285-409D-9C56-34E10B227B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2675-5566-4BE0-95AD-ECA2B2139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42A-6FD5-4BC7-B659-74953F265C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30FC-3180-4AC5-8B7D-F782BFA29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CA81-7264-41F3-AE34-2DBDBC27C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464F-EACA-4E3A-AF04-47A914EC46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A14A-C68A-45E0-BE83-DFBF749148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69E2-0E4E-46F2-840A-59CBEB224F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06F1-AA0F-43D7-8CA8-BF47D92E1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3101-38D3-47B3-881E-3110B5732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49BB-367F-4FBC-A7F8-541F780B9B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DE17-4505-4F70-A61E-6910D32427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CC44-731B-4424-A1E3-04DB1E06AE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9E06-FF2E-4F1A-906F-E782DFC620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1053-B3C3-4A4C-BFE3-5E0C210D6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81A-1FAB-409D-9BA8-A3826F83A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DAD-C556-4187-A92E-84F90CC5F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E32A-69C7-4AFC-9C0F-691BC2CBE2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42B6-3542-44F0-BA2C-AA2F428D4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237-D36C-4DC1-850A-36F92AD3F3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2BAA-9113-427D-BFF0-1F67176CA8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2FD4-8D66-4FDD-94F6-6377A2EEF4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9E4D-AA3C-4F2E-8D61-0BD108E63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A5DC-7EA0-4158-9B82-5A0AE83F92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882E-FAEF-4E7E-804C-210CD9E37B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E51F-B22C-4D9D-99FD-89A9E7A4F2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4680" y="1297080"/>
            <a:ext cx="3828960" cy="11239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442800" y="2971800"/>
            <a:ext cx="8258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69633" descr=""/>
          <p:cNvPicPr/>
          <p:nvPr/>
        </p:nvPicPr>
        <p:blipFill>
          <a:blip r:embed="rId1"/>
          <a:stretch/>
        </p:blipFill>
        <p:spPr>
          <a:xfrm>
            <a:off x="1285920" y="907920"/>
            <a:ext cx="6572160" cy="216216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9634" descr=""/>
          <p:cNvPicPr/>
          <p:nvPr/>
        </p:nvPicPr>
        <p:blipFill>
          <a:blip r:embed="rId2"/>
          <a:stretch/>
        </p:blipFill>
        <p:spPr>
          <a:xfrm>
            <a:off x="600120" y="3408480"/>
            <a:ext cx="7943760" cy="21812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4197240" y="1125360"/>
            <a:ext cx="576360" cy="7909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7207200" y="113976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4356000" y="194472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7380360" y="193032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1922400" y="364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8"/>
          <a:stretch/>
        </p:blipFill>
        <p:spPr>
          <a:xfrm>
            <a:off x="4917960" y="364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9"/>
          <a:stretch/>
        </p:blipFill>
        <p:spPr>
          <a:xfrm>
            <a:off x="8013600" y="365904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0"/>
          <a:stretch/>
        </p:blipFill>
        <p:spPr>
          <a:xfrm>
            <a:off x="1763640" y="452268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1"/>
          <a:stretch/>
        </p:blipFill>
        <p:spPr>
          <a:xfrm>
            <a:off x="5133960" y="447984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2"/>
          <a:stretch/>
        </p:blipFill>
        <p:spPr>
          <a:xfrm>
            <a:off x="8028000" y="4508640"/>
            <a:ext cx="5763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76120" y="760320"/>
            <a:ext cx="8591760" cy="5981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843280" y="2867040"/>
            <a:ext cx="230508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003640" y="3573360"/>
            <a:ext cx="576360" cy="1079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627280" y="4653000"/>
            <a:ext cx="576360" cy="1079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124000" y="5848200"/>
            <a:ext cx="29527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95440" y="1866960"/>
            <a:ext cx="7953120" cy="31240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1657440" cy="863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743200" y="4335480"/>
            <a:ext cx="21891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651640" y="4321080"/>
            <a:ext cx="2808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419040" y="1380960"/>
            <a:ext cx="8305920" cy="4096080"/>
          </a:xfrm>
          <a:prstGeom prst="rect">
            <a:avLst/>
          </a:prstGeom>
          <a:ln w="0">
            <a:noFill/>
          </a:ln>
        </p:spPr>
      </p:pic>
      <p:grpSp>
        <p:nvGrpSpPr>
          <p:cNvPr id="933" name="组合 58377"/>
          <p:cNvGrpSpPr/>
          <p:nvPr/>
        </p:nvGrpSpPr>
        <p:grpSpPr>
          <a:xfrm>
            <a:off x="1403280" y="2938320"/>
            <a:ext cx="6193080" cy="1570320"/>
            <a:chOff x="1403280" y="2938320"/>
            <a:chExt cx="6193080" cy="1570320"/>
          </a:xfrm>
        </p:grpSpPr>
        <p:pic>
          <p:nvPicPr>
            <p:cNvPr id="934" name="Picture 1" descr=""/>
            <p:cNvPicPr/>
            <p:nvPr/>
          </p:nvPicPr>
          <p:blipFill>
            <a:blip r:embed="rId2"/>
            <a:stretch/>
          </p:blipFill>
          <p:spPr>
            <a:xfrm>
              <a:off x="3276720" y="2997360"/>
              <a:ext cx="431964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1" descr=""/>
            <p:cNvPicPr/>
            <p:nvPr/>
          </p:nvPicPr>
          <p:blipFill>
            <a:blip r:embed="rId3"/>
            <a:stretch/>
          </p:blipFill>
          <p:spPr>
            <a:xfrm>
              <a:off x="1403280" y="2938320"/>
              <a:ext cx="1440000" cy="15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1" descr=""/>
            <p:cNvPicPr/>
            <p:nvPr/>
          </p:nvPicPr>
          <p:blipFill>
            <a:blip r:embed="rId4"/>
            <a:stretch/>
          </p:blipFill>
          <p:spPr>
            <a:xfrm>
              <a:off x="2700360" y="3198960"/>
              <a:ext cx="1727280" cy="80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266760" y="763560"/>
            <a:ext cx="8610480" cy="5905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03280" y="377352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5398920" y="378936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403280" y="6021360"/>
            <a:ext cx="374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71440" y="884160"/>
            <a:ext cx="8601120" cy="53532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403280" y="27957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5219640" y="27957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403280" y="530064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5076720" y="5027760"/>
            <a:ext cx="30974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247680" y="757080"/>
            <a:ext cx="8648640" cy="5343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84360" y="2651040"/>
            <a:ext cx="316836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611280" y="386064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611280" y="443700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539640" y="501336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8"/>
          <a:stretch/>
        </p:blipFill>
        <p:spPr>
          <a:xfrm>
            <a:off x="468360" y="567540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9"/>
          <a:stretch/>
        </p:blipFill>
        <p:spPr>
          <a:xfrm>
            <a:off x="4500720" y="5013360"/>
            <a:ext cx="3168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0"/>
          <a:stretch/>
        </p:blipFill>
        <p:spPr>
          <a:xfrm>
            <a:off x="4356000" y="5661000"/>
            <a:ext cx="316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243000" y="885960"/>
            <a:ext cx="8658000" cy="54957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2843280" y="3457440"/>
            <a:ext cx="12970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3780000" y="4033800"/>
            <a:ext cx="129672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1403280" y="4581360"/>
            <a:ext cx="129708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2050920" y="5229360"/>
            <a:ext cx="129708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1835280" y="5834160"/>
            <a:ext cx="129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2231" descr=""/>
          <p:cNvPicPr/>
          <p:nvPr/>
        </p:nvPicPr>
        <p:blipFill>
          <a:blip r:embed="rId1"/>
          <a:stretch/>
        </p:blipFill>
        <p:spPr>
          <a:xfrm>
            <a:off x="662040" y="2533680"/>
            <a:ext cx="7819920" cy="1790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180036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1800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989600" y="3097080"/>
            <a:ext cx="152712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108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8:1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