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12D-D0AF-46F6-A95C-254ED37D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5AC-A723-4843-8512-4C5E8026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BA470-70D3-495B-8B98-1214E360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500D0-325B-491F-A605-44710A46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DD405-A06E-4ABD-8C69-64679331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E7CC7-9755-47D6-9B33-7F1C8AC8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C7A45-128B-4D3A-9C58-536E0D1F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CF647-AF23-48CF-9BAF-FD194C19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54101-98C0-4DD3-87CC-58CC04D7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1D713-A716-4364-B8FD-2F9CCB65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76565-A3FC-41CD-BCE1-143B848C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CA047-5249-4473-8BE6-17CC2911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EF6-1883-4E03-B322-C674E642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5B048-FB45-48D3-8963-A0580D44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653C0-B624-4F36-B419-29CCDC19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0AC82-20B4-4A1F-9AAA-6DAEF75E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FB80D-C6E4-4B86-A030-B5D2B04B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F1375-D49D-4146-95C9-65E5A7CE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C08E8-B1AA-447A-B0BD-4D916CF1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2BF92-89C6-4DC7-9EFF-5A4754E5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8FE8A-B5CE-49D2-96AA-0E20BCDC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D9F4C-57C0-40A9-8BA3-2FD64844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71882-0F4F-4376-BACB-70932F80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F82-E099-40C6-9AAF-199696DE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8B446-0F53-4124-9DE2-89D26623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43EAA-0C2F-4D1D-ACE3-58434813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01319-DE1C-4EFD-942A-005E1B99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7E3EA-5770-4580-8A98-A4C11102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A87FB-C5CF-4544-8B8B-DA8C9271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421BD-06A0-4F0A-AF15-B8F8366B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E87BA-B629-4940-94A7-25AA5183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EFF62-7E6F-41F4-975F-56761F8D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B0D43-D593-4A32-9D46-A7023796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075B5-A025-41CB-83D2-C20A913C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0BD7-9F6F-43D1-953E-45DBCEB9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EEF7C-AE5B-4702-B143-116F33BF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A8CF9-3932-461C-887C-9C9CAA68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2DDAB-1744-4B8B-9E45-EB960F86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22798-EB8D-4CCC-A28C-AC7D0CCF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F3C08-D7A6-4469-B655-F5E46931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C1F56-BD25-4F07-AF15-F50B9403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F7A54-6330-49E0-9E44-C9D08739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9FAFF-EB88-4A83-AEEB-C8FA5C85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5815D-0F06-40EE-80D2-4E4B3054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30C2C-2C44-4C55-A102-1A4680B3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8C0C-1FBA-490D-A772-0C93AC35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D28A1-D816-49D5-A879-7648DDF2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1B374-E1A2-4CD0-ADC0-9EB2E0F0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F8577-BF79-4DE4-85E1-572555C6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E4F12-84F9-4DDA-AB9D-687FE3EE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FD61B-7D35-4899-99C6-08C32C01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37FDD-A576-4C9D-8BF1-0B48218D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20B86-E4E1-4AD3-AC3C-59E22EAB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7DDF8-5568-4B7F-A952-AC6FC676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A9963-9CE3-4A33-A4FF-C53D6075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CF2E3-52A2-44AA-94F3-AD393F53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F777-4556-4577-BF48-A0119770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01BF8-A838-403C-B2DF-4D45470A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64182-6BE6-497F-A36E-4C3152BA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0B647-47B0-40B5-BA1A-F95F10D6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F9324-187D-4781-AA53-A0B3FE4A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A7F39-7F35-4575-B59A-BD0589D1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56786-D255-4F63-8AFB-B97A153F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802E6-4F7B-4C6A-87FC-9F88DCD0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7601F-7982-430D-AC0B-4E0D7040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E44838-F84E-4BB3-BEC8-0A1E4B9D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E50A4-D51F-47CD-8E36-E0F77C9B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5AA7-1F1A-4C1E-92F6-ECC2DE04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FE3EC6-50D9-46E1-8D83-70CBE087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D92FA-1930-43CB-9F1E-1944B16E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92E27-DE95-4BAB-9BB7-A157CC26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86579B-88F7-44A6-A2E6-A2EE7F9A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C7E62-EA69-469B-8474-EF0AAC2D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C53CC6-93D8-4954-BA2F-C704964C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9C0F0C-D113-47DC-84C6-64F7A1C9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608C8-CDF8-471B-963A-67D49D68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C371D-B481-4209-B758-F9ADBB99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97002-3F44-4376-A279-BD919589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E380-1937-4DB4-9201-907495B1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9FB8C-1724-402A-B825-2A1D3526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4D2E8-47EC-4EBA-9148-676FC028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EF1E85-4396-4A11-8C09-EEC37C79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910576-27BD-481F-B0A2-6A7FE1EE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15FCDB-CC9E-4140-A5AF-0EA1E50A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88076-D666-40B7-BE6A-4C459AC0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09CC0C-3230-4775-8FE2-F46F2BCA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C4FA12-1F3F-46EB-A53B-E510F5A2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EFE533-9D81-4B20-B7FE-FCDEEB52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7F247-851A-403D-857F-D1866CAC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3A10-96B4-4077-96AE-72A28D63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E144A-92E7-46BF-929B-46520EDA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77141D-CCA9-47B9-A34F-621F0EA5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01AAD-53F7-4664-8736-7E61D31B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CE18E-7847-420F-AF49-AF102E4D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09BF1A-456A-419D-8CC0-0B137969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501336-F376-4BB8-80A0-73975629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772CD-8A02-464E-A3F0-64B34B04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433C0D-155F-44EF-BC40-796B66AB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877D97-7D49-4EF2-8E49-5FC493B6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71D58-1407-475A-B116-4DF62406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D772-7380-4EB3-A449-C5F1B64F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7CE4B-F43C-412B-921B-E808CDA4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84A45B-E4D4-4F39-9B36-91A153F6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098DE-027D-446A-BDD2-B0E45CFC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824DAD-A93B-4443-BCAF-879227B5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E612DE-64E4-4142-A0B8-460A9B04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8BC88B-2AB2-4850-BADA-DF91C15E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99D0FF-042E-4899-AD53-54A6296D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242C1D-5785-47A6-8855-A772F59D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5A4601-E77F-4839-9257-DCF47C03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E97964-73ED-457E-8A07-1755FE5D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D61-2A49-471E-9B11-33F83DE6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66B6-0E08-4A96-9A78-983B4D87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85FEA4-3C02-43AB-9F4B-2ECDF047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D9B705-2E36-4AD2-A5A2-060F5C2F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0A8B12-354B-4CFF-BD15-5B9B4BCA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371A10-4C49-44E5-B0FB-C115F8BF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0578B9-0B14-4717-8624-DC0E2AFA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4620C9-541D-4AF0-9C52-062F8880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D29A3D-B23C-4F74-A27F-FD541973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2940D-6547-4ED3-A47E-9385E481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756643-1110-47C4-AF32-35E2DBB8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7AC31-E5FE-4684-9FAA-80E93D8A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AE7D-401E-4FB5-B1DE-633E32A4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746730-4C17-40C7-9BE4-B1C49B96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A44690-8247-45CD-BBDE-1C032202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9BCEC1-F7C1-454C-A576-8826B04D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2415DD-B632-4DBB-8621-7A396B28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F9A190-FDCF-451C-923F-4189DE45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768F7B-5BE1-4038-8754-8F8DD80F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9E81BD-FB7B-498D-AF13-7A000C59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49EFB9-6529-487C-975F-952C2555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7E9BD3-C8F9-4B06-B876-07B8B65D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3DAC3C-0259-42BB-A4CF-AF56CE9C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C07E-CC0C-4828-9217-D59A02C1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C9B2FF-6EAF-430B-981A-6494C214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A7CA2C-3619-4DFE-BFD7-7464C7D0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F33F7D-6AAA-40A3-B398-FA19203C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DAFD9-C0FE-4462-AD1A-FE08A2CE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99DB3F-4840-4112-8A46-AFD12126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0718B8-5AB4-4AFE-95ED-18D0D8BA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B9EB44-0203-4820-8C84-D05EE70E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A10D66-4D6F-40F9-8B09-81693E34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001560-54BA-4FE1-912F-8656DE10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EC95D6-B7D4-4C98-BA8A-1B03F582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E58D-6E5E-4D15-B66F-775E3F9F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8BD3BB-D758-432F-BC15-8A365A61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744A49-8E44-4028-8B05-842D6EE3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331A57-1582-4C01-9D11-2754F28B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FFE3FA-86A6-416A-B6A4-BC9A8356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D8A57A-3756-4F77-A050-544C7D34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D7B3E2-9BFA-4104-A5BB-419A97C7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4E0F27-E3C0-41C3-B6EE-3D001D51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490B63-0102-46DA-8374-7CB72445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780F07-B147-4534-92E9-50098B12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904D44-28FB-418B-A78F-ED0E36FD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07D4-AEEA-46ED-9C48-05E4F52D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6CED1E-83C4-404D-AA86-90A261EC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9E2365-A714-4365-85E5-B4DF4010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5CFD0D-3F23-405A-821C-54FCD820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16A6BA-C23A-4C16-8547-EC45981E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324F79-0572-4A00-8054-F5587AFD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F573FB-602A-4086-BFBE-A0A24616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DBDFE2-6040-4810-AEE4-B795B376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D4CBA5-597A-48E3-B81F-9B2D7562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A0D09D-ABF5-42B3-AFE1-92B13551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746C9A-8A29-4071-82F8-24FE377A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CC065-95AC-456C-99D2-8E95C7A8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B3AB64-4B08-4FE1-BD78-B94C93CD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AFD8E5-6277-4F7D-B44A-57F46D66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F40740-1975-4D66-B4EF-EE8F2DC1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B978E-4F19-4F80-B084-847325A1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26F63-062A-4735-B45C-38A3D097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388E5-C77C-4BF2-983C-0020E0AC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F7DE8-C7DA-456E-98D4-B3DC0345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705-3080-4A1C-B9E2-3BADA756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0658F-E34B-4517-9DA1-4364CF71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4AC39-607C-431F-8590-9C767CA2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09F7A-975E-46D7-A7DE-BE1346B4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5799-C703-423D-81EA-8E5212EA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2C76B-3FA0-48E7-8816-3350AD2F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C09FA-A5A8-433F-85DC-F44A944D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C5EE0-7AD8-46B2-955F-A715FEFD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77F91-4BE9-4F5F-8E9A-9D1FF842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95BD3-79E3-4FB3-A32C-ACD0625E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B0BD2-B817-4B9F-A851-DFC21419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250E-EFA7-4B6F-80EA-02B9AF9A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06E79-0F18-4E20-83B3-079ACAAC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D428D-6B6C-4010-B32C-39A7F149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A5D9B-75B4-41AD-A754-A2DFACF7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AB935-0CEB-4B55-B79B-0A3A885A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606D2-760E-473D-9D7B-12063917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90EF6-0745-4C35-BA0E-3661B1D0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263C-9B90-4F5D-8F6A-D0307F92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E1DE4-CA94-4619-BEA4-D0589A28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32996-A36A-4B89-9807-3BF7EFC5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1F2C0-1547-4350-B100-05094380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F86-B974-4417-AC33-7CA7D2B9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C59B0-ED04-4F43-A92E-D71946EB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D0DB2-6942-4591-8719-3BC225F9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E4DBD-67CC-45F1-AE1F-56B99DC8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BAE9D-556E-4871-9C02-3AA35A52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EE35B-B1AD-41AF-8D68-916AC02D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F9FF2-147C-4FA2-BA88-2FFB83CD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27927-0C34-495A-BDFA-073B442A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CD577-5957-4A81-B04B-E1DB82E2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6B586-0E51-4D87-991E-F0818ECD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C2FDB-4A2D-4950-AF31-AD71CC9B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208-24F8-45F0-8253-40294D69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0513B-D96F-4B44-8962-5A9E825E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7C99D-2A49-44EA-8BAF-869171B4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531DF-0C61-416D-BF29-B47724F1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B1F90-6233-4565-B5C0-E74D767E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467B8-EE16-47B3-95E1-0334A12C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44B3C-AE29-46D3-B770-3E7A02BE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979A4-A32D-4EFA-9175-D7139495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3526D-8D01-4FC5-AFE0-C7436B3B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3A649-D3AF-4388-AF53-072E09B9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E3751-2CF9-4E40-9C44-67F57470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852-5B3F-4828-B693-788E2A20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6E610-CE8B-497E-840E-4B0EE824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DF5C2-F61B-4D00-A0A7-ED9474F2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C850E-825E-4BF3-87DD-B2145CB3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D27C9-FDCB-4112-BEFA-FAB12B8E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C64FC-5993-4962-A8A8-8DA135B1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0F5C4-E8D3-4C92-AB70-567146FB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51148-1B52-41AC-9333-3ABEDD24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DD262-CA49-4561-96DE-97061B69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34DF6-BA11-428D-9B00-569C68FF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CC5BB-2483-457C-9F4F-02A34AFA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579-C98C-4901-9C8B-CFE00903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0FCCE-3F7C-4F25-A9F6-5AE17D4F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CE5D5-E9DD-4BAC-A46A-867A68B9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6102D-2BB5-4E9D-A401-FBF3625C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399DC-F807-493B-B492-D7C68717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11CC0-978E-45A8-B6E6-75AFB73E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FF7FD-7370-44FD-9CB9-C8B97759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2FCC7-86C9-4BED-B3F8-3B099ED6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AE9DB-ADCF-44B8-94DB-7988AF3F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84F9D-FE70-4F7D-AB0B-A9220ED6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8EA6A-1658-4175-94DE-7844FAE1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164-3767-437E-A4C9-87A3271D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2058F-7B21-4EB1-8265-A1B1A23F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AFAE8-87E1-4C4A-8674-BECE4CF7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CB255-7294-435F-8200-3F2D28B6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3A957-28D3-40D8-BE55-71CC215F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F116C-6926-4F06-9CD5-76CF6EA6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4B8ED-A011-428C-99BD-EC86BA6A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BBCEA-F8D3-47F4-B1FF-25774956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71F69-61B8-49D6-B3DC-FDFB2A60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9C6E1-BBA7-4787-B296-0F1101AC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ADA47-A9CE-4881-AA10-6D69B8A4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5E2B-46EC-4D42-9739-957799E576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35BC-5035-4C31-BF76-CB837ACFC7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C8BE-17F5-4A98-925F-CDDB0AE6F9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2573-A1CD-48BF-B1FE-7C2E61105C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2B94-FEB5-4BEF-B60B-0A983BD56A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8E7B-686A-44C6-BC3E-1A20CE48A4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4B4D-4E9F-4D83-9A2D-45AF89BA1E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5D59-29C1-47BF-81F4-40164D0828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14D1-B61D-4EDB-B581-A0CCC08A42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9A39-8A93-44B6-8677-F1E8D5C68D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ADDD-FC81-483B-BA0D-3B1C0B1B0F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0C87-CF70-4B61-BBC5-C2F85598EE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70D6-251F-488A-97CE-C15B82776D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E17B-3B13-446C-8690-596816F6F2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8D2E-1E9A-4A07-98A0-B6C30BA0BF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6752-5393-4E17-968E-03B0D08137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05D9-468B-4B4E-B89C-20C7C216D5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B5E6-CD22-4551-9176-8FEA1E4010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D665-F86C-4822-928C-81CB84410B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16DD-1D51-46D4-9A87-E66E6AF46C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249B-79F3-48CF-91BE-0922A26441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9EF8-F901-465D-9079-AEABE3EA44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C037-68D2-46D1-B214-4A4C2EC44F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784B-781D-438A-92EC-8B78AEC27E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AF28-38F4-4B52-AC61-023539F461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E8FC-C0B2-4A83-8B4D-B8DF658E4F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B547-1D62-4C86-B770-C91DC6D566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9805-430C-43DB-A514-D546322663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F734-695E-437F-AA68-E20C81AF15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C4D9-CDA8-4747-A0EF-1461FE8124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5D00-611E-4F83-B190-994AA3B976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28A7-045B-40E1-8F4A-4F041AFEC5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AF71-0CF8-4CE0-9884-A7B2C32AF1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A6F6-6D9F-46EF-B3FE-A7451AECE3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0B2D-F3B3-4A5F-9AA1-6BDC61AD37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B728-6B01-4804-9B18-4E2772B1AE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676B-42B7-4528-94BF-5800DE52B5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96FE-8CAE-4588-BF41-5F75381D5F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9B22-078A-4679-AEEB-51F2340C84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D5DC-954E-412C-B822-9AA63049A3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72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69633" descr=""/>
          <p:cNvPicPr/>
          <p:nvPr/>
        </p:nvPicPr>
        <p:blipFill>
          <a:blip r:embed="rId1"/>
          <a:stretch/>
        </p:blipFill>
        <p:spPr>
          <a:xfrm>
            <a:off x="638280" y="819000"/>
            <a:ext cx="78674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8609" descr=""/>
          <p:cNvPicPr/>
          <p:nvPr/>
        </p:nvPicPr>
        <p:blipFill>
          <a:blip r:embed="rId1"/>
          <a:stretch/>
        </p:blipFill>
        <p:spPr>
          <a:xfrm>
            <a:off x="557280" y="2214720"/>
            <a:ext cx="8029440" cy="2428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900000" y="3471840"/>
            <a:ext cx="777564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7775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7585" descr=""/>
          <p:cNvPicPr/>
          <p:nvPr/>
        </p:nvPicPr>
        <p:blipFill>
          <a:blip r:embed="rId1"/>
          <a:stretch/>
        </p:blipFill>
        <p:spPr>
          <a:xfrm>
            <a:off x="619200" y="995400"/>
            <a:ext cx="7905600" cy="48672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468144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826920" y="3443400"/>
            <a:ext cx="468180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826920" y="4019400"/>
            <a:ext cx="4681800" cy="493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826920" y="4653000"/>
            <a:ext cx="662472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900000" y="5286240"/>
            <a:ext cx="662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23920" y="957240"/>
            <a:ext cx="86961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795240" y="2209680"/>
            <a:ext cx="7553520" cy="2438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6877080" y="220500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924360" y="2852640"/>
            <a:ext cx="338436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1389240" y="4076640"/>
            <a:ext cx="1079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8373" descr=""/>
          <p:cNvPicPr/>
          <p:nvPr/>
        </p:nvPicPr>
        <p:blipFill>
          <a:blip r:embed="rId1"/>
          <a:stretch/>
        </p:blipFill>
        <p:spPr>
          <a:xfrm>
            <a:off x="576360" y="1633680"/>
            <a:ext cx="7991280" cy="3590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3132000" y="3068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4255920" y="4149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148360" y="308304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6242040" y="4149720"/>
            <a:ext cx="79200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7380360" y="3083040"/>
            <a:ext cx="792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7352" descr=""/>
          <p:cNvPicPr/>
          <p:nvPr/>
        </p:nvPicPr>
        <p:blipFill>
          <a:blip r:embed="rId1"/>
          <a:stretch/>
        </p:blipFill>
        <p:spPr>
          <a:xfrm>
            <a:off x="257040" y="676440"/>
            <a:ext cx="8629920" cy="55051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403280" y="4897440"/>
            <a:ext cx="756144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1116000" y="5530680"/>
            <a:ext cx="7561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6324" descr=""/>
          <p:cNvPicPr/>
          <p:nvPr/>
        </p:nvPicPr>
        <p:blipFill>
          <a:blip r:embed="rId1"/>
          <a:stretch/>
        </p:blipFill>
        <p:spPr>
          <a:xfrm>
            <a:off x="576360" y="1495440"/>
            <a:ext cx="7991280" cy="38671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971640" y="340056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755640" y="4653000"/>
            <a:ext cx="7993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5300" descr=""/>
          <p:cNvPicPr/>
          <p:nvPr/>
        </p:nvPicPr>
        <p:blipFill>
          <a:blip r:embed="rId1"/>
          <a:stretch/>
        </p:blipFill>
        <p:spPr>
          <a:xfrm>
            <a:off x="666720" y="2200320"/>
            <a:ext cx="7810560" cy="24573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971640" y="3471840"/>
            <a:ext cx="777708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755640" y="4091040"/>
            <a:ext cx="777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4276" descr=""/>
          <p:cNvPicPr/>
          <p:nvPr/>
        </p:nvPicPr>
        <p:blipFill>
          <a:blip r:embed="rId1"/>
          <a:stretch/>
        </p:blipFill>
        <p:spPr>
          <a:xfrm>
            <a:off x="314280" y="1905120"/>
            <a:ext cx="8515440" cy="30477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332000" y="3889440"/>
            <a:ext cx="781200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971640" y="4451400"/>
            <a:ext cx="7812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2231" descr=""/>
          <p:cNvPicPr/>
          <p:nvPr/>
        </p:nvPicPr>
        <p:blipFill>
          <a:blip r:embed="rId1"/>
          <a:stretch/>
        </p:blipFill>
        <p:spPr>
          <a:xfrm>
            <a:off x="609480" y="870120"/>
            <a:ext cx="7925040" cy="5438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971640" y="1469880"/>
            <a:ext cx="777708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971640" y="2060640"/>
            <a:ext cx="777708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777744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898560" y="4538520"/>
            <a:ext cx="777708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898560" y="5129280"/>
            <a:ext cx="777708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826920" y="5705640"/>
            <a:ext cx="7777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2:5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