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996-24DA-471B-92F4-F39027FB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7DB-8C4B-40BB-9873-B721445C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75C00-382A-4078-A765-21D13BD2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3FA57-CFC0-4E7F-AB12-22DEF83E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48392-9750-4191-94C2-E71B5E89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B2DA3-F7EB-4923-BBF4-6CF47D9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01904-3869-4734-8018-F91EE9A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5534E-64FE-4906-83B3-4E6868E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B427B-3C22-459D-AB5C-0FDFBFCE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09D03-3E11-4C35-ACCF-7A1C9F83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030D4-D54F-4144-8661-715FDB8F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FA5B3-B406-46FB-B301-35F00B33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821-BC87-4F45-A5F8-7C307004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AE9C8-4F47-4644-A2EF-31F4D9E1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18059-B492-4387-88E2-DFA07F3F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EAB3A-F192-4AA4-9C5E-8CE327AD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41B7D-E95F-430D-BD59-24AD5C34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837CE-3625-43CF-8331-437F1705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0A6B9-10A3-4CA0-BD45-C8FB2B66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90581-8E81-4318-8ACC-9455EF58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838A6-65C4-4AC8-A40B-D3694C2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69403-BE7B-4DCD-8F61-36F39E2F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2E243-2E78-4005-ABC1-D9B8B901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86F-95D4-4943-B330-FB64959C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6A3C3-FD88-42F0-8368-F838B1F6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9EC0A-CBA9-4A2A-A707-36BF9204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1F6F4-E9D0-4553-A828-3DA3230B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1242B-8121-47C1-8B36-4C20BF5A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0C97C-18B0-45CC-ADB3-CD1832CD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DCEBA-130D-4CF7-BD8E-4F93BFB1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7E64D-ADF2-4556-9265-4397523E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0626D-2E5C-4A5F-8407-019706E9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74F27-5017-4B2D-8FF0-536CC9E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B90EC-77E2-4CC6-8701-04114CFC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442E-768B-49D8-9DC1-177F2A29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C213E-692A-442A-B3BE-9B261B3A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E7240-B9E5-4F5F-9568-B3FDDCC0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25633-E24F-48E7-B79A-EDB5CF2A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2E84E-792A-4B7C-AD4A-8F6EC9C5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67F48-CD36-4A11-98BB-F13C5E85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1F669-11A7-44EF-9A79-94489942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813E0-1952-429D-A294-0D989617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36A0F-50FC-4618-BF6F-A7E3EA19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17484-779B-492B-B826-66AF68A6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EEF7F-8B8F-4B4C-8838-1593CDB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D508-C5E4-4C5F-A7BE-14C4598B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A34B0-C7FC-4613-9D64-FCFC78B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81B23-7C77-41EE-A77D-118CA0AC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5009C-8450-4A38-9DA8-64D7E834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9F8D0-531A-4AA8-895E-D89E6FBC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55F94-B3BB-476E-9141-8FA82796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D7839-AEE6-4E1B-B915-6D9D7E93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4DB3E-B01F-490E-8F7F-E0152714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6AA92-2162-413B-BC1E-45E4071D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C8C54-3574-4B09-B41D-AFC3F4B6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7C5BA-F140-460E-8232-AE0C80A5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97F6-BDC4-4AB9-8F34-58A69A63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8C09C-33EB-400B-AE2D-DF2BCD87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0F65F-E0D5-4764-BAAA-A60743E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5FED4-941E-415C-943F-BE8047E9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22B73-00E0-4243-846D-9CF85E15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E1890-3398-4F24-B6DC-B7207972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31E72-BCFD-4DE1-A7D5-8388D726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2D33B-5FB6-45A5-9621-BC9A3FD6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B9BC7-4D74-48DE-BB6F-A72325DA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960F8-DFD7-442E-BA07-55C85EFC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132DD-E60B-48AD-B760-048DB603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BAD7-28BF-4B42-9736-D45FDD2A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63DCA-F696-4ECC-AFDE-4C5082D9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18D9E-E489-436B-9C6E-0546A89E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B32C0-12F3-41B1-9191-ABD08E61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7B2C7-7328-45E5-B0E7-A97E03B4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BC9B6-7674-43AC-9FD7-6F4362C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C3DBB-6F2A-419F-BFC3-FC885049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22137-2F64-46EE-9F63-A5497A8C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5F4AC-6F62-42D3-9A69-27D7880F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0A075-BFF6-49EF-872A-F4745427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F8459-F4D8-4B62-BDFB-96832CE5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7C4B-2E36-42AE-8480-666258CC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4231D-4E99-4CE4-A8B0-777F6A57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F34A2-79D7-4057-926D-1148011D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0D898-9D04-49C2-9183-2F5D3079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5CA09-287B-4EA9-9E7E-B1907CB0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0EEF3-5F78-417A-AFBE-45DF7192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5F90C-6A4A-415A-ADE8-D4C48A5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96CA9-9192-4B8F-A878-479A760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D4FA1-2D99-45A4-A945-7568C6C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A9997-9D3D-4D81-9DC2-20D1D215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15E7E-1438-4D58-87A7-782EF70B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B3AC-1147-4FF6-9E95-6773C764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836B9-2433-48D6-ACCA-F0E37056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6C0DC-3638-4611-BD6F-5C7CC9DA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05F8E-E258-4D8F-B449-61176926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21F6F-62CC-4679-AF97-623BE612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A3C0C-BB14-45C8-BBEB-F4CE1819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1B0B1-6C4A-4D56-B14D-AECFF67B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DEE87-0225-498F-B59F-22CF5E39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BD7A3-0BCE-4F7F-A944-14C5860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5206F-2CA9-4A92-A8AF-30009165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CC4426-FEA5-4881-9306-8F4D47E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8DE1-2880-4C4F-95AA-BB8F5F34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7451E-9B82-4B96-8E96-CB0A14A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8E9D2-C5DE-4C87-8C91-C4A2FE37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D75411-99D7-4842-8A30-E0482F2D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8579A-FFB0-4026-82CE-5C1A2C7E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BD2E7-7E9E-44A9-9447-C2E20003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F888B-F8D4-4934-A3B7-2BAE98F6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74F3E6-5559-4060-A75E-998A8F99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FB4C6-0D0F-4B1B-A14E-5A56AB21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5E9A27-70EE-40D9-B81F-51F82DD4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59114-B4FC-4D5B-B28C-9F70BBAD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A7B-E8D8-479C-8216-F270F708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1DEB-7859-423F-8EF6-473DFCE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7E2C6-4732-4A07-A501-62B30F0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589FE-CE34-4E2A-B021-B516D03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11220-680E-4F22-A14F-BAF860C6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4BD41-E3D4-4FB2-85E1-2AADADCB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89B5A-CAB2-4151-BD36-0E69FCA1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1C51A-0D4D-4073-85A0-549034D1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968A8-6132-4E9B-9D72-DFB8EBB5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CBAE3-67B0-419D-8F17-2B57A02F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BA568-4034-4A92-8DB0-4E3D8E57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1DD68-1931-4EE8-9DB0-AC7C0BF1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4217-173D-4207-AC13-F3AF1A77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6D4CD-C9F1-4562-9813-91EDB548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24B37-675C-42DB-B8D0-31CBF66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7187F-FBEB-4E2A-B898-CE7DD8C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AF1C7-73A4-4225-B3C1-6716A9E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D8094-D119-45B9-AF72-D9E15889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89B02-31F7-45BC-A855-58475C02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A629A-8007-416E-92ED-3095CF12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A6B8C9-81F4-4CAF-82ED-04706BC1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D4D54-FA16-4244-9C05-9251CE50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1868A-4B17-480F-9CDB-F9248A56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BF0F-B622-4DAC-AA03-C00D88A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1814D-DAD0-4CF1-A047-98F48736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C0BC5-68D3-450B-BC5A-44D9420E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71188-84CD-496E-889D-0102EED0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17059-B542-4C77-9E1B-75B2BA0F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4FA79-235A-4566-A74D-F2F708B8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DA315-F2B2-4F5F-A135-0E73CC45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04C6A-FCCC-47B6-92DF-7E96832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880B57-B5CD-4070-B09D-7B6CCB0C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E806E-4446-48A6-A8CC-B98B7D11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90B73-EADD-43D8-B977-F31CBC14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03CC-8DAE-4B19-84CE-EC1C780C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02E8F-9349-42D4-949D-5E663478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D8E1E5-D66A-4669-B8F8-BD678429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7B5A77-BF77-4C33-9DE6-2E871E7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4FB94-E7F3-4F98-A939-496E897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98FC45-1389-40B3-8AC4-960D54C5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FE8C3-2B11-457B-B8AB-F12E04F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B41E7-BC8A-4AF4-A538-5AB72847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EEB3A-ABB2-48CD-A3C2-9FD3552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C6F36-8353-4257-89A8-A1618A0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EE3B2-765A-4C76-9BEA-DFBB6F54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6CC3-CCB3-4342-A7F1-004984EE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84DA8-EA29-41B4-9AF7-022284E4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ECFF1E-1D73-4AA8-B3F5-3B5FC6DC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F72A87-980C-4A4F-A245-7A2802E0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3927C7-D514-4267-8AD3-1BD3D54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164D54-E4E1-417C-BF44-B8B9C676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9BDF5-7440-4ECD-B21C-A27111BA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1A4F36-B2CA-46C2-B6E4-C85B08F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7F9CD-DDE1-48D3-A788-CF5EB737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340AD4-575E-44AD-8A36-CBCCA070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05EF5-5D3C-48BD-BDAD-FF43CDC0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1A87-D9F9-40F4-A885-126B9452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8C8B7-6432-44C6-B837-9BE836D7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5902E-0045-4CF8-A487-50FAC403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0C0F7-9FA7-477E-B383-7075A261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64D5-1882-4563-9DFA-FC382713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1981-2833-416E-88E5-5ED06E5C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95102-2FE6-43C6-9B01-12E78261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092A-26D0-4212-AFEE-8A7DE4EA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4FB-E759-4ACF-B62E-5C2FB101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F5AD-3154-433A-8B12-C6B90D1A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67BA0-6F38-4C8C-9485-4EE25E5E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F838-2B8A-4423-B02F-A37156FC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FD1F-70DF-4FB4-8507-51B322C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A3A7-C14F-4B96-80C0-F53FFA95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1E1B-CE7F-4A73-96CA-705BCF33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36D0-EA6A-4A5F-882E-40E310F2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5B3B-F9E0-49AA-8F4A-93CD9286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D535-F779-4A73-880E-913C1B59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9AC6-5642-4BDD-A035-AA7670E9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15D-D867-404E-8876-048A6536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0D13-BF15-434C-94C1-1672D368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30396-AAF2-48A9-A720-7538D62A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FE0E-92D7-4322-A269-77D0A84E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C8DD-1BCE-4348-A378-4F58B209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A9EF-D3F0-4F4E-BCC6-E3063A21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77F4-45E4-4B34-8A0A-2C7B4FDD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1B97-FDA2-41AD-84D1-F778D802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7CE4-241D-465C-974D-F039C583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A58D-7127-4C3C-8973-801FCC33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455E6-06C8-42A3-B080-3037C78E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25D-8F13-4A9B-A341-53D7CC3F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DD29-B04D-4DD3-B726-DFE214F8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1F30-F64D-41A8-A21F-C15F2DE9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6F280-432B-4729-BC72-ECFB428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72318-61E6-4716-A122-B948FB29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3C21-8227-4447-8337-010CD2A8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956E2-4986-4880-B8A5-151B339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392F-2A86-48DF-9FB0-4E681D06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BD88-CFC6-43C0-A031-28E727BE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49707-4BC0-4EB1-85C6-BAD1C99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CFB0A-9D93-4324-A4B5-BFDC0A47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535-457D-4D99-B9FA-5A4FED70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ED469-3EFC-4A92-9D79-164FD04F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CD7AE-90C0-4A47-BCD0-F20A47AD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1D575-F674-4CF1-B5C0-443EFFFB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1F4FD-DE2D-4037-8490-E3ADB09C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F3AAF-F4E1-419C-AD94-A7D7D897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3E05-E6B8-4D9A-B8F1-F880E286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1F37-C2C9-474D-89D7-5C7774D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CF9E0-588A-4B3E-87F0-450C686C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6A84-01A0-465F-82BD-60B3CF64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CD2F0-3723-4388-BFF6-7D9C936D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3D2-6470-4ADD-BA3F-6E5B9DAC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67166-124C-496C-9DCF-BECCC45B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7AF91-9951-49F2-A37E-9B8F95FF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ACD1B-25FD-4AF9-A524-61B4C3A8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7A99-9A45-4FB1-9BBA-C9D45B5C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A1CD9-EDAC-4143-A69F-69F0E109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ED486-6763-4062-800A-4AE72DD2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15B40-02DB-461C-913C-A7E33716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13ABE-6EF8-47F6-9ED7-27193F9C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E5F78-05D2-439D-97CC-47AD1FC6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EC4F-67A7-4EE9-B877-5FC5B69C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C48-9C23-4332-8C53-40A32359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442D7-BF54-42CB-9DED-C540272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113DF-CDF2-4830-A58F-C51E0882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F8A11-A93F-495F-B7FE-37B801A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F0811-0F5B-444B-B8C6-B5FFD4CA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01B2-B9C2-4B48-9EAC-C309C170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86242-EB07-4333-A83B-54F01E8D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F5985-02DA-463A-878B-EF76B00C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714BD-2714-45D9-843A-3C844025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4BF21-1720-459B-9EF9-0E84C787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5B21-08F3-4519-8058-8597B433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D48-F2A3-4CF6-A4A3-DC92A4F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06F00-DA03-42E6-A096-60772C7D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19CE-05FC-41A1-9EEF-5815F634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EE516-96F7-4381-93F9-0EEC27D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144F7-8128-4313-840B-B584049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62C4C-02BB-4C79-8A36-A0BB8EF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F63D6-3124-4906-91CD-22D1B17F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A9CDD-569A-4745-979A-94DDAF8B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1939E-6D9A-4771-91EE-E57B2BD3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AC59E-0256-4915-A774-14D1FFA6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C0A14-DD57-4C67-AEA9-99D9782E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36CE-55F8-4DD0-9E15-844AB5474E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FDEE-C59A-4A46-8702-1192D77FBD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A66B-EFD5-4DEC-8DCE-8762751827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FB63-89BF-4301-8A28-44EBAC06A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C60-21FE-41F4-9D5C-C23801A710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C510-D048-4FFA-87F6-7C8495892E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582F-B5B8-4F96-894F-369CE19DB2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7244-93EE-4727-AA74-3FB9AB78FB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7882-D95A-4F0C-A899-0B23426342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443C-BC25-4A78-87A5-502E67F66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A8FF-836E-4E00-9295-ADC13017D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9A5C-2FD6-4E27-A50B-170DFF9233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68F9-0F84-4936-8129-A181D3346D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B21B-5A43-4E8D-A1E5-AC0D6C712B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1211-FFF0-43D1-B58D-DCE09E977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E728-F604-42E6-92D9-E24B7D1FD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4C5B-4CD6-49E4-8449-0E45F031A2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C31F-45A2-4F34-8B64-9634FFBDFA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EE32-062A-4651-A4DE-2C5234819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E01D-1854-4D53-88FA-C1C4D24E2C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16DD-9AB8-4B60-A873-B930B96BDE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907D-F5A5-4191-BB33-81984FD2C2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F3D3-5441-4602-B067-C6ED712A6E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8F7-98FD-4782-9F1E-5AD50422E5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CF7F-A619-4A2E-A0A1-4460BE277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8891-D7CB-4BB0-A295-8148926357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AC4-65F7-44BE-B6A7-203A2071A4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0698-2A15-4F4C-B49E-A8332F2076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6DB2-6BCF-4DF3-A883-2B96F867A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7D74-0855-4323-8C63-96664DA1A8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DB17-8FDD-4CA4-B129-717E3E3BD6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3D71-FAC0-4418-BFB9-D53CF4899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048C-A82D-4D0D-A3AF-E9D62E3CB0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6AC3-2D55-4B18-B6D6-9ADDD09600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F9CD-FE38-4E5D-A974-B989955AB2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3EC0-CD75-4CA5-8B33-EEB8CF24D7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4CD6-2307-492A-B1EB-69A770DAD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82B9-E3A3-4012-B396-F051521E66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218C-C58E-4CFC-BA2F-9C022C101D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389-B565-4A3D-A864-67046BF8C1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66920" y="3014640"/>
            <a:ext cx="2810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795240" y="1028880"/>
            <a:ext cx="7553520" cy="4800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193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4824360" cy="936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042920" y="2637000"/>
            <a:ext cx="4824360" cy="936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971640" y="3645000"/>
            <a:ext cx="4824360" cy="504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00000" y="4221000"/>
            <a:ext cx="4824360" cy="5050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826920" y="4797360"/>
            <a:ext cx="4824720" cy="504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684360" y="5329080"/>
            <a:ext cx="6624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8609" descr=""/>
          <p:cNvPicPr/>
          <p:nvPr/>
        </p:nvPicPr>
        <p:blipFill>
          <a:blip r:embed="rId1"/>
          <a:stretch/>
        </p:blipFill>
        <p:spPr>
          <a:xfrm>
            <a:off x="571680" y="1847880"/>
            <a:ext cx="8001000" cy="3162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611280" y="1787400"/>
            <a:ext cx="7921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41320"/>
            <a:ext cx="8601120" cy="5467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227640" y="386064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24000" y="5445000"/>
            <a:ext cx="2016360" cy="863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003640" y="5445000"/>
            <a:ext cx="2881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95440" y="773280"/>
            <a:ext cx="7953120" cy="5895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6084720" y="76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651640" y="15573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1835280" y="3357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99564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1619280" y="5013360"/>
            <a:ext cx="129708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227640" y="6093000"/>
            <a:ext cx="129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752400" y="1766880"/>
            <a:ext cx="7639200" cy="3324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042920" y="3745080"/>
            <a:ext cx="424980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424980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5580000" y="3471840"/>
            <a:ext cx="2952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2952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814320" y="1819440"/>
            <a:ext cx="7515360" cy="3219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3384720" cy="9363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3384720" cy="936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148360" y="2997360"/>
            <a:ext cx="3384360" cy="936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3384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66760" y="800280"/>
            <a:ext cx="8610480" cy="52578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403280" y="3213000"/>
            <a:ext cx="669780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1332000" y="429264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1332000" y="4869000"/>
            <a:ext cx="66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1332000" y="5445000"/>
            <a:ext cx="6697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5300" descr=""/>
          <p:cNvPicPr/>
          <p:nvPr/>
        </p:nvPicPr>
        <p:blipFill>
          <a:blip r:embed="rId1"/>
          <a:stretch/>
        </p:blipFill>
        <p:spPr>
          <a:xfrm>
            <a:off x="547560" y="1166760"/>
            <a:ext cx="8048880" cy="4524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000080" y="338616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042920" y="450864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042920" y="5084640"/>
            <a:ext cx="489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361800" y="1038240"/>
            <a:ext cx="8420400" cy="478152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54277" descr=""/>
          <p:cNvPicPr/>
          <p:nvPr/>
        </p:nvPicPr>
        <p:blipFill>
          <a:blip r:embed="rId2"/>
          <a:stretch/>
        </p:blipFill>
        <p:spPr>
          <a:xfrm>
            <a:off x="2517840" y="1752480"/>
            <a:ext cx="4933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47680" y="712800"/>
            <a:ext cx="86486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1:5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