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7D1B-8915-4C30-AED5-F1F58C49D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0E3A-21DB-4D65-BF5D-85B9C836B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25C387-DA6F-461D-A505-4AFFF79D1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236723-C78E-49E3-8EF5-323A70F29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C52809-7DB7-4836-88C3-18C26D9BA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B4EDDA-7318-4BC1-ACA6-72FC66791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7D3F9D-2FD4-42E3-8555-958345B9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0909BE-018F-4ADF-AF0C-B441F8084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87E3B9-B02B-45CD-AAA7-E4980FCA6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D0FD7F-A0CA-4ED9-B6DE-1D67CC956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F73F86-0382-4896-96BC-AFCEBFB14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27D1FA-573B-4AAD-AC6D-BE1BDC909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682A-6186-4BBA-B7DA-A10E44A03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EE048C-81CF-438B-9667-054DEE543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639DAE-BA52-48AA-BF89-035EECF9B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A08519-4FE6-4CC7-9966-378A8C0E2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7E5B1F-C056-475A-9F1B-2BEA85256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B02BB2-491E-45AB-B5A1-12C88AB09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9CE559-272E-45DE-9CEA-BF175E46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EB0BF0-A13E-4C49-B537-DAE5F483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00AA15-B592-4F09-BA9A-20B4C75B6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4BDBEB-31F1-4860-ACBF-89601A1DF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FD1615-5874-463D-8197-5B0AE0F5A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3477-DF9D-4C44-B8F7-8AEAB4A7B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C31238-595C-4112-B876-F2ECF3029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DC9F60-C1E6-426F-B280-6DF45ED38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0AC826-0A83-49AB-AECA-D68A0E77A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EE54C8-3E0B-45F6-98ED-AB1B814E4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99CAEA-5492-4E45-98CE-62AF79D18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8B4CEF-30E6-4838-98E7-821798B77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918EA2-164B-486E-AF48-C8B525A98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23195C-3218-4929-960B-E6497B4D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42423D-F5CA-4B90-972F-C97040951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B5A3FC-D235-4875-893D-9FFEE189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105AF-897B-4EF4-9223-5C1540599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2C3780-F44C-4F8C-AC66-801462E87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C4CD93-8EE2-436B-9FE8-6EDAD5E48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2A9265-E7DE-465D-8E37-2F4F498AC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28B739-B57B-4701-A2AF-38733A173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26644A-B92B-4DEF-B52E-41120B806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F42F01-8335-4EA0-B4DC-1F0A95448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783BF8-0BE4-4449-9564-B6F644EA9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F4431A-B5DA-44DA-A6EA-EBB364A86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57E322-825B-41A0-ACDD-9D4BECE96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09B167-D648-43ED-A648-8EC0A9182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C8B30-E16F-4202-8F93-9EEFC2848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87A9F5-6A93-41DE-89F6-FA22948FC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83F953-E539-40C0-8153-E1C366B69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EF587A-A057-46A2-9564-3C1D50A8B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B9C5B9-6232-4B6F-AA46-90160EEA6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3BE1C1-4853-4984-951A-F3E43807B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1CD4A3-F7E3-46FC-AAF4-94FECEB8C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2B09A7-5A62-4684-A68A-BC370C5A1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A0432D-7D43-46F6-81E3-80FAAECF7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FB00BE-DB13-4747-8ABA-A179BC2FC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821DE6-5598-45CC-8877-E0F87090E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47FAC-C1CF-4A10-A6DD-6F0B6280F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F8E515-3957-4D2C-A0F7-B11ADED3E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97C716-164E-4B4B-B550-D1EF4DE3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8CAA43-23D4-4243-A5AD-E51CC0505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048A84-DA92-421C-B1BA-955A95BA4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9BFBCD-E3EF-492D-A6BE-F5F8C0D3F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387BF1-FB59-4859-898F-F40FF22E4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AD542A-E232-42AF-BFE6-ECAAA960B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C5DD99-FDA2-4FF4-BBBF-20ADA4789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91CD39-1452-4012-A2C9-3E58850E3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A173E8-BEF1-44F8-81A4-7BFF07FEE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DB5E2-A3F2-40CD-8DCD-E00BF09CB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B8EBD6-C200-4115-A26F-D03288624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0A737C-5071-46DB-8DEB-780766732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EE951D-443A-47A2-9192-59C55B433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DC239D-FDAE-4586-AD2C-B706731A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396D9B-4B38-4F8F-B6D7-F8D0EB1C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3321FF-7DF7-4EFB-A64A-13D991C2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BA0349-BEB0-488E-AD10-8B4989375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997729-BB1D-4991-B208-68EBDF9C4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56F047-FAB5-4192-9387-8C4AAC198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BA481B-15A8-433A-B638-1FBBB244E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1115F-BEC5-4062-9384-324F1CAE9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6D9277-29F1-401E-8892-679D202D4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E7E09A-EA3F-4EBB-A941-8FE1DBE2D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56BCA6-039B-4A81-98DC-BC34DE1DA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C877F5-F197-40EE-B0E7-9F85B678F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CC63D2-5B30-4147-9C4D-80B237385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96E718-DB86-42B8-8DCE-4F62F2EB1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FA94A5-5D3E-408A-974C-2617BEFE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7D0CCE-E63F-4C50-A51C-840FB9576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B7E560-B72F-428B-BA10-4312321DD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D7B8BB-2614-421E-8DD9-52293EE88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5BB22-919C-4EC8-960B-86989509B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ACEF86-A7FA-4484-8DB5-2DE2D0A47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7268BC-C69E-4749-A85D-9C8AD2735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CB9000-1469-499B-8DE2-45A05EF72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655EB2-47EB-4D26-AA96-E966FD6A8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5E0D37-FC6D-4EAC-9DD0-236485214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9FB08F-035B-4EEB-BBC6-C7D0C676E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3434EC-FEE5-4A48-AA51-1EFDC9CFF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E5A109-AD2D-4E0E-A9C4-41A73598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E42A7A-7146-4A7B-BB58-9BA0C515B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C2A54D-1A55-4689-A315-CD658DE4C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559D3-A72D-4301-8858-79070810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3B2EAD-387D-4AB3-B1F0-0054B1B75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6CF5BE-B655-49CF-B1C4-406F37650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8606E0-DE97-4D77-8664-23C256455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A8AA31-6036-49F5-A946-374246005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66DB77-56B3-4CA1-8C7A-B1E45E8A1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9096C6-110E-4A6E-BD0F-DC0AD48F9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601B18-A30E-4B89-A5CA-FE5F4E41A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94C01D-D6E6-403F-A9D0-D2D750707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A60410-8DD0-4718-8CD0-86B0639A1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820FFB-0A33-448F-83A1-4B2787970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07E3-EADF-4BCF-8C0F-C71336A58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AD2F4-FA77-4CA8-9D47-C87AB35C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A4A54C-ED03-4D1A-850B-D9FB0FBE4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36FCCF-3D08-4275-8199-C6CE673B1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991618-B569-4DD7-9CA6-35C580E62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200A5B-8729-4A6D-B858-D8A147664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DEAC7C-A6CA-426B-BAA0-685A5E8E3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A643B3-49C8-480D-B030-CA5EC92E9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078B82-20F3-4451-B296-4747E0ED2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9A3916-516F-422E-84DF-DAFCB0969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5FD44E-902F-4BCA-AB2E-2A83A2816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877C62-D7BB-486E-BFB5-0B55C46FE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A3C3C-E6A0-424E-AE0B-93F70581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FCE516-31D3-4891-89CB-46CE650FE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5B9EF4-C1A4-4D29-8BC4-116F8A353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FDE634-D005-4899-BAC4-D130A0E64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9F081B-E193-44FA-AB75-D3167B54B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9CDFB8-20F0-4E31-A55B-57A2AAD78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7E677F-CFD6-4E37-B780-A59677A9A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64C782-69C9-4084-9BB5-71186AE05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760216-C727-4A5A-B871-E289E00F1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841203-58F1-4DDB-BF97-9B5D2B788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3642EC-0235-46B6-B322-2EE591999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7454B-FEFD-4E7E-9D02-8E5BC22E3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90EB0E-C921-4E2E-BB53-8ABCEF5D5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5B5090-63D2-454C-A199-7120C3CAA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E16862-D1CA-4777-8B13-4621D09BD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A92DC8-E78F-4E10-AA0D-EFB5D243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D358C6-43BE-4818-B09C-E2B78467B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6A3392-1CE8-4D1E-9D32-ABC92B30E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A40586-112D-49F6-A3EE-1D02C8692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5B737E-0A56-4659-9240-83559025D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E78343-C219-4FB7-9E2F-0AD5EC163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953174-6A3D-44FB-B48B-C39DA1823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AC40E-C120-4FC1-A77F-D6BCD5D69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2F96ED-E03F-4FBC-889E-BB5B00684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A6E463-8AC9-472E-8E66-7129EEE34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1FD662-271F-4CA3-AEDE-EC2BC9A10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1B6BE5-97CD-44F0-B403-D6A485D86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4FFE34-34A4-4F44-8454-E0041D237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660DFE-958B-4401-956A-A808225E1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D67851-833A-4A48-865A-C1465B56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97FF2C-F880-4C80-954B-85C4C4AA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5ECD5E-740A-49A0-AB7E-C8CF7F7AE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93C416-F96B-467B-A594-D7C868CE2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725C5-36A0-43F8-AFD9-D19434AF0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B14C18-1911-48CE-996D-273039B5E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4B909E-618F-4456-BCE2-415B9BC61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2BEC14-5195-49F3-80BB-A6C827D02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A6B371-DADA-4812-9291-FCEF2F261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7C30D7-0548-405D-AD59-5837D0EEA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CD191BC-1473-4CB2-B257-BFD0E607B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1CAF8C5-9C22-4FFA-85B6-5F975F0A2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AB64DD-0E64-455F-9E3F-C70DF8900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1E61EC-099C-46CD-B0DF-65E2E4A9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591381-F1E5-4C3D-83D3-F14992B2C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3654E-9A1F-4153-B0E1-D481B0403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664EA8-88CD-4477-B65D-E3D18BF70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C0CC55-CC68-44AF-8680-B1D7CF45B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8D6356-C291-4909-B6DC-DE432BEAB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47746-6CF5-493A-974A-E1F3A361C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D6032-D7CC-47DB-872B-97B0D3409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01AEE-F57F-4D74-B502-72746A108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DB80F-0A27-4CDB-8711-17B17243F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0DBF-DB77-4358-8E41-8F384C714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D8ECB-360C-4759-B550-F5DE18592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32455-D893-4562-869D-AA31B3AB7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912D0-411C-4214-AC9C-3A9DFD09C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3FC5A-B921-42D1-8AA9-366E36530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D33F8-DCC5-43C5-809E-6D3BE601E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CDC49-5790-4D52-B1CF-29CE93CC0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D4277-035D-4FD7-A79F-BD673C36E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A7298-AC06-4507-A113-C57A98294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75E9F-E5D9-4868-88B0-E06A84D9F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C772C-A657-4433-90E9-D2FC6969E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6BA5-7341-40DE-83F1-75EA86B55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FA161-E6CF-45F0-8931-BB71C1259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BB706-C8ED-4DE5-99E2-D202161F1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B7D43-9A3E-4027-8120-41718DFFF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BCB3A-5240-4898-A7B3-28EA6401E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493AB-57AD-435D-B921-0E299E1D0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2D95E-A420-4F31-A7DD-BA1F067A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56A6A-7CC1-494A-97A9-B9235FF64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C3245-69B8-4CB6-B685-0F5F61325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0F346-205F-4E72-8A80-EC45D5CA4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F1212C-8B6E-4CF8-B664-3341D28C2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2F0F-5A3C-44C6-A922-68E06FAF2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DE717D-E4E2-4B4F-A1BC-CB4908F60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BBB6E-B7A8-4FEC-AF7C-7DCCD4E24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E8B98-054D-4A0D-8545-A60C7CBE1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36912-8117-4A04-9457-54D656730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E0AC9E-3352-4F5A-97DA-AECD23E9F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BEE073-A803-425C-9376-62DDE7A9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51D5C-6BF5-4D29-B7A5-A7E73766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8DE4BF-3995-4262-96D0-5846CAD41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5FE52-0D5C-4F2F-AB43-95DD880E0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DCA3EB-5F41-46CD-8B69-AF87BCBE1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BC61-BBA2-4497-9C26-405C7F767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34BB5-BDF3-4469-BBC7-70647F38E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02E2CB-4573-4A45-B1D5-0B750354E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F3D340-FEDD-4143-9136-360545F78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842903-1B70-4E9B-92C4-F706B6DE7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C41186-BA09-48AB-AA18-90276C231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F30E99-8172-47BA-B760-BEE8AF464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2D2577-6FF9-441F-8B09-84BA2EFCE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22DA71-9A74-4402-8228-D1992DC50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D3B036-D408-45C4-91CA-904C2D058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68CF9-950E-42BB-BB29-3CFB5877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991F-8BB9-4722-8081-C92D8366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CCFA65-6BBC-47BA-A35D-7CD86CC14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0F844C-18E1-4CDB-AC94-F4153AF33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390BEB-94E9-407E-9149-B732365AC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6BD29E-7804-40A0-9AD6-B699B1889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59E990-9F79-4A09-B788-A78F50B16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94E75C-6FDD-4D30-B9EE-EB87D47F1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4C9F6E-7EFB-4A61-8077-E2AF725EF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23B124-67C4-4EE6-822D-98BB2ED4B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22A2F0-0059-4298-BEE5-928DCAAD3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B70377-A379-4087-B10D-576E2A0A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C4E9-6DED-4C6B-9BB9-3D347546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F8125F-E21C-4652-A83A-F2D26578C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47CEFC-C9C6-4BA6-B8AD-216F7A187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1CE613-B85C-4696-A638-DFCA6A34E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40E6F9-3454-4FC0-90F7-7BCC81A44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9FC50F-0E75-4D8A-A385-244D5B7F9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01A4D5-D559-4E7B-878A-91FB4EF0E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26E4AC-1F9E-48E8-B22A-F9FB35F22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6E18A6-587B-4CBC-9440-64E800D0E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3B2719-EF65-442E-B0FD-BBF8D5039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D66A32-42FD-4202-930E-B7977FF28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E6D9-AE8B-426F-AC69-2102125B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45D042-4FA9-419E-AEFA-65AC1667F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585E0E-66F6-41D6-AE61-1D9E751DC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D48A17-13D5-4D86-BFF0-33DEA5096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4C8C04-2A50-4815-A0B3-D49E3C92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13FA00-F17B-4E77-9EF0-264925CE4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34ABD0-8A80-40F6-BA8C-C424DC022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B985D0-6BAC-444D-801C-A31E0A9F1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20D55A-7760-4968-AA9F-33676AE54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49037A-2B86-4175-BBC5-F8BBA9CCF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F3CA5F-2C74-4874-B374-B90B08826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EA2D4-F2F6-4088-950D-29A677405C0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0199C-6956-4D62-92D4-ABF60BEF4B3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E183F-9D58-4260-91AD-017132F58D4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F0807-7069-47A0-8A2B-F6A7CD0A03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81318-3201-480B-A903-3E7CBAC18AB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7F592-2C7A-45BE-9C33-A57D6D3603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D91FC-5DF9-4E60-94D2-816DD2A4344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FB484-3FF9-42C4-8051-778657E4923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CAAEB-04A2-45FB-9F72-23514B6A4AC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FEF7D-D4EB-4EB7-9737-CEE8BFC3851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C905D-5D2E-4A86-92EF-1F3C2D67ED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630A8-1A68-43D6-A092-E21CE87526A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876FD-56F1-4347-81B1-A4968558B9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EAA7C-E491-4434-8955-C4EE2337232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05842-5C06-45A0-89C4-CEA99E2771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251A3-757E-498E-9CF4-E0FB53354D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CD798-990C-4C3C-B302-AF95F57048E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9B196-2AA9-4390-B845-1ADFC1C45EF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E0DD1-CE45-411D-81A0-712909D9181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264F3-C819-4807-97F2-62C6A2BD506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86EB9-B581-4E5E-8480-06A3804B53F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DF0FC-8BC8-4DDB-AE4C-36141D8642A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2A374-E13D-49BA-A566-40F8C992794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0B63C-6E55-436F-A58C-C9871F3FE62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A0529-7D46-4BE2-B1F1-FF42BB6F78A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8E350-F4B0-4C59-88B9-13E8756A3BB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CF166-9351-4A56-BA6F-5BCFD1626E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5434F-17EC-4D14-8417-CB8A38D3C94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AAE70-FEDD-4653-8D4D-B2DF9BE8CA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687C3-F621-4070-A746-518B529C9CC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2AC4B-B383-45C0-8C00-B37A3ED750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C9292-8ABF-4951-91C5-0A5E908962A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0D080-C4A5-4E16-AFE2-496FEFFCBE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CCCA2-A611-40FB-9581-0167E0EFC1E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F3AB4-2980-4F38-892B-7B941B752A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7BC76-E116-4BA6-8CD1-62286A934D2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9A1EF-B8AF-4376-9F9C-EA15745C155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9BEB6-64F8-4099-B28C-468A5F2E7D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421E1-8784-4018-9EF6-A7DF2412D17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DE068-345D-4C7F-9557-E991B47ED84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949320" y="1779480"/>
            <a:ext cx="79153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1" name="图片 69633" descr=""/>
          <p:cNvPicPr/>
          <p:nvPr/>
        </p:nvPicPr>
        <p:blipFill>
          <a:blip r:embed="rId1"/>
          <a:stretch/>
        </p:blipFill>
        <p:spPr>
          <a:xfrm>
            <a:off x="566640" y="833400"/>
            <a:ext cx="8010720" cy="519120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2"/>
          <a:stretch/>
        </p:blipFill>
        <p:spPr>
          <a:xfrm>
            <a:off x="1042920" y="1944720"/>
            <a:ext cx="7705800" cy="49356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3"/>
          <a:stretch/>
        </p:blipFill>
        <p:spPr>
          <a:xfrm>
            <a:off x="971640" y="2492280"/>
            <a:ext cx="7705800" cy="49392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4"/>
          <a:stretch/>
        </p:blipFill>
        <p:spPr>
          <a:xfrm>
            <a:off x="971640" y="3068640"/>
            <a:ext cx="7705800" cy="49356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5"/>
          <a:stretch/>
        </p:blipFill>
        <p:spPr>
          <a:xfrm>
            <a:off x="755640" y="5300640"/>
            <a:ext cx="770580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图片 68609" descr=""/>
          <p:cNvPicPr/>
          <p:nvPr/>
        </p:nvPicPr>
        <p:blipFill>
          <a:blip r:embed="rId1"/>
          <a:stretch/>
        </p:blipFill>
        <p:spPr>
          <a:xfrm>
            <a:off x="1166760" y="1341360"/>
            <a:ext cx="6810480" cy="2228760"/>
          </a:xfrm>
          <a:prstGeom prst="rect">
            <a:avLst/>
          </a:prstGeom>
          <a:ln w="0">
            <a:noFill/>
          </a:ln>
        </p:spPr>
      </p:pic>
      <p:pic>
        <p:nvPicPr>
          <p:cNvPr id="957" name="图片 68610" descr=""/>
          <p:cNvPicPr/>
          <p:nvPr/>
        </p:nvPicPr>
        <p:blipFill>
          <a:blip r:embed="rId2"/>
          <a:stretch/>
        </p:blipFill>
        <p:spPr>
          <a:xfrm>
            <a:off x="338040" y="3557520"/>
            <a:ext cx="8467920" cy="224784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3"/>
          <a:stretch/>
        </p:blipFill>
        <p:spPr>
          <a:xfrm>
            <a:off x="4614840" y="175896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4"/>
          <a:stretch/>
        </p:blipFill>
        <p:spPr>
          <a:xfrm>
            <a:off x="7380360" y="1643040"/>
            <a:ext cx="576360" cy="72072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5"/>
          <a:stretch/>
        </p:blipFill>
        <p:spPr>
          <a:xfrm>
            <a:off x="4211640" y="2506680"/>
            <a:ext cx="576360" cy="72072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6"/>
          <a:stretch/>
        </p:blipFill>
        <p:spPr>
          <a:xfrm>
            <a:off x="7192800" y="2506680"/>
            <a:ext cx="576360" cy="72072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7"/>
          <a:stretch/>
        </p:blipFill>
        <p:spPr>
          <a:xfrm>
            <a:off x="1835280" y="3860640"/>
            <a:ext cx="576000" cy="72072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8"/>
          <a:stretch/>
        </p:blipFill>
        <p:spPr>
          <a:xfrm>
            <a:off x="5003640" y="3860640"/>
            <a:ext cx="576360" cy="72072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9"/>
          <a:stretch/>
        </p:blipFill>
        <p:spPr>
          <a:xfrm>
            <a:off x="7956720" y="3846600"/>
            <a:ext cx="576000" cy="72072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10"/>
          <a:stretch/>
        </p:blipFill>
        <p:spPr>
          <a:xfrm>
            <a:off x="1619280" y="4767120"/>
            <a:ext cx="576360" cy="72072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11"/>
          <a:stretch/>
        </p:blipFill>
        <p:spPr>
          <a:xfrm>
            <a:off x="4600440" y="4753080"/>
            <a:ext cx="576360" cy="72072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12"/>
          <a:stretch/>
        </p:blipFill>
        <p:spPr>
          <a:xfrm>
            <a:off x="7956720" y="4724280"/>
            <a:ext cx="93636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71440" y="871560"/>
            <a:ext cx="8601120" cy="558180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3780000" y="4951440"/>
            <a:ext cx="1296720" cy="49356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6372360" y="4941720"/>
            <a:ext cx="1296720" cy="49392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6877080" y="5516640"/>
            <a:ext cx="129708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图片 59410" descr=""/>
          <p:cNvPicPr/>
          <p:nvPr/>
        </p:nvPicPr>
        <p:blipFill>
          <a:blip r:embed="rId1"/>
          <a:stretch/>
        </p:blipFill>
        <p:spPr>
          <a:xfrm>
            <a:off x="633240" y="2052720"/>
            <a:ext cx="7877520" cy="275256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2"/>
          <a:stretch/>
        </p:blipFill>
        <p:spPr>
          <a:xfrm>
            <a:off x="3851280" y="2593800"/>
            <a:ext cx="936720" cy="49392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3"/>
          <a:stretch/>
        </p:blipFill>
        <p:spPr>
          <a:xfrm>
            <a:off x="3492360" y="3141720"/>
            <a:ext cx="936720" cy="4935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4"/>
          <a:stretch/>
        </p:blipFill>
        <p:spPr>
          <a:xfrm>
            <a:off x="2627280" y="3659040"/>
            <a:ext cx="936720" cy="49392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5"/>
          <a:stretch/>
        </p:blipFill>
        <p:spPr>
          <a:xfrm>
            <a:off x="6877080" y="3645000"/>
            <a:ext cx="936720" cy="49356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6"/>
          <a:stretch/>
        </p:blipFill>
        <p:spPr>
          <a:xfrm>
            <a:off x="2325600" y="4221000"/>
            <a:ext cx="936720" cy="49392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7"/>
          <a:stretch/>
        </p:blipFill>
        <p:spPr>
          <a:xfrm>
            <a:off x="4788000" y="4221000"/>
            <a:ext cx="151272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3" name="图片 58373" descr=""/>
          <p:cNvPicPr/>
          <p:nvPr/>
        </p:nvPicPr>
        <p:blipFill>
          <a:blip r:embed="rId1"/>
          <a:stretch/>
        </p:blipFill>
        <p:spPr>
          <a:xfrm>
            <a:off x="290520" y="907920"/>
            <a:ext cx="8562960" cy="540072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2"/>
          <a:stretch/>
        </p:blipFill>
        <p:spPr>
          <a:xfrm>
            <a:off x="1116000" y="4076640"/>
            <a:ext cx="7056360" cy="49392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3"/>
          <a:stretch/>
        </p:blipFill>
        <p:spPr>
          <a:xfrm>
            <a:off x="971640" y="5719680"/>
            <a:ext cx="70563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图片 57352" descr=""/>
          <p:cNvPicPr/>
          <p:nvPr/>
        </p:nvPicPr>
        <p:blipFill>
          <a:blip r:embed="rId1"/>
          <a:stretch/>
        </p:blipFill>
        <p:spPr>
          <a:xfrm>
            <a:off x="662040" y="2562120"/>
            <a:ext cx="7819920" cy="173376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2"/>
          <a:stretch/>
        </p:blipFill>
        <p:spPr>
          <a:xfrm>
            <a:off x="1116000" y="3616200"/>
            <a:ext cx="74883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图片 56324" descr=""/>
          <p:cNvPicPr/>
          <p:nvPr/>
        </p:nvPicPr>
        <p:blipFill>
          <a:blip r:embed="rId1"/>
          <a:stretch/>
        </p:blipFill>
        <p:spPr>
          <a:xfrm>
            <a:off x="247680" y="2014560"/>
            <a:ext cx="8648640" cy="2828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2"/>
          <a:stretch/>
        </p:blipFill>
        <p:spPr>
          <a:xfrm>
            <a:off x="1258920" y="3773520"/>
            <a:ext cx="7634160" cy="49356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3"/>
          <a:stretch/>
        </p:blipFill>
        <p:spPr>
          <a:xfrm>
            <a:off x="1187280" y="4365720"/>
            <a:ext cx="763452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图片 55300" descr=""/>
          <p:cNvPicPr/>
          <p:nvPr/>
        </p:nvPicPr>
        <p:blipFill>
          <a:blip r:embed="rId1"/>
          <a:stretch/>
        </p:blipFill>
        <p:spPr>
          <a:xfrm>
            <a:off x="600120" y="923760"/>
            <a:ext cx="7943760" cy="545796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2"/>
          <a:stretch/>
        </p:blipFill>
        <p:spPr>
          <a:xfrm>
            <a:off x="826920" y="1484280"/>
            <a:ext cx="7848720" cy="93672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3"/>
          <a:stretch/>
        </p:blipFill>
        <p:spPr>
          <a:xfrm>
            <a:off x="971640" y="2521080"/>
            <a:ext cx="6480000" cy="49356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4"/>
          <a:stretch/>
        </p:blipFill>
        <p:spPr>
          <a:xfrm>
            <a:off x="611280" y="4738680"/>
            <a:ext cx="7848360" cy="93672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5"/>
          <a:stretch/>
        </p:blipFill>
        <p:spPr>
          <a:xfrm>
            <a:off x="684360" y="5734080"/>
            <a:ext cx="648000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图片 54276" descr=""/>
          <p:cNvPicPr/>
          <p:nvPr/>
        </p:nvPicPr>
        <p:blipFill>
          <a:blip r:embed="rId1"/>
          <a:stretch/>
        </p:blipFill>
        <p:spPr>
          <a:xfrm>
            <a:off x="299880" y="1557360"/>
            <a:ext cx="8544240" cy="374328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2"/>
          <a:stretch/>
        </p:blipFill>
        <p:spPr>
          <a:xfrm>
            <a:off x="5508720" y="4624560"/>
            <a:ext cx="576000" cy="49356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3"/>
          <a:stretch/>
        </p:blipFill>
        <p:spPr>
          <a:xfrm>
            <a:off x="7093080" y="4595760"/>
            <a:ext cx="57600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图片 52231" descr=""/>
          <p:cNvPicPr/>
          <p:nvPr/>
        </p:nvPicPr>
        <p:blipFill>
          <a:blip r:embed="rId1"/>
          <a:stretch/>
        </p:blipFill>
        <p:spPr>
          <a:xfrm>
            <a:off x="523800" y="1147680"/>
            <a:ext cx="8096400" cy="4562640"/>
          </a:xfrm>
          <a:prstGeom prst="rect">
            <a:avLst/>
          </a:prstGeom>
          <a:ln w="0">
            <a:noFill/>
          </a:ln>
        </p:spPr>
      </p:pic>
      <p:pic>
        <p:nvPicPr>
          <p:cNvPr id="950" name="图片 52232" descr=""/>
          <p:cNvPicPr/>
          <p:nvPr/>
        </p:nvPicPr>
        <p:blipFill>
          <a:blip r:embed="rId2"/>
          <a:stretch/>
        </p:blipFill>
        <p:spPr>
          <a:xfrm>
            <a:off x="1523880" y="2328840"/>
            <a:ext cx="641052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8:02:06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