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617B-9EE7-4C64-B9CF-B75BB924E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B47D-02B8-4B8B-BF7A-771E268E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1E09D-C556-4409-9E38-0501AFD9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CC34FE-838D-4FED-80BA-AA47D07D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3A68E-AC0A-4525-9571-279C80A4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36B2CC-5FE5-4AEF-8962-860F7CC8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0693C-D4F3-476A-935D-D44FBCF4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F0BEF-75F4-4271-B95E-00C91599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6F64A-0FBF-4D8D-B1B3-FB7D6F21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C20CA-9A2A-4983-B3A6-7CB71D7EB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106052-3E4C-46D4-ABE2-09653747C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B15547-589F-4492-99D5-0A7E7EE8A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8FE8-B3DF-48FA-98CB-DF7D73D68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676C43-D9C4-490A-9855-2714CED9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498229-FDB7-4922-ACF0-CFD09E7C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6C52F1-FCB9-4956-81D7-53AC8B05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43E0C0-BB41-4323-93AC-62CF163E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D160D2-E5FC-404A-8EAB-D1D48142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0088DB-9EF1-4DF7-BF85-4A2EE810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E47885-D555-467D-B3DA-3C5D461B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5E112B-00DC-4ACD-8585-F5477E31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4DB27-E8AE-4A73-913A-F24BCB30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8D3E2D-E92F-4799-9042-FD410A065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8FF5-636E-42EB-A4E5-95CBD0C92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BA766A-AE21-496E-A1F7-E1919709A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5668F-7C5C-45B5-AF65-D6B49C19B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6FC8E-0007-4279-A71B-BA3F2375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05779B-8737-46CB-9D48-63403324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289DA-6B57-414F-B6D5-EBDECC9F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907D91-3A67-4E49-BA8E-DF16FD76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19E2C-71B5-4804-8B76-B6451803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C7C11-0341-48A0-8B1F-E971804A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CC2D7-FECA-46B3-8143-EADD748F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084CC-042C-4A2A-932D-420F078A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92F0-23BF-4EC1-A703-13C3510E7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A1EFE-C1D6-4BD7-AEE7-76CC88D9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36A7F-F1DE-4160-9B24-C0E476AA9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446D2-E5BD-41CB-A288-C9A712F8A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081952-60F8-4147-BE0C-697BECD45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888014-1FD9-438A-A6A6-5FFC2B63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6D9013-B37C-45BF-BFB0-1CFF569A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F52A6E-A4FE-48F4-A63C-7D9AC641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05D329-EFB8-4C0C-BE7C-661AE3F7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3DF6D0-EF60-43D2-9C12-DAB2B34F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E74CC2-B713-4E28-9A0D-F190944C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6349-8250-47E2-91EC-15248656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5D6858-D8E6-4C40-88A0-A4845C2C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247125-F38F-4432-B4DC-41F485F5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1A2CFC-F04C-4CCE-AB86-E1AFAB19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69F86E-A712-46B7-863F-15A289C00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55D44-62DB-445F-A142-A8CAEDBF5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20C494-F0DC-4277-B452-A321A6E1E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1A3693-3160-4463-B7E6-A67D1F9C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F8C9EC-FC8F-4E9C-9DA6-8DC4DE10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4D6030-43F0-4B10-BE11-F5C41029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F65E7C-CAB1-4B39-872A-79E47896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7649-D757-4836-B2A9-2B14D211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71507D-5D64-467F-9FAC-4DEB8C11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BEEA7E-741E-42D4-991D-CF41ADF9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587A36-AD30-4D0E-972B-01CFBE93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6BB82F-9C7B-4F8D-9005-5318688F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584145-34E5-458B-A731-91056D04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79BBB5-0110-4A58-BF73-F6CF6D69A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EA32F1-F8D0-4089-AA17-F35092BC3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FA0373-1DED-45BD-A9FA-609C58F62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091FC5-A145-4F0A-BA2E-524B7267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587DB0-F46B-4421-8B48-FAB491D2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75CB-87A0-4745-A08B-CE19AFC0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105AB4-74EC-49EF-A700-1B7F864A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047F61-9D85-4C0B-8DEF-B03418BB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DF6DFC-BE53-4AE5-ADDD-42B5BBA4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0F7B9A-0D4C-4186-9C31-8E5C067F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3BD841-EFA5-450D-BD2B-B8DF36C4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4948A4-5EA6-409D-933F-FDEF48B0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19EBC3-F7CC-4B21-A56B-860A2A4F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F9F85E-DD5A-4247-8347-3B93125D4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D54DEB-BDB0-4279-9F55-3E34E65BB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D965F6-ED04-455F-8D8E-70C8B3F4D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D9A8-40BC-40C9-81D5-50C64CD2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7D1FC3-C319-4488-976C-FA270D59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1BB7A1-CC41-44C5-905C-5A4B0ACB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DB3121-A89F-4A9E-975B-734F6C2A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E35C4B-667C-4F19-AE6C-B2ECF19C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3EEE72-1E3E-484D-9A7B-855A58F8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46E1AD-59CD-4048-9E3D-4FF878FD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A42E72-47FC-41F5-8029-F552F2E9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0B043C-1BDA-4DE8-93A3-9B0AFB39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70A2AE-C020-400F-9E5C-6A02CC70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E01BB5-9881-4BFA-9EFB-D4E24AC66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1934-C43B-42C5-8514-738B09AC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CB91E4-C282-46A7-B220-5D2F6A547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8B4234-4FDB-4E67-86D0-B420B45A7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FCA7B2-C3C4-4BE5-B0F5-C4690A4A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696A61-1DC0-486D-9A84-5597E59E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9B12CB-9E43-4655-A0BD-D87690BA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E0AAB8-4806-4090-A409-789B42A8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E5D54F-147E-4B08-BF07-B59F0CF9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D94C8D-3FE1-4A2D-96A2-873E693C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634570-E4FF-4FCC-AE5B-365530A8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1CAF37-9117-444F-B4EC-860CBAD2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F9CA-5A27-4906-9FA3-2C310F93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409CCB-EB47-4D9D-A84F-AEB8E3D4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F74DD6-7348-437E-B258-34748323A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CA993F-121A-404C-9DA5-7A57A45E9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34F4CF-4C27-487F-B024-7B9E9BC41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168194-F21F-4821-BC5F-9C925E4F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EB513F-B714-40AD-9E88-5C0F7764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68079B-4743-4528-A0F6-BE3787B5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C74E84-E367-40F6-B3F5-9C6C9067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755AE5-D5E7-40E6-9C12-8184A823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1BC303-E9D9-41C9-8EBA-77A6F68E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3BA7-055B-458C-B99D-18433A28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A046-3DE7-49D8-90D0-C5D4D319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1C00A5-0A64-4529-82CC-06D7AAAE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32C197-D27F-48FB-BF82-0EDF2721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DB1DD9-1798-435E-BAA3-44E96AB3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DCE0BD-91BB-425D-85B9-E32C9EEF0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F4E470-94AF-4C48-8D53-9BAAF59B8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BF232A-2D81-4509-8A46-DA0717DE8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91FF76-DB2E-4387-AADD-BE290A91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FAFD44-AD25-4432-AEB3-3260FB40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2DAF11-D88F-4109-B1FC-04EAED2E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74A4D4-E36F-48C7-96F3-9215AAF5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0B28-917A-4C5E-BDAD-A0688559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2DC08E-0D97-42F8-B2A1-5FEB0067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1454B6-0C36-42D7-BAA3-3F9FBB04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3E6730-0385-4705-AE8F-BBDFE64E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9162C9-8FE3-4B0E-8734-12D9648C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574765-2340-4BE7-982D-19D4AC96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009824-B7D1-4735-BAC0-4F2246CAE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99C179-B366-441C-A6E5-03B443BDD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FBE0D7-9659-42AB-9102-F931F747D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F3AD84-5D93-4601-9234-A439FC28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905DA7-B6B0-4377-B752-183489B0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F5C7-46D9-40E4-9B24-6529F332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5BCC74-6CE3-476E-AB05-BBAD7595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786867-D590-4DA9-933D-CE391B6A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D49400-81E4-4403-83FA-B0F6EA74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E160D0-2679-466C-9868-EE25D4E6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897831-6586-4D1F-AB7B-F20DA5C1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37FF7F-4FCA-4878-A36C-21E8BF75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BF3C4D-D9B2-4662-A4C0-13E6B98C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749426-2244-43EA-BD2E-9914B8479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733026-33C8-46BE-800F-4C5DC4939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F59753-84CC-436F-B9C0-BDB64C407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C2FB-0AEF-4EBB-A01B-A8600D95E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C605A5-54CC-4AED-8CFB-297118CC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90ECDB-8901-4DCF-812F-0F69061C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9D1D78-9B58-4C0B-BE9B-A304DCC9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B864C1-DF0C-404C-852D-2D3C9C00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311A1F-0432-473E-AD96-7CF4DD42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F44C58-B4E6-4A42-BB0E-32963657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0DC016-2FA5-498B-B593-EAAFA66D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FD9180-B240-4748-B304-CBA5438E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8E3687-3516-4821-A594-EFC62D97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A237E2-17CB-442D-BC11-8FF566BF7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8D65-8066-444B-B40B-64E242EDD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66166A-B75D-4D07-AB13-0A55D2D66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088C9E-823B-48E1-AB07-332F896E8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5BB58F-11A3-4E44-A4EF-FC6A4A0D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85CB26-1407-4823-A975-92CDF85B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5BCDFC-7A9C-4488-834C-80E64D31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A05D40-9288-4E4E-A67E-FACB5935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8E3D0D-7EAA-4EEB-9969-D1997D29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7C318F-D7DD-4FD7-AF1F-5DBC13E4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54C962-78CD-4CB6-A4D5-90BB0C10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4D89A7-3F8B-4E2F-B829-DF50C279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FA28F-68CD-4D28-A45F-244D54FC5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C30E95-97CD-41DE-B03B-8C83AF04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AA62CA-4F06-45BA-A2BB-C18E15090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36F04D-A6E8-4250-B9D7-7EFCA23EB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BECBE-1C47-4D4B-9446-97569274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041D3-8EEA-41B6-80F5-6BBD6EED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905D2-1C38-4D47-B7CB-7BD44A83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A767C-AB5D-4CA7-A22A-E5216DB2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9EA5-17CD-4512-AC8B-777CDD9C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4BC38-40E1-4070-BD99-97C9141B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AFA75-7610-4C93-A339-1B7F4625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8C286-6953-439C-BE72-A659DE6D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B60F7-3F4F-4941-9F56-4F195968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F402E-E6CF-4CAD-A86D-A2EB3011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2E678-B085-42E1-BDC7-30D8D1406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96183-74CF-424A-9C3A-F8B9B10BD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D3F2F-937F-4582-A962-F7D7CEE63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75C95-2CD5-4907-A5AE-948A345D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81E96-B4D6-4112-9013-709C0663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D4E3-0483-4F18-9E5E-789EA66B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BCF16-C110-45FB-83DC-94442E49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B8B04-ADBF-46D0-B9EC-14283EEB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7BA3B-2383-4264-AA13-C45E1DE5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E7909-22DD-475E-B595-68CDF531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C2958-7E2B-4C86-9195-1DD7E29E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60EE5-316A-440F-8A76-79D59773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C90CE-C86F-4A9F-9A7D-2C85C200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8499A-0FB5-41C2-B84A-58E59FEBE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CC60A-693F-4417-A51C-D63D8E49B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8ECA9-B490-48B2-BD1C-BBEFED040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3B26-9C6B-4587-AF2B-07694F17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FF3FB-4FB3-4FF3-BB5D-48ED6893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254DE-905D-4106-BA98-49729D68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17BDF-1DC6-446D-B9BA-AD1EEC11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79ACF-7F5B-442B-B2EF-69FA74C4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E3C54-C5C2-4883-9FDF-CDD21FB8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6B029-57C2-43A9-AEFB-D18FEE84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9A989-F875-4354-9126-EDC8FB85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59CB6-4725-4046-A23B-9D776DE6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E1AE9-6495-470D-A384-D4A96675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F10F8-60CA-4E8D-95BD-06F4064EA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FA93-C331-4782-8864-849E5DA5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C0ED4-24A8-4B4F-8731-1748953D3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E237A-76DE-43F4-8A92-7AE34A675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943D5-D595-4100-919D-5FFCDA0A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F2D80-0F7E-4739-81CC-DD7A8B6F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33842-5A99-45AB-962A-5F44F17D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D1619-2B56-4054-9390-7E71AC68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23322-7FBF-488D-AEF7-D2827789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2B510-35C6-432B-AEEC-58CD6A2C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59405-376D-42E5-997C-3D7F44BD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CA1A9-AA5D-4911-B5DF-6076AF85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4B45-0884-4EFA-A77D-423988AB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36E79-DC76-4776-B943-B0C47C67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37B03-889C-44A2-B6EA-B88F441D9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0B208-7A39-4A55-95AB-4C592F936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141FD-E8AB-4A03-8D84-B5F6AF8F5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105F1-9140-4CC5-91A9-2F57C199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2ABD1-99C2-4019-B2D2-945AC844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8A449-F010-48C9-835E-871BFBE0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3915F-5B4E-484B-B157-E4527606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A7F82-9101-4530-8C7E-5FD718C0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38DA5-3994-4EB0-97AD-0FACD1B9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95F1-0C72-4790-8743-662A5717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C5B02-E254-4CA9-93B0-1767F6E5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05CDF-4ACE-4F00-9633-9ED03DC0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2FD35-60D3-4336-9777-820F0868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3410A-9614-4322-85FD-F23CADDB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50ED5-FEA3-42FB-837D-28758771E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BDFD0-503A-41F2-B06A-A0CF7017F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98832-A2C6-4877-8786-485555E8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5987D-75F4-40F4-8158-36755086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8F36A-1F93-4193-A88C-EAB50E65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E31F8-E83D-41F4-82EC-CCE91801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4386-3740-43CE-B5BE-B7EDFA08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C7E35-86F1-4FC0-9168-BCD08D5C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978E3-F295-4FE2-9F5A-AF8A574B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65993-0086-4EC0-A357-9BC0F30A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AEAC3-2013-4EDC-AAD9-30E48D6C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E8F3C-1947-4FBF-A1AD-D5E9924C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8F231-2BF1-4395-82ED-FFBFB09C8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AE2AC-9586-4C4F-BD35-F4315ABAF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496FDD-712F-4FB1-9E08-57B959181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32DBE8-4B10-4561-A973-47F0DD90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3C9D4-A2E0-4C6B-821D-C8683161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83C7-3130-46FF-8E64-B25808C778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ADC5-AFDB-4DEB-B851-F42A577359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6C4E-8011-437C-826C-E00700EBA5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5996-99AB-441E-BD08-B204D50077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296D-54AA-4352-BBC8-8A9999B255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ADCC-EC6E-4035-934C-E45D51A796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592C-41CE-4D23-BB3E-05C2A6D18A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D565-39D7-4C9A-A58A-BE8D65E57D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5F65-96ED-4185-B270-11D0BA3AE3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A0D1-AA78-46A1-8F1E-9A7D0FDCE5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943C-C722-47C8-89DF-E908C78698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8C84-725F-4EED-A3C5-1B460EEED3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B376-EE11-42B3-8963-1A762068E9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B342-C547-4DAD-9277-53D00E7C82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3ED5-8041-4FBE-94E6-17756021CA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0189-F12D-4FD5-958F-0AF6C09044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841F-4C4D-4835-8D3E-CA931AA21C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37B7-0ADB-49D8-BF32-51E16F86C3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6743-7CAB-4653-8ADB-5E47B063E0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90D0-3DF4-49A8-89FF-EB1DBE7542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2B3A-B652-4DBB-82DD-8BAAAD7400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077E-ACE3-4A16-A17F-D9DFADB2AC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4288-68E0-4CB4-A315-D01D85E664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4CEE-3DFB-4359-AA5A-5C73BB6896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042D-6392-4CE0-A000-2E714C043B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0162-97DC-47C9-A267-640B870FBF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27BB-7F8A-4743-AC2F-07A9A6AB95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0566-DEE5-4731-ABDD-FD270E5134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2489-E7CE-4A55-94E7-FB5E3B5798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C203-80B5-4AC0-ACBD-810EDDB340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DA53-D743-40E8-AD0A-7D427E1F6D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9EB8-0674-4002-BE30-77FB39DB7E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61A9-CBFC-4C53-9C81-102E66E1E4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5BDC-F7BB-478F-BD14-C84A65B785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2DF8-4AD2-4EA6-A0E5-1A3DC550ED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C458-8C2A-49B9-8831-566CBE1A5A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4722-8E7C-42D4-999D-53F88C0D2C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DDB9-B55A-4734-B5D2-1A0A712086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2610-D9B2-4BC7-A8DA-5907E90A03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F33C-2EB4-4544-AF0C-0F530C31BC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662120" y="2604960"/>
            <a:ext cx="5819760" cy="16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69633" descr=""/>
          <p:cNvPicPr/>
          <p:nvPr/>
        </p:nvPicPr>
        <p:blipFill>
          <a:blip r:embed="rId1"/>
          <a:stretch/>
        </p:blipFill>
        <p:spPr>
          <a:xfrm>
            <a:off x="633240" y="1181160"/>
            <a:ext cx="7877520" cy="44956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2"/>
          <a:stretch/>
        </p:blipFill>
        <p:spPr>
          <a:xfrm>
            <a:off x="755640" y="1211400"/>
            <a:ext cx="7201080" cy="4474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3"/>
          <a:stretch/>
        </p:blipFill>
        <p:spPr>
          <a:xfrm>
            <a:off x="468360" y="1859040"/>
            <a:ext cx="4464000" cy="44748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4"/>
          <a:stretch/>
        </p:blipFill>
        <p:spPr>
          <a:xfrm>
            <a:off x="539640" y="2549520"/>
            <a:ext cx="4896000" cy="4478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5"/>
          <a:stretch/>
        </p:blipFill>
        <p:spPr>
          <a:xfrm>
            <a:off x="684360" y="3213000"/>
            <a:ext cx="7200720" cy="4478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6"/>
          <a:stretch/>
        </p:blipFill>
        <p:spPr>
          <a:xfrm>
            <a:off x="539640" y="3860640"/>
            <a:ext cx="4464000" cy="44784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7"/>
          <a:stretch/>
        </p:blipFill>
        <p:spPr>
          <a:xfrm>
            <a:off x="539640" y="4508640"/>
            <a:ext cx="79930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09600" y="880920"/>
            <a:ext cx="8524800" cy="50961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908000" y="2205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4140360" y="191628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6443640" y="1916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7667640" y="1916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1908000" y="2781360"/>
            <a:ext cx="1008360" cy="447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4284720" y="2752560"/>
            <a:ext cx="1079280" cy="4478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3564000" y="3645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6948360" y="3573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2050920" y="5459400"/>
            <a:ext cx="792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9410" descr=""/>
          <p:cNvPicPr/>
          <p:nvPr/>
        </p:nvPicPr>
        <p:blipFill>
          <a:blip r:embed="rId1"/>
          <a:stretch/>
        </p:blipFill>
        <p:spPr>
          <a:xfrm>
            <a:off x="285840" y="990720"/>
            <a:ext cx="8572320" cy="55339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3203640" y="1052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6516720" y="1052640"/>
            <a:ext cx="1079640" cy="4474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4"/>
          <a:stretch/>
        </p:blipFill>
        <p:spPr>
          <a:xfrm>
            <a:off x="7769160" y="3025800"/>
            <a:ext cx="576360" cy="4474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5"/>
          <a:stretch/>
        </p:blipFill>
        <p:spPr>
          <a:xfrm>
            <a:off x="7885080" y="4221000"/>
            <a:ext cx="576360" cy="4478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6"/>
          <a:stretch/>
        </p:blipFill>
        <p:spPr>
          <a:xfrm>
            <a:off x="7812000" y="6078600"/>
            <a:ext cx="576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8373" descr=""/>
          <p:cNvPicPr/>
          <p:nvPr/>
        </p:nvPicPr>
        <p:blipFill>
          <a:blip r:embed="rId1"/>
          <a:stretch/>
        </p:blipFill>
        <p:spPr>
          <a:xfrm>
            <a:off x="628560" y="2238480"/>
            <a:ext cx="7886880" cy="23810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7596360" y="292428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7653240" y="410544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7352" descr=""/>
          <p:cNvPicPr/>
          <p:nvPr/>
        </p:nvPicPr>
        <p:blipFill>
          <a:blip r:embed="rId1"/>
          <a:stretch/>
        </p:blipFill>
        <p:spPr>
          <a:xfrm>
            <a:off x="314280" y="1285920"/>
            <a:ext cx="8515440" cy="42861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900000" y="3284640"/>
            <a:ext cx="5400720" cy="4474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900000" y="3860640"/>
            <a:ext cx="5400720" cy="447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900000" y="4508640"/>
            <a:ext cx="5400720" cy="4474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5"/>
          <a:stretch/>
        </p:blipFill>
        <p:spPr>
          <a:xfrm>
            <a:off x="971640" y="5084640"/>
            <a:ext cx="6192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6324" descr=""/>
          <p:cNvPicPr/>
          <p:nvPr/>
        </p:nvPicPr>
        <p:blipFill>
          <a:blip r:embed="rId1"/>
          <a:stretch/>
        </p:blipFill>
        <p:spPr>
          <a:xfrm>
            <a:off x="333360" y="1243080"/>
            <a:ext cx="8477280" cy="43718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900000" y="3284640"/>
            <a:ext cx="4680000" cy="4474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826920" y="3860640"/>
            <a:ext cx="4680000" cy="4478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4"/>
          <a:stretch/>
        </p:blipFill>
        <p:spPr>
          <a:xfrm>
            <a:off x="826920" y="4465800"/>
            <a:ext cx="4680000" cy="4474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5"/>
          <a:stretch/>
        </p:blipFill>
        <p:spPr>
          <a:xfrm>
            <a:off x="900000" y="5084640"/>
            <a:ext cx="5327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5300" descr=""/>
          <p:cNvPicPr/>
          <p:nvPr/>
        </p:nvPicPr>
        <p:blipFill>
          <a:blip r:embed="rId1"/>
          <a:stretch/>
        </p:blipFill>
        <p:spPr>
          <a:xfrm>
            <a:off x="299880" y="752400"/>
            <a:ext cx="8544240" cy="535320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1042920" y="3645000"/>
            <a:ext cx="4969080" cy="4474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900000" y="4292640"/>
            <a:ext cx="4969080" cy="4474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4"/>
          <a:stretch/>
        </p:blipFill>
        <p:spPr>
          <a:xfrm>
            <a:off x="971640" y="4941720"/>
            <a:ext cx="4968720" cy="4478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5"/>
          <a:stretch/>
        </p:blipFill>
        <p:spPr>
          <a:xfrm>
            <a:off x="971640" y="5603760"/>
            <a:ext cx="4968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4276" descr=""/>
          <p:cNvPicPr/>
          <p:nvPr/>
        </p:nvPicPr>
        <p:blipFill>
          <a:blip r:embed="rId1"/>
          <a:stretch/>
        </p:blipFill>
        <p:spPr>
          <a:xfrm>
            <a:off x="285840" y="128520"/>
            <a:ext cx="8389800" cy="65437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1116000" y="4292640"/>
            <a:ext cx="7128000" cy="4474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971640" y="4941720"/>
            <a:ext cx="7127640" cy="4478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826920" y="5589720"/>
            <a:ext cx="7128000" cy="44748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826920" y="6237360"/>
            <a:ext cx="7128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图片 52231" descr=""/>
          <p:cNvPicPr/>
          <p:nvPr/>
        </p:nvPicPr>
        <p:blipFill>
          <a:blip r:embed="rId1"/>
          <a:stretch/>
        </p:blipFill>
        <p:spPr>
          <a:xfrm>
            <a:off x="338040" y="2076480"/>
            <a:ext cx="84679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1:45:19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