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444-1516-418F-BDC1-4573B406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45F-AC09-4ADE-A845-61749C80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F6684-4149-411A-BB10-7FA4997C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908F7-F950-46E3-959B-598B5E76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92112-FB38-4BFA-9F4B-03723CAC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8E532-C668-4DB3-8787-090F10E6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1B410-6A66-4A86-9DBD-3C365C70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E60AF-BDB8-40A0-AA8C-0BF15ECE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77F48-A0B4-4C3C-A5E2-BE9CBBA1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AE514-7A03-4A5E-8135-B7B6C454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2BF84-B286-4FED-A334-614373B7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72C7A-0947-4C2C-8806-DAF57C17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7BF-00E2-421D-A5A4-F55336C8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0B3D2-D63F-4842-A264-D6F1934F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3CF6C-2CD6-4117-A0F5-2B5706D0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1E22C-9B39-40E4-9A0D-F73DD27D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E368E-D76B-4F68-922E-00379306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5579C-56CC-40DA-B300-DBD2E283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D5C1F-27A2-434B-8AAC-1935FCFF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9FBDF-5B58-4FBD-9847-892B8CE7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23D1A-8C44-44C2-8270-0AE0B1D7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882A9-4AD9-4CC3-A7C9-6F9D08A2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198A9-2CEC-4B5E-BEFC-4668DD31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B54-B11E-4D93-90D3-98426847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8B8CC-B647-453C-99C2-8A5B3689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46AC0-CF6A-47E1-95A5-D0B41E9C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27036-64B4-4DCD-A182-32620A78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2C02E-A0F4-464B-ADC0-A14BF91A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B06B0-9752-49EA-A7E6-1C2684D6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58309-5934-4BC2-8FED-2B7C0BB2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0A02B-F92C-4D12-BD21-8B5268E5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3F5CD-00A0-41DA-847A-56AB9CC0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1D9A9-A908-444F-97E1-265ADCF0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DA61E-AFA6-4544-B5ED-42E00059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405C-13DE-4B53-BB7E-1815C4EF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A94BF-3DD0-4AD8-896D-3CE00A21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260A1-46E0-4517-8F1E-D93878B7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1B2D7-B681-4F82-AA8A-A3904AE7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38A03-8DEE-45F1-8611-3C218E4A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EC1C7-DA81-4206-AF03-19B76996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A3E01-E615-436F-BEDD-5B06BA9C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5B9B7-08BD-4FA8-8018-FF5D2F1C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52EA2-E421-48A2-A68B-A0663436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4E781-3E71-4A9D-8E54-1A11ADCD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47E7C-3DD6-4020-B7E6-2551E745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D344-12FE-4F3F-84F8-21BE976B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A506A-D829-4C8E-9DCB-A500A84A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F0130-8C75-44DE-923F-CEE2C315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71C56-9D58-4BD8-9D75-5D6E655C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3B4F0-DE38-4C9B-A70E-0623C1E4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59DAF-9A84-471A-BAAA-8F0EC9AF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D3943-7DE7-4497-A668-28EA71CE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02C36-6CDD-424B-AEB7-CDBBB671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1C8DC-A43C-4C9E-8927-1C6A8EC4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6896E-4073-4AE2-B024-22689FEA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6A0B5-A687-4414-BB3D-7A8D883A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6EE5-85E3-4017-87ED-39FA8207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C0C62-50DB-4D9E-ADCF-A707BD84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CCEE4-BB39-4AE4-A820-5A1B5B51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14D0E-5127-4248-B9D6-C78D8677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DEA6BB-99CF-456E-A923-60EC5B1F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51098-6D6A-424A-973F-94C25B8C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3AA3C-1DC1-4073-A962-FEBC544F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551601-5494-419D-AF4A-21AB056D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8C408D-51BC-4214-83B5-DAC9BAB7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4DC77-BFE6-42B0-B429-6F020E8F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4ADF0-6E98-49F6-8AF4-3A6E3FC4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C2A4-2289-4E01-8518-6582648B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4A6BDA-38CF-4A71-A6B4-EE9E7412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07FE1-B034-4F69-A94C-8A672026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967C32-9A62-484F-961F-11326D2C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265321-A284-4E15-A8DF-FFC77101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27DEC-47C8-48C9-A05D-6860CD80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E7EDD-0E7D-4265-9CA9-CD8A35F7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F9E51-F37E-4BD1-9675-AFDB589D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2F68D-9741-4ED1-BF0B-7BB74380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F86D0-D62C-4CDE-A4B6-C9472A80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FED633-B838-4BFA-B540-D91B8DC4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5551-8AFC-4070-9A38-8F78281D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3E61E-3062-4E73-9B9B-BBDB3885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DBD0E-F94A-4C8C-BA49-7C4A53A5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D13DE2-D444-46C5-AA41-7E094943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B2E0FF-6EA6-456B-899D-DB1D1CDB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05E6F-46E7-4A52-A149-7C57D946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B27466-7F45-48D2-B1B3-43B2224A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181AB2-AE7E-43CC-873E-2316CC61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31F89C-318E-4639-B532-4D6587E1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97D057-D8BB-42BD-8CE8-2882778D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C5705E-284A-4F86-8D3B-584D4CB4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ED86-05D9-43A4-BC97-5EB29BBB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4B3D03-916A-4D84-97DB-17CDEEAC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02A9A-ACE3-4CC3-A8AA-B76D958B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4185D5-C107-4E75-8507-7C04A313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DC6479-B8F4-4F9D-B9F9-97DAE757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DBFA3-434C-437F-BCEC-5141B434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733E9-452F-4E4D-86CE-E5BDD48C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B51982-EE81-416A-A823-03A83870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18F48-FD7D-4D34-AE8E-657436C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8335B6-F586-4C49-9621-C563A89F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6A0E47-58EA-49F7-9694-29F1159B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B05F-69CF-4C6D-8CF3-81519F31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82805-B173-4FE9-B554-3D08B912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A232E-59C9-4843-8D9B-078A376B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A2130-D5A5-4861-8ECF-707AC912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6898D8-A726-46FA-BEA9-EC5A2F38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AA6F1-3DD5-4F45-9874-160C2EAF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C8BB8C-A823-47D0-852A-A2E1C175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C922B1-DC30-499A-B1AF-6A9CE749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379564-496D-4182-99C4-7EB6CE73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02C07A-2C76-407B-B97A-EF842CC6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667DFF-4357-4D12-B9D1-30F4B360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C87-8BC3-4AFF-A7CF-21DC735C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B2AB-0813-4721-8C5B-C9C258C0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0F55AC-40C9-4962-B8DF-2B13BB5A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AFB864-0D01-4B71-B10F-7575A224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5FCCBF-D4FE-4EAC-8C56-B401C0BC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F81D38-AD05-4471-ACD4-8A9E208A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9545F9-DC69-4A28-A3FB-0596DF07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73217-58C8-4CE5-BE5A-72049288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38441-5CA7-4841-A688-94A12D8D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F9FF22-3EDF-4CCE-B4AE-8C85FBE1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76BCB8-6478-4664-82E0-8C7F6744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5198D7-B6C9-44D8-8B63-5C4004B6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AAD2-0FB1-4377-8E08-300277D8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75F337-36CF-43BD-A9B6-209C3BC0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F075CA-32C8-4A02-86FB-EFE777FC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914DD0-4BC8-45DD-9D33-90F60E91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607C0-427C-4F53-B91F-8929FC4E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42392-1572-43E7-94C6-E52C9691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2ADE31-A014-4ABB-88F2-72FB814A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4B9262-4AEB-460A-AA81-EC6D4623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97A41C-7D8A-4DC8-8280-2CD5C16B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164A5E-26E7-4AE3-922F-C418CE38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F8B662-D288-4A78-9986-337D6582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AE1F-CF22-489B-A075-8302573D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238654-056F-4386-B92D-987EED96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EB9201-6E61-45B7-9F79-439D003F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281130-A2A4-4BEC-9535-7AB48F8A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51F884-96C0-4715-B3BA-D1434301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EA1C65-FEE7-408A-A3A8-4FFC6493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02544A-1836-4241-AECB-EBA1DB31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270602-40CB-44EF-9B48-D49A72A0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95FC22-B13D-4D5E-910E-BF6874A3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AB7B2A-9956-4E6E-9FD1-59C41D28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102C85-941B-458A-A9D5-225C7559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A027-D764-48BF-8F19-031C6CF7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4EDE8C-DBCF-439F-A101-4EC5954E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31FA80-22E4-4493-B2AD-1E6FACD8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D7DA14-6C0E-4135-A705-896E53D0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7C42EF-879F-41DD-8297-97147249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F33999-9E16-43C2-BE12-B32E114A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2D210E-4EB3-47C4-8590-C77C6F5A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D5712-CFAD-4D95-8B5E-F1A9B210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82E7CD-A754-4ACA-BC4E-5072FA66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88A7B9-69CA-4664-8102-6E6A424C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77B988-7C1B-4D76-90EA-1E1091FC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669B-3034-4E9F-B6FE-043CE9A3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DD1997-F3DF-44C6-BA68-C06B1949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449CA1-ED00-41E6-8B4E-4F7D94A1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6328B1-B0B1-4FAB-863E-54D5E1C4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FD94C9-2A0B-4D3D-9A86-FC55D256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417889-C6C3-4B24-A489-62ED190B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2CE893-1B87-4B1E-A7E1-1238D35E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E69A9D-361F-4D4E-A6E4-5CCFCA87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3AA43F-80AD-4230-A1F0-F111173E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A7D482-36DF-4DD5-BBE1-EF8AE532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049160-07CC-463B-99BB-181F5DFD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7BD28-DE31-4C87-8FCF-D896112C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68D499-4A2A-419E-8D8E-C245C3A7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6A6679-3DE5-4CB9-B4B9-3F57CC6E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411FFE-D5F0-4C97-A250-96ED0149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2E6802-8FD8-4772-81C5-B359DEA9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8E6C4D-1091-41A2-992E-5C727915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2ED799-6CEB-4CDA-B0D0-55382983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068F34-25C8-4548-9D04-59E8FFAD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34A2F9-4808-421A-A078-AA07A96A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265A2E-B9E8-4C92-A4B1-2D2A5BD5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D9FDC5-D467-47D7-A73E-471F9355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F194-FC0A-4670-863F-1232C0F4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C0A455-3669-43C0-9A43-B76EEEBA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C6355F-932B-4F74-A235-DDAC383B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B3E0AB-1A9E-4AD4-BA22-6F098585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12F427-875A-4F82-982F-44ED30A0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A472E0-FECD-4FE1-8A3F-09445852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06ABBB-BFAB-4E77-B179-F32AC859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AF0932-D2D2-4A39-99F5-DED9EBAE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851770-ABFE-41FE-9545-38526235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EC0A3E-65B5-475C-A136-512741D9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6CA5FF-C682-49CE-9F22-72FF3012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750B5-43D8-414D-8682-57BB870F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887563-AC65-42EF-9607-A8B08F4B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0F9133-C030-4620-8586-E53FC928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822D43-E4D1-4B8A-B94E-6FA5D717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BEEDE6-193C-4A5F-84C8-E00D262C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46990A-941D-4928-8207-56718267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3965F5-D75A-4FB1-9528-05F85CAA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390F88-219A-4A5C-BD63-8453DDB9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E0B1-E677-4BDC-AF53-E6AEFCA6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4392A-85C6-4F42-9D76-91049623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42C-1986-4673-943A-32EC738D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08876-1C55-4CFB-8986-995F6751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1F550-16BD-4E57-8A9D-13204E23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74EB7-E81A-4CC3-A0A1-2B5065AB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91A7D-E1CF-4F08-BA94-9E91D141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6CD03-58DC-4BE0-8CB9-6A738F8D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0AC2C-7760-4DB4-B89F-57BC5892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23788-DC14-4DFA-B24D-90545ED5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BA805-9F15-4F45-BACA-A5E2A7A7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9FF8F-BA86-4AC9-97BC-613070A4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41CF0-FDAC-4704-9C2F-15E695A3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B921-DC14-42F0-8BB8-0FA6B499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07071-5B32-49B5-B04A-07487BEE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06D80-7351-4B6D-98C9-D8F64BBF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BD74A-C780-4B45-94A9-9C1842C8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1DBFF-AA02-45DF-B778-E44CD4BF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5E8FB-B214-4093-B7D9-71385F07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99FE8-9359-4B62-80C0-18497F30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9FCB4-F8D7-498D-AFB9-4B3BD4A7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C9C30-34B2-4F5D-B896-0E905033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0984F-D0A7-415F-A888-25327E47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3BAE7-3C3F-4A68-B1E2-79633612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24E-9ECF-4546-B545-260B27EE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D77C9-CE03-46A8-B846-DEFF0249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BF7A4-B88A-4725-A991-42741BEF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E1A4A-6D65-4F61-A1D5-CBDEC67A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1EAFC-BCB3-4F9A-8E82-209420EF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860AE-066C-462E-B1B2-C0B410F9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3D344-5E50-49EC-B5BE-690A7D00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751FA-2C77-4D26-A2B4-BDB2BA65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B789B-9311-4A86-A0AA-D215F773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74727-E316-49A2-8BAC-8F71245C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2D128-D801-4276-B9AB-EAF4D044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CF1-2A14-4E20-A900-E7284F37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C2F37-0A10-47AC-BD0E-96394F70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9AEEF-2F53-42EF-8529-2BFBC1C4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8FF54-20E2-4054-9F8D-A8F08CFF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0D036-C957-4EC8-9983-84D208D5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32B7A-CCB3-4A8F-B4FA-9C19F0CA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F07B6-7720-462E-A00C-E5EFD00F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51E98-F3A4-4F1E-9513-F5F380B4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F2579-59B4-4152-95F9-F237B30D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DB09E-97FE-4F92-83A9-B5C1CD59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31E6E-789E-4C78-8D26-4517892A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5A9-0435-4AE6-B981-6321DED4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42D78-1A0D-4489-81BF-D66AB4B8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75A55-3D01-41AA-AA76-58FBBA4A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BFA65-0B1F-448C-B3C0-D89188B2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F1A15-CA8D-471C-AACE-AD062C59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D4DCD-F396-4DD1-84BF-A6F36267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BFB72-7284-44DF-A3F9-6DA40357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AB116-A024-423D-9760-F8860002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46CC5-471D-4F97-875D-AD299917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BCD92-1988-4E32-AF31-5B3AEAF5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8A543-2D6F-4D4F-9B09-B7159E7F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273-825F-439F-B482-ACBFD26D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3C9EA-822F-4B97-8376-7AAD00D1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4C8D4-8594-492A-8C0A-5E5D2FC5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9518E-0848-4CCC-8F06-04DBE8B6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9D063-9D3D-4AFB-9166-7E409346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60C2B-72DC-4B07-B47C-905A2F68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93759-0E52-429E-A434-73404A75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3BC78-A353-43CC-8DC2-5217A1CA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E0984-7576-4759-BD8E-FD4DD5A0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1ACEC-55A7-4B4B-972C-0DD95285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187BE-DDD6-41AD-83C3-6B12460E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B06-6241-4644-BC2D-C9B9FDB8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84574-084C-4829-81F9-02F06B1A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2AE84-C9C6-4129-A3A4-F4ACF89E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8B23F-CEFD-4A66-A074-E8ECDE0C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FD08A-FC5B-4D08-B22D-9B783551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DE934-AD7B-42C6-A714-377324C8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3CAB5-22C5-4A7C-A475-2E7A7ABC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441F7-91CC-49C9-BF3F-BC7EF97A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6C2DF-92B6-47BB-B489-4024EE77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0979F-4A39-4CFC-8876-CE5BC33D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CCB85-4149-4AE3-9147-4543D757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8033-6D24-40A1-98EF-F54F047EE6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83B5-F541-4737-A508-F558162314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F663-3C6C-4973-A97E-F389D2B4AB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5173-1CC7-4279-8089-BA03C14263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AEB0-C61D-46EB-8657-4EB363F214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0F95-0F72-4C19-94A3-C6F7C5B124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AB70-7E49-4220-A1C2-28729FB558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3F7E-EDBD-4171-B65C-9436956B2B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4D44-E8EC-47A8-A25D-B06E52BF95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2B92-F2D8-49BD-95FE-011D164D85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C9B6-8DEF-4BE1-A062-FEC52909BC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5062-3282-42BB-AD0F-E6B03E5EB7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EAC0-B71E-4E98-B99A-F9E3078580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0AB6-4645-4AF8-89C8-F76DAF14E4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8424-9BF4-4CA8-90AD-847A07F6AC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92E5-9FC4-4994-AFEF-C840DFE55B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2C88-8806-4561-89B3-CD05F36659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5EE4-2510-48B0-A37D-0C2A43D2AE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0121-570F-4632-A1C6-392407C0AA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3117-37CC-4034-B8D7-B4424B2FF6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F777-801F-45BD-99AA-A900820789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9F5E-9B2A-4007-AD59-18BF4E0ED4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8C25-CD82-4446-9ED5-DE30E04E93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BA8A-EA8D-4512-9FA7-40BBABA9ED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DA32-4C2D-433E-9C8C-864F89D51F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69BD-24DF-446B-98CF-EB7FD7F1D5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1D58-B80C-4AE1-9957-F70AA97624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50EE-989D-4FE2-84B4-BD67F30B75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4250-D86F-4EC9-B013-64B405F2E3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742B-1510-4CA2-9656-A6E883A23A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AE81-6B54-4E9A-B0C2-A43C58C5A0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DD34-2D65-4BBC-B314-89F5AB73FA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2880-E59E-4256-856F-9E2FBD7582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075E-E54F-4911-8C6C-721D601DEA1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5B44-B143-4E93-A9EF-35003A8745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F1FC-2C6A-46C8-A245-17B1A96B6A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2835-5EDC-4216-BBD5-050C3FFF61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DDA5-6F98-4FBD-9C10-7F237BC528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D0A0-332C-4DC6-96D1-ECF239325B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3EF5-B293-429A-8430-0005E2F42F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5A52-6225-4C93-BB0A-4E95CC5F48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FD4A-A265-4BB6-99C9-3DD7931E2D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844560" y="1727280"/>
            <a:ext cx="8067600" cy="90468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282600" y="3408480"/>
            <a:ext cx="876456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262080" y="971640"/>
            <a:ext cx="86198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561960" y="1243080"/>
            <a:ext cx="8020080" cy="4371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2"/>
          <a:stretch/>
        </p:blipFill>
        <p:spPr>
          <a:xfrm>
            <a:off x="3924360" y="206064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3"/>
          <a:stretch/>
        </p:blipFill>
        <p:spPr>
          <a:xfrm>
            <a:off x="7740720" y="206064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4"/>
          <a:stretch/>
        </p:blipFill>
        <p:spPr>
          <a:xfrm>
            <a:off x="611280" y="2751120"/>
            <a:ext cx="180000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5"/>
          <a:stretch/>
        </p:blipFill>
        <p:spPr>
          <a:xfrm>
            <a:off x="468360" y="3429000"/>
            <a:ext cx="28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6"/>
          <a:stretch/>
        </p:blipFill>
        <p:spPr>
          <a:xfrm>
            <a:off x="468360" y="4076640"/>
            <a:ext cx="28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7"/>
          <a:stretch/>
        </p:blipFill>
        <p:spPr>
          <a:xfrm>
            <a:off x="468360" y="4826160"/>
            <a:ext cx="604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204840" y="1528920"/>
            <a:ext cx="8734320" cy="38001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295128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295128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4"/>
          <a:stretch/>
        </p:blipFill>
        <p:spPr>
          <a:xfrm>
            <a:off x="900000" y="4653000"/>
            <a:ext cx="36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237960" y="1447920"/>
            <a:ext cx="8668080" cy="39621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48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971640" y="4451400"/>
            <a:ext cx="4895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347760" y="496800"/>
            <a:ext cx="8448480" cy="6162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1116000" y="413388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1116000" y="472428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971640" y="537372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971640" y="6006960"/>
            <a:ext cx="770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209520" y="1076400"/>
            <a:ext cx="8724960" cy="4705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30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971640" y="3284640"/>
            <a:ext cx="30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042920" y="393372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042920" y="450864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971640" y="5143680"/>
            <a:ext cx="396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2808360" cy="4474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280836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900000" y="479736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900000" y="5416560"/>
            <a:ext cx="33130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7"/>
          <a:stretch/>
        </p:blipFill>
        <p:spPr>
          <a:xfrm>
            <a:off x="900000" y="6035760"/>
            <a:ext cx="619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108000" y="1012680"/>
            <a:ext cx="8928000" cy="188136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2" descr=""/>
          <p:cNvPicPr/>
          <p:nvPr/>
        </p:nvPicPr>
        <p:blipFill>
          <a:blip r:embed="rId2"/>
          <a:stretch/>
        </p:blipFill>
        <p:spPr>
          <a:xfrm>
            <a:off x="1398600" y="3711600"/>
            <a:ext cx="6734160" cy="23241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3132000" y="142704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3276720" y="191628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5940360" y="14130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6"/>
          <a:stretch/>
        </p:blipFill>
        <p:spPr>
          <a:xfrm>
            <a:off x="5796000" y="19890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7"/>
          <a:stretch/>
        </p:blipFill>
        <p:spPr>
          <a:xfrm>
            <a:off x="8394840" y="1484280"/>
            <a:ext cx="61272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8"/>
          <a:stretch/>
        </p:blipFill>
        <p:spPr>
          <a:xfrm>
            <a:off x="8388360" y="1989000"/>
            <a:ext cx="61272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9"/>
          <a:stretch/>
        </p:blipFill>
        <p:spPr>
          <a:xfrm>
            <a:off x="3160800" y="4351320"/>
            <a:ext cx="90648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10"/>
          <a:stretch/>
        </p:blipFill>
        <p:spPr>
          <a:xfrm>
            <a:off x="3132000" y="4941720"/>
            <a:ext cx="9064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1"/>
          <a:stretch/>
        </p:blipFill>
        <p:spPr>
          <a:xfrm>
            <a:off x="6372360" y="4365720"/>
            <a:ext cx="9064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2"/>
          <a:stretch/>
        </p:blipFill>
        <p:spPr>
          <a:xfrm>
            <a:off x="6372360" y="4941720"/>
            <a:ext cx="9064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31:1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