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60A9-735A-4B4A-ADD5-346353110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A6D6-1884-454D-B011-6A05E4E1D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96D5E9-AD0B-4CB9-B6AB-15F2D5A6C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A41E07-0A72-4420-905F-31982E586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62E471-5F55-4CC0-8423-C582FE273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74244B-236D-4EB6-BA28-06A959B1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021E25-8234-4082-9B72-BCD6A864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6F2BA6-7951-415F-90BA-99B2F7AF5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288CC2-4121-4930-BB40-121AC8ED4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6F4AE0-C098-474B-9F15-9D26AE1FF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0E587F-8F26-4FED-B1A4-B4D356806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D8961D-9F48-4E01-B93B-643AE94DD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F32F-0B78-4CEF-85C2-07222892C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325610-2D9D-490F-B63E-07A885831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A875CA-0ACF-4770-A263-BA24F6FB0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563C34-A848-430B-86A3-86FE170E8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142C35-C7C3-4C40-BEB9-9C1EAA3A1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C07C43-AF6D-43AE-8046-684D42DA2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99627D-1B27-4A93-B813-F8EE155D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92A094-A28F-4B04-B374-F9DB1AE1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462986-1AC6-4136-92C7-AE0FCD120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E64FD5-48BD-48CA-B4E0-1E2CAA133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D63A4D-3B7F-41D7-92DC-155C8A922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D888-3B7F-4A4B-81C8-03E32E5CE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604F10-85A9-4931-B25E-D3314D7DE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11FD61-1A0D-418D-B991-F7D2407B6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719E5C-8077-4FA7-8445-7D9CC390A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F269D6-7778-4A1C-BCA6-39C3E5C12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A60365-EECF-49B5-A588-322806643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799635-9121-4B8C-A695-5C8E06066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58B0AF-9EFF-4767-BE19-AB4362307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35DDA7-FF95-4EDD-BD36-CB326612C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4522D6-BB21-40BD-9D1A-051383CE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EA96C3-7450-47C5-BD44-7633CEFD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D40AC-0513-4ECC-9B15-E46FCD894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D04F50-88E3-4C3D-B675-9BCC84A7C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4F9B03-6D29-47C3-BCD1-2F89F50E0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B2DD91-EF96-42C6-9548-7060FA23D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901BDA-4639-4BFE-AC85-DA8998665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026EAD-D429-4AFD-AAA7-02CE88006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570EA0-A6CC-4D2A-9D63-78AB6BE08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3DB143-D498-44C2-84C2-826650156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A3D8CE-E504-49BD-A089-1FFBB676D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67D6BC-3529-4DF4-8B0C-8594DA78D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4A0704-EA37-4703-94FF-FC0CC6452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BCF41-7C7A-4412-A234-87E9EDBDC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6193B6-25F1-409B-A1B3-4DD088AB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EF70B0-782E-45F7-8AC5-0E8B7EB9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6E7B3D-80A1-4709-8050-5D025D54D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8AE48F-F959-400A-AEFC-6EA5F86A3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402F34-939F-40EC-BC5E-4F1547D7C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84E8ED-F335-4402-88D9-3D80F715E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122D04-C773-4F22-9B83-14D3759D0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A925C7-49EA-4C0F-9EB8-316A1CF04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6ED15A-08E7-48C7-94F1-02CB305AF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DD92DE-D0B0-4C01-B417-0120FE580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27FE9-85CA-4FFB-B444-46B01220A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D8D015-BA25-4816-B546-1AABF1D5A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568095-01F1-41D5-B2DD-0C90A6353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8F2370-5443-4815-84CE-088669F2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C55DD9-DA8C-4315-A613-F4984DE01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7B11A1-4B9F-457B-8C07-BBD0216E5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5BAC93-E441-44D1-AE13-5C15E7080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95A94A-F7DC-462B-B646-BD27D4B43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66817D-10AC-4C24-9F00-DD700F341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FB0EAA-EEAD-4363-861E-DDD86D6DE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4F3824-80AD-4219-A9EB-693EA8D3A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DE624-CFA7-49E8-A015-045CBCEF0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DE690C-DCB6-41AC-AC79-7C7AA1A44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3F80D2-1E28-43CD-A559-9BC9A15D1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3A0CAC-4E60-4E92-AAB7-805C346AF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9236A0-D52D-43F2-840A-C17A26D87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809FF3-152B-48BA-8AFE-E67825EFB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2E153D-C5CB-4D9F-B762-F63029AC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45FD0D-9004-4503-8BBB-55989993A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13DCFF-9EEF-46DB-B422-963337C78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498AB8-2E1E-4A70-84C9-C49C86ACD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F78D2B-7048-4C8A-ACCB-7B59E808F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38C08-B7FE-43C0-BD78-087A28199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A29F12-D3F3-480A-BF90-3FF2F3FDA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36359D-7F2D-446A-978A-A9A5E2B20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D46422-039C-4335-8268-D73BEA63C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A577F1-8198-4DD3-BA5F-95686C336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BA151A-E931-4C31-928A-9FD5DD4B6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31C955-22EB-4481-BCE5-6E26C6D7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3034ED-1074-437F-935E-BE43C7EF9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647398-2E17-45BB-8374-89817D5C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063CE3-046E-40AF-A7CA-4C8B35307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9E3466-57B7-460C-9929-7493A204F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19118-2C3E-472C-BB5E-D1832470E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293075-F7B7-416F-A2CF-E108D7CD3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445A70-DD6C-41EB-8DD0-77168C18B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F912D7-3096-4D9D-8A42-B8C843A05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54CE53-6215-4EFF-9453-064E5FB46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8DDBFE-7AFE-43AB-BD6B-0B616863D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B8A372-73BF-4851-AE70-EEAB419C1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1BFDAF-2DEC-4E1E-A5F2-432CD0817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A8E1F2-090B-4033-AC9A-FB66C25A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FC1E3D-7809-440B-99B5-586EEF94A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30058C-EF2A-4626-83A8-33AD9494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DE667-F4E6-4313-8239-11DA5CE84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26F7BD-8BDA-449F-A196-25CF32A0F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277ED3-2A79-4B18-91E5-F92B00023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E35669-8EC2-45AC-94F7-CE81FB646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1BB9DF-F516-4219-ACB3-E39F8872A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D72786-9145-4B19-966C-97B0BAF47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22C66B-B701-490B-8AB3-58598E25A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FE8902-2474-44D0-9D6F-0C5C6B164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78AEC6-3910-48B7-AF7D-F4392D65B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C88693-BCE0-426B-AE38-9758BBA02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695876-6BA7-4B30-98BB-D2D01C11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1648-FBBA-4A62-AD8D-4FB2E2044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C8A14-8783-4E4F-A670-8B7F1DEB2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64C3EF-E333-4E31-9924-ED348751C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D17DCA-C266-436B-A15E-068ADBF9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C66CCF-6D88-4D29-ADEE-E33748C6A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A772E3-D63F-429C-B5DC-4FC219B1A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8FD5BC-694E-4B06-AD71-2F41F7606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F65ED0-DC9A-4DD8-8F0B-F020C8A89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23ABC4-98FF-41CE-8C6F-28CCF6D76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22ED07-DCA0-422D-ADB2-0A4C50C31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8FCD00-93DA-4BCE-B9CB-CE82DA6A0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E973E6-DAC9-4E51-B6EA-AAE22565D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3BF0F-CF13-4729-BDB1-C80B086DA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6D6BC0-C219-4A16-AC61-68B6EC4B0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8AF65A-0A8C-4847-8620-542274C73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9D96BE-F620-44FE-8AE5-77F7FC39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36BE34-D5B0-464F-B7FE-EAFF11763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1E35A0-6468-470F-BF22-E31849AE7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8D8052-F861-4F4F-9C1F-D5CEED384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9829E7-96C8-4267-B7EC-2CF37B39E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BAED63-53C3-4364-B72A-A86C5AA8D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06279F-EB8F-4D18-B3D2-A7DB20420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DEB2D7-083C-42CE-8BA7-0D2645D87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37028-21AD-435A-AD59-9FFBC2B56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E8CB45-8A49-4D81-A4F1-37CC35118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349FFD-4B6C-459D-82A5-2CF2DF645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6600D1-142B-4F48-8F75-D3111E0AA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8EB3CF-7ACC-4783-B444-72143A83E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077351-0E64-4339-A8F3-8D9DE4540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ACDD10-C264-47CB-B8C2-4A4E8BC56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64A235-4A20-48E0-9102-F59007BD5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9A00F3-60AB-41FF-8991-BCABD2ACA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0E7E6E-5263-43AC-8987-444604B58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DE1D4D-BE60-4216-9A19-8101D919C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5322C-BA19-4597-9185-58EDA8A42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467021-1DD7-420D-AA5F-C4A72A3ED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AAC17B-849C-4774-ADB0-7463535C4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76B6DB-D642-4033-A8F6-632870A06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E4E389-4112-4242-B83B-6727CA237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905676-582E-4A58-9900-A97CFEEF5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995A63-2621-4703-AC73-7ECBD65A9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46ECE8-5E1F-4697-8A47-CBF25954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3EE559-CE02-4861-AFE5-F85DB3A55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2343DA-AEB7-423B-A6D8-A3B83AAD0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3913ED-84BB-4E6D-A93F-EE6ACCE63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F8AA6-F617-49A0-8902-FFE5B9015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8DF9A5-7CE9-4518-AECD-8F1D7415B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6BC732-9CEA-453B-92E3-91EDB41FA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775ED3-5F41-4FCD-8A54-08A2F5DBF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887B0F-49E7-420F-A3F5-56CC58E6C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67F74B-58BE-4D2F-9170-E5A01D486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EDAADF-943D-4002-8B9B-C02C14C04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F9C680-DF5D-49B4-9B83-C68FBFE38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4BC144-447B-48E2-BBE7-D3B26F4D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C7EABA-B120-4680-8869-350705181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F7BBE4-F57C-4AB8-A211-E08169B4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92B4E-FE6F-4AF8-99E1-B73B91F6F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13248D-59B0-4741-B930-845DF4B2D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3C5147-B47F-48D9-B154-B127764C0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4C25A3-47B7-4D58-80FC-7F3EFF118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281CB-00A4-410C-BEFC-B966A5D68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B5BC7-5163-4941-BACE-3323B660C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1075C-0C8C-4EEC-8F1C-3E02211EB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22C01-8A58-469C-A1C9-1D8CD2437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F3C9-266E-4ED5-AC5F-52E36DDEB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2103A-82E6-4B04-8E6D-3CA166B1B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AFAE6-D3CE-4A36-AA8A-110C3348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72609-8513-49CD-8C6B-BE3B4986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A8B20-9609-4276-874D-FC9F9444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83248-C2C9-425E-A2EB-1539AD437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16A20-F016-4F4D-B08E-F8DA18B3B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E2E4A-049E-4051-8B0A-4437B4A37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31AEA-0656-4ECC-99F6-5F75B4B3C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10627-0EC6-46B1-A9A9-5FA4089E7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3B25F-36A8-445F-B9C1-437751471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AA69-DDDA-49AF-B5A1-922FB8E10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EA281-38F7-4676-A630-EB8393733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58D23-4000-4E81-95FC-A81332B84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71E20-E46E-4431-8AE4-C08FF5273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52EA0-A4BC-4295-BAE8-1E0D0B61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BDC23-A48C-4631-B5BF-7D45F13BA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87D86-FA71-456A-84A6-26DD27E2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C490A-FBDC-4A73-8242-4CAF89C4D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4649D-8C09-4B71-BC32-777886E70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52307-C8B4-44D6-A995-FF2A074E3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B17C6E-B23A-4AF5-80CD-4D3E58CA8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874A-EF36-4178-B474-BC1AA60BA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CF1A46-A06F-4159-81DB-1973D2838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201F5-D08B-4B46-B88B-34B673AE3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6E150C-A469-4069-A93F-85F1E9BEE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F766E-3C90-4C32-B0D0-636C24CA0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27E9E-FB6B-4895-BF20-FBEA4AA9C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0BBE2B-030B-4187-8437-32C5ED291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0BD9FD-4AE2-4682-96BD-A9E3F26D3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B97F6E-B207-4120-8FB7-58877341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8F57AA-25B9-44DD-BF84-54096AF85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87C4B-4328-451F-8075-B7EB33202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1AEA-21F0-42B8-9A20-269FA28B9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E9776-8B5F-4B2C-9E9B-BE4AA9F13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E02B81-C7CE-4093-B4A7-7FCBD1BA0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17CA47-9AAD-4AD2-95CE-46A902BC2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307C5B-00CC-4A7B-B764-2F1DC17CC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0C7F00-D9BD-4C04-8214-99C0796A7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C0A91C-8884-4ECE-AC20-08D2FF358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03C2D1-880B-4D5F-B87E-1974AB160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44B099-5979-443E-9203-EC89C206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341B5C-40EF-4856-84BE-2BD2DA360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271761-354B-4316-8EE1-64A54CCD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8718-B168-44B7-B8D7-75F16EA1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E124A4-433A-4143-B0F2-22B46FD21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137565-361C-468E-90D1-9D3DC5C99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FA6AC6-ECA9-4B18-AF4D-68A328BE1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10FDDE-74BA-42F0-A7B9-AFFEC0C6A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82F9D7-81A8-4669-B3A2-C88254487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1A1C49-898D-4C9B-8B34-00A8BB2B3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2F5644-ACF5-4517-836B-0D154DA03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F92686-6ED6-4C58-8BF9-D43CD61DB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EEFAA5-1BCE-45FA-A58E-AA2B82A72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2C4DA4-C9A7-46E2-BEE1-ABE178A7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2C39-662C-4BA7-A3A3-2FD6AC2F7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51B5B5-5687-42C1-B77A-F0F135979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7AFBAD-03ED-491F-ACEF-FE2B0E511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08554A-EBF4-493A-B048-B1DD0690E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45D3D2-BFB2-4E6E-BCEC-3B3646620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FBD91D-F699-479B-BDAF-DEE148FFE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73EBF7-45E3-4C27-AD4F-E8FD64A3E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9CE0C6-5617-41F1-A042-CF79234B3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A28F8A-655A-42F1-8072-C921F4760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71AA76-713E-496F-8C00-910AAC5CE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2F5D83-4970-49CE-A08F-FF25EF046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0C63-0723-4C29-9A30-AAA01698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6FEA89-F09B-4FE5-AE11-5C91BA8BC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1A276E-0FCD-4A83-ABE7-74DEC9F8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D7463B-2E4F-4FA2-959A-FA471DBD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C77390-6148-4FA6-A28B-9F39095A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81322E-2853-4F7B-B313-4529D2B36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CF1202-7F8A-4345-A220-6491B3037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A9412E-7F18-4C87-8D20-C8EBE4171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98B3A1-1067-4417-97F0-36D88A870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7C2F8A-FA64-48F2-961C-6F15A312A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553D80-8CD0-4BD9-A66E-4AA39A1D8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D3676-2BC8-4E5E-A313-4A872F3D39D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AB37D-00E0-4F49-B734-28CC8B8FA8D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0A858-20CA-473C-AA22-3F6F39B8281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32FD7-480A-4F42-B022-CAB56330733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D4183-FDBD-4568-AAB5-624F914A8C8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D174D-5E61-4977-AC4A-024A2097E9D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4B1F0-2927-4B4D-9018-F4B3F803486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B426F-B4AF-4908-B136-8F2CBBF44B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9FBBE-2CC7-4FFE-A1B5-9336046AAA2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0AE03-8D19-44F5-B92F-F6EA04D98E0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FC02F-FBDE-4DEA-BE2A-11322160731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6D16B-B3A8-498D-AA82-D4C76A63A3B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6F2F7-C5F7-4F8A-9DDF-D5B7344D7B5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3EE33-240C-40E4-99EF-ECBCF1B529E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8DF2A-B635-4849-8B9A-6EC2D58069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BA967-85F5-4ECD-9686-48709438225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9D479-56EE-4B50-84DF-24B9EABF59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BC4DB-DA63-4EE4-9128-EB1D838442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CA20B-DA2E-4188-B181-022159565CF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BDE8D-0A76-4024-8E5D-0471C972C9C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FA601-BEA2-4E1F-8A39-49FC845E22A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14AB7-697F-4D25-91C7-4AA5EE0C493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B5F21-42A9-4AD5-9772-096E9C2E7E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7BDC9-2592-4AA2-838E-6C82C8FEB72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1B2D6-BC7B-4CFE-8F9D-B4326A718DC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8F030-CFE8-4890-9789-C738DB6B177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5CA24-CDB4-46AB-A545-0887F9A9217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DB495-C857-4DEA-ADDF-E6592C8D819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2D16B-5170-4775-BD62-B8AC4779CB2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2742A-A0E5-47FE-A281-5453E89A664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2D697-6505-42BE-9145-02186DE0653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4599D-CC3D-4532-9C2C-FB2901E2F0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4315D-13BD-455C-BBDD-532476F45B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02619-6AC8-4252-8040-FDBF927D6C6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BDB89-C243-455B-BF9F-6E3AA57124B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139C9-41C9-40FB-B054-DFB51472E18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F5963-D665-4B6E-8F43-B0BD00F71A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86BF7-21FF-4DD6-A573-DC1A77B0DC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4114E-FB57-4C75-A45A-626DEDDBA30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30B38-547C-4AF5-B4DF-C57B50FFA0B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176480" y="3000240"/>
            <a:ext cx="6791040" cy="8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0" name="图片 69633" descr=""/>
          <p:cNvPicPr/>
          <p:nvPr/>
        </p:nvPicPr>
        <p:blipFill>
          <a:blip r:embed="rId1"/>
          <a:stretch/>
        </p:blipFill>
        <p:spPr>
          <a:xfrm>
            <a:off x="252360" y="938160"/>
            <a:ext cx="8639280" cy="49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1" name="图片 68609" descr=""/>
          <p:cNvPicPr/>
          <p:nvPr/>
        </p:nvPicPr>
        <p:blipFill>
          <a:blip r:embed="rId1"/>
          <a:stretch/>
        </p:blipFill>
        <p:spPr>
          <a:xfrm>
            <a:off x="1033560" y="1571760"/>
            <a:ext cx="7076880" cy="371448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2"/>
          <a:stretch/>
        </p:blipFill>
        <p:spPr>
          <a:xfrm>
            <a:off x="1042920" y="1671480"/>
            <a:ext cx="6842160" cy="49392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3"/>
          <a:stretch/>
        </p:blipFill>
        <p:spPr>
          <a:xfrm>
            <a:off x="900000" y="2421000"/>
            <a:ext cx="6842160" cy="49356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4"/>
          <a:stretch/>
        </p:blipFill>
        <p:spPr>
          <a:xfrm>
            <a:off x="755640" y="3213000"/>
            <a:ext cx="6842160" cy="49392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5"/>
          <a:stretch/>
        </p:blipFill>
        <p:spPr>
          <a:xfrm>
            <a:off x="684360" y="3933720"/>
            <a:ext cx="6841800" cy="49392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6"/>
          <a:stretch/>
        </p:blipFill>
        <p:spPr>
          <a:xfrm>
            <a:off x="755640" y="4681440"/>
            <a:ext cx="68421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8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3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8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3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8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71440" y="1128600"/>
            <a:ext cx="8601120" cy="460080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6012000" y="3170160"/>
            <a:ext cx="576000" cy="10508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7740720" y="3068640"/>
            <a:ext cx="576360" cy="10508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7236000" y="4365720"/>
            <a:ext cx="576000" cy="10508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2050920" y="5013360"/>
            <a:ext cx="576360" cy="10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图片 59410" descr=""/>
          <p:cNvPicPr/>
          <p:nvPr/>
        </p:nvPicPr>
        <p:blipFill>
          <a:blip r:embed="rId1"/>
          <a:stretch/>
        </p:blipFill>
        <p:spPr>
          <a:xfrm>
            <a:off x="609480" y="981000"/>
            <a:ext cx="7925040" cy="489600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2"/>
          <a:stretch/>
        </p:blipFill>
        <p:spPr>
          <a:xfrm>
            <a:off x="4572000" y="981000"/>
            <a:ext cx="1224000" cy="49392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3"/>
          <a:stretch/>
        </p:blipFill>
        <p:spPr>
          <a:xfrm>
            <a:off x="2195640" y="1557360"/>
            <a:ext cx="1224000" cy="49356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4"/>
          <a:stretch/>
        </p:blipFill>
        <p:spPr>
          <a:xfrm>
            <a:off x="6226200" y="2708280"/>
            <a:ext cx="1082520" cy="49356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5"/>
          <a:stretch/>
        </p:blipFill>
        <p:spPr>
          <a:xfrm>
            <a:off x="1979640" y="3284640"/>
            <a:ext cx="1082520" cy="49356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6"/>
          <a:stretch/>
        </p:blipFill>
        <p:spPr>
          <a:xfrm>
            <a:off x="4024440" y="3284640"/>
            <a:ext cx="1082520" cy="49356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7"/>
          <a:stretch/>
        </p:blipFill>
        <p:spPr>
          <a:xfrm>
            <a:off x="1447920" y="5373720"/>
            <a:ext cx="1082520" cy="49356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8"/>
          <a:stretch/>
        </p:blipFill>
        <p:spPr>
          <a:xfrm>
            <a:off x="1476360" y="4826160"/>
            <a:ext cx="108252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5" name="图片 58373" descr=""/>
          <p:cNvPicPr/>
          <p:nvPr/>
        </p:nvPicPr>
        <p:blipFill>
          <a:blip r:embed="rId1"/>
          <a:stretch/>
        </p:blipFill>
        <p:spPr>
          <a:xfrm>
            <a:off x="299880" y="765000"/>
            <a:ext cx="8544240" cy="608652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2"/>
          <a:stretch/>
        </p:blipFill>
        <p:spPr>
          <a:xfrm>
            <a:off x="2556000" y="2017800"/>
            <a:ext cx="576000" cy="49356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3"/>
          <a:stretch/>
        </p:blipFill>
        <p:spPr>
          <a:xfrm>
            <a:off x="7093080" y="3371760"/>
            <a:ext cx="576000" cy="49392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4"/>
          <a:stretch/>
        </p:blipFill>
        <p:spPr>
          <a:xfrm>
            <a:off x="7451640" y="5013360"/>
            <a:ext cx="57636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图片 57352" descr=""/>
          <p:cNvPicPr/>
          <p:nvPr/>
        </p:nvPicPr>
        <p:blipFill>
          <a:blip r:embed="rId1"/>
          <a:stretch/>
        </p:blipFill>
        <p:spPr>
          <a:xfrm>
            <a:off x="295200" y="976320"/>
            <a:ext cx="8553600" cy="490536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2"/>
          <a:stretch/>
        </p:blipFill>
        <p:spPr>
          <a:xfrm>
            <a:off x="1403280" y="3357720"/>
            <a:ext cx="2232000" cy="93492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3"/>
          <a:stretch/>
        </p:blipFill>
        <p:spPr>
          <a:xfrm>
            <a:off x="1332000" y="4379760"/>
            <a:ext cx="2232000" cy="93528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4"/>
          <a:stretch/>
        </p:blipFill>
        <p:spPr>
          <a:xfrm>
            <a:off x="1332000" y="5343480"/>
            <a:ext cx="3168720" cy="93492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5"/>
          <a:stretch/>
        </p:blipFill>
        <p:spPr>
          <a:xfrm>
            <a:off x="5364000" y="3602160"/>
            <a:ext cx="3168720" cy="49356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6"/>
          <a:stretch/>
        </p:blipFill>
        <p:spPr>
          <a:xfrm>
            <a:off x="5364000" y="4581360"/>
            <a:ext cx="3168720" cy="49392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7"/>
          <a:stretch/>
        </p:blipFill>
        <p:spPr>
          <a:xfrm>
            <a:off x="5292720" y="5388120"/>
            <a:ext cx="316872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图片 56324" descr=""/>
          <p:cNvPicPr/>
          <p:nvPr/>
        </p:nvPicPr>
        <p:blipFill>
          <a:blip r:embed="rId1"/>
          <a:stretch/>
        </p:blipFill>
        <p:spPr>
          <a:xfrm>
            <a:off x="785880" y="1481040"/>
            <a:ext cx="7572240" cy="389592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2"/>
          <a:stretch/>
        </p:blipFill>
        <p:spPr>
          <a:xfrm>
            <a:off x="1042920" y="2781360"/>
            <a:ext cx="3097440" cy="49356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3"/>
          <a:stretch/>
        </p:blipFill>
        <p:spPr>
          <a:xfrm>
            <a:off x="900000" y="3789360"/>
            <a:ext cx="3097440" cy="49356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4"/>
          <a:stretch/>
        </p:blipFill>
        <p:spPr>
          <a:xfrm>
            <a:off x="971640" y="4638600"/>
            <a:ext cx="3097080" cy="49392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5"/>
          <a:stretch/>
        </p:blipFill>
        <p:spPr>
          <a:xfrm>
            <a:off x="5148360" y="2579760"/>
            <a:ext cx="3097080" cy="92052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6"/>
          <a:stretch/>
        </p:blipFill>
        <p:spPr>
          <a:xfrm>
            <a:off x="5148360" y="3573360"/>
            <a:ext cx="3097080" cy="92088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7"/>
          <a:stretch/>
        </p:blipFill>
        <p:spPr>
          <a:xfrm>
            <a:off x="5292720" y="4581360"/>
            <a:ext cx="3097080" cy="9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3" name="图片 55300" descr=""/>
          <p:cNvPicPr/>
          <p:nvPr/>
        </p:nvPicPr>
        <p:blipFill>
          <a:blip r:embed="rId1"/>
          <a:stretch/>
        </p:blipFill>
        <p:spPr>
          <a:xfrm>
            <a:off x="314280" y="800280"/>
            <a:ext cx="8515440" cy="525780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2"/>
          <a:stretch/>
        </p:blipFill>
        <p:spPr>
          <a:xfrm>
            <a:off x="611280" y="2492280"/>
            <a:ext cx="1873080" cy="49392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3"/>
          <a:stretch/>
        </p:blipFill>
        <p:spPr>
          <a:xfrm>
            <a:off x="885960" y="3270240"/>
            <a:ext cx="2158920" cy="49356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4"/>
          <a:stretch/>
        </p:blipFill>
        <p:spPr>
          <a:xfrm>
            <a:off x="826920" y="4005360"/>
            <a:ext cx="2159280" cy="49356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5"/>
          <a:stretch/>
        </p:blipFill>
        <p:spPr>
          <a:xfrm>
            <a:off x="958680" y="4710240"/>
            <a:ext cx="2159280" cy="49356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6"/>
          <a:stretch/>
        </p:blipFill>
        <p:spPr>
          <a:xfrm>
            <a:off x="900000" y="5445000"/>
            <a:ext cx="2159280" cy="49392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7"/>
          <a:stretch/>
        </p:blipFill>
        <p:spPr>
          <a:xfrm>
            <a:off x="3406680" y="3270240"/>
            <a:ext cx="2158920" cy="49356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8"/>
          <a:stretch/>
        </p:blipFill>
        <p:spPr>
          <a:xfrm>
            <a:off x="3348000" y="4005360"/>
            <a:ext cx="2158920" cy="49356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9"/>
          <a:stretch/>
        </p:blipFill>
        <p:spPr>
          <a:xfrm>
            <a:off x="3478320" y="4781520"/>
            <a:ext cx="2158920" cy="49392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10"/>
          <a:stretch/>
        </p:blipFill>
        <p:spPr>
          <a:xfrm>
            <a:off x="3419640" y="5516640"/>
            <a:ext cx="215892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3" name="图片 54276" descr=""/>
          <p:cNvPicPr/>
          <p:nvPr/>
        </p:nvPicPr>
        <p:blipFill>
          <a:blip r:embed="rId1"/>
          <a:stretch/>
        </p:blipFill>
        <p:spPr>
          <a:xfrm>
            <a:off x="1047600" y="1452600"/>
            <a:ext cx="704880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4" name="图片 52231" descr=""/>
          <p:cNvPicPr/>
          <p:nvPr/>
        </p:nvPicPr>
        <p:blipFill>
          <a:blip r:embed="rId1"/>
          <a:stretch/>
        </p:blipFill>
        <p:spPr>
          <a:xfrm>
            <a:off x="538200" y="1990800"/>
            <a:ext cx="8067600" cy="287640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2"/>
          <a:stretch/>
        </p:blipFill>
        <p:spPr>
          <a:xfrm>
            <a:off x="684360" y="2421000"/>
            <a:ext cx="2808000" cy="49356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3"/>
          <a:stretch/>
        </p:blipFill>
        <p:spPr>
          <a:xfrm>
            <a:off x="3564000" y="2205000"/>
            <a:ext cx="2016000" cy="100800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4"/>
          <a:stretch/>
        </p:blipFill>
        <p:spPr>
          <a:xfrm>
            <a:off x="5651640" y="2205000"/>
            <a:ext cx="2016000" cy="100800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5"/>
          <a:stretch/>
        </p:blipFill>
        <p:spPr>
          <a:xfrm>
            <a:off x="395280" y="3400560"/>
            <a:ext cx="8280360" cy="64764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6"/>
          <a:stretch/>
        </p:blipFill>
        <p:spPr>
          <a:xfrm>
            <a:off x="324000" y="4149720"/>
            <a:ext cx="82803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1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7:59:12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