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1AB-163F-4915-9C77-00FEBD87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677-529A-46D1-8AF8-0A356E4F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EC8AB-E19D-4FAF-87A3-02CD231C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8343C-8ACA-4D86-9062-D0C60791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F5EAD-3D56-4662-9146-B4DF130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5EAFD-F696-4C9F-A987-447C4B9D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C7C7D-E90C-434E-AEF6-55DBCA6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2275E-FBF3-44B1-8173-3B03759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31ACE-0CBB-4A05-9793-DCEEF8C5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E0B5E-635D-4D1C-B79D-67844C4A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523F1-8BFE-4B23-B923-95F75468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AC14C-9D50-4B40-8312-92D4E211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A3B-16B2-4B49-A5A1-1F040A1C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D2785-9872-4B08-9835-05D0E26F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94E9F-6804-4819-A794-4A7A0488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814DD-18B6-43EA-9451-70327AA7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922E8-A097-4AC2-AC20-7E66B230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8783B-270E-4A0F-8072-792AA1E2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6135A-5C16-4CC9-B275-8331010F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654AE-B530-4900-A600-2B54F1F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438BF-9FC6-47D8-AE52-98E76222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58D89-464B-4C83-A0B0-9CE382A3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D76CE-4602-4419-8CCA-9E7DE1D9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31B-79BB-49B9-BD13-0A0FD4ED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9C93E-47D4-4CD7-AFCF-C739DFAF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FED54-6FEF-4718-B7DF-50E15E17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766AC-E296-45BF-92BD-B3C63096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3222D-316C-4733-8367-991F13D2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073AE-0257-4511-B9F1-A45D4D0F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1606D-B370-4031-9107-F4EB7A89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8A1AE-85F3-41C3-B733-76C323DA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A3115-054D-4DAD-A042-9B65EC5B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71168-E559-4EA1-AE32-24B5B79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038FB-83B8-4B50-A277-E09AA721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D14E-2DE4-44FC-B841-E6D449FF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53BAD-E5E3-4D5A-8733-EB471117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0FEAE-0F43-4393-976C-218862D3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F0CE5-4870-42FA-B264-64F3D731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6AFF6-C75A-4DF5-989F-2F281923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A7F1C-2200-429A-B7F6-6A1BC12C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7FAB2-A21C-4D35-B936-35EA26D1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E262F-4933-43FA-AA93-D4961DD5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C2808-85AC-492F-A5BF-8C7A21CA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3AF19-1740-4D02-A290-56A90768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88FDF-B6B3-44D3-B67C-BCBB5E93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A108-F04C-42F9-BDC0-64DB3FAD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2427F-FA6E-40E5-8BE9-53608381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8445E-1CF3-4031-AF0A-6EE8E29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8AD1F-7978-4A7F-9589-5CDDD6F6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0C937-3264-4FB0-B831-72B00157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E6D4E-36D7-4FFA-8DC8-E5A56DFF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9EE10-EEE9-4080-A1D6-7CF0B4F0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4C184-F8EE-4438-8D78-42C35ABA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4B599-A2E5-48DD-8646-6B543D31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413E5-5D47-4F5B-815B-12E5CD3D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70F1A-C756-4021-9F06-07D7E6C0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94E0-9895-4363-AFA6-1ED434C4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619DA-1F7D-4763-9DB5-9A5338D8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41187-C294-4696-8A58-08480DEB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52DE4-4E74-49B7-B647-56FBA505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66902-75BD-4965-AD6A-1CC21B0F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CE510-CB01-4A91-ADE4-DE3F8361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83010-09A8-4E96-A33B-E0C8A325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65423-1C75-42D5-BE30-E7CE965C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A4C37-996F-4D36-8E38-BA9CCEE4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3F74F-FE2C-40AF-B473-5009E42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FC7FC-6327-405D-807D-084A7480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DE96-DFBB-46BB-B482-7688EFB3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15ED2-B8E0-454B-8B4A-8B7448E1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53487-099F-4B70-BE0A-25E82DCF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D46EF-1C02-4508-86B2-4C5BD285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4A93E-A0A7-4B93-8599-130348A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4DD85-7AA2-462A-BB2C-8077C6AD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F73FE-E78F-4259-9B62-BF92F15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13999-70EA-4CEE-A592-B57C7404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B7DC3-D3BE-407B-92F7-55C50B45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48692-3622-4364-9131-522B9127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0F38E-7DA1-4E36-B3A2-5CBC7A7C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0023-9D66-4049-B66F-AB63C7B8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9130F-3C32-4C88-9A98-ABC630C2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7E790-7BEA-4C26-857F-D6B5DAB6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64A1E-3BEA-47DD-8AA3-1523B46F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1E87D-ED5C-41F7-8928-4B29F808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A0D88-DECF-4364-B027-9E524330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E7EDF-5BAB-4439-9F29-0E6C0D8C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5CA73-EA0B-4FDE-96DF-848F8106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BE79C-CD87-4B52-AE98-8A53856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7FB6B-B54B-47E0-8429-8C6100EC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72BA8-CB9B-4AE5-B066-B5F406FD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DED5-13DF-4D50-B0F7-B13C0CCA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3BBCC-676A-4431-B840-12F9EC73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FEEA2-DAC4-4BD6-98B4-2341F7C0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C0FD2-5AAD-4344-B912-A4EA5690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16396-F79F-473A-93E9-D3FFCA69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A7760-04BD-4784-B0F4-107570BF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E7904-E77D-431D-BF46-0961EEBE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119AC-2C38-41B4-82FA-CCA8B47D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0C79F-4C74-4757-918C-20D79984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4432D-E779-440F-894E-F6C8C149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6D41F-3E02-45B2-A92C-B353CE4C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DD55-0EA4-40A6-947F-B97CC08B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8B5C30-3AB1-41C2-A901-FC7844E7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30331-9691-4AE5-9CA4-42D47899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E1DDF-76D7-462C-ACF2-6710CCCE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A06A7-783D-4122-95FE-3E5DFA59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C0F7DF-A36B-4B6E-A794-A8CC1AFD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1400D-9A6E-4B47-B48A-C53712D0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D7623-1AC7-49C7-9318-42F645F1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84847-8C4D-4448-B9DB-96148D1E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C4040-CE7C-403A-B453-394AB605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6E4B7-A533-4A16-ABB9-5E37288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508-6B01-429C-AF0C-A479461D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52B4-0F0D-4A9B-AC88-8768A88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CCC1E-B45F-412E-AB75-984EAAB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09FC8-4287-4F85-851D-C2FA4A68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17451-444D-49F2-A9CD-ABFA222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59D25-3C4A-44C4-853E-9AC790FB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0BBB3-7319-4DDF-ABD3-F80C8691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A5500B-7EDB-45AE-A0FC-B76F8ADF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3643C-99C6-455E-B3A5-2573FDE1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9133E-9843-4EC6-BEF3-C9DEDF5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4F65E-7A97-49C0-A926-73013735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56838-0DE0-4978-A848-74F827D6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11CE-0A69-475A-983D-B587AED2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503713-FB42-4834-9B24-7692FAD5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3A409-9885-4428-A48B-7559EF1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7381C-223F-41AF-B09E-A8BC825F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12C22-54B0-452E-857F-514B42AE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18D9F-1EDC-47BB-81D2-AA930709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BC5EB-C76A-42D6-A7B7-527CEBE2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EB343-1A21-4772-A1A4-BD2492F5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F48B6-71B9-4CEC-BCEF-6CC91FC0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16777-953E-4E18-B933-381785F2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7D47E-2A20-4FB4-B9F6-1302E14C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4B2D-5BEA-442F-9BB6-5AE9E8B5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F6B634-E767-4867-BCA1-A4566167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98BBBD-67ED-4512-B6FE-AB06034B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5E07A-D8BD-4FB8-AD98-A279E674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E5F6C-709B-4FD6-B22D-D8CBCD7D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87F95-0298-4638-8D21-D729D6BE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FABBD-47EB-4105-8C24-3F1B968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80E9B2-FBD3-4797-B054-0B506559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5378B-7564-4337-B3F8-EFA285EA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34105D-C367-469B-BEB1-12942325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1E47F9-D00E-4969-9848-AC817C04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05F7-23E0-43AC-A58D-98A9D333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811BF-E060-4227-9168-5536D3EC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F9D229-8079-42DA-8AE5-D83F9D41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6A946-0127-4DE6-9C07-075C756A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2E8E1-6BFA-4758-9A6A-1C5F438C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F22516-75F8-4DE4-9CF4-45A208D9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0DA42A-1BB2-4A67-8434-A80CF603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99D72-47A9-4010-A5EA-71AE53A1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81E34-D2F4-49BC-AE0C-59B575AC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19FE4A-41B1-44CB-A783-0B952C53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8376E-AB11-44AC-8605-3EF6E172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36D7-A883-4408-B98C-497FA5A2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3E7110-C7B7-4663-B164-CE0A1A62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6C8F0A-00F2-49C2-9F9A-BF1E133D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AB86B-6B53-4354-950E-DFD19403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11322A-601A-4ECA-84DA-3D4DED36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D9CC2A-3E82-403C-8522-4BE131EB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906E45-A451-4E9B-B1AD-4FEFFB26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F975BB-998C-4A99-9AC8-90CBB287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7549E9-BECA-44C5-949E-8F78894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59B211-41D5-496D-BEE2-7F4D2ECB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16BC2-5F6D-4BCE-A997-6484757E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E691-3920-4C9E-8860-9D014C3C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CCEB9C-9A7F-48A1-AAF9-9242666F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244F99-187A-446A-B336-B45FE737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CE09C1-B66D-4590-A092-32D96AED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5C83-0EC9-441D-A62D-1D15EF9E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D97A-309C-4953-9A38-4CAE6C87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5595-D5C6-4D8C-B560-283C60EF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7574-FEA9-42C0-B746-5B7E947A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7B4-25BA-4697-96BA-9ECCF6A5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81A2-37FF-4D5A-8623-8B58E0A4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BE1C-A75F-491F-846D-261BB3C1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A7A6-BAAC-4483-9360-2CA42378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FB76-EBC5-4FF4-A8F3-2690C492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70E6-E18A-4965-8416-38A8AA8D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A722-10C9-482B-80D0-A8A9504C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4E19C-2ED0-4E3B-B85C-4EAA500C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50E8-B333-4C02-B4E6-70ABA57F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B884-2FF4-42D6-9194-6961614D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96D4-3EDF-4078-BF2B-D831DC47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E86-2901-4678-A4DC-8F08F151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93B0-C86C-44DC-9D79-027E4440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A255F-AD84-4F5D-8569-9A0EA39E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EDC5-45D1-4ABA-B0FD-19D7CAC1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D37F-CA08-40DF-BBCD-247FCCBE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2E6B8-CA36-4B11-A772-D65EC6A8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07D5A-3E30-4029-A4A9-5107D0DF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AFE3E-694A-42E5-B1E2-47C3243B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4F3A-DC6D-45F2-A5FC-8D02FC3B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2494-8CE8-4825-A48C-0CFC03F2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FD841-1689-4B7D-8598-E7C179FD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AB0-1C80-45F0-8AAB-D4FE3CB4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09DC-7638-412A-A194-B0FBBAE7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64D64-DAD7-460C-90BF-FAA34504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D79F4-9E06-487C-84D0-F3777F1D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5344E-9315-4C71-8364-A7C3C3B7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1B787-C8CD-44D1-80BA-9240EDD4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C742-7198-4123-95FD-F89162B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4E333-ADF5-4257-964C-50BEA72A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6977-2ED3-419E-9488-8CDB0692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02B09-44F8-4424-AA45-B2F59DA4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35EA-51F6-4A79-BA4B-46530DE9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2AE-BC4C-4278-AC97-23E1E4F0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98E2-9E6A-45E3-8170-A8ED9C6C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8D6B4-D11E-4B22-BC29-F74E848B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E4AD-3FFD-4D2A-A667-C3E73218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06F4F-C485-4420-A1FE-9C95A0EA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46C8B-B6A1-4A5E-BBE1-BD0689DD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1675A-AB85-43C5-968E-C648D9BF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BB361-4EBD-4F91-B6B8-46A25385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B0DAB-A383-45C2-97C0-C7AEB081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544CB-CD66-4C9E-8599-C7A02E60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93537-E55E-4738-8A46-6C7DB2EB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4DB-52A6-4D76-A29A-4D8251A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DDA4A-385A-4C23-9344-A91328C0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43F1-33FD-473A-A9DA-1BAF9C0C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1BD0A-CA9F-4531-BED5-65A7CC61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A493F-946F-408F-95CD-65B76668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55833-25E7-49D9-823B-BB60AF1E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03E0F-148E-4726-9AF7-1277AB3E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A42C9-BC74-4AA4-960C-EE846C18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AB4A2-4F4B-455A-A73D-64E7F938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9C10D-4B1E-4F97-9036-26F9E57E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54C7F-F297-41B5-B089-CD3F462D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E66-2D26-4E5D-930E-479706D6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AC741-BF34-4391-811E-5E4363C7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3611D-D752-42F2-9B05-11CA974E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87EE6-EC64-4EE1-85DC-8413F583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88512-91BB-4323-9543-63F348EE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3E576-A634-4462-8734-425F2208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6E264-5EA7-444F-B776-9DC6856B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9E650-4936-423A-A73B-BDD45606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E3910-3A58-4771-BB55-7D4EFFFB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A2F4F-237D-4780-AE57-36D64D13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52B1C-B63E-45C8-A023-077B0217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41A-5081-4932-BDA4-5A0FA190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18BA4-9302-4C71-9108-397758F4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068DF-3562-4A70-A5ED-47D7DD43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A5BB-DBB7-477C-81C7-20428CC1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8B05C-54D3-4E5B-8634-37601866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4BBBD-FEBD-4289-9F13-0194581D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F122F-D482-43A0-B372-C3993152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E0250-0478-41BB-BDB5-9A2BDBCD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B813A-23FC-4E99-8136-9AEEB165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D206F-0EFE-46B2-9933-26F0AC8C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3C9D5-F00E-479E-ACF5-DCCCCA3B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14AE-F203-401F-9A39-7EA8D99D68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B729-9B98-430A-9B94-21C823CAA1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92C0-7C0C-420B-8821-58AA843513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E670-2444-4948-B0F1-E348D2D8C1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AD13-B376-432C-BF22-D6BCB691E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3086-3EB3-4F58-AE54-B84D860232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1C34-F4BF-4907-8E11-99117A616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1C2B-2900-44DF-8E7E-E88375EA80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91E0-F468-4D6E-98DE-94DBFCDAF7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87C5-C4BA-41AF-A5AC-861A187D09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E2A9-9F26-4A36-AAC7-F0FA965CAA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A8AA-3F60-4162-86D8-844B7E001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3F9A-2A4E-4D14-ADF7-D63A8FAD97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757E-ED03-4A4B-B13B-B71F317A3E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CAB4-43D1-439B-A85B-CFE1C57BEC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019A-5009-46F2-9B2E-1E93A697F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7220-4C9B-40A3-A2F5-11F733ACB7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57AF-57A3-4D3C-8D80-812508DEB2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83F3-B9E4-4D27-9BFB-9A2D02696B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D887-8426-46AF-93B2-ECF2DA747C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A1E6-E89A-42D0-A178-14622F0310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A337-23EE-476C-8D28-C59EC67628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F727-AF97-40A8-AA1F-4CAB8B855E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E4F0-D170-4C95-A7BE-BEF832E842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654-2BD8-4983-9DBD-4280474209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B4BE-88D9-4DFB-A2C7-A3D0BE8671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3E82-E6CC-4585-ABCD-470382AD54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7BD0-CB2B-4868-946B-8E2E4CDAF5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4FBA-43B7-4F79-B1FF-186B7159B2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1EBA-B29B-4B50-B6A3-A0190C56D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89F3-6794-4AA9-99BC-07DAECB6D3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CFBD-4C8F-4244-AA92-142738AA92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2910-0B01-4011-A5DB-C8CABBCB19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651A-E8A8-481E-A7FD-A2077E77FC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1856-5B4E-4447-A843-6F5263812C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39B2-60C7-456B-AE1B-D3C1AA0C66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2350-7565-4E47-9AC8-E81247CBC1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D28C-E2D0-4C89-89F9-B5B91A2E34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38E4-978F-4513-BCE8-D7E5650A77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5607-32E3-4DAD-AEC9-7AC95FEF54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90560" y="1700280"/>
            <a:ext cx="5762880" cy="11523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581040" y="3517920"/>
            <a:ext cx="79819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52231" descr=""/>
          <p:cNvPicPr/>
          <p:nvPr/>
        </p:nvPicPr>
        <p:blipFill>
          <a:blip r:embed="rId1"/>
          <a:stretch/>
        </p:blipFill>
        <p:spPr>
          <a:xfrm>
            <a:off x="247680" y="1647720"/>
            <a:ext cx="8648640" cy="35625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2"/>
          <a:stretch/>
        </p:blipFill>
        <p:spPr>
          <a:xfrm>
            <a:off x="826920" y="3184560"/>
            <a:ext cx="2592720" cy="479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3"/>
          <a:stretch/>
        </p:blipFill>
        <p:spPr>
          <a:xfrm>
            <a:off x="3851280" y="3213000"/>
            <a:ext cx="2592360" cy="4795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4"/>
          <a:stretch/>
        </p:blipFill>
        <p:spPr>
          <a:xfrm>
            <a:off x="755640" y="3832200"/>
            <a:ext cx="2592360" cy="4795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5"/>
          <a:stretch/>
        </p:blipFill>
        <p:spPr>
          <a:xfrm>
            <a:off x="3780000" y="3860640"/>
            <a:ext cx="2592360" cy="4795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6"/>
          <a:stretch/>
        </p:blipFill>
        <p:spPr>
          <a:xfrm>
            <a:off x="684360" y="4567320"/>
            <a:ext cx="41036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0520" y="817560"/>
            <a:ext cx="8562960" cy="5924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276720" y="309708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934320" y="306864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160800" y="3957480"/>
            <a:ext cx="474480" cy="395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308720" y="4956120"/>
            <a:ext cx="1008360" cy="479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700360" y="55166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5292720" y="6049800"/>
            <a:ext cx="19432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571680" y="1062000"/>
            <a:ext cx="8001000" cy="4734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255920" y="1052640"/>
            <a:ext cx="1108080" cy="4791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4241880" y="1700280"/>
            <a:ext cx="1108080" cy="47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4140360" y="25938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4572000" y="3514680"/>
            <a:ext cx="194472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3851280" y="4062240"/>
            <a:ext cx="194472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1332000" y="458136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3419640" y="5157720"/>
            <a:ext cx="3384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76801" descr=""/>
          <p:cNvPicPr/>
          <p:nvPr/>
        </p:nvPicPr>
        <p:blipFill>
          <a:blip r:embed="rId1"/>
          <a:stretch/>
        </p:blipFill>
        <p:spPr>
          <a:xfrm>
            <a:off x="324000" y="679320"/>
            <a:ext cx="8496000" cy="6134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4413240" y="25653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3780000" y="3760920"/>
            <a:ext cx="576000" cy="4791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867280" y="494172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7236000" y="494172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5003640" y="61070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6372360" y="6107040"/>
            <a:ext cx="576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8373" descr=""/>
          <p:cNvPicPr/>
          <p:nvPr/>
        </p:nvPicPr>
        <p:blipFill>
          <a:blip r:embed="rId1"/>
          <a:stretch/>
        </p:blipFill>
        <p:spPr>
          <a:xfrm>
            <a:off x="295200" y="890640"/>
            <a:ext cx="8553600" cy="556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5867280" y="1728720"/>
            <a:ext cx="244980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5796000" y="3083040"/>
            <a:ext cx="2449440" cy="479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3995640" y="4537080"/>
            <a:ext cx="4321440" cy="479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4024440" y="5891040"/>
            <a:ext cx="4321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7352" descr=""/>
          <p:cNvPicPr/>
          <p:nvPr/>
        </p:nvPicPr>
        <p:blipFill>
          <a:blip r:embed="rId1"/>
          <a:stretch/>
        </p:blipFill>
        <p:spPr>
          <a:xfrm>
            <a:off x="371520" y="1757520"/>
            <a:ext cx="8400960" cy="3342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366840" y="3241800"/>
            <a:ext cx="1944720" cy="1842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282760" y="3213000"/>
            <a:ext cx="2360520" cy="18432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2700360" y="2608200"/>
            <a:ext cx="1511280" cy="479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4629240" y="3357720"/>
            <a:ext cx="1944720" cy="1842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6573960" y="3357720"/>
            <a:ext cx="2360520" cy="1842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7236000" y="2579760"/>
            <a:ext cx="15112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6324" descr=""/>
          <p:cNvPicPr/>
          <p:nvPr/>
        </p:nvPicPr>
        <p:blipFill>
          <a:blip r:embed="rId1"/>
          <a:stretch/>
        </p:blipFill>
        <p:spPr>
          <a:xfrm>
            <a:off x="204840" y="2185920"/>
            <a:ext cx="8734320" cy="2486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380880" y="299736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2109960" y="2924280"/>
            <a:ext cx="2174760" cy="1726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2944800" y="2276640"/>
            <a:ext cx="1482840" cy="4791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572000" y="2938320"/>
            <a:ext cx="1957320" cy="1727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6516720" y="2997360"/>
            <a:ext cx="2303280" cy="1726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7221600" y="2276640"/>
            <a:ext cx="14828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5300" descr=""/>
          <p:cNvPicPr/>
          <p:nvPr/>
        </p:nvPicPr>
        <p:blipFill>
          <a:blip r:embed="rId1"/>
          <a:stretch/>
        </p:blipFill>
        <p:spPr>
          <a:xfrm>
            <a:off x="324000" y="650880"/>
            <a:ext cx="8496000" cy="6162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3059280" y="3803760"/>
            <a:ext cx="936360" cy="4791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3059280" y="4581360"/>
            <a:ext cx="936360" cy="479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2987640" y="537372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3059280" y="6093000"/>
            <a:ext cx="936360" cy="479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4572000" y="381780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4572000" y="459576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4500720" y="5388120"/>
            <a:ext cx="936360" cy="4791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9"/>
          <a:stretch/>
        </p:blipFill>
        <p:spPr>
          <a:xfrm>
            <a:off x="4572000" y="610704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0"/>
          <a:stretch/>
        </p:blipFill>
        <p:spPr>
          <a:xfrm>
            <a:off x="6084720" y="381780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1"/>
          <a:stretch/>
        </p:blipFill>
        <p:spPr>
          <a:xfrm>
            <a:off x="6084720" y="459576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2"/>
          <a:stretch/>
        </p:blipFill>
        <p:spPr>
          <a:xfrm>
            <a:off x="6013440" y="5388120"/>
            <a:ext cx="936720" cy="4791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3"/>
          <a:stretch/>
        </p:blipFill>
        <p:spPr>
          <a:xfrm>
            <a:off x="6084720" y="610704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4"/>
          <a:stretch/>
        </p:blipFill>
        <p:spPr>
          <a:xfrm>
            <a:off x="7524720" y="381780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5"/>
          <a:stretch/>
        </p:blipFill>
        <p:spPr>
          <a:xfrm>
            <a:off x="7524720" y="459576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6"/>
          <a:stretch/>
        </p:blipFill>
        <p:spPr>
          <a:xfrm>
            <a:off x="7453440" y="5388120"/>
            <a:ext cx="936360" cy="4791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7"/>
          <a:stretch/>
        </p:blipFill>
        <p:spPr>
          <a:xfrm>
            <a:off x="7524720" y="6107040"/>
            <a:ext cx="936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54276" descr=""/>
          <p:cNvPicPr/>
          <p:nvPr/>
        </p:nvPicPr>
        <p:blipFill>
          <a:blip r:embed="rId1"/>
          <a:stretch/>
        </p:blipFill>
        <p:spPr>
          <a:xfrm>
            <a:off x="290520" y="1409760"/>
            <a:ext cx="8562960" cy="40384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"/>
          <a:stretch/>
        </p:blipFill>
        <p:spPr>
          <a:xfrm>
            <a:off x="7308720" y="3170160"/>
            <a:ext cx="1150920" cy="4795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3"/>
          <a:stretch/>
        </p:blipFill>
        <p:spPr>
          <a:xfrm>
            <a:off x="7380360" y="4005360"/>
            <a:ext cx="1150920" cy="4791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4"/>
          <a:stretch/>
        </p:blipFill>
        <p:spPr>
          <a:xfrm>
            <a:off x="7308720" y="4738680"/>
            <a:ext cx="11509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9:2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