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A7D6-7062-454B-B526-2ED617E5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9A5B-5AF5-4F3B-BC38-34AC9FFB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448EC-C900-4D7B-990B-6C4847E3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571D3-8E87-4CC9-99F3-87B34F18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4AA03-F761-4B15-9613-BEB4B082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33878-0640-4CC4-B803-05C1D360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9CC38-0186-4EC5-B201-FB2C7539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B8D47-0890-4A0B-A092-FE2BAC02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60075-5FA9-4B55-8B17-D69AEEA5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19BE2-F5D9-4FBC-8476-37E966A0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587F5-B4D5-481E-ADF6-B79AB82D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54010-5E26-4DDB-BAF7-33F3F1C6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8CFB-2278-4D27-8BB8-F76D2B3E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D04CB-BB3A-4C2C-A22C-EE043F0D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9CB4E-70C7-45CB-A8EB-D55A11C0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8FFE7-1281-4463-8640-5A83C140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7DD2D-A3B0-4224-AFE0-F7970B1D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5E897-DEFE-442D-A33D-8E73F586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3EA5C-CECB-443A-8BDE-7B92618E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A3C8F-9EEF-47FC-AA28-ECFE51CD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492F9-3300-4A6F-9055-A0CCB1C8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30CE7-67D5-43F5-9D6E-9218C289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F723C-A4F6-4173-B6C5-54AE2B68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5E26-F9C6-4322-8A58-91C1A6C7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20A4F-A374-457B-90AD-85FA73DB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117F6-3028-4B79-BBFC-A5204A15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2A509-D849-4A4F-8F69-4900E084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18193-B8FC-4AA1-BF33-EABCE669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BAEE6-CF9E-47AE-84A5-8881D40C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BA8FE-095D-48CC-99DD-DF552FCA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77319-13DD-4CDC-A01A-A17CEC2E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F9EA1-AECC-4DFE-83EB-52862379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BD52A-7C25-4D5C-8ABF-8CE3E121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ECCF5-9F8C-473C-AFC2-018AA8B9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51DD-A307-4597-9479-50687273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6241C-3D1B-497E-B68B-0EFA9C7F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DDA67-40C2-496B-9F90-ED027C4D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7E4E7-1FAC-43D4-893A-97AF6AF5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2AAEF-C666-421F-8F49-F908497F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44D98-21D6-4D93-908E-178EEE22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344CB-808D-495A-AC79-1970E496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D7E15-DF43-403D-A206-EC5AB86C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8E08E-3F30-4C39-8871-29761D57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CD727-7E45-41E7-847F-421408C5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839C1-2913-4756-B9B2-D01EB4C4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8D4B-2482-4BBB-8B1B-9174F5FB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15F1D0-C163-46B5-819D-295A6D5B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D50B8-0518-45C0-A5FE-36BE08D5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F17C2-98B4-44EE-9E36-02BD469A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AEB56-BB14-4738-9A94-74F87D91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C810D-5E66-4939-A6E8-0BD643A4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72C881-7938-436D-A8C1-1CE26969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886483-A1A1-4F01-BC54-08055E32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33493B-E79A-4470-AD3C-8D19C6F7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31A11F-8E24-4B76-A5DC-F2FE1742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D95CE9-6C96-45D4-9812-E7D2F304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6DCA-72DB-4E81-AE5B-A2854DAA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D2A833-06ED-474F-9628-7AC4CF84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25E94F-85BC-4EAB-B8F3-D8DF725A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2BCBCB-8F6C-4BD3-8E2E-06CD1D4B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0EA3AC-25F1-4D58-B7CB-9A180C2E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71689-A396-47C6-A9D8-A1EC9355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50F9F2-58BA-4922-9538-10CAF7F8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108B66-75B6-4BAF-A781-B90DC262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EF74C0-5458-4747-A9A6-AE449222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C39E53-4009-47FE-A00C-06E6A83B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E1E71D-46D8-42AC-84C5-DD46F66C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6C20-DD40-4413-8FB3-D109EE2C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B1EB54-DE4D-4453-8E84-23B2D7E2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1A85EC-2203-4353-ABA4-4F92B46B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41398A-F4B8-411D-9C9A-CBF4B1C5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685434-A1A0-4E59-9285-5BD1C8E9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95B4CC-310B-418F-B605-A3B45974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91672F-B14B-4BA7-8578-018EB0F4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3DBBED-C159-4307-8857-72138095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4575CE-F14C-40C6-8ACF-50C9C701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8AC091-0C58-4535-A999-64609CECF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4FAF67-D207-4106-81CE-20E23665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1798-8EBC-4235-A42F-D29326D6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C68054-5E98-48A6-9D98-A4BB7B52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521EAB-1C93-4BE3-A5F5-9ECFEE63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B14C7E-3FD5-4D56-A1F9-BE2A8918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117083-DAFA-4AAA-9464-99C68C8B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704332-F24A-478C-8FB1-5D6950D2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8A70D0-2F5E-475F-AE9E-06CB798F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8A4745-EAA2-4952-851A-017B922A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C0F17E-2E83-438A-94C7-69D9AF07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FFE16C-EF8E-47BA-9F43-D63B678C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756C46-744A-4546-BB50-8CD28CC4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D856-64F2-442B-8477-59B38C8F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DF295C-5405-4289-A114-B772117C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37688C-BC7F-49C4-A979-05F6B021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3CF729-4478-4AA7-AF3F-8571D50F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9AA72A-E621-4A40-B642-B745DAA6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826B7A-B4C7-4880-8F69-E72D72DE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720CCB-87CE-49E5-B3E2-AB072B14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420FF6-AD4C-4DA8-92A3-C9B360B8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C2942A-6257-472C-9CD9-E4A91006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36179F-CB44-43A4-B18A-D37C226D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E56032-D895-419C-86B8-DB46BEEA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5AE7-4376-4A27-A232-CBC15061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F0D670-783D-48E6-B661-EDA19261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2D514F-09BA-40E4-9FEC-921D1092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3BF0C1-9DF4-4F3A-93E9-CDB62E4D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CBF134-F414-4105-8439-FB3C0ED4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C8F8C0-F52F-4992-B13C-C3CFDBED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7DDF7D-10F7-4872-98C9-2DC8687B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23DD89-FFFA-4826-9D19-4F54813C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4B73C2-8C5F-44E0-97E6-ED32CD65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49756B-2C62-48E8-8C72-C4EB8FD6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4EAA18-9E05-449C-B86F-3EF916F4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1478-917D-49F2-B845-9B5C8C4D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10F8-352E-4D8E-89AC-B3C18B27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A1FAB8-B5D2-4C26-BA46-193D62D3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295AE5-BEFF-4980-818A-3B1F3E12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881FDD-8721-4C56-933A-58737EAF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AB8FDE-6903-4307-BB49-ECFD18B1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B01831-8B76-4B21-8D95-99E20C30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B79499-2777-4B60-AE39-3058AA19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1BEBA5-5D5F-4A8D-995F-8FAC0835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8D4AE8-1CA6-45F6-8548-9611FD86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20FFDF-F644-4F31-9CB3-5AD6B084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FB4CA9-E9DA-4065-BF4B-F59D5BFF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E48B-954D-41DA-AE78-4844034D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7D933D-A7A7-4B77-9D34-F9D870AE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C9ECC3-B108-4A85-9E85-E299E854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DF1EE4-90FF-4E18-B0A2-5F3C02F4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8E8516-760B-495F-8A51-5654569F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15B710-EFA1-4CA0-9BE0-2D53DEC9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E8B34C-BE7F-441D-A1B3-3C946A9C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70B605-76B4-42CE-B3B3-CA1EDC62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7B5663-B1DE-4F16-957B-AE11E8E3A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C14F2D-33C2-455E-A3B4-FD1D4515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BAF583-B379-40CC-94F9-DE912D52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F7DE-838A-4971-89D0-61CA195E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D60969-4A87-4348-A2F8-A2B6EE98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5ECB0F-3216-4D28-B2A4-5242D767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4108ED-762F-4334-9216-D2BD0BB1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1B1D50-A951-43A7-978C-EE23EB26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553CD3-4F08-4581-8F6A-A063385B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0EE471-383E-4356-81F7-8C931345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459CE7-3FC0-4BC1-B0C8-2FD79E53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B95665-D13A-4DB1-85E1-90509D63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51D9AC-55C0-454B-B33C-1836A70E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D88195-63EC-4F74-AA23-F25EDE41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922E-6B67-4217-8D12-9273EDD7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D84181-22B4-4BAD-8473-B178655E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AE8B9A-0644-4022-BE10-9D4C6FD9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D86DF5-7C72-49E2-BE6C-33071D75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3085A4-4844-422C-BFD2-2CDA1E81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223B0C-6677-4345-A084-268B5F11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8B15CA-1659-4D5C-B33A-5FAFEE73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BFAA97-B2BE-4D87-B3AB-6F9B25A8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6870AE-1AF9-4576-BAA1-05420205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C00DDC-9522-46B6-BE3A-2C694030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42F017-72B0-4C17-AA7D-2D35360D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664B-70E7-4031-A1C3-3359EBC5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E1AEDB-01CB-48EC-BB42-F3499829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20831C-4B8E-405E-B466-A5F0062E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47AC75-D537-4988-9E58-BC61D68E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E40562-2DA3-4EAD-B475-EB1639A3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949380-A6FA-42B8-9764-E64FCA23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838D94-2D5D-41EC-A945-38475FB0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3DECFD-7E99-4EE3-8123-12DB7AE9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46B8D1-A805-4E01-8F5D-6571ECAC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F371D8-F137-4DA7-9DF7-721DF7C8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371296-E5C4-4D18-ACC3-EF227047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E5555-AE24-4DDA-BF3B-23CB4A40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C240B6-23B7-41D5-9D89-8DB66F6C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02987F-4662-4F05-B770-25F2101D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DAB0F6-1308-4182-B88D-78706353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85B62-B7CC-4868-80DD-9DE263B8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D3EFD-420D-44ED-B358-1E87C1E5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E20DE-F3FF-4008-A7F4-B4E8B2FC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5DD5A-56D6-4417-A9F2-66BBDD42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108C-D596-4082-9135-918A8193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FB683-0F77-466E-B69E-60FAED30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67E9D-55CE-4EDD-8B01-AE8C42C7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B4576-E46F-4E28-98A8-FE866730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5D246-BC8E-4C3E-B4F7-A503B135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10205-02F3-44D0-B0D9-8BEA45A6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A8F0D-9CB7-47B3-87F1-A5C6A362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41546-4FBE-4B27-8D29-3D73971C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F02EE-DE9A-44D7-8F65-043B11F3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76C3C-E85F-4830-875B-08607588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B0704-2818-4C41-A82B-3C99CF7F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931E-100C-44C7-8FF4-9C79225F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57D52-A13C-4945-9633-6C8686A1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4FC87-B2C2-4CB7-8010-253A804D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7D6D3-7840-4C4E-A5F1-3DF11524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8CBCC-E518-4241-93BE-74E31192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DD742-4DC6-4DBD-959B-C11ACE8F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5DF42-33A9-47D3-A0A4-489406A2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5600B-7E69-42E9-BAD8-6B10A786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744D5-2734-4D64-A9F9-A1A3EEC2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B8922-A6CE-47F4-8A7F-D1707043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D0900-4A92-4DBC-A0A1-FF208019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7616-2A59-4B6D-8790-C7A8A9B2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3A228-F068-4023-97A7-5DF29757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8D02F-E9A4-43B6-A1E4-6618CE3E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B020B-FEA5-4BEB-95E2-FCC99BBB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78A4F-255C-467F-931F-7259C96E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5ABB9-3A2C-42BC-99EC-F0779065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7F48E-2163-4432-A642-77CFC448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2D028-BEEE-4752-9B12-8D0EF9CA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3AB8F-C80A-4E85-A7AE-093E7541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B1846-82C0-4639-ADCA-CF027ADD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45046-6512-4723-B265-56EAE9CB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54EE-A7D1-4B3B-8E78-21F56A9D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B6169-02BF-41B4-A18F-BB91015D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4C435-E7FA-4421-B55B-4238509C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F1383-9793-4505-87D6-93D02796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A1D7B-5F56-44D5-AA92-A85F3381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DD23A-C98D-40E5-A067-970AA254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B6CC3-A562-40BE-80C1-F8A02104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95D11-96D4-48BB-AC9E-C5246673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BA06C-93EB-4C38-8877-E01DB905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DB927-922D-4E10-A149-EC1361F8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2EC7E-DEB5-4072-B9E9-442CBD61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EAFA-CE31-4079-9626-B11F4B90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19369-723F-4F35-A52B-57E94ACA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F2512-79E3-4ACD-B8E5-11CC32D0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DAE85-8DEB-4705-968F-A8515EA3A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53278-CE31-4D9C-8C33-72317290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FB8AE-9352-48FB-AE78-F7CDD11C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7C0F0-FCEE-4806-A1DC-690BA15D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43FD0-CF2C-49AF-9CED-F9612809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ADF4B-1DDE-45AD-A979-B6757D50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F3111-F461-4EC8-BBAC-A6F91FFE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17E5C-BB23-46BF-93B7-FF8CBE90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D02E-060F-4639-8567-792605F7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BF285-6E20-4BC6-AE7E-A1BA6B0A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E47A9-D46B-497C-AC56-7AA4E3D5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72FA2-0A2D-49BA-BC45-DA3764AB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A09DF-CB5A-40A6-915E-E9660987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A4ED3-2A45-4863-B04F-53C5F146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51390-6EB0-41CC-8D60-317E9F09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66698-C6E7-4F12-BD17-A0493F08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C03FC-194F-4585-897B-1AD90786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3FC1A-1D07-4221-8B4F-1BBB6522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06B14-051E-4983-A421-87739A01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4CA7-8402-4C0F-9BB7-A1C86999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3AC01-2DDB-4D42-B6DE-CEA809C1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60D85-8D5F-4E62-89C0-D6073E56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257B7-EFAA-482A-A35E-80BE2B30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4737A-A81B-4A52-83B1-80781A04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64A45-2864-40FF-B91F-D1766A38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07949-647D-4CE1-94A4-EBD1EC97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1CA7F-D840-4DC8-9B34-8D2666D8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D9660-0518-42C7-939D-6E0C89851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5C5FF-5E20-4791-B4BC-73E67393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E6020-1361-4892-9A15-B3C581B2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00ED-F8F3-4D98-9F55-C96D4EBF72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5070-D4DD-4A2E-8AF3-5EF58B1DC1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AC55-5EC8-428F-BEA7-8B26F7BE34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301A-0A23-48DB-9B12-4FA4D8C912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9A4C-E6A2-4493-B946-442ED71FEB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3128-6906-46F9-824D-41AD2789D1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1B51-9D05-49AD-BACB-0E887115F3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91C3-94F2-4DFE-8241-CC54694698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2D1E-C7FC-4562-A178-C2436A4B7F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0D6B-0F2F-4B23-99B2-E09F17F13E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77BC-7F91-429F-98D1-086113476E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6489-B06A-4A71-9D81-DA47164636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4E44-2D57-4D50-9329-5F782148F8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7555-E524-4D02-A964-FD7F102EC9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476E-E9B3-491B-83FF-81524EC350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2415-B941-4C1D-8B5F-FB5F7428D9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ACA5-7F85-4232-BEB8-230E072031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B03F-1EAE-4D67-8BAE-2A62F3C2C8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0B72-08FF-4424-822E-5A588A7E7B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3DE1-BB06-4AD4-81A7-0554B94575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D8AD-7BCA-4920-8B00-7E02C437C9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55F5-63C8-4F95-A2B1-257CDC584E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3DB9-686C-499B-BA6F-39D9C2CA79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061C-58DC-4D1B-AFBE-1CBC0AB2A9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E0D9-20A3-419C-828C-172C07F709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1235-3A70-4507-A844-02E4930A1C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9268-D126-42E5-839A-481BBB93C4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EF46-D81F-4A74-B4B1-66E037A1C3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1754-DAA3-47E9-BA58-E623ECA38C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57E1-6761-4476-8C86-FE8EE52077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0B08-A7ED-458F-B9D3-11C07B6092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8A20-E4F6-4FBE-B4E7-B7A1A82CF6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3F78-7255-43D1-904B-79533376AA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227F-471E-4694-A9CD-CFA5B5D30F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5F34-D813-4F5B-A7EB-DC0B1CE3CE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4D6D-4E26-4126-B1DC-5801B78D43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ED1D-2ABB-4BC2-B528-4C6CE663FE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7C65-EA02-4698-AD56-3C9C8218FA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C1A9-AAAB-4B83-AB3E-93F1A9B0B3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AB51-561F-4352-BC6C-1E566B365A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692360" y="1662120"/>
            <a:ext cx="5715000" cy="119052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396720" y="3602160"/>
            <a:ext cx="820764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图片 69633" descr=""/>
          <p:cNvPicPr/>
          <p:nvPr/>
        </p:nvPicPr>
        <p:blipFill>
          <a:blip r:embed="rId1"/>
          <a:stretch/>
        </p:blipFill>
        <p:spPr>
          <a:xfrm>
            <a:off x="919080" y="1052640"/>
            <a:ext cx="7305840" cy="47527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2"/>
          <a:stretch/>
        </p:blipFill>
        <p:spPr>
          <a:xfrm>
            <a:off x="7020000" y="250668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3"/>
          <a:stretch/>
        </p:blipFill>
        <p:spPr>
          <a:xfrm>
            <a:off x="7034040" y="5013360"/>
            <a:ext cx="100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图片 68609" descr=""/>
          <p:cNvPicPr/>
          <p:nvPr/>
        </p:nvPicPr>
        <p:blipFill>
          <a:blip r:embed="rId1"/>
          <a:stretch/>
        </p:blipFill>
        <p:spPr>
          <a:xfrm>
            <a:off x="304920" y="1152360"/>
            <a:ext cx="8534160" cy="455328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2"/>
          <a:stretch/>
        </p:blipFill>
        <p:spPr>
          <a:xfrm>
            <a:off x="755640" y="4365720"/>
            <a:ext cx="5184720" cy="44748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3"/>
          <a:stretch/>
        </p:blipFill>
        <p:spPr>
          <a:xfrm>
            <a:off x="684360" y="5113440"/>
            <a:ext cx="5184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81160" y="704880"/>
            <a:ext cx="8581680" cy="54482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4427640" y="306864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2627280" y="547380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5954760" y="440856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5105520" y="5487840"/>
            <a:ext cx="64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600120" y="2119320"/>
            <a:ext cx="7943760" cy="26193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4067280" y="2162160"/>
            <a:ext cx="122544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5076720" y="30114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2556000" y="352908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3419640" y="409104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595440" y="1209600"/>
            <a:ext cx="7953120" cy="44388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2124000" y="2205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3419640" y="292428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5580000" y="2909880"/>
            <a:ext cx="2305080" cy="447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2124000" y="36878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6"/>
          <a:stretch/>
        </p:blipFill>
        <p:spPr>
          <a:xfrm>
            <a:off x="5867280" y="3673440"/>
            <a:ext cx="115272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7"/>
          <a:stretch/>
        </p:blipFill>
        <p:spPr>
          <a:xfrm>
            <a:off x="3348000" y="4379760"/>
            <a:ext cx="1511280" cy="447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8"/>
          <a:stretch/>
        </p:blipFill>
        <p:spPr>
          <a:xfrm>
            <a:off x="6386400" y="44085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9"/>
          <a:stretch/>
        </p:blipFill>
        <p:spPr>
          <a:xfrm>
            <a:off x="2050920" y="5127480"/>
            <a:ext cx="1584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7352" descr=""/>
          <p:cNvPicPr/>
          <p:nvPr/>
        </p:nvPicPr>
        <p:blipFill>
          <a:blip r:embed="rId1"/>
          <a:stretch/>
        </p:blipFill>
        <p:spPr>
          <a:xfrm>
            <a:off x="314280" y="838080"/>
            <a:ext cx="8515440" cy="5181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4788000" y="2722680"/>
            <a:ext cx="3097080" cy="4474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4788000" y="3616200"/>
            <a:ext cx="309708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4788000" y="4451400"/>
            <a:ext cx="3097080" cy="4474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4773600" y="5300640"/>
            <a:ext cx="3097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6324" descr=""/>
          <p:cNvPicPr/>
          <p:nvPr/>
        </p:nvPicPr>
        <p:blipFill>
          <a:blip r:embed="rId1"/>
          <a:stretch/>
        </p:blipFill>
        <p:spPr>
          <a:xfrm>
            <a:off x="299880" y="1238400"/>
            <a:ext cx="8544240" cy="43812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379440" y="3573360"/>
            <a:ext cx="1700280" cy="20163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2484360" y="2881440"/>
            <a:ext cx="129564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4830840" y="3716280"/>
            <a:ext cx="1743120" cy="20163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6977160" y="2924280"/>
            <a:ext cx="129528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6"/>
          <a:stretch/>
        </p:blipFill>
        <p:spPr>
          <a:xfrm>
            <a:off x="2065320" y="3573360"/>
            <a:ext cx="2146320" cy="20163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7"/>
          <a:stretch/>
        </p:blipFill>
        <p:spPr>
          <a:xfrm>
            <a:off x="6573960" y="3716280"/>
            <a:ext cx="25700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5300" descr=""/>
          <p:cNvPicPr/>
          <p:nvPr/>
        </p:nvPicPr>
        <p:blipFill>
          <a:blip r:embed="rId1"/>
          <a:stretch/>
        </p:blipFill>
        <p:spPr>
          <a:xfrm>
            <a:off x="385920" y="2009880"/>
            <a:ext cx="8372160" cy="28382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122400" y="2852640"/>
            <a:ext cx="1942920" cy="19447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2065320" y="2781360"/>
            <a:ext cx="2362320" cy="19447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2484360" y="2060640"/>
            <a:ext cx="1511280" cy="4474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4614840" y="2997360"/>
            <a:ext cx="1943280" cy="19443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6"/>
          <a:stretch/>
        </p:blipFill>
        <p:spPr>
          <a:xfrm>
            <a:off x="6559560" y="2924280"/>
            <a:ext cx="2260440" cy="19447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7"/>
          <a:stretch/>
        </p:blipFill>
        <p:spPr>
          <a:xfrm>
            <a:off x="6761160" y="2060640"/>
            <a:ext cx="1511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4276" descr=""/>
          <p:cNvPicPr/>
          <p:nvPr/>
        </p:nvPicPr>
        <p:blipFill>
          <a:blip r:embed="rId1"/>
          <a:stretch/>
        </p:blipFill>
        <p:spPr>
          <a:xfrm>
            <a:off x="1438200" y="1185840"/>
            <a:ext cx="6267600" cy="44863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"/>
          <a:stretch/>
        </p:blipFill>
        <p:spPr>
          <a:xfrm>
            <a:off x="2627280" y="24066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6084720" y="3227400"/>
            <a:ext cx="100836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4"/>
          <a:stretch/>
        </p:blipFill>
        <p:spPr>
          <a:xfrm>
            <a:off x="2556000" y="409104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5"/>
          <a:stretch/>
        </p:blipFill>
        <p:spPr>
          <a:xfrm>
            <a:off x="6084720" y="4956120"/>
            <a:ext cx="100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52231" descr=""/>
          <p:cNvPicPr/>
          <p:nvPr/>
        </p:nvPicPr>
        <p:blipFill>
          <a:blip r:embed="rId1"/>
          <a:stretch/>
        </p:blipFill>
        <p:spPr>
          <a:xfrm>
            <a:off x="1685880" y="1619280"/>
            <a:ext cx="5772240" cy="36194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2"/>
          <a:stretch/>
        </p:blipFill>
        <p:spPr>
          <a:xfrm>
            <a:off x="5796000" y="188748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2268360" y="272268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4"/>
          <a:stretch/>
        </p:blipFill>
        <p:spPr>
          <a:xfrm>
            <a:off x="5796000" y="358776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5"/>
          <a:stretch/>
        </p:blipFill>
        <p:spPr>
          <a:xfrm>
            <a:off x="2340000" y="4494240"/>
            <a:ext cx="936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6:57:38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