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032-B477-4C37-BA80-3B6C7B88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E38-E606-4FDC-8BE3-8BAB47ED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99FB5-435D-46E3-A450-2D969FEF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183B5-9F6F-47E2-BDC6-CB9FAB8A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652CA-E92A-43CD-9652-07FF7AE3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F3C59-8408-4330-9221-191AB632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117C6-C93E-4116-BB02-27499A6C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412C6-B243-448D-A9D4-2BEF4CAA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DA0FB-8BA0-4278-81DE-F6F83466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A1277-A09E-4CC5-B354-B4B6770B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42206-B12F-4ECB-8784-1A7E7E5B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91D10-E459-4B55-8984-3AE8C431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8C6-2412-46D6-A75A-B738A9E4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7FF6F-8065-48BD-8163-961020C8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B4012-3F80-4D66-B053-E9F8EDE0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DE717-467C-47D6-B551-84017DC9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0B26C-E25E-4AD5-8098-FD0CAF4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AF890-A6C2-4339-9C9B-629DE58B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F16A2-AC2C-4334-BBB5-DE950A3A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5888D-832A-4D5C-98E2-404E251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1E6E2-EF4C-4814-8CB6-BD5F818B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B0753-46DF-464A-865C-91B43BB8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5584E-DBEC-4E5A-83DA-E9D09CB2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4F0-0D07-4F4E-B655-749EAF23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BA99E-2CA0-4B37-AE16-BFAC6A08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ADC7E-4AF0-47CE-9B6F-93925B44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F960F-F253-440B-80A4-313C0AC5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42D22-91B2-4CDE-8D5D-6C9B2F2A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6D6BF-495F-442C-9D30-DA00F074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1DC17-8111-4634-8697-7BE44F8E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5CCED-43B1-4C5A-9EA2-4DC1B04B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03B7C-EBE6-40FF-A08F-2CCE59C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5401F-4E80-4D04-AD2E-C0C9271B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C4637-182D-4A29-9DEB-877BE25C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E58A-5D2B-40BD-9720-4516BC02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AA94C-6A4A-4108-9537-170F98D7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4EB31-2337-46C6-A1B2-3147D747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4A352-5D96-419E-9782-FDC17A9E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65B4A-4392-4BE4-8481-97EB7C31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E048C-939B-4B8F-9DFC-A257605B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CEB74-8E58-49A5-AA30-10CC3B42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D239C-C8FD-485A-9F18-47DEFED6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8D88E-D51A-441B-941F-5B2F0B95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B4838-49E9-4E13-BD5D-89DCA060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74140-3C55-4FB2-BF5C-EF9D0800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7D53-6F21-4C46-B01B-B53983E1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1052F-5A04-42C4-BA0C-E349A09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CCCBB-E838-4E3C-8CD6-A097B062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53F6A-F5AA-4A61-B3E6-8E225982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40ACE-5F78-4D7F-AAD1-BBF5FCE1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01938-C54C-43B6-850F-DDC33C8C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1059B-F3CC-488E-9992-8799B9AB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DA7BE-EEEE-44A8-AA1A-E3CCE9A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7CA37-E5A9-4234-B709-27B9D039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C2D1A-8BDC-4823-9BFC-7E65C1CC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9E185-FAAF-47C0-A69C-1D737AA8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B49E-FEAA-47BE-AF37-693C8E8E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BC673-7480-4519-8B5A-5CE5CD7F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DC484-071B-48BC-967D-C9A2D1A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91E59-2E38-4E12-A2D5-1E89F792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559A5-3F02-455E-BE07-340B3BBD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5AC85-9AFA-40C0-989C-2247CDE0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D7269-D402-4E8F-9191-5CDDB1B5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2DB66-F8F8-42F4-A614-DED83FAB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BE0EF-D268-4553-9A6C-32D46C43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FE1508-474F-4D59-9888-14368FD8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07AA1-A72D-4B67-A954-FD98D7D2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B2E8-AB0D-4620-B9E0-8E55601C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41111-090F-4E84-A81D-C1105808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2F79C-BB6C-4FE8-AC43-C39ADA09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A0F49-313B-4E34-A79B-8FC90FEA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C4762-F137-48E8-A43F-12A75871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D9E0D-C872-4521-BFED-6890635B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F8763-74C1-43E1-BC23-0FB78D2D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B7FEA8-C5AB-49C5-BC80-541C05FF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69A3E-5824-4BCA-89E9-1B9CB3E8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480BF-2914-424F-BAC6-18D4BA54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A4F11-DBD4-40CC-93CA-A697CF07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EC78-9EFB-47A6-9FE4-CF7770A3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E3336-BEFE-4869-BF81-11D48BEA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B30F46-1D14-4434-A414-534BFE26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4D7DC-5D04-4AA7-A76F-9306AFDA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A2A57-DA4F-41C2-B890-C108B874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722C1-7F3B-4AC3-9DD5-FAC854B5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35AEF-54AD-43B9-98DC-92209E9D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98C8D-CADA-4FD2-9327-8AE511A8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9843F-BB85-48F9-848D-0D664D83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94D59-D009-4821-B1E0-67650280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F141E-BF97-49DC-B14A-B3B88FEC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84F4-D317-4341-89EC-0534C80D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EB841-7FE9-42B8-A60B-A1615286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E4B87-A833-47E1-A00C-06B320A8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EF281-6565-425E-A636-2997B1B2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F025C-651C-474D-9486-7DB9F7A6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9ED7B-4C35-4F63-B17D-1EEC038A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4AB80-2CB7-414F-B1C7-D29E3824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380C9-410B-4984-94F9-BB484316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3FC2E-F58D-4CE7-A3EE-0166A83C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8F76D2-E926-42EC-82E5-B0E8951F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F4A271-66B6-46AC-9EEF-722B5E34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BA38-2767-419E-9EF5-0824A88C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72DD1-36FE-4BDD-BD32-B9154E60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8B4D1-338C-4516-A5A2-777277B1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54488-C06D-4659-9D89-2DEA6E6A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7E3D8-096C-4A30-86E3-4DA64F4B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3E38F4-F82B-4FE7-B4C4-5F3595F4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92F24-D335-4B0D-9563-55405150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7A3C9-EA78-4A95-8C2B-9D3C1276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A552B-1B1A-4F04-8258-80C265F5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CD83D-6119-4DC0-B5AF-3B95A6EA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D6EF4-B65F-4E67-8E98-D4F0AD01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A1B-4546-4E7C-B091-B74C5AB3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D29C-5527-45CD-8323-B8A051DB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90467-6380-4255-8415-2BCD8546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3D6199-BA8C-4D8B-B1FF-BE7681C9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4E65D0-2283-471C-AD82-836E850D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5B2BCE-5847-4D83-A5D5-FBADD4AA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5F435B-4187-4BF2-A715-DED53C12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1E1FE-F516-4A11-B06F-8A2EF6D2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55492-7EBE-4CAF-895C-5BFCF9EF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612F06-0CB5-48FD-AED5-B95A2CC0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66AAA-6E3A-4685-B058-2D86B2FB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AD60B-947E-4B1E-B040-CDBC5B3C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04C8-A230-4776-B847-7CE26066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D8FD1-3CC2-4E90-995D-C9ABE0FE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1491B-B82C-4408-818D-3562F821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BA284-91FC-456A-B987-5E442479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628D7-6021-4E1D-AAB3-580EFD8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F38E00-AEEB-4FE0-B50C-F22AAC46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170C9A-36B7-4230-8AED-CC90920F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597476-50F9-4590-A715-110A57CA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B12F2-EB55-47C7-8526-1278FC37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F6BF5-0031-412C-9EEF-92885D34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31E820-697D-464B-916B-7A2AEAD8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03A2-FA1E-4502-ADF2-3AF03FC1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D6B0C-031A-43BE-A19D-90F53231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351F7-DE4A-4E75-AD9F-157D0E41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316EFF-AD52-45F5-8AB2-4C8A0E2D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0023C1-B54F-47D7-A07E-EC7B81B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62C18-6CA1-4173-8C82-3ADD943E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D36867-97F7-4B3B-87B9-4EE4C1C0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9B4B8-BFF3-41A4-8B96-12BDE16F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0FFEFE-96E9-4E46-8B90-4E5A19A8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8DCED-F109-4D8B-839C-F3E17198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BD1694-7BBF-4BD4-B007-47821B5A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9BAA-79BD-4E15-8F76-B7E18C21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24A25-C5C0-4102-8612-98C9CBB7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9EEF3-9268-49D9-8906-91CEFD92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139ADB-F507-40BC-9965-5B2657C4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79D417-BEB9-4CD6-A84D-270F0BE2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8EF53-0C84-4261-83E7-7D8F1530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C61C3-32DD-4D70-8B17-1598471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555429-4F4B-42C6-B5D5-E236645A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9B1C5-FBE2-4F26-B551-B4F416DA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653940-4E2E-40C4-8A8D-F08BD85E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E86C7B-6EEF-4145-B0CA-51B68115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15A5-400D-49AF-9225-5397F7E3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BC4D6D-AA1A-4F32-89B5-1C47BA3A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ECB814-E5C4-46B2-80AD-19C83EF2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19B2E5-78B2-420B-AA69-42B82357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D8E7F-D775-41FF-B09A-F4D5810C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A38DC0-F1C4-4D74-89F9-B754427A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C5B19-D871-4214-9963-086C1E7F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1CC9C0-6E82-46F3-A6BA-13ED9F72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444CDE-9239-4E35-991B-577A0D4D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1F3D5E-0369-49AB-9068-0C83BAE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441E9-9AB9-4B9E-9AA0-0E0B243E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0955-4BC6-432D-8B20-117ED1A0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527D2-22F3-40E7-9EF8-48BD7BC9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AA8D38-31FC-4DF7-A3E7-19B42991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686805-8750-4DF9-A2CB-2012E417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0A6CA9-6675-42F4-8D9A-9702A29D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DB3663-5138-4003-B95F-A9626196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8059C9-6BEF-404F-9B8F-F01A7CF9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AAA114-6280-48CB-94B7-65DE2C32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2F2898-7D80-4B39-A892-8DDDCA5A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BDB8F9-89FB-4562-ADE4-D3351E26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A95A70-73C8-4B8B-8E1B-B89CD0EC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66F81-D6AB-4D2F-AFFB-41200DF3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C90C22-C5D3-4036-AA28-EA84F0AF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C8AB5B-F3D4-4DE6-BEFC-3FC0251D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90FF8A-BAF9-4124-A2F9-585149B3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17E256-5C79-4500-9AC2-5E498EDD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5E20B7-5174-4C7E-8A75-4A63DC76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133774-7143-4BAF-B1FD-D050F14A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9E73E6-3596-4326-89EF-B4D04930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6AADB3-E951-4700-AAB8-F2094E7C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A36083-F33F-404B-BFC7-A568816C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AF3986-8E29-4327-8AE4-84BB6034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EB23-AA16-4162-8F28-4EA6578F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28D498-D9DE-46D5-81B9-DC1AE1CC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F5B46F-25F0-43AE-89DF-E1BA2893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15E8A3-7080-4B29-8269-ED909D6F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A56C34-C448-48D3-A0C3-79EA13C1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4F224F-F005-4052-9B8C-9E0B3C5A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7B3C7D-C8DE-4E4C-B026-01B2B77D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C3E0D2-384C-4B77-92B4-61EC94DD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1149-2D89-45AC-8329-6F6B0E90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14AEC-5D39-4F4D-89B3-7C28648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C3A-6B76-4FCA-A5E4-20E8FA78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1F18-022D-48C8-ABA4-34268D11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5B43-FBBE-49D2-8B0C-2CF194DA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8018-2DE2-4AE6-97D7-C30EF74E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AB6F-7487-4295-B61B-D3AA3D3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281C-CF40-4F75-AF83-71F8D9FA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6264-7247-4859-BC9C-02F349FD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F8A8-9071-45CD-9A95-E5772CAA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5564-6E6B-435D-B70B-7A0FCC37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B594-A406-436B-90E9-13E7E04C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48F45-2983-462C-9142-F200E71A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DF9-B6BE-44D1-8186-81C3379A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4F00-BC1E-434F-9ABC-D7FE0CE8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1DAF-4590-45F3-A788-0F847DBC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84CA-E257-4344-B0C8-80B7B9DD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67041-CA3D-408F-A911-2B0F0E21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EF60-C07D-4E1D-930F-95170B40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9CD7-8587-43A3-9E6D-CE739593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7424-BB3B-4B4D-86BB-B3BDC7A7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534B-6FF1-4A06-B816-B54585BB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6B6F3-A882-47C1-A261-5996B862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2CE67-C411-4942-A70F-E52CD67C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217-187C-4528-8863-A77C7444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EF1CC-1A84-4A5D-B80D-EA5C6406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CDEFA-5C59-4139-8E5E-909496BC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9FF13-A8B9-49D3-9FFC-410B2BF0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F8127-EF6B-48C7-8F45-96F40213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70B2E-AE79-4345-8045-B14F6043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C89DA-A9C7-414B-9F47-623C38F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F798D-AE81-41DA-BF0E-F7D3E210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B7D7F-1F8D-446B-8CFC-4BB4B03E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E5D75-C58B-4D37-9855-3052F29E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972F8-8126-4D74-BBF8-531274CE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C35-FF5A-499A-BC6B-AEAEB5F9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BDB5-8DF4-450A-8143-58239DF2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B59BD-59A5-4580-B300-E09A9CBF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E9A8-7E12-494F-B505-6A7987F9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E4A48-4A1F-48D6-A08D-16085481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80D9B-772B-4A5D-B9CB-1F5EC551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018D6-132C-40B5-B31B-53D86901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F7068-26FA-406B-A6D4-9861B4C1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BDF9E-1325-4BC0-8AC5-DAEADB61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E260B-B3E7-43F4-BC28-B0FE4EC2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221FF-E29E-492C-BEB4-1273BA8F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9FF-F9FB-4287-AE45-672A788A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46C20-2CD3-4C2E-8ADA-B77EBDD7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AC330-FB7B-4BA3-9D57-63DFA87B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9A21F-EFFF-4A3F-A8C7-5231CE83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AE19A-BD85-43C9-874F-2F60608A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71D32-2F94-491A-AD29-9FD70E09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94BE3-FEDD-4EDA-950C-85927323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95B2-459C-4A4B-BD03-04A8ED02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01DD6-86BE-462C-AD1D-DD693140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3CC86-3068-4EB7-821F-454ED710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4F857-EA04-49A0-B062-D1D09ED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2BF-872A-43B1-AC83-6847ED29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3167F-A459-4217-B1A5-D128A469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3F817-C380-4441-B290-883C60F0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F7DD2-5A49-47AD-83BE-4178A7B0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68CAD-E526-4510-9246-F89107EB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842B5-D560-4205-8B88-223477E4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5AEFC-4D96-4DD0-9817-8F1F3143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467C1-9FFA-4F8E-983F-CAC30A80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4D912-63DD-4D7D-A711-76BDCF18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3C978-349E-4EEA-B762-C94BAC1F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A4A48-17D4-4223-8494-10B06024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90C-2D9C-4E36-BA09-534FCF8E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83048-D9A5-40AA-B4C6-526986BF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EBFA7-AAD7-4B99-827C-A901FBB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0B997-2DDF-425D-A6E0-8A5C3BC1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2803A-97E1-4C53-9AA6-AF728EC7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0E7F5-9135-467B-97F2-0601A585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06CF7-3B43-403F-967F-DAE4DF6A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E4887-654C-41C9-B49A-3B5C68C1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8056C-D0D5-49FF-8989-212C7577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7EBD5-20DE-419D-8BCA-BC30B72D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17EB6-0AD7-4DC1-BE73-2C35BF65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313C-2C02-4B01-8829-0AE31E1AAB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4D25-8DEE-41E9-9CD7-CDF9AFEAB9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AF84-EA5F-46FB-98E7-0F6F5E6F09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63F0-8DF6-4BEA-80EE-68156FEBC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7DC3-7C15-4894-A144-EA2B12D17E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CB80-9E6B-4F76-96DE-4EB031203D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28CE-CD7D-4EB2-9973-4F17DE2C5E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9B8B-EEBF-4E15-A7B5-A2F3BB9004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44F6-8B4F-4FDC-8D45-F0C69942C7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672A-5FC9-4211-A384-82E3D28103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92C7-FE12-4251-B90E-551D3B05D3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F7EB-F193-41FC-B6AB-3CA059EF51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889C-0BAA-4D2A-92CA-04410BF20B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A64A-F4E9-4387-B732-DAD37C235B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3F05-6BBB-434F-A5EF-6E656DFB84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4B0D-F992-40A3-AC4A-EC75F2C06B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855C-F26B-4014-B52C-E577BD111C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141E-BFB5-4DE1-8875-2931C77D0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A395-134B-4C8A-ABA9-000B7AEBF1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3094-746B-494A-BB0C-CB3EE7C059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4A6F-72C0-4B94-835F-069DDEACA9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A7D9-1A04-47F5-A225-5C8A8C7280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F85A-D8F1-4D84-9456-B3D98F9082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310A-E8EA-43DA-BF8B-73E900A3C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4394-0EC7-458A-8C35-8DF37CE1CB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C18A-9F12-49E0-ADAB-B4D184DDAA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B5B6-2D2E-4607-A00A-258FE80FE9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A5F1-35FC-48E1-91E3-B5DD29C4F8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307A-E5AC-4EE2-9F61-57277C2021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C028-8233-4856-A074-6580A69F2B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A537-4A64-4791-8C8D-E4E025C87C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D2C5-93B7-45F2-B98B-D113D998C0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3F93-C209-4CDE-8109-C872389AF6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A790-5241-413F-A0E4-E0651EF5C1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C2C4-4367-4D39-8C3E-5C05D6DD83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54C1-FB95-4FE2-ADE7-AA48B3F972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9347-160F-445F-BC0E-61E647AD37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047C-297F-43CB-86E6-0566E594FF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0C3B-FB7C-4144-9A2C-2EE90165DB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E962-EB71-4C3E-9A9E-BF090A48D0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D669-4734-4773-9593-C1AEF5BD26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8EBF-C67A-4ACC-A13F-71BB13795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30320" y="2971800"/>
            <a:ext cx="888336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446040"/>
            <a:ext cx="8743680" cy="622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7812000" y="148428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403280" y="22766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443640" y="30402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564000" y="38606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8244000" y="465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1547640" y="5430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5724360" y="5445000"/>
            <a:ext cx="11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542880" y="1395360"/>
            <a:ext cx="8058240" cy="40672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3492360" y="236376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003640" y="3141720"/>
            <a:ext cx="136692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3419640" y="3933720"/>
            <a:ext cx="13665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1692360" y="4724280"/>
            <a:ext cx="1366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95200" y="1014480"/>
            <a:ext cx="8553600" cy="54291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836720" y="3573360"/>
            <a:ext cx="2448000" cy="2880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3564000" y="2781360"/>
            <a:ext cx="180000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5940360" y="3587760"/>
            <a:ext cx="2952720" cy="28796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667640" y="2795760"/>
            <a:ext cx="129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600120" y="996840"/>
            <a:ext cx="7943760" cy="5305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2924280"/>
            <a:ext cx="2448000" cy="30258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3218040" y="1930320"/>
            <a:ext cx="14983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5435640" y="278136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105680" y="1887480"/>
            <a:ext cx="14986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00160" y="873000"/>
            <a:ext cx="8743680" cy="5781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4211640" y="3357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65164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733752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5651640" y="4221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7337520" y="4221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8"/>
          <a:stretch/>
        </p:blipFill>
        <p:spPr>
          <a:xfrm>
            <a:off x="4211640" y="5041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9"/>
          <a:stretch/>
        </p:blipFill>
        <p:spPr>
          <a:xfrm>
            <a:off x="5651640" y="50418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0"/>
          <a:stretch/>
        </p:blipFill>
        <p:spPr>
          <a:xfrm>
            <a:off x="7337520" y="50418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1"/>
          <a:stretch/>
        </p:blipFill>
        <p:spPr>
          <a:xfrm>
            <a:off x="4255920" y="5891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2"/>
          <a:stretch/>
        </p:blipFill>
        <p:spPr>
          <a:xfrm>
            <a:off x="5695920" y="58910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3"/>
          <a:stretch/>
        </p:blipFill>
        <p:spPr>
          <a:xfrm>
            <a:off x="7381800" y="589104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38240" y="898560"/>
            <a:ext cx="8867520" cy="55911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71640" y="269388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900000" y="4883040"/>
            <a:ext cx="39610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257040" y="1143000"/>
            <a:ext cx="8629920" cy="4572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971640" y="4307040"/>
            <a:ext cx="374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971640" y="5084640"/>
            <a:ext cx="4895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66760" y="1376280"/>
            <a:ext cx="8610480" cy="41054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367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8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