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268-C2BB-41B7-BA32-23486C94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27C-AC3D-48D3-A2E8-8C608A8C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BDEF9-E7E0-4C93-BE05-18FB20A4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1CA9D-30E3-43F0-8B5B-AA152EB4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96EE7-776C-42EF-84D1-326B859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40609-8910-4859-A459-2F4F6BCA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0ED79-B577-4170-B8CC-A2DBA04C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DA52D-99FF-480B-A831-5B10DE6A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34133-B51D-4BAC-82D2-FA5C4879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9080F-8973-4622-907A-3663FAA6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E5D4A-0793-4B99-9796-A1BDFD43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8BCF4-03A5-4974-ABA1-8DB000E0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2FD-A983-4DDF-BF83-3CCA4735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5E23A-A9A8-4B11-B5E7-E3438EC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1D7F3-4B46-4218-8250-0A957D2C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2EED5-A11D-49FB-88BB-46EA710F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78130-944B-4755-BA3E-85822493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E85E5-0310-4F48-B8DC-A02DA070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69EEA-B998-4075-B82F-F3D5AA2B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5E035-EAC4-4864-8F00-C7D739E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D31FC-DD7D-44E2-8E3A-7A38051F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AE2F5-DB2D-476A-B5EE-25B10FDD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74FD4-2A41-419E-8A41-43DF3966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1A0-429D-4338-A41B-796F67BA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0D584-9ECC-4758-B778-D0CA28BB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D9B1B-B23B-45DA-95C8-CADA09E7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57C27-8BA9-4E8B-8830-4F291A50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04686-5BEC-4D42-B252-29DCD7DA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590C2-C147-424C-9408-7FE4E90C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C0868-1713-4E83-A423-9ADC28FD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F8443-9C8B-4149-BB45-CA17ACD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ADB06-725B-4296-8570-CB15D18C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7C45E-D22D-4D62-A90D-3804C5B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8F095-0E4C-4605-B05D-64F633CD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DB54-DA72-46DD-BACC-73C1C074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08EB0-6456-4266-98C4-EE6CF85E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90E92-8153-4E0A-8DA0-8BDC108E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A3F23-74BE-4598-AD36-6A962DB6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7B59B-DCD8-45C5-971B-2BC46014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AF70C-8D7B-4EA9-A536-9EC0FB9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ABF7C-7AF4-4B64-A771-15ACD2E8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5C69B-329C-4D75-B3C3-DD258FD7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89B99-1722-43D1-B1DB-F0748365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5E8A8-9492-4004-8BFD-8DFD1364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29BCF-B686-408E-A11F-37344A5F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A2D5-8848-447B-A990-05686F7E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B4779-C354-44DE-8460-8A85B7D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C2F3E-4D1C-4147-9859-86796FD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12800-6336-41DB-A316-A80C06F4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7B624-4B55-42AD-B03E-D97CA18E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F322C-0999-4D7D-B442-E43F2625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C8FEF-CB27-4C35-8148-1B413D8B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FE5D2-C432-4D47-ADF5-3F6852E5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128D9-1AA4-41FB-A280-583D776F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FDCF8-D363-4E99-BA80-EBFB7B00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E52E1-AD43-4C39-9EA0-188A7033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1AB1-351F-4000-B1BC-02848C1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1AF9E-2BB5-4561-ACC7-C142A290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BA87B-2B56-44C8-8217-ADCED333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9582D-AB5A-45CE-9F9B-7FCCFD9B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1EAF1-7ADC-4CD7-9C65-A71841AF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9CD4F-0BED-42FB-A44E-9012FC61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5E85E-2ED6-485E-905F-A5226699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32630-D69A-49AD-ABEA-1B9EF964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E21CF-75FB-4678-BCA6-86731E39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41D30-AF28-4D23-93F0-9BE92160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95D39-2332-492A-978E-33B2148F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71A4-838E-44E7-8BE4-318BCF7C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5AEB2-6E54-409A-9DBD-1DBAE5DE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BE18F-AE47-401A-999E-93037DBF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8F35B-CA92-4181-A0C2-170EC493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B4506-4B3D-41F6-9FFA-28E64356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8F4E3-CB3D-4790-92BD-4F48FA5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BAC0B-0522-4E59-BAAA-C4B5F4DD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69F42-2ED2-4DB0-BF59-7B9141B4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A8A25-C1E9-467E-B782-9C805F35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A772D-03F7-477C-8D8E-17EC5D60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EF33F-A2A1-4201-8F3F-74397C70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779E-D7BE-4050-9ADE-D2C63E9F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7A424-CA03-4DA7-B1A9-5E6AFB47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B3F55-A516-4C6F-AFBF-D2A7C41F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2CB2F-5F7D-4C98-B1A7-AB036742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2419F-B3CE-4D84-8F21-6DC1480B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2C15C-6A7A-4144-A4BD-7D32C57D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10AC4-4B3A-4C38-BDE0-38143994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D03C3-A186-4934-9D86-D3A5B2F8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15D22-0728-400C-AA5D-0EDFFA4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51F5A-A584-4A01-8598-E4148E35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2E10A-8686-46A7-8F4C-B7BA486D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7DED-62AB-41F7-A9A1-995CD5AF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CF2D0-7A47-4930-8D2E-7CC04EAB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9C6F6-5222-463E-BD89-23920CF9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AACB1-FBB7-4885-9962-906E12B3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8DA1DC-8DB1-4EF1-BA9F-73C3D252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1FD21-1FC5-4287-8CA4-A27B349B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01A4E-245D-4947-8C78-473B28F9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70483-F548-4D0B-BF79-41B432BA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4D88C-C035-42A6-8217-C3F839E1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2D4CC-8303-4C93-9C10-98FC00A1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7AE04-08C9-4EF0-AF31-D2D2EA08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B1DD-FECF-4702-B522-F2D58FB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2429D-28BD-44E4-89E3-0A10379C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E9E02-53C0-442A-8B7E-7084FD06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7BBAE-7477-400D-91F7-E18D0B40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CB58D-B103-47CC-AEA7-6BDAFE74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C29CD-6554-4DD6-9A9F-1BA30F2E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39983-6431-4520-9AF3-E992BC07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B9FA5-02FF-43A0-8AF2-8142298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F81FC-CB42-4B37-BCF2-C820C6E7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51DD5-DD0E-40A6-A468-2FFCA272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A6C948-A48C-49B5-99C4-58D3F2C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3B3-0573-41F3-83B7-E0F42437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C453-8514-491E-9802-AAFA942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351B7-ED6C-4193-BBE1-379A0EA5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AFB93-5ED3-4C9A-9C4E-65C815B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BD6B6-1785-426D-8EDF-573B08BA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9D8EEF-1E0D-42F5-87E9-60EB0C8C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E4BCA-69C0-483C-B22D-8CE833D4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21F8D-12F1-4D96-923E-EB5E3A46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73D33-DCB8-4EE1-8051-6B62C11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DCA8E-D152-4AAE-86C6-1C311598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69FCF-8AE1-435D-A22F-C52FC38E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E97FC-9AB2-4B1E-B50B-BED92B91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6DC5-FCC9-4186-A73A-59A37E4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A35AF-F32D-468E-B284-3030F4C2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E66BD-BD52-48BC-A143-B930D53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AFD28-2F63-46BA-9E61-5655BF8D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EB61E-5652-4E6C-B248-5D8891BF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42BFC-8F97-418A-8E3B-50F37A54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203F5-71DF-4D06-A470-8BFD28AB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7770E3-4498-463B-A559-5DCB2153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36E16-D4B8-4D28-9A03-B271992E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28EB8-D0DD-411D-8478-805C7FE3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08F3E6-A738-404B-9EC9-1DF7813F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5FED-3B4F-4187-ABF4-7CFF50B2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8C780-3B9C-48F6-B7DE-145931E7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B0B03-F21C-4390-9A41-0D9EB12C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9784F-F368-4EA0-AEF5-64741A13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089AB-1562-4126-AE71-3BDB25E9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FA8D1-45A7-4CB2-AF79-87A9FBC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BF422-EDB7-453F-A588-8CFB5DE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4277E-4C39-4024-98D8-DEBC924C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51AF4-0ED6-44BF-9A96-3894A5D3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B22FE-22EC-4ECB-8135-01F3E177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51F94-E42D-4E2A-B4B0-8B4AAA69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F2DE-5959-4AF1-B042-08EC8CEA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F2083-EF08-431E-8675-1503EF79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19EFE-2CFF-4952-BC64-9E6F3DBD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F5C03F-9DC7-45B1-BCCA-7BE38A9B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6EBF0-D675-4D34-9860-41DB2814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CD694-9256-4A3A-8E80-EC1C4C98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5001DC-32B7-492D-A176-04D05E2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0E3E48-376C-4597-A250-D8A0A77F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71C2A1-691D-44F7-97BA-FCE52DA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07B01-F69A-4185-8444-C9E14681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935563-82B0-409B-BB7E-C5AA45D3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89A7-1B49-4B45-9953-2EEB6D7F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A6CBC-DDA8-45A1-8961-200BC3B0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301DA-D107-42C8-A1C5-88A86682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230EA-81AB-4FC3-807D-B1954312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95F69-31F3-4F9C-8DA4-F11FB5F9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459885-DE79-4D5B-A974-A181F58A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2E04D-3049-40A6-B311-65E24B17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A1F01-6C87-4E2F-87F2-0AF1249C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15E1A-B79A-4457-A893-9F5DF521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32462-9AA0-427D-B03D-26F7A32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47B56D-1385-4A34-8E44-5B0694A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D430-95FF-47A3-A23C-AB77375B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44172C-62CA-4EDD-8710-41C16EF1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74F3B0-E054-4C77-8185-80AF0CE5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75F75-87CB-4AF2-A6A2-AC6B833F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D9F3-FD70-4AB1-8098-4A776D25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CE30-1345-4EFD-99F4-AC69BE27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9D87-1B94-4534-A15E-5252DA06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D4BF-F5D8-47E5-928C-E4B73D99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8CA-DCC7-4926-B54A-3BF08CA3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1AE7-9A10-4C84-9479-95861A13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87B12-DA54-4D7B-8AC4-02B1AD47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5027-F6CB-4596-AF80-3F39D335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57AE9-FAE6-44AC-B543-1D25A754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E848-647E-469A-9D08-AAD370A4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7F9A-656D-44E6-BA58-5324F559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FF73B-FC31-4F81-B965-D8A7A21B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63FE-03DF-4876-9863-9F7A6016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12A67-ED93-4A6B-AA12-248E0BBD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BE14-C508-4B25-880D-28ADFC3D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58B-5235-4FEC-9B0D-41A1C67D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F940-66F7-4F5E-9199-EA516E77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5646-146C-40E8-8CB5-465CE19E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1E314-605F-4546-B52C-3CD8A865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8E67D-B03E-4A10-8BB7-6958F5F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240E-5A37-4F5C-9558-D9A6389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12B3-4CEB-42A1-B8DE-D93D63D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43209-2E16-4641-BDB3-F1715E64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B9D7-2447-4C41-A2C9-AB0C078D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53E4-11F0-4352-A438-828F92BE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F9EA-D698-41DF-BF53-7686C623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114-8E69-4D13-8209-1203F3A4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1FF97-EC04-4E9E-94D6-EAA93AA1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152A2-1EC2-403C-94A0-AF3C749E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E6A57-81F5-4E48-A751-584AAA4A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9B73-57D6-455D-A2CD-84C01287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4556E-CA09-42C9-9E32-3AD4C829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0CB6-AD59-4A52-B8C9-A9FAB0AF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675A5-3D36-4135-BA7E-DC16F9D9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35F5B-0566-41C0-886B-416E9448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A057-4911-427D-936F-6DEAE58A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58A49-F57B-4157-BA5E-CF2D43F4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393-038E-45A0-AC5A-FFD7A89D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4F746-5453-4C71-9B0E-48975E6A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05BA-2E57-44AA-8E87-F02C31B4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75F88-FA6A-424A-917D-91E86EA8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D297-B55D-49CB-80CD-4CA6551B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BB12D-B4DF-4657-9002-4981EA80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5CA9D-4DC0-4C50-9C67-5964CC21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AD679-92D3-48E4-B24F-5B7F8C67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47DD0-87AA-4C01-B8BE-91A1203E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4C305-7541-4897-A892-64784B6D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7CC7-8263-4388-BA78-B01F403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965-F0C7-4B17-B96A-B92E6AA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3CC15-1EEB-435C-BA43-C49A28AF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C5426-85AB-4DB4-A592-291AB4B0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CFBF-95A6-4964-A3FC-CA9FA34A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B3B84-F2F9-4F23-849C-1A0AB629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986A3-D0FB-4C01-BBFA-D3BAD98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1854-7ADF-428A-B792-95D3FC08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9BBB-4622-45C3-BF0A-D9BB2B8E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FA5F2-4FF2-4281-8113-3C27633F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CA0EB-E06A-4DF2-A926-97DF5EDE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1EAB3-22BB-4A18-941E-8D23CA21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7CF-0289-47D7-82F2-47096BF3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CC706-C4D7-4E8B-8F48-9D8BEC0E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B972E-DBE4-4076-9791-F74317B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AE557-AC3D-41AF-97DD-D200D337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71B7F-0160-43C9-AE50-FB746168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C1D3C-28A8-48D0-A059-2F8B0BEE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291A-75C3-4CCD-8997-B0F0A2D1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4100A-D825-43C3-A4B7-A4CC3D03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CE83F-0BA8-47AC-8C3F-0A138384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8BD2E-0F5D-4551-B5C1-D560993A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610FD-24EE-4A18-9027-BEA12B89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EB8-F67D-4BD8-8F4E-EF9EC94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75BA3-F2AC-4E98-907B-0514DF99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45EFB-5F3F-47F4-9809-657FFA9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379DC-B72F-4336-BAB6-040004D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727C1-642D-43F8-8D76-E608CEF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906C-7EE2-4D65-82A6-256CB832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0D57-25DC-4CB4-8E71-EC080351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B3CA1-5DDB-494E-8D14-FAE19C7C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2B20A-4B19-4CA9-8DA4-7B05B593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8C64E-D714-4683-9079-09B4BB0C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EA130-7F72-4891-BBAC-FDBAF5C7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C94-FA0F-4A7B-BFFE-C0B59C7E84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9B15-B627-4E5B-B9C1-CC89F8BE1F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A3F-33B1-4D57-9126-543DE48FCF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05B9-3D2B-4EBB-BA0F-ED0E85EA0A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E003-7D8D-4D23-8EEB-A2C83F502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6191-8DF7-40BD-9A7A-34292D281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493A-462E-49F1-9403-78E5308A4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3DD1-2CDC-4DEF-96E8-1F8EBD36CA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6256-3F2A-426C-B4C7-D04809E62A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8EA3-27EA-4BC4-AFAA-18DA66301D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C1B-577F-450E-996E-5801FD74DE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7C2A-E128-4436-9915-07478F483B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F10-1803-4623-B97D-5C4AE0AE5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F25-2FB8-4382-9AB3-945A918F1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7E66-6EFC-4F97-8204-82A9F36292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4793-8C29-441A-9E68-98977AB8E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32AC-506E-4506-8120-779BCACDC4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9228-12B2-448B-8E4F-9C42A81B5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90D1-3CA3-4E34-9410-3D21996142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ED79-F928-4741-9384-97C3BEEC8F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5D46-0BA8-4978-BAB5-4D0E77C04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3D17-9763-499C-A620-CA187FF75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78DF-152E-44A5-B131-CE50D784F8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07D2-6D4A-4730-AD7C-FCBEA622E4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842E-A27B-4403-A6DF-B2A6B4A7BC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D6CC-BB9E-452C-A909-BB58BCC0ED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DED-BC20-410B-89AE-E0EBF0E3C5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452C-D1B9-4297-9902-45EA5D3C9F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DAB0-DF81-49BE-AD72-DBB99FB23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C5B3-0E7A-4936-BE65-35D4E5FD9D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A2DD-4848-46BD-A946-3F7C5F3EE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82CB-508A-4F2C-9EC2-83D19350E2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B145-B874-459A-9426-0CC53A1EF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1CF7-8D70-4DB0-974D-73D3C49BE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29AE-D4C0-47E8-8F35-2A1DA3B4B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05D-F7A5-4ED2-9BED-21BF02EE18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A5C9-3DF6-4A7E-9383-29C72EEEDA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6E1F-AACF-45AB-98E5-D9DC0EAAE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AF14-510D-4FE2-BF13-30399C5FA4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43D2-911E-4E79-96B9-E58177439A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14560" y="3090960"/>
            <a:ext cx="51148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295200" y="3919680"/>
            <a:ext cx="8553600" cy="188568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69634" descr=""/>
          <p:cNvPicPr/>
          <p:nvPr/>
        </p:nvPicPr>
        <p:blipFill>
          <a:blip r:embed="rId2"/>
          <a:stretch/>
        </p:blipFill>
        <p:spPr>
          <a:xfrm>
            <a:off x="684360" y="1542960"/>
            <a:ext cx="7819920" cy="1886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4067280" y="1773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4140360" y="263700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451640" y="1773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7451640" y="263700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2771640" y="414972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2627280" y="501336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5867280" y="411948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5867280" y="508464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8172360" y="4048200"/>
            <a:ext cx="576360" cy="7491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2"/>
          <a:stretch/>
        </p:blipFill>
        <p:spPr>
          <a:xfrm>
            <a:off x="8359920" y="5070600"/>
            <a:ext cx="57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5840" y="762120"/>
            <a:ext cx="8572320" cy="5333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851280" y="495612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627280" y="5646600"/>
            <a:ext cx="79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571680" y="1547640"/>
            <a:ext cx="8001000" cy="3762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3635280" y="164304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2627280" y="229068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3780000" y="2967120"/>
            <a:ext cx="424944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2556000" y="4638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5651640" y="4638600"/>
            <a:ext cx="122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295200" y="1100160"/>
            <a:ext cx="8553600" cy="4657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2340000" y="45813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1403280" y="528624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304920" y="1519200"/>
            <a:ext cx="8534160" cy="3819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916360" y="1627200"/>
            <a:ext cx="5111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5111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4032360" y="2938320"/>
            <a:ext cx="450036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3708360" y="4292640"/>
            <a:ext cx="1800360" cy="792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6948360" y="4437000"/>
            <a:ext cx="10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343080" y="1595520"/>
            <a:ext cx="8458200" cy="3666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4500720" y="2708280"/>
            <a:ext cx="4392360" cy="1008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27370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4716360" y="4451400"/>
            <a:ext cx="273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266760" y="857160"/>
            <a:ext cx="8610480" cy="5143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4751280" cy="863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900000" y="416412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755640" y="4840200"/>
            <a:ext cx="56880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281160" y="682560"/>
            <a:ext cx="8581680" cy="59151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755640" y="28242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755640" y="47973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755640" y="5459400"/>
            <a:ext cx="80643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85840" y="738360"/>
            <a:ext cx="8572320" cy="5381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900000" y="292428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900000" y="357336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755640" y="42210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755640" y="486900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755640" y="5559480"/>
            <a:ext cx="77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5:2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