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860-EAA5-4992-9900-28BFA39B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C40-A380-4A3B-B3A0-2BE8065D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32CB7-F8FB-4AFD-BB44-DA76140C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58243-37BE-488B-9F63-D3682931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066FB-6EBF-43D5-97D8-E0D45687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5EB4D-4B97-4735-99EB-7CE44045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C2DA2-8587-4BA6-9B87-D9BE037B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683E5-48CA-4DA5-98AC-1408272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899B7-B456-4232-901A-8963F51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C853D-538C-4B6C-9E14-5E6A14C5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518E1-1211-4A6D-8546-66FBC806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D8A51-6A33-4394-B3EB-194493EC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DEB-8BC8-400B-A183-EDE6C8A4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966C3-4359-4C57-86EE-282C4A80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6CD4A-9BC4-4C52-9AEC-A00794C0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CDDFD-9AB2-491B-918A-252D7E93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387F7-54D5-476B-A3AC-6EA5F3E7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09685-FAED-4D68-B1E4-12D1F60B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5DE13-4C3D-4D71-B0F5-2938FE5B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43236-682A-4A06-9BA0-5D74EFE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411E0-7799-4A5B-9BAA-D156748D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179C3-4D55-4BA5-89AA-CEF56912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881ED-1D1F-42D8-A07D-75428EFE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070-18D1-418B-9AD7-BA473B67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C2EE3-2799-4458-813E-915ECAFC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04BF0-9CF2-49E2-86ED-AB2ACCF6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3A66F-8019-4FDB-B6CC-DCC3D9BB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E487A-AECA-4D6F-B76B-090CFAB6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3C36F-8C70-4823-966E-5969634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4BF09-76D7-42A3-8AEC-E082D9D8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DC459-87D6-4433-9400-B4476746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02C82-F9D7-40F8-9E2B-1978E2C0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9ED08-2CBA-4395-86ED-6DF6AD1B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39276-C961-4558-9947-5CD730B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AA5D-0C74-42BE-B212-C91951DF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483BA-B805-472D-89EB-683507A6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809C7-0773-42D8-AC85-B58CBC13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0862E-6F8E-41C8-B679-FD1AE7BB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1C080-43C4-48D4-80B8-7425C87E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55089-7CC5-45A0-A4F1-356F7003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0BD1C-49FE-4EB1-85F4-C7F574A2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C7ADA-6BB3-4047-A0A4-ADA295E4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86D6F-CAEC-45FE-98D3-88279A37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28149-55FA-45D1-84B2-C8598D18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F9ABF-D2A7-4635-97B2-8E1F564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836F-55E3-4C31-876D-CDDD161A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609E8-4042-4929-933B-B6E711F8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F748C-0054-4F08-A284-40EC1CF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EEAB2-951D-4219-AD67-79CCE0CF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51D98-03AF-4C5D-B641-50BE49DD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DDCAF-B72D-4532-ACC4-E701433A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110C5-B539-45DB-A1D1-6FBCACA5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A1B64-4AEC-4669-B3AB-B73F9806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3FAD7-6189-4DFB-B3EC-489583F8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E5D01-B93A-405F-84B6-EC674D5A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0CA8D-7E13-4220-A69C-C11267AE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AF81-187C-4EB2-A9E9-F7C0C159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93FE5-9A32-40CA-A506-EBC73CD9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0F72B-5E74-4919-B347-8D9BE691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5DA68-F5C4-4EDD-A731-ADB2436E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946E3-8547-43FF-8390-8CAE191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895DF-F225-40F8-9634-47801437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267EA-458E-40FA-859E-F4AB3969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710D4-5258-45B5-A9BD-655319B0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BA517-324E-4BF0-A4E5-C0056F41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39346-083F-48FF-AB8B-A1B96A54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789D8-ADC8-45DC-AD27-3A33E3BE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124A-E5E7-429F-B0B3-D2FA0819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B5C0E-30B4-4BCF-8520-109AAA57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55855-7BEA-4317-B4D6-58A55053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86E4B-86DE-4A04-9B86-FC328ED5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C94A4-24B5-472C-9342-83E843EC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7ABA44-FD1E-4B4B-AE84-4CC70816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24C47-C616-4F29-B69D-7E2027F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0E4FC-1DFB-482F-8381-BE2039AD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A9D37-D1C3-40DC-ABB8-AB2EAD20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F6396-AB78-43C3-B395-32E9A98D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A816F-DB31-4FA0-AF54-165C91E0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396B-DF3A-4356-9ECF-BF708372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173F6-5F4E-4FDB-A246-A309DC0E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A46F9-F603-440E-BFCB-B7A92BBA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A1C7E-9FFB-4DBE-B6E3-5A10EC4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D7F53-7A33-4000-AFB2-7AE79299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6ED73-4272-4EB5-82C1-FB3A78C0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7DB2A-8A6F-457B-B775-049A28E0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B0EA9-0C43-4F6D-9037-AB03C30C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F111D9-DE7C-4783-90E4-161732DE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F32EF-12D0-464A-87BD-AD1BBE6D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9D1ED-486F-46DB-809E-69C09B72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C10E-12BD-4921-953E-D4CE5A4E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22EDA-8100-41F8-A462-1008365D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0362E-1BF1-4EB9-A15E-BAD8A45A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07701-ECF6-4565-BA08-80AFFB0C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85396E-BCA6-46EA-B4EF-D163C71B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60D29-7706-4E2D-A2DC-F24F59BD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A1BEEC-4689-4011-849E-DD9C0805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BF1C9-A528-45C2-89F7-C39718F5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01CE0-2383-47E5-9ECC-1F5D474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77DE1-0B0A-43A1-B91A-CD3B18C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23349-AA52-444E-B83B-A69236CB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C1F2-A260-4214-A3E4-282BD5C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FB6FF-A9D0-4158-AC2A-58F06B30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85AAA-9E0C-4A3B-AC17-85E271C2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5F0E2-7D32-478B-AD8A-640EF204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5F8DF-4924-46F4-A1F7-E2015415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58F3F-9718-486B-8B0E-9D6A55DA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18050-C6A7-4F3E-B09D-A1DB5692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71721-193F-408A-9824-9C4ABD72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D0DF3B-09BD-418F-893B-416FAF39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D64B5-55C5-4B82-8217-1F6253EA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114BD-E602-4D5D-9458-46FB7A9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671-AD3F-41B3-AF30-048E87D1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F6EA-F5B9-45B7-BDEB-823A9835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4A731-B131-47DB-A47E-DF31CA1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3AEA9-4DC5-4C04-8366-5F5ED2A7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E0AE4-AD3C-4050-97CE-D678272E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EA2D3-59FE-4183-82A2-CFB46436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0C6D1-A503-4EE0-98F5-58619934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41844-FA6D-43B3-8ACB-51B19F96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70472E-0150-4EA7-A5C9-1A838C8A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5D1E4-E7E7-4817-8130-673B548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51FB0-F069-45A5-9F00-3FC83D07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C8B33-178C-4B50-B6B0-3EAB42A3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6E61-2346-4CA1-8C15-963D8651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E3906D-2B0F-4AAD-9579-C3D6489B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6A44B-96E4-4CA4-9953-3BAE9199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856C00-F44A-44A1-B1E2-C36EFA72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9CC61-5C83-4323-B762-44068F9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7C5B3-1F05-4132-AC75-AC417CD4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48F3F2-0C5C-4D0A-A809-E985577A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E191D-38AA-4C23-BD76-3A2B7AF1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FFCAF1-6978-4503-8361-99273A54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75424-A4E4-4054-B599-7317258B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0A75B-96C9-4D11-A262-25B46192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122C-440A-42F4-8E81-013A51BC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A501D-3829-4C66-9AD1-C7B08EA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D4169-69DA-4A7B-AB9D-1277E1BC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BF3555-96C0-42AE-9949-9C89B21A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69995-D9DD-4A9A-A93C-9355605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5B835-105C-4C0E-941B-9E46D91C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6CF2EA-13FD-452A-94EF-33EFC422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4C97D2-9294-46CE-BC1F-0E9FA01F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ED3872-DBF0-4066-814B-77173915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C7D58F-A62C-484A-83C3-4998C554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299AC-D486-4DB9-8EA7-AD43579E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21CC-2818-4A0B-8842-40E26142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EB037-64DD-4201-A0F2-0271BC18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5532E-BD2A-4017-9E8F-DCE8785B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32274-4B8F-46C7-A592-8BE79198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3ED830-CA50-4968-BEAE-50C0A56A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6CAF9A-2A6D-47A2-9DDE-08A1B4F5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A2A1C-EFED-433C-A32E-AF4DE6F4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D5725E-4932-4FC3-BB07-CA11F6C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9A01B-AD33-4084-AAD0-62A3411F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3FB38-0893-476B-A07F-25E12DB4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A7ED2-FE6E-416D-AFA0-B6ED5556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5885-8C2D-44D7-A640-C40B4E75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26DCB-F204-492D-9B61-F4A12F1C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DEFE85-E470-4B4F-BAEE-C58778137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B4CC84-E169-46AC-8B04-6DCCDDBD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07CB74-A24B-49E0-A9CB-4CD5D392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67833D-314A-42AC-B44D-0B20E203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F053D7-CD91-4A86-BDC6-A24DDBD9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8A5041-B253-44B7-AEBD-1555E826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97ACE5-510C-4193-A9BD-94C1D0EE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D24EC2-96F8-4A0F-8458-73F23DF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25D4D-E51B-4953-9D11-2E16F042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B8B2A-10CD-477D-B178-AE3B1A91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A5DEDE-0DD7-4F02-87BB-F596BEBB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2808C9-D950-4FAF-A209-41D359B7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F495B-EC20-46F1-91B1-E8C64335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EAE1-1506-443E-8294-B54FF092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71E7-8ABD-40E6-BA83-8DB1AD50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5B4F-82F1-48B2-8322-9785F6D7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F2C2-651F-4504-B22F-ABDB6196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4E03-5ACB-47FB-AF25-5B1978C6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9585-B919-4680-A56F-2E8B427A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5B9E-C39B-4F39-B8C5-A7BD134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3DCC-3F5B-4308-9F8B-5234F32B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B872-69FC-42A4-B2C8-03FAE883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2114-5C16-4C1F-814D-EE7333BB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B228A-9569-4513-954C-094C99D9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774A-5466-49B4-BEE8-B38DD0EB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3241-60CD-435C-8EA0-B93F084A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24979-1B34-4E65-8AFA-29F0938C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85395-3DBE-4417-8548-C33FFA59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BCF-2C19-4CF7-A6BF-2D373E14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FC7C-B796-4385-8F2A-D35BE4A5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ADFF-8A21-4C0A-BD6E-165D5914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14BA-14F6-4D56-8093-3F996221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5922-83C7-4DC9-9E21-897F8002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13105-96AF-4B48-8F76-9B52A62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EAE0-CD07-4098-A204-84EF25EE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FB16-9506-4633-B067-EC636B6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47DCE-7DC2-415D-941F-C73FE47D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C633-E255-407A-9187-BFE96809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1069-2B9A-4635-A331-9A25CF72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F32-0C7C-4532-82FD-767AE1D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40DA-A8B2-499C-8566-3DA6AF4E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016C2-1517-411A-911C-77426B8F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57DA8-312C-43F1-86F3-06BC91D3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B1587-BB79-49E5-ADE4-502A435D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88B2D-DE7D-4DB6-8BB3-6874A9D5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29E98-0AF3-4762-85C2-0905288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4AE82-A834-4355-A442-511BF11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04802-435D-426E-8FA3-A9E19130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2F3E6-3F46-4D90-9DD0-7F32A243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48EC4-F7E8-4778-A75B-51E69DC8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F51-9757-4FE9-A39E-5A31CFA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A5B0B-F249-488C-958F-83B2AA3C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DDDA3-E5D5-4C95-8C10-605FC4D5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860B6-3ECD-4368-A847-0C333DA8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9646A-000C-46DC-BC37-ED35E8D0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2ABCA-B909-479B-A078-707C067D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412D9-223A-4BC3-93E6-86ABE8E6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2905-1402-4D69-94D1-2B654636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1825A-F2D0-46C9-B100-8A61BF1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56E5F-3E4E-4A60-933A-59736B2E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3F76-7F4E-4189-838C-B41BC5C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222-C13E-4522-9DAC-B797B045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660B-FCFE-42E5-A91B-1C6E7317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638AC-AC43-4DA3-BECB-69826FA0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38E5-2728-4FF2-A5C8-56A958D3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AAE1F-6A97-4B9F-8C27-3C7D96A3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71416-2E07-4B40-8DBB-69523D9A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90F75-1C25-4488-A217-8157ADAD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B5937-4D84-4BAA-81B8-C51A7E1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FAF5-26D5-4ADD-A7D8-93A18BBC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F0C65-9513-4F66-97AD-10BFAFFD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6B764-CF26-4641-A87B-ABB2BF6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DCC-F708-4F25-B486-1F6D34E9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8A83-BC61-4234-BCA6-230F63F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6246C-AEE0-4FCF-AA90-54A94298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2F7FA-E2C7-4AD7-AC1B-939F7831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FE146-1B42-4DBD-AA56-20BEFA99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80125-B473-4CA1-B3E3-2387C879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AAF4-D03E-4DBD-90AA-2DCDC44B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A6FEC-AFD0-497E-A1BE-8BC1AFA6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4E4FA-6BB0-4F0D-9D4A-FD654E2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B599A-7751-4F57-A16C-64F9CE6D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037EB-D947-4276-815A-1945CDAA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95E-3F7E-4483-9183-6FC432AB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CF0CF-BBC1-4DFE-9BE3-A15F5806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1D115-9374-4C18-971D-B5B746F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F4FA1-6248-465A-A46A-F83F388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0F0AD-B676-4AB7-A810-90615F02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14F43-CAC2-468F-A43F-DCD3546D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E0947-FC57-4061-8AA1-7D32052F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5E923-93D0-4E84-983A-D84228E1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5EFE8-1DA8-4CB7-9F83-7EE7FDDD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50EA9-19DA-4D09-9437-8F8E8BAE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B8E9F-81E1-485D-BE79-0432DB0B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1BB6-76AB-4263-A62C-796366A4A0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0767-6521-4F88-8F97-B63F8D8A64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DA93-7BC8-4DE0-B980-B9A77E1054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5664-C179-4311-A458-E06796CF51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4DC8-35D7-473B-BBA7-7863FD0696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CAEA-2F37-4D19-96DC-0662459A7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4D17-C5B0-4E45-A55D-5666D08E3C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2330-F255-4010-9CD2-CB2C073D5C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BC2-70F9-4A50-8EA7-9FED54238C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74C5-B67A-42A0-A3D1-32190B69B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791D-D892-4F58-8400-FC2D7DCD8A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351C-4914-4D29-A36C-FAC54B49FD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F12B-BA88-4706-8768-1B4B3ACDB1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39B2-2F3E-4E57-B96C-78B7CE5C5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6ECD-6B0A-43D8-85E6-B3CFF8305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52A9-18C8-4883-9FCF-52E84D0EF6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A5B2-967F-49DA-8077-F82449805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BEE3-A940-4A3D-8C9D-20B75A7E44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B332-7E04-4DAC-AFAE-1B260817CB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3228-94A5-49A4-B065-CFF0153B1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BE50-FDA4-43E5-877E-BEFD89150C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9583-4CD6-41DC-930A-FE78DAFB5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BCD3-29D8-4471-B3C5-EC4D3166D6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FBB5-9452-4E1D-A88A-A78B29D444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3A88-0182-4730-88B3-87B9072C8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735A-A852-4B3E-B394-3D5712ECE7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25A5-F426-498A-828F-54D3780E98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E7DC-C79F-4594-B461-03651AE982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216F-5204-4ED5-9452-0626DA91C8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BA18-3010-4B3A-9DCA-7969D9A085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F3C8-9CBD-4012-A596-356DE9E889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FB6A-0801-4FB9-9FCC-CA1F7A2418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E03C-9A17-49BE-88A1-1D3387A37D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A70F-32FE-402D-9AC7-E160D24C30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1A08-91A5-46D0-92CF-8C02BDFCD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8FB4-8431-46C5-B915-41585E7684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C39A-E853-47B5-B7B5-789B2AF03C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0133-77A0-43C4-AE04-DAECE752D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D500-CD96-47D8-BD4F-016F7A20F6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5371-C1B8-476C-9E3B-104332786C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1320" y="3005280"/>
            <a:ext cx="458136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685800"/>
            <a:ext cx="8544240" cy="5838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908000" y="2852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835280" y="4797360"/>
            <a:ext cx="718920" cy="86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435640" y="5013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356000" y="602136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9200" y="2009880"/>
            <a:ext cx="7905600" cy="283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012000" y="4307040"/>
            <a:ext cx="108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71440" y="95400"/>
            <a:ext cx="8188200" cy="6573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556000" y="44085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2556000" y="547380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916360" y="6165720"/>
            <a:ext cx="1008000" cy="505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688080" y="44085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6688080" y="547380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7048440" y="6165720"/>
            <a:ext cx="100800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309600" y="1886040"/>
            <a:ext cx="8524800" cy="3085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826920" y="362916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662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309600" y="797040"/>
            <a:ext cx="8524800" cy="5800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71640" y="538812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826920" y="6151680"/>
            <a:ext cx="6050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271440" y="243000"/>
            <a:ext cx="8601120" cy="6372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300720" y="309708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900000" y="544500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826920" y="6165720"/>
            <a:ext cx="7490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328680" y="1209600"/>
            <a:ext cx="8486640" cy="4438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8448840" cy="200988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5223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762960" cy="193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211640" y="16858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183200" y="2637000"/>
            <a:ext cx="431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948360" y="1700280"/>
            <a:ext cx="432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948360" y="2608200"/>
            <a:ext cx="287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2268360" y="41497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2254320" y="49989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5219640" y="4149720"/>
            <a:ext cx="6048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5219640" y="5013360"/>
            <a:ext cx="6048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8317080" y="4149720"/>
            <a:ext cx="60480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2"/>
          <a:stretch/>
        </p:blipFill>
        <p:spPr>
          <a:xfrm>
            <a:off x="8345520" y="4897440"/>
            <a:ext cx="6048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24:0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