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80A2-4449-41F4-8C1D-70599E84B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D145-043C-469C-B132-A7EE86CD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CD961-D7A1-4947-92F5-DAED9B07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50DAF-988C-41CB-8542-991F9D23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2179C-CE8A-4F6D-BB41-73B630A1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86600-0A32-4B8E-B65E-4BC88473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EB43C-5C26-4D93-9612-17650B1F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FAFC1-4F9E-4DA5-B972-2FAF1777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F88B8-19A2-46FE-A0FC-963B7794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53867-2A3F-4621-BEED-5E332A692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05C28-2F3E-4EAA-9C4B-CF5CD612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253BD-1E11-4B8F-B521-E60642E5A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98F2-FDDA-4878-AA4D-F9454028B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DBB41-1A45-4894-B31A-88CBBEEA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E9A0E5-63D1-4802-88A8-C1A9BF9D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52A78-4B24-4B4D-B8CC-4544B71F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210BD-A3A1-405F-8184-A31EDF47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1CA8B9-1BAE-4D11-96F3-6BB73B3B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D32A8-9BE4-4A66-8303-FED7C7D7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843F7-191B-485B-86E3-3530D5D8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82C62-0B29-4C42-AB67-282EE888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EE171-54B6-4510-B4C0-889FB416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67DCA-1CE8-47ED-9ED3-1E64001C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FF7C-3B6C-40F2-B62B-4B3A2F80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47B08-1E86-465B-A379-DBFE6D15E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BB891-B495-49A3-9060-A0C3721D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77D27-BBF7-48B4-AA6E-B61A9000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E3D8C-2994-42B8-95AA-D5F46C46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D676E-2DC4-4187-825F-F18BA821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FFC6D-6126-4CA8-AE01-0943D09B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1B70D-05C3-46F9-B52F-420337D4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E2D2B-E5D8-4C3E-89A3-35682882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FD1B8-1050-48DB-8D88-0088E9DA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C48DD-665F-4418-8BD8-840B8057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B8F5-4A8A-4B70-996C-1640866C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0338E-F2FA-4B1C-AF68-65A819C2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123F0-285B-4921-8752-51D05B0D3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C6575-20F6-40E2-BD72-E66F4A45B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5CEBA6-E016-4433-991D-7A0241D6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CD6DE-4175-4DA7-A741-56B683F8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750AEA-51A9-4FF6-8362-4D234C60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196F6C-28AD-466A-A1A5-60D22F8A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2F99A0-3BF1-4213-BC3F-EF4F7CFC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8F91E2-E12D-4E8C-B39B-822FE6C8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8354A4-ECD1-4A8C-8AAB-652ED2EF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342F-B69D-4A11-8DBC-DD83F4C4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260C5-9B01-4660-B670-E8EC2418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58315-266A-40B2-8F01-1E6523C2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6BF51F-F7BA-429E-8096-A2F018C9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37D940-268F-4B99-AAE3-8D72BA54F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3C181-5963-4579-8B35-3D0CB7241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8629CA-59AA-4E44-9913-489056DF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B833C8-10AF-4A09-BE48-00678DB9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B88F38-A5E2-403D-A9A5-234CBF5F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9970A3-4699-4ED0-ABEB-65120434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B76628-9527-4A3B-A2E5-39031B92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984D-F618-46EE-9E54-A8C33049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9BED1D-8BC1-4C5D-BA70-F17FF007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9E8FB8-1BD3-4F36-99FF-7EE52C29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0049F7-3ED8-4532-8444-DC2C54C1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3F0CA2-8DD8-4C5D-8910-0363BF1F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C81734-DDBC-4BCD-B0A6-FC130B92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64F2AE-19A5-4E2F-81E0-8327D4A6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E0078D-8792-4CC6-8455-45844A70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F1CD3A-1F52-4784-A7D2-FC273BD5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0B010E-614B-4A8B-A24E-4008463F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1931FC-74BA-400E-8FD1-21C1280A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A118-BB9B-4C21-A5FC-E4D7CE85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49477E-76F4-433D-8B42-1E786E2A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570232-7DD0-4C6B-BEF3-5626E4CA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BB6C08-AB23-4479-AA96-85CCE7B8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C4B25C-6D54-47B6-A87D-B034222C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9B3B1A-1294-4BB7-A2BA-52ADA37A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C48A6E-13F5-4738-964B-F1BFEAA9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F93FAB-7B6A-4D64-965D-9FE6E03C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B9FE36-3CB8-47E8-BFFA-368C3F088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544186-097B-40D2-A19C-EF7519FB4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52D932-F749-458C-B46B-B158AA3F2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0EA5-686E-46BA-B980-FD3B17C2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D63D1D-2D1F-4785-B641-7D022321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635AD5-20B7-4002-BF44-4AF8526D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72C505-D2FB-46DA-9C2A-EBBC946A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30B2E9-74B2-4976-A276-69C4271D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A900AB-4218-491A-8DB9-C7C05AFF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C5F7E1-0289-4F53-B607-50C10758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D6039E-6875-4612-A42F-FC65E717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B8F0C2-1A22-42BD-BFEA-90465286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28CED7-10C5-48D1-A644-970B373C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58C369-FB7B-43B0-8A81-76F2B5EF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47E0-7C85-41FB-A81A-CFDE6460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9A6AD7-94E6-43F0-99AD-5B5D7B32B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5D84C5-F626-45A3-89AE-4F8F64998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B6F1D0-E586-4618-B8FA-C511BB0D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C1FA3F-D229-4A88-B5EB-01A28ADA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535C02-787E-4D9D-9FD3-BFCB59C7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33C347-392E-455F-B803-59CD0DA6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E43EED-766A-41E1-80E6-1786FC0B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8CE0A6-F311-417E-8F59-E54B2DC6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75B057-0D88-4BB5-AB32-90810998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B50E7E-72EC-46FE-B939-39BED8CC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1C35-D863-49C2-A9DA-12D180B3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2B3729-FD53-4516-B9AF-36A168F5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372FB9-A145-45FD-BEA5-2256E7BB1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84F9DD-A7A7-4876-AB41-4E119F9C0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58985C-7694-47A4-BAC7-36C035F36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0D1821-AA14-4EF2-B147-EE62B69A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D7F28A-A62B-4BC5-AD6D-808A479A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001D69-7585-4F57-8A14-B889B3B1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D04BA0-A9D3-4952-BA52-02855B0A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E23ABD-E2A5-47C5-BF03-0B2C5261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089263-EF7C-4E9F-9952-91A0B3FA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9C0E-3328-42ED-9020-BC3F6E9F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F254-6EBE-4880-AF92-722E9FCF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AEA0FD-6439-485D-AF7C-85F8836C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CEA7FF-D9BD-44F0-B683-80616A2C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0B26E6-9C3A-4CA7-B236-5A01F46A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C6AFA3-5C5E-40CA-AEE5-205096CD3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779381-6061-41BA-B171-8F18A8338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334327-2511-4823-B0F3-B226C528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A72F41-3F78-49AA-AB12-9322C32E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EC673F-1052-4CB6-95E7-13802C36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0BED03-AAA6-4323-8AAC-DFB8350B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9F0570-D618-433B-96E7-58A4A439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1BB4-9986-4B45-8315-44B52B69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7FC3D1-B757-4C36-BD69-6DBC52C4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0F15BE-7F03-4683-94A8-A4DBF850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923EA8-3333-45B4-AFA2-43A6B489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FBE381-D86B-4E79-80B3-075B411C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B0F550-615C-41D5-954E-85E24F02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744869-E937-4D34-B401-C9F7C56D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7F6155-1E3F-408C-B958-0F8722F73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802B9C-035C-4D0A-A804-39A59462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A159B8-1AC9-46A9-B75F-6BC1994B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F808E2-2C4A-41D4-86A6-D00B5C46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78C2-5E92-460B-A7E0-D6FD1CA0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31D130-D436-4953-B5E1-F33D959C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0DF88D-C300-4A52-BAA0-C44FC641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963386-F933-4297-AEF3-DFC55AA7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38829F-6E44-4095-B4B9-5A0B617E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FDE8EA-EFF4-405A-A4FD-E2EB9871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DA7D4B-56B4-4939-901A-C3EF8F2C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2B78D9-D0C1-499A-8C72-2005E558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E2CB24-1CA6-4BB4-A4D0-03CFBAFF9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266CDD-3220-4FFA-98F4-27BC4FD82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8BAF4F-4E32-4D7D-AC9C-64F06236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0161-9CCA-457D-ACD9-8994C39D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B0DFF1-88B7-4C37-B7A7-53CAD040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2074E0-BCC4-451A-BBFC-EA422D7D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B1E301-2479-4D7B-8069-B8C7496A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89838C-E5C2-4299-82B0-FC8C0452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89D397-3D6E-4775-A185-953F067D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EC04B8-69D6-4D93-AB33-95030562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C73889-808F-4D58-BAFB-43BD89BB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E0CBC1-2E74-4925-9E6E-30543D18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9B0F04-A0C2-4F5D-9BFE-1115FF64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530A79-DA23-4634-AD44-FDCD4D01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2A1C-C679-4977-8A7C-DEB28964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B6B2F1-EF9A-41A2-B3B7-9B16855E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C9C4F8-9586-488D-BB0A-E255637BD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E05227-CD30-4B5E-AF44-044EC241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418662-82DF-41A1-9C94-A8EFB8C0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07A583-E24A-4875-A302-A72D1398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D813C6-06CF-487C-AE86-CA3860BF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3051C5-BDCE-49E7-B828-4ADE9681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931FD6-40D2-4673-9CE8-102C7337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917999-64B1-4EFC-B179-E034C997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D65A85-444B-4633-B236-7FC71E4D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1B310-11F5-4EF4-953D-CBFEB9C6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3CC52C-9F0B-408D-8FEC-FA5E58A0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6A7DFA-1694-4F87-A8E5-06E53781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DB3323-92F2-4475-9A04-40FC8986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D65DB-9CF5-4FAD-B0B0-AFB75DE7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5FAE8-9F5E-4DF3-9AE0-2A2C6647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F7D28-432D-4709-B224-34B07E69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D8500-CB41-445C-8FC5-516C7503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83AA-3B83-4FAB-82C1-07B43BF0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3F919-09D8-4E59-9A2C-7639270E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8D8C2-C86A-4A3D-849D-A33F2A75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49BA9-BFD2-41CE-9A1F-6172B187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8C527-88D3-45FD-BA3D-080F3982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32603-20A6-4A7A-9DD3-884E8E59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B78C2-AAE8-479E-AEDD-AB72B8F2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E6422-BE80-4CB6-96BA-8177E90D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2E02A-D5D3-4D97-B389-A0E25A7F6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72CFC-606F-46AB-B88D-387B0389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C601B-9502-4F7C-AE92-DCB46F7E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02D7-B038-4F45-B033-F4212B24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A37A9-2665-48EB-BDA8-8A1F94A8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37662-2343-4B7A-B9ED-06807A32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BC25A-A51A-431C-A781-EB3599F3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D5954-F57C-4620-99FA-035317B6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73D81-AD5E-461C-9BA0-1371E429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4E266-3119-4BDF-966F-E78F7856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41E72-AD73-4CBD-A340-E7A6C75C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3D9FD-8FFD-4F95-BD1C-116014F5D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5D894-5E11-457A-A9E7-5FB3CE79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25BEF-C83A-44F2-834A-AB5E2D7AB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D1AB-4F77-45FB-AF91-563497D0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8DEF1-6D50-4001-A5B8-8A4B637E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0730E-CEF6-49A4-B449-901F417D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CB10B-A688-4B50-B8F4-E58FF888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BED1F-3E02-475C-994A-6C944602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F9D28-0544-410C-B481-798A09FC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D4455-85AE-45A8-A080-1ABD8B04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6D80B-AB3D-47F8-82F6-624AFA03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880A9-D62F-48D6-85D2-50105397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FD20F-28AF-40D5-8C2F-C9DB8243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28C49-4DE6-4C92-B63D-616115A87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6926-2862-4F49-AB77-D4EFF1D0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97358-929E-4642-A2AB-F995A720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8B05E-CC7F-4518-8D00-EFA4717B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50525-B2D1-467B-B319-67CA342C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ADEA8-B8B2-49AD-A739-8BF6B44B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15CDF-CB35-4193-AF7D-3CFB2D86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F4FEE-A43D-445C-B7E6-1C24EE10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73BBF-8652-4B72-AEE2-3999D51D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E44FA-C018-40AA-847F-25097A15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A7355-DC4A-474F-98FF-5A668597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53EA4-3601-4BA5-8E86-387BA023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B34E-1A4D-409F-A3F0-E45AFB4F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E88C4-6594-407D-848C-6900CA5E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48E9A-92A0-40EF-A255-1B2728CE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0111A-831D-49C3-A167-B3C47F9A4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E8B89-024A-4DBD-99AB-86AAA47A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6B535-4EF5-4392-AC2F-F9F51668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29796-1CA2-42D0-9209-EE9E8A7C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D878A-FC14-4B14-82E7-1C11F1BB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DA058-07A7-4F21-9D34-2354999D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5F9E9-43FB-40EA-852D-C3BC3228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61DDD-8655-4D0F-9EFD-B4733B96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92C0-3163-49EB-A2E9-945466BD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4E735-73DD-4053-8F28-994D0243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3EEE7-60B5-4611-AE56-63084583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4DA41-FF3A-4750-8755-85B9CC93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96DCF-E400-4821-A034-D5BB35C06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77BCD-2890-4BF2-B694-469B83DAE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8FF66-00BB-4171-B5E0-2B2B9751E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D0FE3-3B26-4639-86B4-0562C472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AD7FB-05E9-48B7-8F3A-870BE0C7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ACF54-86DE-4B96-B0FE-085B015E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DE391-A632-4245-AA84-99651F9B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046A-CA47-4BA2-8A1C-1CDBE644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A4A66-E629-413A-B749-F8F61EBF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89A83-C4B9-4894-B636-72F8448C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42EB2-A005-4C75-A76D-775C008F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6A18B-D675-42E2-A9C6-7F4105FF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155AB-9E4D-4764-9E59-7E468C74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3EFF1-EF68-4BFB-8D34-6CAAB6EF8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C2F90-3E00-46BD-8793-CFD4CBCD5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9430C-C2BD-4A4B-9AB8-2E94D2FA5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667F6-AF67-499D-9F41-E6490322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67178-7356-47DA-8922-7D28BBE5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7963-66EA-4D2F-AB46-4057761290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5AF5-3609-4242-AEBC-AA15B549F7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7EE6-145D-4FEE-9748-7D5956DB26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E46D-0DD9-4F46-B18B-785B728F2E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3D35-DBFC-4474-8285-8E21AC5965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B355-D097-49C4-A828-0E075671D0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653D-ADC9-45CA-A64E-5210FC3D8A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9713-93AE-42E8-9FF1-A0DFFB24FC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2DEF-E8A6-4DB0-BC52-8FA4BAECED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1A8D-8189-4C90-AB53-B3E8AE62A6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3455-F037-41DD-8B6B-673D583252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A94C-017F-475D-B57D-44A456AEF1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3164-F37B-4452-8DEC-CF005642A3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48C1-AC83-4EFC-949C-52F79BD7C3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BEAE-AE39-4EF2-8247-DEDC7CB783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347C-B7E9-41AF-8392-FDF99BFC78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1330-4557-4AB0-8DAB-26E126C37F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F9AA-AD98-4C6E-B1A8-6345AE7B24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5B03-489C-4DFD-A933-9295BAF1D4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9B1F-B9D3-4B3F-B8B0-B03C730714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B3A9-6B72-4C76-9AB5-E264341A4C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851F-39FB-4C08-9C73-8558225DE9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F350-72F9-4651-9EDD-F395514695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1B3C-BC8C-4D8A-81FA-E5C4FDEB65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793F-40BD-42BF-BA26-A3661F9070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E505-A66B-4061-B7E9-CCC9AAEDF6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5CCC-F6C5-4DC4-879D-DAAA9EE193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C527-8A5D-45BB-B8D9-DD99E49220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C80D-D568-4199-B06C-95126F3D6B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E16C-093B-4085-8BC6-354EDCFBA8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339F-1793-40F2-955D-5B05A87FAC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3818-A745-46B7-8BCA-90F14C29FD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4662-21DA-4A5C-95EA-0B2374E25D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F25A-B902-441B-B979-7A29E72556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DFE3-279C-4133-AEE8-B74CAD0321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B6C7-A348-4C48-B495-83EDBD9F6D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B8ED-6CE6-4B3D-B197-0EA965C3F0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6B5F-4EBC-40E0-994B-BD47C9F8FC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EFF0-8E0B-4D82-A24E-52D2A6FD40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68C6-428F-4D3D-9EB5-67F11BB996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048040" y="2133720"/>
            <a:ext cx="5047920" cy="112392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2747880" y="3641760"/>
            <a:ext cx="36482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9633" descr=""/>
          <p:cNvPicPr/>
          <p:nvPr/>
        </p:nvPicPr>
        <p:blipFill>
          <a:blip r:embed="rId1"/>
          <a:stretch/>
        </p:blipFill>
        <p:spPr>
          <a:xfrm>
            <a:off x="952560" y="1268280"/>
            <a:ext cx="7238880" cy="2124360"/>
          </a:xfrm>
          <a:prstGeom prst="rect">
            <a:avLst/>
          </a:prstGeom>
          <a:ln w="0">
            <a:noFill/>
          </a:ln>
        </p:spPr>
      </p:pic>
      <p:pic>
        <p:nvPicPr>
          <p:cNvPr id="964" name="图片 69634" descr=""/>
          <p:cNvPicPr/>
          <p:nvPr/>
        </p:nvPicPr>
        <p:blipFill>
          <a:blip r:embed="rId2"/>
          <a:stretch/>
        </p:blipFill>
        <p:spPr>
          <a:xfrm>
            <a:off x="142920" y="3749760"/>
            <a:ext cx="8858160" cy="22003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4500720" y="1498680"/>
            <a:ext cx="576000" cy="7779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7596360" y="1484280"/>
            <a:ext cx="576000" cy="7779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4500720" y="2333520"/>
            <a:ext cx="576000" cy="7779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7380360" y="2276640"/>
            <a:ext cx="576360" cy="77760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7"/>
          <a:stretch/>
        </p:blipFill>
        <p:spPr>
          <a:xfrm>
            <a:off x="1908000" y="4005360"/>
            <a:ext cx="576360" cy="77760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8"/>
          <a:stretch/>
        </p:blipFill>
        <p:spPr>
          <a:xfrm>
            <a:off x="5076720" y="4005360"/>
            <a:ext cx="863640" cy="7776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9"/>
          <a:stretch/>
        </p:blipFill>
        <p:spPr>
          <a:xfrm>
            <a:off x="8244000" y="4005360"/>
            <a:ext cx="576000" cy="77760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0"/>
          <a:stretch/>
        </p:blipFill>
        <p:spPr>
          <a:xfrm>
            <a:off x="2109960" y="4826160"/>
            <a:ext cx="576000" cy="77760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1"/>
          <a:stretch/>
        </p:blipFill>
        <p:spPr>
          <a:xfrm>
            <a:off x="5076720" y="4811760"/>
            <a:ext cx="935280" cy="7779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2"/>
          <a:stretch/>
        </p:blipFill>
        <p:spPr>
          <a:xfrm>
            <a:off x="8798040" y="4811760"/>
            <a:ext cx="33156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52360" y="1209600"/>
            <a:ext cx="8639280" cy="44388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7164360" y="335772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2195640" y="4551480"/>
            <a:ext cx="1584360" cy="493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2987640" y="517212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6516720" y="5157720"/>
            <a:ext cx="8636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600120" y="1328760"/>
            <a:ext cx="7943760" cy="42004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6804000" y="134136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1692360" y="2565360"/>
            <a:ext cx="1800000" cy="4939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2700360" y="321300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6300720" y="314172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6"/>
          <a:stretch/>
        </p:blipFill>
        <p:spPr>
          <a:xfrm>
            <a:off x="4284720" y="501336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8373" descr=""/>
          <p:cNvPicPr/>
          <p:nvPr/>
        </p:nvPicPr>
        <p:blipFill>
          <a:blip r:embed="rId1"/>
          <a:stretch/>
        </p:blipFill>
        <p:spPr>
          <a:xfrm>
            <a:off x="181080" y="966960"/>
            <a:ext cx="8781840" cy="49240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6084720" y="213372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971640" y="4767120"/>
            <a:ext cx="7848360" cy="4939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4"/>
          <a:stretch/>
        </p:blipFill>
        <p:spPr>
          <a:xfrm>
            <a:off x="1042920" y="5359320"/>
            <a:ext cx="7848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7352" descr=""/>
          <p:cNvPicPr/>
          <p:nvPr/>
        </p:nvPicPr>
        <p:blipFill>
          <a:blip r:embed="rId1"/>
          <a:stretch/>
        </p:blipFill>
        <p:spPr>
          <a:xfrm>
            <a:off x="304920" y="1252440"/>
            <a:ext cx="8534160" cy="43531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826920" y="3241800"/>
            <a:ext cx="6409080" cy="4935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684360" y="3860640"/>
            <a:ext cx="6408720" cy="493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826920" y="4451400"/>
            <a:ext cx="6409080" cy="4935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684360" y="5070600"/>
            <a:ext cx="6408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6324" descr=""/>
          <p:cNvPicPr/>
          <p:nvPr/>
        </p:nvPicPr>
        <p:blipFill>
          <a:blip r:embed="rId1"/>
          <a:stretch/>
        </p:blipFill>
        <p:spPr>
          <a:xfrm>
            <a:off x="285840" y="1095480"/>
            <a:ext cx="8572320" cy="46670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1042920" y="3730680"/>
            <a:ext cx="6408720" cy="4935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900000" y="4249800"/>
            <a:ext cx="6408720" cy="4935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969840" y="4781520"/>
            <a:ext cx="7705800" cy="4939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826920" y="5300640"/>
            <a:ext cx="77058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5300" descr=""/>
          <p:cNvPicPr/>
          <p:nvPr/>
        </p:nvPicPr>
        <p:blipFill>
          <a:blip r:embed="rId1"/>
          <a:stretch/>
        </p:blipFill>
        <p:spPr>
          <a:xfrm>
            <a:off x="285840" y="1104840"/>
            <a:ext cx="8572320" cy="46483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900000" y="3774960"/>
            <a:ext cx="6048360" cy="4939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755640" y="4292640"/>
            <a:ext cx="6048360" cy="4935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971640" y="4782960"/>
            <a:ext cx="6048360" cy="4939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5"/>
          <a:stretch/>
        </p:blipFill>
        <p:spPr>
          <a:xfrm>
            <a:off x="826920" y="5300640"/>
            <a:ext cx="69138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4276" descr=""/>
          <p:cNvPicPr/>
          <p:nvPr/>
        </p:nvPicPr>
        <p:blipFill>
          <a:blip r:embed="rId1"/>
          <a:stretch/>
        </p:blipFill>
        <p:spPr>
          <a:xfrm>
            <a:off x="200160" y="1262160"/>
            <a:ext cx="874368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2231" descr=""/>
          <p:cNvPicPr/>
          <p:nvPr/>
        </p:nvPicPr>
        <p:blipFill>
          <a:blip r:embed="rId1"/>
          <a:stretch/>
        </p:blipFill>
        <p:spPr>
          <a:xfrm>
            <a:off x="914400" y="58680"/>
            <a:ext cx="7257960" cy="67946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1042920" y="2824200"/>
            <a:ext cx="6481800" cy="4935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971640" y="3357720"/>
            <a:ext cx="6481800" cy="4935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4"/>
          <a:stretch/>
        </p:blipFill>
        <p:spPr>
          <a:xfrm>
            <a:off x="971640" y="3832200"/>
            <a:ext cx="6481800" cy="493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5"/>
          <a:stretch/>
        </p:blipFill>
        <p:spPr>
          <a:xfrm>
            <a:off x="900000" y="4365720"/>
            <a:ext cx="6481800" cy="4935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6"/>
          <a:stretch/>
        </p:blipFill>
        <p:spPr>
          <a:xfrm>
            <a:off x="826920" y="4767120"/>
            <a:ext cx="6481800" cy="4939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7"/>
          <a:stretch/>
        </p:blipFill>
        <p:spPr>
          <a:xfrm>
            <a:off x="755640" y="5300640"/>
            <a:ext cx="6481800" cy="4935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8"/>
          <a:stretch/>
        </p:blipFill>
        <p:spPr>
          <a:xfrm>
            <a:off x="971640" y="5816520"/>
            <a:ext cx="6481800" cy="4939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9"/>
          <a:stretch/>
        </p:blipFill>
        <p:spPr>
          <a:xfrm>
            <a:off x="900000" y="6350040"/>
            <a:ext cx="64818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7:48:48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